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650-67BA-4B19-917C-E82D4DAD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EE2-FC0D-457F-B3D0-F7C0992A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DF8-289C-44A0-976C-E21A1FC4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791-956C-4AF0-8E54-947C6B23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44B-B0CE-4784-8892-1FA587A5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CE4-D182-4412-94DE-A1FC9418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D1B-0900-4AA2-AA8E-322091FD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94D-B66D-4822-A9D1-A534E4F9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FF0-1629-4823-98F4-62EF0C81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3B1-1CBD-4C83-BFAC-4DAEA5BE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919-40C3-4F37-A98C-5BFBF919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753-4A23-4E62-99FE-97C0E74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D59E-58ED-4289-BDD0-F706CF16D1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search_images?q=%F1%E5%EC%FC%25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00200" y="685800"/>
            <a:ext cx="5943600" cy="30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7 + 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905120" y="1752480"/>
            <a:ext cx="54864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ЕМЬ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АМА, ПАПА, УЧИТЕЛЬ, БРАТ,БАБУШКА,  ПРОДОВЕЦ, ПАРИКМАХЕР, ВНУК, ПОДРУГ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1905120" y="1143000"/>
            <a:ext cx="5715000" cy="25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ОКО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304920" y="1905120"/>
            <a:ext cx="8610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МЯ, ФАМИЛИЯ, ОТЧЕСТВО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304920" y="1447920"/>
            <a:ext cx="83055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ХОЗАЙСТВ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dArt 4" descr=""/>
          <p:cNvPicPr/>
          <p:nvPr/>
        </p:nvPicPr>
        <p:blipFill>
          <a:blip r:embed="rId1"/>
          <a:stretch/>
        </p:blipFill>
        <p:spPr>
          <a:xfrm>
            <a:off x="378000" y="1359000"/>
            <a:ext cx="7997760" cy="382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19320" y="2133720"/>
            <a:ext cx="7010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ОЩЬ,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БЯЗАННОСТЬ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opup_img" descr="http://images-partners.google.com/images?q=tbn:ANd9GcTEu6338zHHSVgTvpuEerSM3YN4BjbX3fj4gmY-l2BgRuLq6rWtfTSAJfp2:http://molod.karelia.ru/files/userfiles/image/molod/News/%D1%81%D0%B5%D0%BC%D1%8C%D1%8F%2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"/>
            <a:ext cx="25146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0lik.ru/uploads/posts/2009-03/1236973638_0lik.ru_f10.jpg"/>
          <p:cNvPicPr/>
          <p:nvPr/>
        </p:nvPicPr>
        <p:blipFill>
          <a:blip r:embed="rId3"/>
          <a:stretch/>
        </p:blipFill>
        <p:spPr>
          <a:xfrm>
            <a:off x="2819520" y="228600"/>
            <a:ext cx="3733560" cy="33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3" descr="http://sociologist.nm.ru/img/family_05.jpg"/>
          <p:cNvPicPr/>
          <p:nvPr/>
        </p:nvPicPr>
        <p:blipFill>
          <a:blip r:embed="rId4"/>
          <a:stretch/>
        </p:blipFill>
        <p:spPr>
          <a:xfrm>
            <a:off x="228600" y="3657600"/>
            <a:ext cx="4390920" cy="30384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http://www.pervenez.ru/images/family3.jpg"/>
          <p:cNvPicPr/>
          <p:nvPr/>
        </p:nvPicPr>
        <p:blipFill>
          <a:blip r:embed="rId5"/>
          <a:stretch/>
        </p:blipFill>
        <p:spPr>
          <a:xfrm>
            <a:off x="4876920" y="373392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9" descr="http://www.natr.com.ua/foto/family_laughing.jpg"/>
          <p:cNvPicPr/>
          <p:nvPr/>
        </p:nvPicPr>
        <p:blipFill>
          <a:blip r:embed="rId6"/>
          <a:stretch/>
        </p:blipFill>
        <p:spPr>
          <a:xfrm>
            <a:off x="6629400" y="228600"/>
            <a:ext cx="2362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1-23T05:52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