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3770-C8F1-4DE2-92C9-474F96C34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FF01-2F46-4CBC-8661-D93AC348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9884-3F72-4E88-9F8E-0055D427A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6E09-B4BC-4164-8250-A75BF0BAB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5B46-BEDC-42D7-AC16-E11C5694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8BF2-CAEC-44E0-AF67-52FFE9CB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6B01-7DA8-42C0-BD63-6C1D0D5B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6966-1A2D-46CA-A496-04610390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F2CE-ECE4-4C51-8937-CC69E970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88E1-B408-4564-9915-2C272373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9285-28DA-4514-AB86-54A659D2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F2C6-58A0-482B-A654-B26203B8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EB76-3BCE-4F9A-81CF-74C2EBA4ACE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go.mail.ru/search_images?q=%F1%E5%EC%FC%25F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600200" y="685800"/>
            <a:ext cx="5943600" cy="309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7 + 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4"/>
          <p:cNvSpPr txBox="1"/>
          <p:nvPr/>
        </p:nvSpPr>
        <p:spPr>
          <a:xfrm>
            <a:off x="1905120" y="1752480"/>
            <a:ext cx="54864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ЕМЬЯ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МАМА, ПАПА, УЧИТЕЛЬ, БРАТ,БАБУШКА,  ПРОДОВЕЦ, ПАРИКМАХЕР, ВНУК, ПОДРУГА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5"/>
          <p:cNvSpPr txBox="1"/>
          <p:nvPr/>
        </p:nvSpPr>
        <p:spPr>
          <a:xfrm>
            <a:off x="1905120" y="1143000"/>
            <a:ext cx="5715000" cy="25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ПОКО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</p:spTree>
  </p:cSld>
  <p:transition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4"/>
          <p:cNvSpPr txBox="1"/>
          <p:nvPr/>
        </p:nvSpPr>
        <p:spPr>
          <a:xfrm>
            <a:off x="304920" y="1905120"/>
            <a:ext cx="86104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МЯ, ФАМИЛИЯ, ОТЧЕСТВО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304920" y="1447920"/>
            <a:ext cx="830556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ЕЕ ХОЗАЙСТВО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ipe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WordArt 4" descr=""/>
          <p:cNvPicPr/>
          <p:nvPr/>
        </p:nvPicPr>
        <p:blipFill>
          <a:blip r:embed="rId1"/>
          <a:stretch/>
        </p:blipFill>
        <p:spPr>
          <a:xfrm>
            <a:off x="378000" y="1359000"/>
            <a:ext cx="7997760" cy="3828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219320" y="2133720"/>
            <a:ext cx="70102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ОМОЩЬ,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ОБЯЗАННОСТЬ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0" name="popup_img" descr="http://images-partners.google.com/images?q=tbn:ANd9GcTEu6338zHHSVgTvpuEerSM3YN4BjbX3fj4gmY-l2BgRuLq6rWtfTSAJfp2:http://molod.karelia.ru/files/userfiles/image/molod/News/%D1%81%D0%B5%D0%BC%D1%8C%D1%8F%20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228600"/>
            <a:ext cx="2514600" cy="32767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http://0lik.ru/uploads/posts/2009-03/1236973638_0lik.ru_f10.jpg"/>
          <p:cNvPicPr/>
          <p:nvPr/>
        </p:nvPicPr>
        <p:blipFill>
          <a:blip r:embed="rId3"/>
          <a:stretch/>
        </p:blipFill>
        <p:spPr>
          <a:xfrm>
            <a:off x="2819520" y="228600"/>
            <a:ext cx="3733560" cy="33814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3" descr="http://sociologist.nm.ru/img/family_05.jpg"/>
          <p:cNvPicPr/>
          <p:nvPr/>
        </p:nvPicPr>
        <p:blipFill>
          <a:blip r:embed="rId4"/>
          <a:stretch/>
        </p:blipFill>
        <p:spPr>
          <a:xfrm>
            <a:off x="228600" y="3657600"/>
            <a:ext cx="4390920" cy="30384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0" descr="http://www.pervenez.ru/images/family3.jpg"/>
          <p:cNvPicPr/>
          <p:nvPr/>
        </p:nvPicPr>
        <p:blipFill>
          <a:blip r:embed="rId5"/>
          <a:stretch/>
        </p:blipFill>
        <p:spPr>
          <a:xfrm>
            <a:off x="4876920" y="3733920"/>
            <a:ext cx="4114800" cy="29718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9" descr="http://www.natr.com.ua/foto/family_laughing.jpg"/>
          <p:cNvPicPr/>
          <p:nvPr/>
        </p:nvPicPr>
        <p:blipFill>
          <a:blip r:embed="rId6"/>
          <a:stretch/>
        </p:blipFill>
        <p:spPr>
          <a:xfrm>
            <a:off x="6629400" y="228600"/>
            <a:ext cx="2362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4-01-23T05:52:1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