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A4D-9C2A-4DB6-B3C5-A76545F5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F2A-47A1-47D7-AC0A-09D417B1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E59-7244-49D6-8115-2814C96D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D78-F62B-47DF-82A4-F6DBCA1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A4E-051B-4686-ABCD-8673878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285-F39C-4BCD-B719-95663273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747-06C2-4282-BB20-C5A28AB8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12E-F206-4F63-AB9E-2DE2456D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634-6DE6-43CC-B966-16B9F373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851-CAFF-4DDE-9AF0-BD7B19A2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ED6-A896-4A1F-9BFA-2E025A4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D72-0A14-4F02-9496-3F53AB3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290-EAD8-4F7D-976C-48FE6ADAE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878040"/>
            <a:ext cx="88390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2792520"/>
            <a:ext cx="84913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284400" y="31680"/>
            <a:ext cx="8652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временном философском язы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 «культура» одно из са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остраненных и многознач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его  в наши дни вы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еко за рамки первонача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я. Термин «культу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одится как "возделыв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ботка, развитие, почитание"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зумевает на ранних этапах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ения целенаправл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действие человека на прир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обработка почвы и т.д.), а также воспи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бучение самого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культура» в его современном значении начало применяться в Европе в XVIII в. благодаря работам таких мыслителей, как Дж. Вико, И. Г. Гердер, Ш. Монтеск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вико"/>
          <p:cNvPicPr/>
          <p:nvPr/>
        </p:nvPicPr>
        <p:blipFill>
          <a:blip r:embed="rId2"/>
          <a:stretch/>
        </p:blipFill>
        <p:spPr>
          <a:xfrm>
            <a:off x="108000" y="1844640"/>
            <a:ext cx="2879640" cy="3384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12320" y="5376600"/>
            <a:ext cx="297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  Джамбатти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3.6.1668  — 21.1.1744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льянский филос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http://blogimages.seniorennet.be/romenu/101-d54c505a13249ad99af218e45e62f168.jpg"/>
          <p:cNvPicPr/>
          <p:nvPr/>
        </p:nvPicPr>
        <p:blipFill>
          <a:blip r:embed="rId3"/>
          <a:stretch/>
        </p:blipFill>
        <p:spPr>
          <a:xfrm>
            <a:off x="3132000" y="1844640"/>
            <a:ext cx="2735280" cy="3384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136680" y="5254920"/>
            <a:ext cx="310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дер Иоганн Готфр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5.8.1744  — 18.12.1803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цкий филосо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ель-просвет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http://www.booksite.ru/fulltext/1/001/009/001/221773343.jpg"/>
          <p:cNvPicPr/>
          <p:nvPr/>
        </p:nvPicPr>
        <p:blipFill>
          <a:blip r:embed="rId4"/>
          <a:stretch/>
        </p:blipFill>
        <p:spPr>
          <a:xfrm>
            <a:off x="6227640" y="1844640"/>
            <a:ext cx="2521080" cy="338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6220080" y="5235480"/>
            <a:ext cx="270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тескье Шарль Лу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18.01.1689-10.02.1755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узский философ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титель, истор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вед и пис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0" y="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второй половины XIX в. понятие «культура» постепенно приобретает статус научной (а не только философской) катег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XX в. как отмечал Ж- П. Сартр, культура никого и ничего не спасает и не оправдывает. Но она — дело рук человека, в ней он ищет свое отражение, в ней он узнает себя, только в этом критическом зеркале он может увидеть свое лиц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Jean-Paul_Sartre_FP"/>
          <p:cNvPicPr/>
          <p:nvPr/>
        </p:nvPicPr>
        <p:blipFill>
          <a:blip r:embed="rId2"/>
          <a:stretch/>
        </p:blipFill>
        <p:spPr>
          <a:xfrm>
            <a:off x="250920" y="2565360"/>
            <a:ext cx="3889440" cy="3946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572000" y="3577680"/>
            <a:ext cx="39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н-Поль Шарль Эма́р Сар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 июня 1905 — 15 апреля 1980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узский философ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атель, драматур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0" y="103284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«культура» употребляется сегодня во множестве знач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ко несмотря на кажущееся разнообразие опреде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некоторые общие позиции, которые присутствуют или яс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разумеваются в каждом из таких опреде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ые общие представления, не дают ответа на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то в реальности есть культура?», но налагают ограничени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сы и явления, включаемые в сферу изучения, слу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нием для поиска и интерпретации связей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риальными и идеальными толкованиями челове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й на уровне микро- и макро временных проце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 - культур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0" y="1400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ятие культуры становится одним из центральных в филосо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чинениях Вольтера, Тюрго, Кондорсе, Вико культура предст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результат поступательного развития истории и степень вопло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умного начала, реализованного в религии, философии, науке, пра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али как объективациях разума. Цель культуры, соответствующая выс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начению "разума" - сделать людей счастливыми, живущими в соглас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ребностями своей "естественной"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971640" y="551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CКО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8.1771 - 21.09.1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поэ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, исто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алексей\Desktop\Sir_Walter_Scott_-_Raeburn.jpg"/>
          <p:cNvPicPr/>
          <p:nvPr/>
        </p:nvPicPr>
        <p:blipFill>
          <a:blip r:embed="rId2"/>
          <a:stretch/>
        </p:blipFill>
        <p:spPr>
          <a:xfrm>
            <a:off x="900000" y="2338560"/>
            <a:ext cx="2735280" cy="2963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5003640" y="566100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 Робер Жак Тюр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 мая 1727— 18 марта 1781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Users\алексей\Desktop\200px-Anne_Robert_Jacques_Turgot.jpg"/>
          <p:cNvPicPr/>
          <p:nvPr/>
        </p:nvPicPr>
        <p:blipFill>
          <a:blip r:embed="rId3"/>
          <a:stretch/>
        </p:blipFill>
        <p:spPr>
          <a:xfrm>
            <a:off x="5003640" y="2363760"/>
            <a:ext cx="2592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ецкой классической философии культура рассматривается как область духовной свободы человека. И. Кант подходит к культуре как субъективному состоянию личности и проводит различие между культурой умения (как цивилизованностью) и культурой воспитания (как нравственностью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4500720" y="3789360"/>
            <a:ext cx="387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ануи́л К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апреля 1724— 12 февраля 1804 — немецкий филос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C:\Users\алексей\Desktop\200px-Immanuel_Kant_(painted_portrait).jpg"/>
          <p:cNvPicPr/>
          <p:nvPr/>
        </p:nvPicPr>
        <p:blipFill>
          <a:blip r:embed="rId2"/>
          <a:stretch/>
        </p:blipFill>
        <p:spPr>
          <a:xfrm>
            <a:off x="468360" y="2708280"/>
            <a:ext cx="31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Ф. Гегель анализирует такие обнаружения культуры, как искусство, религия, философия, наука в качестве различных форм самопознания разума, духа народа, творящего историю и формирующего "лики" куль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4284720" y="3645000"/>
            <a:ext cx="43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рг Вильгельм Фридрих Ге́г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вгуста 1770— 14 ноября 1831  — немецкий филос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алексей\Desktop\250px-Hegel_portrait_by_Schlesinger_1831.jpg"/>
          <p:cNvPicPr/>
          <p:nvPr/>
        </p:nvPicPr>
        <p:blipFill>
          <a:blip r:embed="rId2"/>
          <a:stretch/>
        </p:blipFill>
        <p:spPr>
          <a:xfrm>
            <a:off x="666720" y="2781360"/>
            <a:ext cx="2968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алексей\Desktop\001_Wallpapers_281208_Go2LoadC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0" y="12150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мецкая классическая филосо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ется признанием множествен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пов и форм культуры, располагаю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пределенной историче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довательности и образующих еди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нию духовной эволюции человеч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5:52:34Z</dcterms:created>
  <dc:creator>алексей</dc:creator>
  <dc:description/>
  <dc:language>en-US</dc:language>
  <cp:lastModifiedBy>алексей</cp:lastModifiedBy>
  <dcterms:modified xsi:type="dcterms:W3CDTF">2014-01-23T14:26:13Z</dcterms:modified>
  <cp:revision>9</cp:revision>
  <dc:subject/>
  <dc:title>Слайд 1</dc:title>
</cp:coreProperties>
</file>