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111-9269-4D45-BC7A-DC4503F7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F9A-F6AC-45EE-BC3A-BB3B2702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B97-67C5-4684-9948-F29A3F0D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3DB-70FC-43D0-A903-24E3ED6D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A8B-FE46-4002-8F05-5867192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E4A-3578-4ECB-A5B6-4E49FA1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257-9B46-435F-B49E-4DF6B162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FDA-5AE0-46DA-AD0F-F6C32AC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C5F-1E75-47EE-8C16-891647ED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202-820F-491D-A945-34E3F6E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BC0-4B05-4ECD-9EBC-3BDF9ED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730-E662-469B-8FAA-C51FAC4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5A9E-B641-4B2F-8A7E-E1ABC976A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878040"/>
            <a:ext cx="88390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2792520"/>
            <a:ext cx="8491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284400" y="31680"/>
            <a:ext cx="8652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временном философском язы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 «культура» одно из са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остраненных и многознач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его  в наши дни вы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еко за рамки первонача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я. Термин «культу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водится как "возделыв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ботка, развитие, почитание"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азумевает на ранних этапах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отребления целенаправл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действие человека на прир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бработка почвы и т.д.), а также вос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обучение самого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культура» в его современном значении начало применяться в Европе в XVIII в. благодаря работам таких мыслителей, как Дж. Вико, И. Г. Гердер, Ш. Монтеск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вико"/>
          <p:cNvPicPr/>
          <p:nvPr/>
        </p:nvPicPr>
        <p:blipFill>
          <a:blip r:embed="rId2"/>
          <a:stretch/>
        </p:blipFill>
        <p:spPr>
          <a:xfrm>
            <a:off x="108000" y="1844640"/>
            <a:ext cx="2879640" cy="3384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2320" y="5376600"/>
            <a:ext cx="297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  Джамбатти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3.6.1668  — 21.1.174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альянский филос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http://blogimages.seniorennet.be/romenu/101-d54c505a13249ad99af218e45e62f168.jpg"/>
          <p:cNvPicPr/>
          <p:nvPr/>
        </p:nvPicPr>
        <p:blipFill>
          <a:blip r:embed="rId3"/>
          <a:stretch/>
        </p:blipFill>
        <p:spPr>
          <a:xfrm>
            <a:off x="3132000" y="1844640"/>
            <a:ext cx="2735280" cy="3384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136680" y="5254920"/>
            <a:ext cx="310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дер Иоганн Готфр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5.8.1744  — 18.12.1803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цкий филосо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тель-просвет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http://www.booksite.ru/fulltext/1/001/009/001/221773343.jpg"/>
          <p:cNvPicPr/>
          <p:nvPr/>
        </p:nvPicPr>
        <p:blipFill>
          <a:blip r:embed="rId4"/>
          <a:stretch/>
        </p:blipFill>
        <p:spPr>
          <a:xfrm>
            <a:off x="6227640" y="1844640"/>
            <a:ext cx="2521080" cy="3384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6220080" y="5235480"/>
            <a:ext cx="270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тескье Шарль Лу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18.01.1689-10.02.1755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анцузский философ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титель, истор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овед и пис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0" y="9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второй половины XIX в. понятие «культура» постепенно приобретает статус научной (а не только философской) катег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XX в. как отмечал Ж- П. Сартр, культура никого и ничего не спасает и не оправдывает. Но она — дело рук человека, в ней он ищет свое отражение, в ней он узнает себя, только в этом критическом зеркале он может увидеть свое лиц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Jean-Paul_Sartre_FP"/>
          <p:cNvPicPr/>
          <p:nvPr/>
        </p:nvPicPr>
        <p:blipFill>
          <a:blip r:embed="rId2"/>
          <a:stretch/>
        </p:blipFill>
        <p:spPr>
          <a:xfrm>
            <a:off x="250920" y="2565360"/>
            <a:ext cx="3889440" cy="3946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572000" y="3577680"/>
            <a:ext cx="39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н-Поль Шарль Эма́р Сар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 июня 1905 — 15 апреля 1980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анцузский философ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тель, драматур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103284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«культура» употребляется сегодня во множестве знач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ко несмотря на кажущееся разнообразие опреде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некоторые общие позиции, которые присутствуют или яс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азумеваются в каждом из таких опреде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ходные общие представления, не дают ответа на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то в реальности есть культура?», но налагают ограниче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сы и явления, включаемые в сферу изучения, слу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нием для поиска и интерпретации связей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ьными и идеальными толкованиями челове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й на уровне микро- и макро временных проце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 - культур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0" y="1400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культуры становится одним из центральных в философ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чинениях Вольтера, Тюрго, Кондорсе, Вико культура предст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результат поступательного развития истории и степень вопло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умного начала, реализованного в религии, философии, науке, пра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али как объективациях разума. Цель культуры, соответствующая выс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начению "разума" - сделать людей счастливыми, живущими в соглас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ребностями своей "естественной"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971640" y="551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CКО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8.1771 - 21.09.1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поэ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, исто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алексей\Desktop\Sir_Walter_Scott_-_Raeburn.jpg"/>
          <p:cNvPicPr/>
          <p:nvPr/>
        </p:nvPicPr>
        <p:blipFill>
          <a:blip r:embed="rId2"/>
          <a:stretch/>
        </p:blipFill>
        <p:spPr>
          <a:xfrm>
            <a:off x="900000" y="2338560"/>
            <a:ext cx="2735280" cy="29635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5003640" y="566100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 Робер Жак Тюр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 мая 1727— 18 марта 1781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алексей\Desktop\200px-Anne_Robert_Jacques_Turgot.jpg"/>
          <p:cNvPicPr/>
          <p:nvPr/>
        </p:nvPicPr>
        <p:blipFill>
          <a:blip r:embed="rId3"/>
          <a:stretch/>
        </p:blipFill>
        <p:spPr>
          <a:xfrm>
            <a:off x="5003640" y="2363760"/>
            <a:ext cx="2592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ецкой классической философии культура рассматривается как область духовной свободы человека. И. Кант подходит к культуре как субъективному состоянию личности и проводит различие между культурой умения (как цивилизованностью) и культурой воспитания (как нравственностью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4500720" y="3789360"/>
            <a:ext cx="387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ануи́л К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апреля 1724— 12 февраля 1804 — немецкий филосо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C:\Users\алексей\Desktop\200px-Immanuel_Kant_(painted_portrait).jpg"/>
          <p:cNvPicPr/>
          <p:nvPr/>
        </p:nvPicPr>
        <p:blipFill>
          <a:blip r:embed="rId2"/>
          <a:stretch/>
        </p:blipFill>
        <p:spPr>
          <a:xfrm>
            <a:off x="468360" y="2708280"/>
            <a:ext cx="31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Ф. Гегель анализирует такие обнаружения культуры, как искусство, религия, философия, наука в качестве различных форм самопознания разума, духа народа, творящего историю и формирующего "лики" куль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4284720" y="3645000"/>
            <a:ext cx="43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 Вильгельм Фридрих Ге́г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вгуста 1770— 14 ноября 1831  — немецкий филос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алексей\Desktop\250px-Hegel_portrait_by_Schlesinger_1831.jpg"/>
          <p:cNvPicPr/>
          <p:nvPr/>
        </p:nvPicPr>
        <p:blipFill>
          <a:blip r:embed="rId2"/>
          <a:stretch/>
        </p:blipFill>
        <p:spPr>
          <a:xfrm>
            <a:off x="666720" y="2781360"/>
            <a:ext cx="2968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0" y="12150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цкая классическая филосо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ется признанием множествен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пов и форм культуры, располагаю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пределенной историче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довательности и образующих еди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нию духовной эволюции человеч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5:52:34Z</dcterms:created>
  <dc:creator>алексей</dc:creator>
  <dc:description/>
  <dc:language>en-US</dc:language>
  <cp:lastModifiedBy>алексей</cp:lastModifiedBy>
  <dcterms:modified xsi:type="dcterms:W3CDTF">2014-01-23T14:26:13Z</dcterms:modified>
  <cp:revision>9</cp:revision>
  <dc:subject/>
  <dc:title>Слайд 1</dc:title>
</cp:coreProperties>
</file>