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png" ContentType="image/png"/>
  <Override PartName="/ppt/media/laser.wav" ContentType="audio/x-wav"/>
  <Override PartName="/ppt/media/drumroll.wav" ContentType="audio/x-wav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28D1-7F0E-4A61-B5ED-23AAA3998F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98ED-227E-4C80-A56E-00071E00EE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4306-631A-497A-9E59-22206392BF1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32B4-2B2D-4D81-AB07-3A799BD1B2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20F-BECB-4B8B-91D9-F584ABD2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A0A-66FC-4409-B958-24FB1034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773-A163-4A86-8DB8-1E88DCEB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9BB-01BD-41CC-9006-3B711F9F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A54D-272B-4447-AF7E-87BA8A0E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FB35-4AF0-47F7-A30A-F719761E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2921-BF75-4C13-BD35-A415145E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D857-2BF8-4C73-A9B6-E25366D2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1FF8-C0DF-4202-B8D8-82EDCC9F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7E62-6F2E-4B81-96AD-90B1FD9A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13B7-8625-453A-A88A-AAA8A5B6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84D-9BCC-49E9-A78B-25597BD3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C613-8AAB-48FB-B911-D9DD1F87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A528-59B7-4899-B8EE-4944A876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3575-EA24-4D04-B316-09420511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ADE0-7F4D-4A19-89A4-C3AFE042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9702-5232-421F-AE40-90351699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AA5E-23D1-4EB1-8E38-26B5DD43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7F1A6-D2D2-4B71-8F24-73ABDE57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D0EC-0D63-4E63-838D-D90E88D8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6A1A1-5A4A-4073-A4EC-9C70DB5E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C6DF2-9745-496C-9D8D-21C47608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59F-CD25-4798-80F0-4676FD37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8F4C-7B2E-4200-A3D6-886037EA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C4F99-7A0E-440F-89E6-7D41CF55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D1F4-6F11-4CAE-8C42-67ED301C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9FCAE-DB01-4DA6-B343-C2F21417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548F-A988-483C-97BB-18A0C23C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1296-E42B-4E55-8B87-266D2074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CD529-A846-4C78-BD9F-74D66569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5EC71-2E24-4A46-80D0-11E56C94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B6910-8EE7-4F1D-A412-66B9064C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53C5C-8EB4-465C-99D9-732155F2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820-E033-42AD-90F3-6EC571A9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ECA15-26D0-400F-B316-480C9173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2334F-7DEB-402D-A0EF-1B30EA8F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DA56C-F900-490A-98FA-84506ACA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90D15-E4A8-4E37-BFAE-19886020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87A7E-44B4-44B8-B4C1-2F113E26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B7B1D-682E-402B-AE93-F5F3C3E1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518B-D114-4D47-9683-B80BD75D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04D39-7AFE-4F5D-9801-481BF05F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C5F75-2FF5-46C0-9469-92D78D46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F825C-69A3-453F-B49A-F856C6C2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E11-2355-4AC6-86F5-81D7CBFC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3F7BB-779C-4C13-9636-7F71D723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357F7-9270-46AC-906D-4D3F7916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BF7FD-3027-4054-88FB-12F2CCF2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5CA37-73EC-4239-9AAC-72294EE9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AEB8-A888-4F41-AEF1-AF852548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01593-67BF-497B-9162-6865FE5D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313BE-1018-4F57-9C6F-0777489B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01DE5-7B5A-4A10-B2D2-1E3836D2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919CA-8DD1-4B59-AD48-A4F04E4F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2A2AF-D515-490E-B08A-F971D33B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756-6140-4185-B9D3-F0375B2F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3BEE5-DC5F-4889-8B8C-3933DC80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3020E-B6D8-4FED-8973-CA64D852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7171D-E943-4771-A9AA-3C06BFE9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66804-EC30-414F-A4FC-AE93BA86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FA869-C596-4834-9EE8-98211F31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5D9A8-4691-48CC-96E5-67761F0B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CB950-B38E-463E-8202-120EFF1D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216C6-40D9-46BE-816F-A008FBA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9C96F-01BA-44E4-973B-EFADE461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6D7CE-42A5-4747-ABA8-58FBDF57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69A-3DE0-4385-B5FE-6A938A66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9997B-EDB9-40A8-905B-DC9C947D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67243-2C5F-489D-A4CC-D6655FCA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767FB-F63F-4654-8264-DC18D302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B07-9828-458E-8191-36A32FD3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D53-33FC-4E2E-92F6-1521A3BB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BBCB-2EA0-4397-8A09-42E4949EDE2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0EDB-3F18-4C72-AB26-46673619AC0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1B1-40C8-4270-80EB-C1831A42197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57AD-FF65-4318-8B67-28D2D399539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F5D6-4046-4274-886C-9383F73EFBF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8731-67D9-4354-B7CD-3F978FF1684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30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1.xml"/><Relationship Id="rId10" Type="http://schemas.openxmlformats.org/officeDocument/2006/relationships/slide" Target="slide32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5.xml"/><Relationship Id="rId14" Type="http://schemas.openxmlformats.org/officeDocument/2006/relationships/slide" Target="slide35.xml"/><Relationship Id="rId15" Type="http://schemas.openxmlformats.org/officeDocument/2006/relationships/slide" Target="slide36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0.xml"/><Relationship Id="rId20" Type="http://schemas.openxmlformats.org/officeDocument/2006/relationships/slide" Target="slide29.xml"/><Relationship Id="rId21" Type="http://schemas.openxmlformats.org/officeDocument/2006/relationships/slide" Target="slide29.xml"/><Relationship Id="rId22" Type="http://schemas.openxmlformats.org/officeDocument/2006/relationships/slide" Target="slide34.xml"/><Relationship Id="rId23" Type="http://schemas.openxmlformats.org/officeDocument/2006/relationships/slide" Target="slide34.xml"/><Relationship Id="rId24" Type="http://schemas.openxmlformats.org/officeDocument/2006/relationships/slide" Target="slide39.xml"/><Relationship Id="rId25" Type="http://schemas.openxmlformats.org/officeDocument/2006/relationships/slide" Target="slide39.xml"/><Relationship Id="rId26" Type="http://schemas.openxmlformats.org/officeDocument/2006/relationships/slide" Target="slide46.xml"/><Relationship Id="rId27" Type="http://schemas.openxmlformats.org/officeDocument/2006/relationships/slide" Target="slide23.xml"/><Relationship Id="rId28" Type="http://schemas.openxmlformats.org/officeDocument/2006/relationships/slide" Target="slide23.xml"/><Relationship Id="rId29" Type="http://schemas.openxmlformats.org/officeDocument/2006/relationships/slide" Target="slide24.xml"/><Relationship Id="rId30" Type="http://schemas.openxmlformats.org/officeDocument/2006/relationships/slide" Target="slide24.xml"/><Relationship Id="rId31" Type="http://schemas.openxmlformats.org/officeDocument/2006/relationships/slide" Target="slide25.xml"/><Relationship Id="rId32" Type="http://schemas.openxmlformats.org/officeDocument/2006/relationships/slide" Target="slide25.xml"/><Relationship Id="rId33" Type="http://schemas.openxmlformats.org/officeDocument/2006/relationships/slide" Target="slide41.xml"/><Relationship Id="rId34" Type="http://schemas.openxmlformats.org/officeDocument/2006/relationships/slide" Target="slide41.xml"/><Relationship Id="rId35" Type="http://schemas.openxmlformats.org/officeDocument/2006/relationships/slide" Target="slide43.xml"/><Relationship Id="rId36" Type="http://schemas.openxmlformats.org/officeDocument/2006/relationships/slide" Target="slide44.xml"/><Relationship Id="rId37" Type="http://schemas.openxmlformats.org/officeDocument/2006/relationships/slide" Target="slide44.xml"/><Relationship Id="rId38" Type="http://schemas.openxmlformats.org/officeDocument/2006/relationships/slide" Target="slide45.xml"/><Relationship Id="rId39" Type="http://schemas.openxmlformats.org/officeDocument/2006/relationships/slide" Target="slide45.xml"/><Relationship Id="rId40" Type="http://schemas.openxmlformats.org/officeDocument/2006/relationships/slide" Target="slide22.xml"/><Relationship Id="rId41" Type="http://schemas.openxmlformats.org/officeDocument/2006/relationships/slide" Target="slide22.xml"/><Relationship Id="rId42" Type="http://schemas.openxmlformats.org/officeDocument/2006/relationships/slide" Target="slide37.xml"/><Relationship Id="rId43" Type="http://schemas.openxmlformats.org/officeDocument/2006/relationships/slide" Target="slide37.xml"/><Relationship Id="rId44" Type="http://schemas.openxmlformats.org/officeDocument/2006/relationships/slide" Target="slide42.xml"/><Relationship Id="rId45" Type="http://schemas.openxmlformats.org/officeDocument/2006/relationships/slide" Target="slide42.xml"/><Relationship Id="rId46" Type="http://schemas.openxmlformats.org/officeDocument/2006/relationships/slide" Target="slide21.xml"/><Relationship Id="rId47" Type="http://schemas.openxmlformats.org/officeDocument/2006/relationships/slide" Target="slide21.xml"/><Relationship Id="rId48" Type="http://schemas.openxmlformats.org/officeDocument/2006/relationships/audio" Target="../media/whoosh.wav"/><Relationship Id="rId49" Type="http://schemas.openxmlformats.org/officeDocument/2006/relationships/audio" Target="../media/whoosh.wav"/><Relationship Id="rId50" Type="http://schemas.openxmlformats.org/officeDocument/2006/relationships/audio" Target="../media/whoosh.wav"/><Relationship Id="rId51" Type="http://schemas.openxmlformats.org/officeDocument/2006/relationships/audio" Target="../media/whoosh.wav"/><Relationship Id="rId52" Type="http://schemas.openxmlformats.org/officeDocument/2006/relationships/audio" Target="../media/whoosh.wav"/><Relationship Id="rId53" Type="http://schemas.openxmlformats.org/officeDocument/2006/relationships/audio" Target="../media/laser.wav"/><Relationship Id="rId54" Type="http://schemas.openxmlformats.org/officeDocument/2006/relationships/audio" Target="../media/laser.wav"/><Relationship Id="rId55" Type="http://schemas.openxmlformats.org/officeDocument/2006/relationships/audio" Target="../media/laser.wav"/><Relationship Id="rId56" Type="http://schemas.openxmlformats.org/officeDocument/2006/relationships/audio" Target="../media/laser.wav"/><Relationship Id="rId57" Type="http://schemas.openxmlformats.org/officeDocument/2006/relationships/audio" Target="../media/laser.wav"/><Relationship Id="rId58" Type="http://schemas.openxmlformats.org/officeDocument/2006/relationships/audio" Target="../media/laser.wav"/><Relationship Id="rId59" Type="http://schemas.openxmlformats.org/officeDocument/2006/relationships/audio" Target="../media/laser.wav"/><Relationship Id="rId60" Type="http://schemas.openxmlformats.org/officeDocument/2006/relationships/audio" Target="../media/laser.wav"/><Relationship Id="rId61" Type="http://schemas.openxmlformats.org/officeDocument/2006/relationships/audio" Target="../media/laser.wav"/><Relationship Id="rId62" Type="http://schemas.openxmlformats.org/officeDocument/2006/relationships/audio" Target="../media/laser.wav"/><Relationship Id="rId63" Type="http://schemas.openxmlformats.org/officeDocument/2006/relationships/audio" Target="../media/laser.wav"/><Relationship Id="rId64" Type="http://schemas.openxmlformats.org/officeDocument/2006/relationships/audio" Target="../media/laser.wav"/><Relationship Id="rId65" Type="http://schemas.openxmlformats.org/officeDocument/2006/relationships/audio" Target="../media/laser.wav"/><Relationship Id="rId66" Type="http://schemas.openxmlformats.org/officeDocument/2006/relationships/audio" Target="../media/laser.wav"/><Relationship Id="rId67" Type="http://schemas.openxmlformats.org/officeDocument/2006/relationships/audio" Target="../media/laser.wav"/><Relationship Id="rId68" Type="http://schemas.openxmlformats.org/officeDocument/2006/relationships/audio" Target="../media/laser.wav"/><Relationship Id="rId69" Type="http://schemas.openxmlformats.org/officeDocument/2006/relationships/audio" Target="../media/laser.wav"/><Relationship Id="rId70" Type="http://schemas.openxmlformats.org/officeDocument/2006/relationships/audio" Target="../media/laser.wav"/><Relationship Id="rId71" Type="http://schemas.openxmlformats.org/officeDocument/2006/relationships/audio" Target="../media/laser.wav"/><Relationship Id="rId72" Type="http://schemas.openxmlformats.org/officeDocument/2006/relationships/audio" Target="../media/laser.wav"/><Relationship Id="rId73" Type="http://schemas.openxmlformats.org/officeDocument/2006/relationships/audio" Target="../media/laser.wav"/><Relationship Id="rId74" Type="http://schemas.openxmlformats.org/officeDocument/2006/relationships/audio" Target="../media/laser.wav"/><Relationship Id="rId75" Type="http://schemas.openxmlformats.org/officeDocument/2006/relationships/audio" Target="../media/laser.wav"/><Relationship Id="rId76" Type="http://schemas.openxmlformats.org/officeDocument/2006/relationships/audio" Target="../media/laser.wav"/><Relationship Id="rId77" Type="http://schemas.openxmlformats.org/officeDocument/2006/relationships/audio" Target="../media/laser.wav"/><Relationship Id="rId78" Type="http://schemas.openxmlformats.org/officeDocument/2006/relationships/slideLayout" Target="../slideLayouts/slideLayout1.xml"/><Relationship Id="rId7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3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slide" Target="slide16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7.xml"/><Relationship Id="rId23" Type="http://schemas.openxmlformats.org/officeDocument/2006/relationships/slide" Target="slide7.xml"/><Relationship Id="rId24" Type="http://schemas.openxmlformats.org/officeDocument/2006/relationships/slide" Target="slide12.xml"/><Relationship Id="rId25" Type="http://schemas.openxmlformats.org/officeDocument/2006/relationships/slide" Target="slide12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19.xml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laser.wav"/><Relationship Id="rId46" Type="http://schemas.openxmlformats.org/officeDocument/2006/relationships/audio" Target="../media/laser.wav"/><Relationship Id="rId47" Type="http://schemas.openxmlformats.org/officeDocument/2006/relationships/slideLayout" Target="../slideLayouts/slideLayout1.xml"/><Relationship Id="rId4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165240" y="1798560"/>
            <a:ext cx="8985240" cy="24386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3000240" y="6286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Ленинск-Кузнецки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5076720" y="3500280"/>
            <a:ext cx="371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подаватель информатики Иванова Оксана Васильевна для профессии «Слесарь по ремонту автомобиле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357200" y="50004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БОУ СПО «Ленинск-Кузнец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хнологический технику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6920" y="2707920"/>
            <a:ext cx="7525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долго спал Илья Муромец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2825640" y="476280"/>
            <a:ext cx="421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 том, о се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26920" y="4437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33 го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Управляющая кнопка: назад 5">
            <a:hlinkClick r:id="rId1" action="ppaction://hlinksldjump"/>
          </p:cNvPr>
          <p:cNvSpPr/>
          <p:nvPr/>
        </p:nvSpPr>
        <p:spPr>
          <a:xfrm>
            <a:off x="81010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2625480" y="0"/>
            <a:ext cx="421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 том, о се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14200" y="5072040"/>
            <a:ext cx="8929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Мизинец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(речь идет о пальцах: большой, указательный, средний, безымянный и мизинец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214200" y="1857240"/>
            <a:ext cx="866484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ин получил свое имя за свои габариты, другой - за способность давать информацию, третий - за свою дислокацию, а четвертый и вовсе предпочитает оставаться инкогнит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 как зовут пят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Управляющая кнопка: назад 5">
            <a:hlinkClick r:id="rId1" action="ppaction://hlinksldjump"/>
          </p:cNvPr>
          <p:cNvSpPr/>
          <p:nvPr/>
        </p:nvSpPr>
        <p:spPr>
          <a:xfrm>
            <a:off x="81010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71400" y="2786040"/>
            <a:ext cx="6357960" cy="121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Чему равна дюжина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2554200" y="357120"/>
            <a:ext cx="421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 том, о се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57120" y="464328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Управляющая кнопка: назад 5">
            <a:hlinkClick r:id="rId1" action="ppaction://hlinksldjump"/>
          </p:cNvPr>
          <p:cNvSpPr/>
          <p:nvPr/>
        </p:nvSpPr>
        <p:spPr>
          <a:xfrm>
            <a:off x="8143920" y="60008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071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Если взять серу, свинец, серебро, радий, титан, золото и калий, то результат будет связан с двумя цветами. Назовите эти цвет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67680" y="0"/>
            <a:ext cx="421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 том, о се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85840" y="3500280"/>
            <a:ext cx="864396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Красный и Белы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(если прочитать первые буквы обозначений этих элементов в периодической системе элементов Д.И. Менделеева (S, Pb, Ag, Ra, Ti, Au, K), то получим название футбольного клуба Спартак, а цвета связанные с этим клубо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Управляющая кнопка: назад 5">
            <a:hlinkClick r:id="rId1" action="ppaction://hlinksldjump"/>
          </p:cNvPr>
          <p:cNvSpPr/>
          <p:nvPr/>
        </p:nvSpPr>
        <p:spPr>
          <a:xfrm>
            <a:off x="8028000" y="595008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5166" y="10800"/>
                </a:moveTo>
                <a:lnTo>
                  <a:pt x="19179" y="3794"/>
                </a:lnTo>
                <a:lnTo>
                  <a:pt x="19179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2781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Что в переводе с греческого означает слово светофор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219120" y="404640"/>
            <a:ext cx="352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ветофор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332000" y="43657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несущий св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Управляющая кнопка: назад 5">
            <a:hlinkClick r:id="rId1" action="ppaction://hlinksldjump"/>
          </p:cNvPr>
          <p:cNvSpPr/>
          <p:nvPr/>
        </p:nvSpPr>
        <p:spPr>
          <a:xfrm>
            <a:off x="788508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10806"/>
                </a:moveTo>
                <a:lnTo>
                  <a:pt x="17806" y="3800"/>
                </a:lnTo>
                <a:lnTo>
                  <a:pt x="17806" y="17812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58560" y="256500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Кто у русских царей впервые обратил внимание и принял меры для безопасности дорожного движения</a:t>
            </a: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146400" y="260280"/>
            <a:ext cx="352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ветофор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116000" y="4365720"/>
            <a:ext cx="777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етр </a:t>
            </a:r>
            <a:r>
              <a:rPr b="1" lang="en-US" sz="4800" spc="-1" strike="noStrike">
                <a:solidFill>
                  <a:srgbClr val="c00000"/>
                </a:solidFill>
                <a:latin typeface="Tahoma"/>
              </a:rPr>
              <a:t>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Управляющая кнопка: назад 5">
            <a:hlinkClick r:id="rId1" action="ppaction://hlinksldjump"/>
          </p:cNvPr>
          <p:cNvSpPr/>
          <p:nvPr/>
        </p:nvSpPr>
        <p:spPr>
          <a:xfrm>
            <a:off x="781200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3146400" y="333360"/>
            <a:ext cx="352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ветофор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971640" y="436572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дорога для пешех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900000" y="2421000"/>
            <a:ext cx="7956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значает слово «тротуар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Управляющая кнопка: назад 5">
            <a:hlinkClick r:id="rId1" action="ppaction://hlinksldjump"/>
          </p:cNvPr>
          <p:cNvSpPr/>
          <p:nvPr/>
        </p:nvSpPr>
        <p:spPr>
          <a:xfrm>
            <a:off x="781200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10806"/>
                </a:moveTo>
                <a:lnTo>
                  <a:pt x="17806" y="3800"/>
                </a:lnTo>
                <a:lnTo>
                  <a:pt x="17806" y="17812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86920" y="2707920"/>
            <a:ext cx="752508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дословно переводится на русский язык французское слово «шофер»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002400" y="333360"/>
            <a:ext cx="352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ветофор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763640" y="4437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истопник, кочега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Управляющая кнопка: назад 5">
            <a:hlinkClick r:id="rId1" action="ppaction://hlinksldjump"/>
          </p:cNvPr>
          <p:cNvSpPr/>
          <p:nvPr/>
        </p:nvSpPr>
        <p:spPr>
          <a:xfrm>
            <a:off x="774072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10806"/>
                </a:moveTo>
                <a:lnTo>
                  <a:pt x="17806" y="3800"/>
                </a:lnTo>
                <a:lnTo>
                  <a:pt x="17806" y="17812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524720" cy="187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Tahoma"/>
              </a:rPr>
              <a:t>Какой первый автобусный маршрут был в нашем горо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146400" y="333360"/>
            <a:ext cx="352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ветофор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619280" y="450864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  <a:ea typeface="Tahoma"/>
              </a:rPr>
              <a:t>Базар и вокзал Ж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Управляющая кнопка: назад 5">
            <a:hlinkClick r:id="rId1" action="ppaction://hlinksldjump"/>
          </p:cNvPr>
          <p:cNvSpPr/>
          <p:nvPr/>
        </p:nvSpPr>
        <p:spPr>
          <a:xfrm>
            <a:off x="781200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280" y="2276280"/>
            <a:ext cx="8856720" cy="165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раунд</a:t>
            </a:r>
            <a:br>
              <a:rPr sz="5200"/>
            </a:br>
            <a:r>
              <a:rPr b="1" i="1" lang="ru-RU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теоретический цикл»</a:t>
            </a:r>
            <a:endParaRPr b="0" lang="en-US" sz="5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7"/>
          <p:cNvSpPr/>
          <p:nvPr/>
        </p:nvSpPr>
        <p:spPr>
          <a:xfrm>
            <a:off x="1835280" y="2276640"/>
            <a:ext cx="58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раун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минка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">
            <a:hlinkClick r:id="" action="ppaction://hlinkshowjump?jump=nextslide"/>
          </p:cNvPr>
          <p:cNvSpPr/>
          <p:nvPr/>
        </p:nvSpPr>
        <p:spPr>
          <a:xfrm>
            <a:off x="179280" y="1413000"/>
            <a:ext cx="1368360" cy="9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Математ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5">
            <a:hlinkClick r:id="" action="ppaction://hlinkshowjump?jump=nextslide"/>
          </p:cNvPr>
          <p:cNvSpPr/>
          <p:nvPr/>
        </p:nvSpPr>
        <p:spPr>
          <a:xfrm>
            <a:off x="179280" y="2565360"/>
            <a:ext cx="1357560" cy="95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сто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1643040" y="142884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3143160" y="1428840"/>
            <a:ext cx="1419480" cy="944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643280" y="142884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7715160" y="1428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1643040" y="2571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1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3143160" y="2571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4643280" y="257184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2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7715160" y="2571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3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4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17"/>
          <p:cNvSpPr/>
          <p:nvPr/>
        </p:nvSpPr>
        <p:spPr>
          <a:xfrm>
            <a:off x="164304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5" action="ppaction://hlinksldjump"/>
              </a:rPr>
              <a:t>1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6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4643280" y="371484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7715160" y="3714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8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9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6">
            <a:hlinkClick r:id="" action="ppaction://hlinkshowjump?jump=nextslide"/>
          </p:cNvPr>
          <p:cNvSpPr/>
          <p:nvPr/>
        </p:nvSpPr>
        <p:spPr>
          <a:xfrm>
            <a:off x="179280" y="3716280"/>
            <a:ext cx="1357560" cy="978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Общ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6143760" y="1428840"/>
            <a:ext cx="14284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0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1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8"/>
          <p:cNvSpPr/>
          <p:nvPr/>
        </p:nvSpPr>
        <p:spPr>
          <a:xfrm>
            <a:off x="6143760" y="2571840"/>
            <a:ext cx="14284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614376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4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5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Управляющая кнопка: далее 21">
            <a:hlinkClick r:id="rId26" action="ppaction://hlinksldjump"/>
          </p:cNvPr>
          <p:cNvSpPr/>
          <p:nvPr/>
        </p:nvSpPr>
        <p:spPr>
          <a:xfrm>
            <a:off x="7885080" y="602136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3794"/>
                </a:moveTo>
                <a:lnTo>
                  <a:pt x="19947" y="10800"/>
                </a:lnTo>
                <a:lnTo>
                  <a:pt x="5934" y="17806"/>
                </a:lnTo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6">
            <a:hlinkClick r:id="" action="ppaction://hlinkshowjump?jump=nextslide"/>
          </p:cNvPr>
          <p:cNvSpPr/>
          <p:nvPr/>
        </p:nvSpPr>
        <p:spPr>
          <a:xfrm>
            <a:off x="179280" y="4797360"/>
            <a:ext cx="136836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4">
            <a:hlinkClick r:id="" action="ppaction://hlinkshowjump?jump=nextslide"/>
          </p:cNvPr>
          <p:cNvSpPr/>
          <p:nvPr/>
        </p:nvSpPr>
        <p:spPr>
          <a:xfrm>
            <a:off x="179280" y="333360"/>
            <a:ext cx="136836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Физ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643280" y="33336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7" action="ppaction://hlinksldjump"/>
              </a:rPr>
              <a:t>3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8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6156360" y="33336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9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0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7740720" y="333360"/>
            <a:ext cx="12952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31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2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1619280" y="479736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33" action="ppaction://hlinksldjump"/>
              </a:rPr>
              <a:t>1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4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4643280" y="479736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5" action="ppaction://hlinksldjump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29"/>
          <p:cNvSpPr/>
          <p:nvPr/>
        </p:nvSpPr>
        <p:spPr>
          <a:xfrm>
            <a:off x="6156360" y="479736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36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7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7740720" y="4797360"/>
            <a:ext cx="1320840" cy="951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38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9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3132000" y="33336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0" action="ppaction://hlinksldjump"/>
              </a:rPr>
              <a:t>2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41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5"/>
          <p:cNvSpPr/>
          <p:nvPr/>
        </p:nvSpPr>
        <p:spPr>
          <a:xfrm>
            <a:off x="3132000" y="371628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2" action="ppaction://hlinksldjump"/>
              </a:rPr>
              <a:t>2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43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6"/>
          <p:cNvSpPr/>
          <p:nvPr/>
        </p:nvSpPr>
        <p:spPr>
          <a:xfrm>
            <a:off x="3132000" y="4797360"/>
            <a:ext cx="1440000" cy="951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4" action="ppaction://hlinksldjump"/>
              </a:rPr>
              <a:t>2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45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1619280" y="33336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6" action="ppaction://hlinksldjump"/>
              </a:rPr>
              <a:t>1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47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437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467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500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86920" y="2707920"/>
            <a:ext cx="752508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 чем теплее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 трех рубашках или в рубашке тройной толщины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21280" y="333360"/>
            <a:ext cx="30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Физ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763640" y="4437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в трех рубашка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Управляющая кнопка: назад 6">
            <a:hlinkClick r:id="rId1" action="ppaction://hlinksldjump"/>
          </p:cNvPr>
          <p:cNvSpPr/>
          <p:nvPr/>
        </p:nvSpPr>
        <p:spPr>
          <a:xfrm>
            <a:off x="8028000" y="6021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Что имеют ввиду, когда говорят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«Пошло дело, как по маслу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3179160" y="549360"/>
            <a:ext cx="30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Физ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95280" y="4581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уменьшение силы т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Управляющая кнопка: назад 5">
            <a:hlinkClick r:id="rId1" action="ppaction://hlinksldjump"/>
          </p:cNvPr>
          <p:cNvSpPr/>
          <p:nvPr/>
        </p:nvSpPr>
        <p:spPr>
          <a:xfrm>
            <a:off x="8101080" y="587700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3794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Без крыльев, без тела за тысячу вёрст прилетел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179160" y="549360"/>
            <a:ext cx="30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Физ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радиовол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5877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Лежит на земле: не закрасить, не соскоблить, не завалить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3179160" y="549360"/>
            <a:ext cx="30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Физ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те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ри выходе из воды животные встряхиваются. Какой закон физики используется ими при этом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179160" y="549360"/>
            <a:ext cx="30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Физ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763640" y="4581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закон инерц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10806"/>
                </a:moveTo>
                <a:lnTo>
                  <a:pt x="17806" y="3800"/>
                </a:lnTo>
                <a:lnTo>
                  <a:pt x="17806" y="17812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Назовите Самую большую хорду окружности?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259720" y="549360"/>
            <a:ext cx="492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Математика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диамет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Управляющая кнопка: назад 4">
            <a:hlinkClick r:id="rId1" action="ppaction://hlinksldjump"/>
          </p:cNvPr>
          <p:cNvSpPr/>
          <p:nvPr/>
        </p:nvSpPr>
        <p:spPr>
          <a:xfrm>
            <a:off x="810108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3840" y="2143080"/>
            <a:ext cx="8929800" cy="199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 клетке находятся 3 кролика. Три девочки попросили дать им по одному кролику. Каждой девочке дали кролика. И все же в клетке остался один кролик. Как так получилось?..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503080" y="0"/>
            <a:ext cx="430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Математ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234000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сем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Управляющая кнопка: назад 7">
            <a:hlinkClick r:id="rId1" action="ppaction://hlinksldjump"/>
          </p:cNvPr>
          <p:cNvSpPr/>
          <p:nvPr/>
        </p:nvSpPr>
        <p:spPr>
          <a:xfrm>
            <a:off x="7885080" y="587700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10800"/>
                </a:moveTo>
                <a:lnTo>
                  <a:pt x="19000" y="3794"/>
                </a:lnTo>
                <a:lnTo>
                  <a:pt x="19000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136000" cy="187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Рыбака спросили, сколько он поймал рыбы. Он ответил: «Половину восьми, шесть без головы. Девять без хвоста».  Сколько рыбы поймал рыбак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2387160" y="260280"/>
            <a:ext cx="430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Математ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900000" y="4653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нискольк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Управляющая кнопка: назад 7">
            <a:hlinkClick r:id="rId1" action="ppaction://hlinksldjump"/>
          </p:cNvPr>
          <p:cNvSpPr/>
          <p:nvPr/>
        </p:nvSpPr>
        <p:spPr>
          <a:xfrm>
            <a:off x="8028000" y="6021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44000" cy="165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Есть у растения и у уравнени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2487240" y="404640"/>
            <a:ext cx="430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Математ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2195640" y="450864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корен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Управляющая кнопка: назад 7">
            <a:hlinkClick r:id="rId1" action="ppaction://hlinksldjump"/>
          </p:cNvPr>
          <p:cNvSpPr/>
          <p:nvPr/>
        </p:nvSpPr>
        <p:spPr>
          <a:xfrm>
            <a:off x="795672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c8c3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>
            <a:hlinkClick r:id="" action="ppaction://hlinkshowjump?jump=nextslide"/>
          </p:cNvPr>
          <p:cNvSpPr/>
          <p:nvPr/>
        </p:nvSpPr>
        <p:spPr>
          <a:xfrm>
            <a:off x="142920" y="1428840"/>
            <a:ext cx="1357200" cy="92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лесар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дел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">
            <a:hlinkClick r:id="" action="ppaction://hlinkshowjump?jump=nextslide"/>
          </p:cNvPr>
          <p:cNvSpPr/>
          <p:nvPr/>
        </p:nvSpPr>
        <p:spPr>
          <a:xfrm>
            <a:off x="142920" y="2571840"/>
            <a:ext cx="1357200" cy="95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О том, о с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1643040" y="142884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143160" y="1428840"/>
            <a:ext cx="1419480" cy="944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4643280" y="142884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7715160" y="1428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1643040" y="2571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1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3143160" y="2571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4643280" y="257184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2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6"/>
          <p:cNvSpPr/>
          <p:nvPr/>
        </p:nvSpPr>
        <p:spPr>
          <a:xfrm>
            <a:off x="7715160" y="2571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3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4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164304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5" action="ppaction://hlinksldjump"/>
              </a:rPr>
              <a:t>1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6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314316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17" action="ppaction://hlinksldjump"/>
              </a:rPr>
              <a:t>2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8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9"/>
          <p:cNvSpPr/>
          <p:nvPr/>
        </p:nvSpPr>
        <p:spPr>
          <a:xfrm>
            <a:off x="4643280" y="371484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19" action="ppaction://hlinksldjump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20"/>
          <p:cNvSpPr/>
          <p:nvPr/>
        </p:nvSpPr>
        <p:spPr>
          <a:xfrm>
            <a:off x="7715160" y="3714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0" action="ppaction://hlinksldjump"/>
              </a:rPr>
              <a:t>5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1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6">
            <a:hlinkClick r:id="" action="ppaction://hlinkshowjump?jump=nextslide"/>
          </p:cNvPr>
          <p:cNvSpPr/>
          <p:nvPr/>
        </p:nvSpPr>
        <p:spPr>
          <a:xfrm>
            <a:off x="142920" y="3714840"/>
            <a:ext cx="1357200" cy="9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Светоф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6143760" y="1428840"/>
            <a:ext cx="14284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28"/>
          <p:cNvSpPr/>
          <p:nvPr/>
        </p:nvSpPr>
        <p:spPr>
          <a:xfrm>
            <a:off x="6143760" y="2571840"/>
            <a:ext cx="14284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4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5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>
            <a:off x="614376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8c3"/>
                </a:solidFill>
                <a:uFillTx/>
                <a:latin typeface="Arial"/>
                <a:hlinkClick r:id="rId26" action="ppaction://hlinksldjump"/>
              </a:rPr>
              <a:t>4</a:t>
            </a:r>
            <a:r>
              <a:rPr b="0" lang="en-US" sz="3200" spc="-1" strike="noStrike" u="sng">
                <a:solidFill>
                  <a:srgbClr val="00c8c3"/>
                </a:solidFill>
                <a:uFillTx/>
                <a:latin typeface="Arial"/>
                <a:hlinkClick r:id="rId27" action="ppaction://hlinksldjump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Управляющая кнопка: далее 20">
            <a:hlinkClick r:id="rId28" action="ppaction://hlinksldjump"/>
          </p:cNvPr>
          <p:cNvSpPr/>
          <p:nvPr/>
        </p:nvSpPr>
        <p:spPr>
          <a:xfrm>
            <a:off x="8028000" y="6021360"/>
            <a:ext cx="865080" cy="7207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2213280" y="189000"/>
            <a:ext cx="430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Математ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1258920" y="479736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отрез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8" descr="C:\Users\Марина\Desktop\ребусы\ребус 11.png"/>
          <p:cNvPicPr/>
          <p:nvPr/>
        </p:nvPicPr>
        <p:blipFill>
          <a:blip r:embed="rId1"/>
          <a:stretch/>
        </p:blipFill>
        <p:spPr>
          <a:xfrm>
            <a:off x="2340000" y="2997360"/>
            <a:ext cx="3994200" cy="15588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1"/>
          <p:cNvSpPr/>
          <p:nvPr/>
        </p:nvSpPr>
        <p:spPr>
          <a:xfrm>
            <a:off x="2195640" y="2421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Разгадайте ребу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Управляющая кнопка: назад 8">
            <a:hlinkClick r:id="rId2" action="ppaction://hlinksldjump"/>
          </p:cNvPr>
          <p:cNvSpPr/>
          <p:nvPr/>
        </p:nvSpPr>
        <p:spPr>
          <a:xfrm>
            <a:off x="795672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зовите две династии правителей, которые правили в России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3122640" y="549360"/>
            <a:ext cx="319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39640" y="43657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Рюриковичи и Романов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Управляющая кнопка: назад 4">
            <a:hlinkClick r:id="rId1" action="ppaction://hlinksldjump"/>
          </p:cNvPr>
          <p:cNvSpPr/>
          <p:nvPr/>
        </p:nvSpPr>
        <p:spPr>
          <a:xfrm>
            <a:off x="802800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Book"/>
              </a:rPr>
              <a:t>II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мировая война началась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122640" y="549360"/>
            <a:ext cx="319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1476360" y="40053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1 сентября 1939 г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Управляющая кнопка: назад 4">
            <a:hlinkClick r:id="rId1" action="ppaction://hlinksldjump"/>
          </p:cNvPr>
          <p:cNvSpPr/>
          <p:nvPr/>
        </p:nvSpPr>
        <p:spPr>
          <a:xfrm>
            <a:off x="781200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Город-герой Волгоград раньше называлс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3122640" y="549360"/>
            <a:ext cx="319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Сталинград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Управляющая кнопка: назад 4">
            <a:hlinkClick r:id="rId1" action="ppaction://hlinksldjump"/>
          </p:cNvPr>
          <p:cNvSpPr/>
          <p:nvPr/>
        </p:nvSpPr>
        <p:spPr>
          <a:xfrm>
            <a:off x="7956720" y="5950080"/>
            <a:ext cx="576000" cy="5745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10800"/>
                </a:moveTo>
                <a:lnTo>
                  <a:pt x="17834" y="3794"/>
                </a:lnTo>
                <a:lnTo>
                  <a:pt x="1783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71280" y="242064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звали первого президента СССР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100680" y="333360"/>
            <a:ext cx="319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324000" y="3933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Горбачев Михаил Сергееви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Управляющая кнопка: назад 4">
            <a:hlinkClick r:id="rId1" action="ppaction://hlinksldjump"/>
          </p:cNvPr>
          <p:cNvSpPr/>
          <p:nvPr/>
        </p:nvSpPr>
        <p:spPr>
          <a:xfrm>
            <a:off x="781200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огда была принята конституция РФ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3100680" y="333360"/>
            <a:ext cx="319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1258920" y="429264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12 декабря 1993 г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Управляющая кнопка: назад 4">
            <a:hlinkClick r:id="rId1" action="ppaction://hlinksldjump"/>
          </p:cNvPr>
          <p:cNvSpPr/>
          <p:nvPr/>
        </p:nvSpPr>
        <p:spPr>
          <a:xfrm>
            <a:off x="7812000" y="587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10800"/>
                </a:moveTo>
                <a:lnTo>
                  <a:pt x="19141" y="3794"/>
                </a:lnTo>
                <a:lnTo>
                  <a:pt x="19141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15640" y="220464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зовите основные сферы обществ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2963520" y="189000"/>
            <a:ext cx="363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бществ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79280" y="3284640"/>
            <a:ext cx="878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экономическая, политическая, социальная, духовна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2268360" y="836640"/>
            <a:ext cx="48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ff"/>
                </a:solidFill>
                <a:latin typeface="Arial"/>
              </a:rPr>
              <a:t>АУКЦИ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Управляющая кнопка: назад 5">
            <a:hlinkClick r:id="rId1" action="ppaction://hlinksldjump"/>
          </p:cNvPr>
          <p:cNvSpPr/>
          <p:nvPr/>
        </p:nvSpPr>
        <p:spPr>
          <a:xfrm>
            <a:off x="8172360" y="6021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xit" presetID="5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Закончить предложение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«Основным законом Российской Федерации является…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2906640" y="549360"/>
            <a:ext cx="363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бществ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908000" y="4581360"/>
            <a:ext cx="57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Конституция Р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Управляющая кнопка: назад 4">
            <a:hlinkClick r:id="rId1" action="ppaction://hlinksldjump"/>
          </p:cNvPr>
          <p:cNvSpPr/>
          <p:nvPr/>
        </p:nvSpPr>
        <p:spPr>
          <a:xfrm>
            <a:off x="802800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переводится на русский язык греческое слово «ЭТНОС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2906640" y="549360"/>
            <a:ext cx="363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бществ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наро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Управляющая кнопка: назад 4">
            <a:hlinkClick r:id="rId1" action="ppaction://hlinksldjump"/>
          </p:cNvPr>
          <p:cNvSpPr/>
          <p:nvPr/>
        </p:nvSpPr>
        <p:spPr>
          <a:xfrm>
            <a:off x="802800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еречислите известные Вам виды социальных норм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2890440" y="0"/>
            <a:ext cx="363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бществ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468360" y="3141720"/>
            <a:ext cx="5398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Обычаи и трад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равовые нор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Политичес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Мора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Религиоз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Эстетическ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Управляющая кнопка: назад 4">
            <a:hlinkClick r:id="rId1" action="ppaction://hlinksldjump"/>
          </p:cNvPr>
          <p:cNvSpPr/>
          <p:nvPr/>
        </p:nvSpPr>
        <p:spPr>
          <a:xfrm>
            <a:off x="802800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636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ервая нота, вторая – игра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Целое встретится у столяр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2269440" y="476280"/>
            <a:ext cx="51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лесарное дел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1403280" y="4292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долот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Управляющая кнопка: назад 5">
            <a:hlinkClick r:id="rId1" action="ppaction://hlinksldjump"/>
          </p:cNvPr>
          <p:cNvSpPr/>
          <p:nvPr/>
        </p:nvSpPr>
        <p:spPr>
          <a:xfrm>
            <a:off x="8028000" y="595008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5166" y="10800"/>
                </a:moveTo>
                <a:lnTo>
                  <a:pt x="19179" y="3794"/>
                </a:lnTo>
                <a:lnTo>
                  <a:pt x="19179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называется перемещение людей из одной социальной группы в другую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906640" y="549360"/>
            <a:ext cx="363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бществ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250920" y="458136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социальная мобильнос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Управляющая кнопка: назад 4">
            <a:hlinkClick r:id="rId1" action="ppaction://hlinksldjump"/>
          </p:cNvPr>
          <p:cNvSpPr/>
          <p:nvPr/>
        </p:nvSpPr>
        <p:spPr>
          <a:xfrm>
            <a:off x="795672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7120" y="2060640"/>
            <a:ext cx="8429760" cy="100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сложилась судьба Одинцовой А.С.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 финале романа «Отцы и дети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2676240" y="115920"/>
            <a:ext cx="408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Литератур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2050920" y="4869000"/>
            <a:ext cx="56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вышла заму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611280" y="306864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гиб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шла заму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вятила жизнь сест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ехала за гран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Управляющая кнопка: назад 5">
            <a:hlinkClick r:id="rId1" action="ppaction://hlinksldjump"/>
          </p:cNvPr>
          <p:cNvSpPr/>
          <p:nvPr/>
        </p:nvSpPr>
        <p:spPr>
          <a:xfrm>
            <a:off x="781200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5640" y="2707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зовите поэта, у которого любимое время года - осень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2676240" y="260280"/>
            <a:ext cx="408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Литератур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А.С. Пушки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Управляющая кнопка: назад 4">
            <a:hlinkClick r:id="rId1" action="ppaction://hlinksldjump"/>
          </p:cNvPr>
          <p:cNvSpPr/>
          <p:nvPr/>
        </p:nvSpPr>
        <p:spPr>
          <a:xfrm>
            <a:off x="781200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4920" y="2420640"/>
            <a:ext cx="8497800" cy="16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зовите автора и стихотворение, которое в годы ВОВ считалось талисманом? (написано в 1941 году, солдаты его переписывали и хранили у сердца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2676240" y="115920"/>
            <a:ext cx="408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Литератур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2627280" y="4581360"/>
            <a:ext cx="43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К. Симонов «Жди меня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Управляющая кнопка: назад 4">
            <a:hlinkClick r:id="rId1" action="ppaction://hlinksldjump"/>
          </p:cNvPr>
          <p:cNvSpPr/>
          <p:nvPr/>
        </p:nvSpPr>
        <p:spPr>
          <a:xfrm>
            <a:off x="781200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15640" y="2420640"/>
            <a:ext cx="745164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О каком стихотворении идет речь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2676240" y="189000"/>
            <a:ext cx="408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Литератур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1763640" y="4941720"/>
            <a:ext cx="58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А. Блок «Россия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324000" y="321300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ять, как в годы золоты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стертых треплются шле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вязнут спицы распи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расхлябанные коле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Управляющая кнопка: назад 5">
            <a:hlinkClick r:id="rId1" action="ppaction://hlinksldjump"/>
          </p:cNvPr>
          <p:cNvSpPr/>
          <p:nvPr/>
        </p:nvSpPr>
        <p:spPr>
          <a:xfrm>
            <a:off x="7885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10800"/>
                </a:moveTo>
                <a:lnTo>
                  <a:pt x="19149" y="3794"/>
                </a:lnTo>
                <a:lnTo>
                  <a:pt x="19149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15640" y="220464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ому герою пьесы «На дне» принадлежит фраза: «Человек – это звучит гордо!»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2734920" y="189000"/>
            <a:ext cx="408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Литератур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2987640" y="537372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Сатин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2411280" y="260280"/>
            <a:ext cx="48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ff"/>
                </a:solidFill>
                <a:latin typeface="Arial"/>
              </a:rPr>
              <a:t>КОТ В МЕШК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Управляющая кнопка: назад 6">
            <a:hlinkClick r:id="rId1" action="ppaction://hlinksldjump"/>
          </p:cNvPr>
          <p:cNvSpPr/>
          <p:nvPr/>
        </p:nvSpPr>
        <p:spPr>
          <a:xfrm>
            <a:off x="8101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10800"/>
                </a:moveTo>
                <a:lnTo>
                  <a:pt x="19149" y="3794"/>
                </a:lnTo>
                <a:lnTo>
                  <a:pt x="19149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7"/>
          <p:cNvSpPr/>
          <p:nvPr/>
        </p:nvSpPr>
        <p:spPr>
          <a:xfrm>
            <a:off x="324000" y="3429000"/>
            <a:ext cx="381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ати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у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кте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убно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xit" presetID="5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1"/>
          <p:cNvSpPr/>
          <p:nvPr/>
        </p:nvSpPr>
        <p:spPr>
          <a:xfrm>
            <a:off x="1908000" y="2276640"/>
            <a:ext cx="57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ун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втомобиль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c8c3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>
            <a:hlinkClick r:id="" action="ppaction://hlinkshowjump?jump=nextslide"/>
          </p:cNvPr>
          <p:cNvSpPr/>
          <p:nvPr/>
        </p:nvSpPr>
        <p:spPr>
          <a:xfrm>
            <a:off x="142920" y="1428840"/>
            <a:ext cx="1357200" cy="92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сто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автомоби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5">
            <a:hlinkClick r:id="" action="ppaction://hlinkshowjump?jump=nextslide"/>
          </p:cNvPr>
          <p:cNvSpPr/>
          <p:nvPr/>
        </p:nvSpPr>
        <p:spPr>
          <a:xfrm>
            <a:off x="142920" y="2571840"/>
            <a:ext cx="1357200" cy="95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Россий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автопр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1643040" y="142884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3143160" y="1428840"/>
            <a:ext cx="1419480" cy="944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4643280" y="1428840"/>
            <a:ext cx="1428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7715160" y="1428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12"/>
          <p:cNvSpPr/>
          <p:nvPr/>
        </p:nvSpPr>
        <p:spPr>
          <a:xfrm>
            <a:off x="1643040" y="2571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4"/>
          <p:cNvSpPr/>
          <p:nvPr/>
        </p:nvSpPr>
        <p:spPr>
          <a:xfrm>
            <a:off x="3143160" y="2571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15"/>
          <p:cNvSpPr/>
          <p:nvPr/>
        </p:nvSpPr>
        <p:spPr>
          <a:xfrm>
            <a:off x="4643280" y="257184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16"/>
          <p:cNvSpPr/>
          <p:nvPr/>
        </p:nvSpPr>
        <p:spPr>
          <a:xfrm>
            <a:off x="7715160" y="2571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7"/>
          <p:cNvSpPr/>
          <p:nvPr/>
        </p:nvSpPr>
        <p:spPr>
          <a:xfrm>
            <a:off x="164304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18"/>
          <p:cNvSpPr/>
          <p:nvPr/>
        </p:nvSpPr>
        <p:spPr>
          <a:xfrm>
            <a:off x="314316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19"/>
          <p:cNvSpPr/>
          <p:nvPr/>
        </p:nvSpPr>
        <p:spPr>
          <a:xfrm>
            <a:off x="4643280" y="3714840"/>
            <a:ext cx="143856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20"/>
          <p:cNvSpPr/>
          <p:nvPr/>
        </p:nvSpPr>
        <p:spPr>
          <a:xfrm>
            <a:off x="7715160" y="3714840"/>
            <a:ext cx="132084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26">
            <a:hlinkClick r:id="" action="ppaction://hlinkshowjump?jump=nextslide"/>
          </p:cNvPr>
          <p:cNvSpPr/>
          <p:nvPr/>
        </p:nvSpPr>
        <p:spPr>
          <a:xfrm>
            <a:off x="142920" y="3714840"/>
            <a:ext cx="1357200" cy="977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Зарубеж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автопр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6143760" y="1428840"/>
            <a:ext cx="14284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6143760" y="2571840"/>
            <a:ext cx="1428480" cy="950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143760" y="3714840"/>
            <a:ext cx="1438200" cy="9572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Управляющая кнопка: далее 1"/>
          <p:cNvSpPr/>
          <p:nvPr/>
        </p:nvSpPr>
        <p:spPr>
          <a:xfrm>
            <a:off x="7956720" y="5732640"/>
            <a:ext cx="718920" cy="64908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3923" h="21600">
                <a:moveTo>
                  <a:pt x="0" y="0"/>
                </a:moveTo>
                <a:lnTo>
                  <a:pt x="23923" y="0"/>
                </a:lnTo>
                <a:lnTo>
                  <a:pt x="23923" y="21600"/>
                </a:lnTo>
                <a:lnTo>
                  <a:pt x="0" y="21600"/>
                </a:lnTo>
                <a:close/>
              </a:path>
              <a:path fill="lightenLess" w="23923" h="21600">
                <a:moveTo>
                  <a:pt x="0" y="0"/>
                </a:moveTo>
                <a:lnTo>
                  <a:pt x="23923" y="0"/>
                </a:lnTo>
                <a:lnTo>
                  <a:pt x="22523" y="1400"/>
                </a:lnTo>
                <a:lnTo>
                  <a:pt x="1400" y="1400"/>
                </a:lnTo>
                <a:close/>
              </a:path>
              <a:path fill="darken" w="23923" h="21600">
                <a:moveTo>
                  <a:pt x="23923" y="0"/>
                </a:moveTo>
                <a:lnTo>
                  <a:pt x="23923" y="21600"/>
                </a:lnTo>
                <a:lnTo>
                  <a:pt x="22523" y="20200"/>
                </a:lnTo>
                <a:lnTo>
                  <a:pt x="22523" y="1400"/>
                </a:lnTo>
                <a:close/>
              </a:path>
              <a:path fill="darkenLess" w="23923" h="21600">
                <a:moveTo>
                  <a:pt x="23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3" y="20200"/>
                </a:lnTo>
                <a:close/>
              </a:path>
              <a:path fill="lighten" w="23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3" h="21600">
                <a:moveTo>
                  <a:pt x="4955" y="3794"/>
                </a:moveTo>
                <a:lnTo>
                  <a:pt x="18968" y="10800"/>
                </a:lnTo>
                <a:lnTo>
                  <a:pt x="4955" y="17806"/>
                </a:lnTo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921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927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945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951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4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957" nodeType="clickEffect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0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963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6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969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4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975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981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987" nodeType="clickEffect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2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993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ервый автомобильный двигатель работал на…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353960" y="476280"/>
            <a:ext cx="660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 автомобил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1403280" y="4292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ар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Управляющая кнопка: назад 5"/>
          <p:cNvSpPr/>
          <p:nvPr/>
        </p:nvSpPr>
        <p:spPr>
          <a:xfrm>
            <a:off x="781200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86920" y="2707920"/>
            <a:ext cx="7525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 1886 г. Немецкий изобретатель Карл Бенц запатентовал свой автомобиль. Сколько было колес у этого автомобиля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1332000" y="26028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 автомобил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826920" y="4437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т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Управляющая кнопка: назад 5"/>
          <p:cNvSpPr/>
          <p:nvPr/>
        </p:nvSpPr>
        <p:spPr>
          <a:xfrm>
            <a:off x="7885080" y="58053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1640" y="2491920"/>
            <a:ext cx="7524720" cy="201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Везде сует свой нос витой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Дыру проткнет в стене,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Чтобы узнать, а что на той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Обратной стороне</a:t>
            </a: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2214720" y="404640"/>
            <a:ext cx="5143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лесарное дел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763640" y="486900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сверл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595008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10800"/>
                </a:moveTo>
                <a:lnTo>
                  <a:pt x="20518" y="3794"/>
                </a:lnTo>
                <a:lnTo>
                  <a:pt x="20518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15640" y="2133720"/>
            <a:ext cx="7451640" cy="230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Первая паровая повозка, пригодная для практического применения, была построена в 1769 году французским военным инженером Жозефом Кюньо. Для каких целей была построена эта повозка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1354680" y="0"/>
            <a:ext cx="660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 автомобил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900000" y="458136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для перевозки артиллерийских снаряд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Управляющая кнопка: назад 5"/>
          <p:cNvSpPr/>
          <p:nvPr/>
        </p:nvSpPr>
        <p:spPr>
          <a:xfrm>
            <a:off x="8101080" y="595008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4"/>
          <p:cNvSpPr/>
          <p:nvPr/>
        </p:nvSpPr>
        <p:spPr>
          <a:xfrm>
            <a:off x="1508760" y="404640"/>
            <a:ext cx="660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 автомобил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2411280" y="4437000"/>
            <a:ext cx="43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каре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32000" y="2491920"/>
            <a:ext cx="6819840" cy="10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Бабушка автобус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8" name="Управляющая кнопка: назад 5"/>
          <p:cNvSpPr/>
          <p:nvPr/>
        </p:nvSpPr>
        <p:spPr>
          <a:xfrm>
            <a:off x="802800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11988"/>
                </a:moveTo>
                <a:lnTo>
                  <a:pt x="17806" y="4982"/>
                </a:lnTo>
                <a:lnTo>
                  <a:pt x="17806" y="18994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86920" y="2637000"/>
            <a:ext cx="7455240" cy="158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ервый советский завод по выпуску автомобиле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1592640" y="476280"/>
            <a:ext cx="660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История автомобил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1042920" y="458136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АМ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Управляющая кнопка: назад 5"/>
          <p:cNvSpPr/>
          <p:nvPr/>
        </p:nvSpPr>
        <p:spPr>
          <a:xfrm>
            <a:off x="774072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7580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 переводится с латинского языка слово «автомобиль»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1409400" y="115920"/>
            <a:ext cx="68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Российски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1476360" y="551664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  <a:ea typeface="Tahoma"/>
              </a:rPr>
              <a:t>самодвижущийс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6"/>
          <p:cNvSpPr/>
          <p:nvPr/>
        </p:nvSpPr>
        <p:spPr>
          <a:xfrm>
            <a:off x="324000" y="342900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одвижущий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правляем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вижущий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Управляющая кнопка: назад 6"/>
          <p:cNvSpPr/>
          <p:nvPr/>
        </p:nvSpPr>
        <p:spPr>
          <a:xfrm>
            <a:off x="8388360" y="616572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15640" y="206028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От какого слова произошло слово «фара»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1340280" y="189000"/>
            <a:ext cx="68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Российски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357120" y="464328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ahoma"/>
              </a:rPr>
              <a:t>От названия острова Фа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2411280" y="189000"/>
            <a:ext cx="48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ff"/>
                </a:solidFill>
                <a:latin typeface="Arial"/>
              </a:rPr>
              <a:t>КОТ В МЕШК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Управляющая кнопка: назад 6"/>
          <p:cNvSpPr/>
          <p:nvPr/>
        </p:nvSpPr>
        <p:spPr>
          <a:xfrm>
            <a:off x="8101080" y="6093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10800"/>
                </a:moveTo>
                <a:lnTo>
                  <a:pt x="19149" y="3794"/>
                </a:lnTo>
                <a:lnTo>
                  <a:pt x="19149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7"/>
          <p:cNvSpPr/>
          <p:nvPr/>
        </p:nvSpPr>
        <p:spPr>
          <a:xfrm>
            <a:off x="250920" y="292428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 названия острова Фа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 слова «фонар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 слова «фанфар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xit" presetID="5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1564920" y="404640"/>
            <a:ext cx="68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Российски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О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84360" y="2565360"/>
            <a:ext cx="819468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Управляющая кнопка: назад 5"/>
          <p:cNvSpPr/>
          <p:nvPr/>
        </p:nvSpPr>
        <p:spPr>
          <a:xfrm>
            <a:off x="7740720" y="5877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-252360" y="2781360"/>
            <a:ext cx="99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а меньше Волги и как ре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ак автомоби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71640" y="2781360"/>
            <a:ext cx="7921440" cy="107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Что является сердцем машины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1707840" y="404640"/>
            <a:ext cx="68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Российский автопром»</a:t>
            </a:r>
            <a:r>
              <a:rPr b="1" lang="ru-RU" sz="4000" spc="-1" strike="noStrike">
                <a:solidFill>
                  <a:srgbClr val="ff99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771640" y="4437000"/>
            <a:ext cx="43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мото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Управляющая кнопка: назад 5"/>
          <p:cNvSpPr/>
          <p:nvPr/>
        </p:nvSpPr>
        <p:spPr>
          <a:xfrm>
            <a:off x="759636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аких колес не бывает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1338120" y="189000"/>
            <a:ext cx="68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Российски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2411280" y="5084640"/>
            <a:ext cx="43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волосаты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Управляющая кнопка: назад 5"/>
          <p:cNvSpPr/>
          <p:nvPr/>
        </p:nvSpPr>
        <p:spPr>
          <a:xfrm>
            <a:off x="7885080" y="587700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395280" y="342900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ыс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ипов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лосат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534520" cy="208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1927 год, когда впервые 1000  серийных изготовленных автомобилей  появились на рынке, считаются официальным годом рождения фирмы Вольво. Что означает слово «Вольво» на латыни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157400" y="0"/>
            <a:ext cx="712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Зарубежны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419640" y="5445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  <a:ea typeface="Tahoma"/>
              </a:rPr>
              <a:t>я качус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Управляющая кнопка: назад 5"/>
          <p:cNvSpPr/>
          <p:nvPr/>
        </p:nvSpPr>
        <p:spPr>
          <a:xfrm>
            <a:off x="810108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324000" y="3933720"/>
            <a:ext cx="25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Я леч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Я качу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Я тащу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280" y="2214720"/>
            <a:ext cx="8856720" cy="1861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Franklin Gothic Book"/>
              </a:rPr>
              <a:t>Когда порывистый «двигатель» в одну  лошадиную силу на сено - овсовом  топливе сменился экипажем на 3-х колесах, долго не смогли найти название новому чуду . В Германии его называли </a:t>
            </a:r>
            <a:r>
              <a:rPr b="1" lang="en-US" sz="3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Franklin Gothic Book"/>
              </a:rPr>
              <a:t>«</a:t>
            </a:r>
            <a:r>
              <a:rPr b="1" lang="en-US" sz="3000" spc="-1" strike="noStrike">
                <a:solidFill>
                  <a:srgbClr val="ffffff"/>
                </a:solidFill>
                <a:latin typeface="Franklin Gothic Book"/>
              </a:rPr>
              <a:t>motorwagen</a:t>
            </a:r>
            <a:r>
              <a:rPr b="1" lang="ru-RU" sz="3000" spc="-1" strike="noStrike">
                <a:solidFill>
                  <a:srgbClr val="ffffff"/>
                </a:solidFill>
                <a:latin typeface="Franklin Gothic Book"/>
              </a:rPr>
              <a:t>», во Франции «отомобиль», а какое слово использовали в России для обозначения механических  экипажей?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1643040" y="0"/>
            <a:ext cx="643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«Зарубежный автопром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116000" y="558972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самока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Управляющая кнопка: назад 5"/>
          <p:cNvSpPr/>
          <p:nvPr/>
        </p:nvSpPr>
        <p:spPr>
          <a:xfrm>
            <a:off x="8317080" y="616572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5322" y="10800"/>
                </a:moveTo>
                <a:lnTo>
                  <a:pt x="19335" y="3794"/>
                </a:lnTo>
                <a:lnTo>
                  <a:pt x="19335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428760" y="4429080"/>
            <a:ext cx="331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Автог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Самоп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Само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репкий рот на тех сердит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Кто зазря в доске сидит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2152800" y="549360"/>
            <a:ext cx="51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лесарное дел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2627280" y="458136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клещ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1373400" y="115920"/>
            <a:ext cx="712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Зарубежный автопром»</a:t>
            </a:r>
            <a:r>
              <a:rPr b="1" lang="ru-RU" sz="4000" spc="-1" strike="noStrike">
                <a:solidFill>
                  <a:srgbClr val="ff99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3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468360" y="51577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на сельскохозяйственн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900000" y="2421000"/>
            <a:ext cx="7956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Управляющая кнопка: назад 5"/>
          <p:cNvSpPr/>
          <p:nvPr/>
        </p:nvSpPr>
        <p:spPr>
          <a:xfrm>
            <a:off x="7885080" y="602136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10800"/>
                </a:moveTo>
                <a:lnTo>
                  <a:pt x="19000" y="3794"/>
                </a:lnTo>
                <a:lnTo>
                  <a:pt x="19000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6"/>
          <p:cNvSpPr/>
          <p:nvPr/>
        </p:nvSpPr>
        <p:spPr>
          <a:xfrm>
            <a:off x="395280" y="206064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 какой выставке была представлена  широкой публике в 1904 г. в Лондоне первая «настоящая» машина Фор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7"/>
          <p:cNvSpPr/>
          <p:nvPr/>
        </p:nvSpPr>
        <p:spPr>
          <a:xfrm>
            <a:off x="324000" y="3573360"/>
            <a:ext cx="631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 автомобиль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 сельскохозяйстве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На художестве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6920" y="2707920"/>
            <a:ext cx="752508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Автомобиль, который  доверили собирать узбекам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1444680" y="333360"/>
            <a:ext cx="712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Зарубежны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763640" y="443700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  <a:ea typeface="Tahoma"/>
              </a:rPr>
              <a:t>Дэ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Управляющая кнопка: назад 5"/>
          <p:cNvSpPr/>
          <p:nvPr/>
        </p:nvSpPr>
        <p:spPr>
          <a:xfrm>
            <a:off x="7812000" y="5805360"/>
            <a:ext cx="720720" cy="64800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4023" h="21600">
                <a:moveTo>
                  <a:pt x="0" y="0"/>
                </a:moveTo>
                <a:lnTo>
                  <a:pt x="24023" y="0"/>
                </a:lnTo>
                <a:lnTo>
                  <a:pt x="24023" y="21600"/>
                </a:lnTo>
                <a:lnTo>
                  <a:pt x="0" y="21600"/>
                </a:lnTo>
                <a:close/>
              </a:path>
              <a:path fill="lightenLess" w="24023" h="21600">
                <a:moveTo>
                  <a:pt x="0" y="0"/>
                </a:moveTo>
                <a:lnTo>
                  <a:pt x="24023" y="0"/>
                </a:lnTo>
                <a:lnTo>
                  <a:pt x="22623" y="1400"/>
                </a:lnTo>
                <a:lnTo>
                  <a:pt x="1400" y="1400"/>
                </a:lnTo>
                <a:close/>
              </a:path>
              <a:path fill="darken" w="24023" h="21600">
                <a:moveTo>
                  <a:pt x="24023" y="0"/>
                </a:moveTo>
                <a:lnTo>
                  <a:pt x="24023" y="21600"/>
                </a:lnTo>
                <a:lnTo>
                  <a:pt x="22623" y="20200"/>
                </a:lnTo>
                <a:lnTo>
                  <a:pt x="22623" y="1400"/>
                </a:lnTo>
                <a:close/>
              </a:path>
              <a:path fill="darkenLess" w="24023" h="21600">
                <a:moveTo>
                  <a:pt x="24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3" y="20200"/>
                </a:lnTo>
                <a:close/>
              </a:path>
              <a:path fill="lighten" w="24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3" h="21600">
                <a:moveTo>
                  <a:pt x="5005" y="10800"/>
                </a:moveTo>
                <a:lnTo>
                  <a:pt x="19018" y="3794"/>
                </a:lnTo>
                <a:lnTo>
                  <a:pt x="19018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"/>
          <p:cNvSpPr/>
          <p:nvPr/>
        </p:nvSpPr>
        <p:spPr>
          <a:xfrm>
            <a:off x="1444680" y="333360"/>
            <a:ext cx="712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Зарубежный автопр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619280" y="450864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  <a:ea typeface="Tahoma"/>
              </a:rPr>
              <a:t>дилижан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Управляющая кнопка: назад 5"/>
          <p:cNvSpPr/>
          <p:nvPr/>
        </p:nvSpPr>
        <p:spPr>
          <a:xfrm>
            <a:off x="810108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Box 7"/>
          <p:cNvSpPr/>
          <p:nvPr/>
        </p:nvSpPr>
        <p:spPr>
          <a:xfrm>
            <a:off x="826920" y="2997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Дедушка автобу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4"/>
          <p:cNvSpPr/>
          <p:nvPr/>
        </p:nvSpPr>
        <p:spPr>
          <a:xfrm>
            <a:off x="755640" y="2349360"/>
            <a:ext cx="745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Спасибо за игру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7" descr="poke620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96200" y="4270320"/>
            <a:ext cx="246528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Заголовок 1" descr=""/>
          <p:cNvPicPr/>
          <p:nvPr/>
        </p:nvPicPr>
        <p:blipFill>
          <a:blip r:embed="rId1"/>
          <a:stretch/>
        </p:blipFill>
        <p:spPr>
          <a:xfrm>
            <a:off x="1616040" y="103320"/>
            <a:ext cx="6491160" cy="7318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785880" y="785520"/>
            <a:ext cx="7858080" cy="59562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ория: учебник для студентов учреждений СПО / В.В. Артемов, Ю.Н. Лубченков. – М.: Издательский центр «Академия», 2012. -256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зика. 10 класс. В 2ч. Задачник для общеобразовательных учреждений (базовый уровень) / Л.Э. Генденштейн, Л.А. Кирик, И.М. Гельфгат, И.Ю. Ненашев; под ред. Л.Э. Генденштейна. – М.: Мнемозина, 2010. – 127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тература. 10 класс. Учебник для общеобразовательных учреждений. Базовый и профил. уровни. В 2 ч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И. Коровин, Н.Л. Вершинина, Л.А. Капитанова и др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под ред. В.И. Коровина. – 12-е изд. – М.: Просвещение, 2012. – 384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le-savchen.ucoz.ru/index/0-6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veselajashkola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eruditov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dmitryukts.narod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children.kulichki.net/vopros/fizika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4"/>
          <p:cNvSpPr/>
          <p:nvPr/>
        </p:nvSpPr>
        <p:spPr>
          <a:xfrm>
            <a:off x="2240280" y="404640"/>
            <a:ext cx="51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лесарное дел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4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2627280" y="443700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тис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32000" y="2491920"/>
            <a:ext cx="6819840" cy="10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Гостя примут от души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Franklin Gothic Book"/>
              </a:rPr>
              <a:t>Так обнимут – не дыши</a:t>
            </a: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Управляющая кнопка: назад 5">
            <a:hlinkClick r:id="rId1" action="ppaction://hlinksldjump"/>
          </p:cNvPr>
          <p:cNvSpPr/>
          <p:nvPr/>
        </p:nvSpPr>
        <p:spPr>
          <a:xfrm>
            <a:off x="7812000" y="5805360"/>
            <a:ext cx="720720" cy="64800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4023" h="21600">
                <a:moveTo>
                  <a:pt x="0" y="0"/>
                </a:moveTo>
                <a:lnTo>
                  <a:pt x="24023" y="0"/>
                </a:lnTo>
                <a:lnTo>
                  <a:pt x="24023" y="21600"/>
                </a:lnTo>
                <a:lnTo>
                  <a:pt x="0" y="21600"/>
                </a:lnTo>
                <a:close/>
              </a:path>
              <a:path fill="lightenLess" w="24023" h="21600">
                <a:moveTo>
                  <a:pt x="0" y="0"/>
                </a:moveTo>
                <a:lnTo>
                  <a:pt x="24023" y="0"/>
                </a:lnTo>
                <a:lnTo>
                  <a:pt x="22623" y="1400"/>
                </a:lnTo>
                <a:lnTo>
                  <a:pt x="1400" y="1400"/>
                </a:lnTo>
                <a:close/>
              </a:path>
              <a:path fill="darken" w="24023" h="21600">
                <a:moveTo>
                  <a:pt x="24023" y="0"/>
                </a:moveTo>
                <a:lnTo>
                  <a:pt x="24023" y="21600"/>
                </a:lnTo>
                <a:lnTo>
                  <a:pt x="22623" y="20200"/>
                </a:lnTo>
                <a:lnTo>
                  <a:pt x="22623" y="1400"/>
                </a:lnTo>
                <a:close/>
              </a:path>
              <a:path fill="darkenLess" w="24023" h="21600">
                <a:moveTo>
                  <a:pt x="24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3" y="20200"/>
                </a:lnTo>
                <a:close/>
              </a:path>
              <a:path fill="lighten" w="24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3" h="21600">
                <a:moveTo>
                  <a:pt x="5005" y="10800"/>
                </a:moveTo>
                <a:lnTo>
                  <a:pt x="19018" y="3794"/>
                </a:lnTo>
                <a:lnTo>
                  <a:pt x="19018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6000" y="2637000"/>
            <a:ext cx="7454880" cy="158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Ела, ела, дуб, дуб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отеряла зуб, зуб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2324160" y="476280"/>
            <a:ext cx="51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Слесарное дело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5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1042920" y="458136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пи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6000" y="2707920"/>
            <a:ext cx="7580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Соперник «нолика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753280" y="404640"/>
            <a:ext cx="421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О том, о се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за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3492360" y="4365720"/>
            <a:ext cx="27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ahoma"/>
              </a:rPr>
              <a:t>крести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Управляющая кнопка: назад 5">
            <a:hlinkClick r:id="rId1" action="ppaction://hlinksldjump"/>
          </p:cNvPr>
          <p:cNvSpPr/>
          <p:nvPr/>
        </p:nvSpPr>
        <p:spPr>
          <a:xfrm>
            <a:off x="7956720" y="609300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3794" y="10824"/>
                </a:moveTo>
                <a:lnTo>
                  <a:pt x="17806" y="3818"/>
                </a:lnTo>
                <a:lnTo>
                  <a:pt x="17806" y="17830"/>
                </a:lnTo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Иванова Оксана Васильевна</dc:creator>
  <dc:description/>
  <dc:language>en-US</dc:language>
  <cp:lastModifiedBy>FuckYouBill</cp:lastModifiedBy>
  <dcterms:modified xsi:type="dcterms:W3CDTF">2001-12-31T21:38:31Z</dcterms:modified>
  <cp:revision>149</cp:revision>
  <dc:subject/>
  <dc:title>Интеллектуальная игра «Самый умный»</dc:title>
</cp:coreProperties>
</file>