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laser.wav" ContentType="audio/x-wav"/>
  <Override PartName="/ppt/media/drumroll.wav" ContentType="audio/x-wav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102B-D068-46CC-8BC5-D93B3E029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CDD3-1E7E-4A0C-8746-D59FD35C17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1FAC-EEC3-4588-9953-3C9A193C27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7EF5-BBE6-46B9-BEDA-5C97BEC8EE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0F8-3649-422B-8888-DE38A124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298-9CBC-4BE6-B349-3BEC1C96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279-3433-4689-994C-CAA7A894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3B6-5BE1-4677-8D77-035555B2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79E2-7272-4246-90BE-BF44E90F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BCF0-7210-449A-959D-78C1337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BC58-497A-4D05-B1CA-B35B37E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B713-613C-487F-8D5A-E8986F54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1464-C49A-402C-B502-A0D58E2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4FC2-EB9D-49DC-B7B9-DD636344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92C2-97E7-4E97-B6A1-7432902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A27-ECFD-4E08-8D7F-A6ABC3AC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7F0-4E2C-457F-A824-000191A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F5B8-3D78-4660-A7A8-EC0B9DC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D8D5-061D-460B-8005-E288386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9191-8160-4D15-B8CE-2AA51788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33C1-DB21-4867-AC9B-EBCF950C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AF57-7EBA-4684-8572-7D34FA30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0D24-CE61-47AA-BC34-76508BDB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277C-7173-438F-A28E-BBCC7B7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368E-8FA5-43BA-BF95-6B411390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B804-976F-4148-8BBE-251019F7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555-C6F3-40C2-BB93-78AB467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83C0-D722-4582-85ED-0B82AF5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C642-AAA8-44BB-8DBC-D218227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1A51-A607-4351-8BBA-79136934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D24E-BB05-4439-8263-EA2DE81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1177-9248-4921-9D01-5C7181A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8D52-6F3F-4F11-9C15-A1CFAC78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56E9-C424-4DB6-9AC2-35A96F05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F1F6-43D4-4EEC-8C07-DDD1A29E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9F5AA-F987-49F6-A2FD-A5FA47F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9F37-4339-47FF-A5E6-1CFC185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57A-EA9D-4712-95D8-C64FF79A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37908-5E72-4C1B-99DD-7F421EB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FCDD-F0A0-4CCC-9F60-76E579EA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2726-9F12-4601-8D6B-2BA1D3B5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519B-B331-4BF8-8299-9699F6D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4962-7493-4538-8B5D-AB70A5C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B5D6-90EE-446D-ACC6-5ED1F67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B58C-66B7-4E84-B70C-350FCD0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C590-FE15-47D1-9FF7-EE43F8FF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9017-0C79-45D3-9D09-38B947F7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380D-F987-4AFA-B8DA-8BC06C2F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DC8-594B-4A55-8793-BA5B0D7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EC38-7E36-40AD-8917-AACD046A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CAA6-5551-4845-97BF-B786C59E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33C0-EAA4-4BE9-8A8F-D92BCE9F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AD45-4C1C-4BE9-A925-BC1826B9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034B-3067-42AD-8949-3E0DC3AB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57F4-D634-4A20-96D1-50CFA6B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2A495-D89E-4E58-B2AA-CA313B7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CFE8-8102-4EB1-842A-072F72E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4A21-5D20-40EB-B63A-1EE27F2B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7912-B081-431C-8A2E-D9D0DEFB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5AF-D9DC-4331-8B5D-BA73AF31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C482-8E30-4D5D-AFDB-25B035B0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4F38-7CEB-4FD7-8E6C-4458D682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DF406-3C5F-4781-A6A9-F006E5A4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A84C-76F7-410E-9309-F9EDC17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004AC-8946-4BD4-9D1B-643D0E76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454A-677E-44F0-BA92-5BBE410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41C5-64F8-4A5A-BBE5-326C1AAF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9FE32-60FC-44D7-886C-555DE2B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A182E-EDF0-41E6-BCF5-12C0557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7B597-1BA5-479A-9328-7F3AE9D9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E88-E8D2-4489-A253-5FDE7867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1EDB-F59B-44DF-B2D7-38DDBF33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93C5-9BFC-428E-9FEC-81C8C26E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DACF-3C2D-47E6-A7AC-B19D0028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435-A8B6-4236-8E73-AE5C97E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75B-D13D-43CE-81F2-5B7FEC85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724-D8F4-424E-8554-CE6F94CAD6A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FBB8-332C-48E6-BFD7-CBFF0ADC9E6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5F94-1FD3-40E0-8CE8-C50671AD9A1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AB3-4E20-44E9-A986-E3F33E8F253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5306-D050-468A-9FD0-EE6FB33448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D59E-C55B-4982-BC56-B6A3F02E10F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30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1.xml"/><Relationship Id="rId10" Type="http://schemas.openxmlformats.org/officeDocument/2006/relationships/slide" Target="slide32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5.xml"/><Relationship Id="rId14" Type="http://schemas.openxmlformats.org/officeDocument/2006/relationships/slide" Target="slide35.xml"/><Relationship Id="rId15" Type="http://schemas.openxmlformats.org/officeDocument/2006/relationships/slide" Target="slide36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0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4.xml"/><Relationship Id="rId23" Type="http://schemas.openxmlformats.org/officeDocument/2006/relationships/slide" Target="slide34.xml"/><Relationship Id="rId24" Type="http://schemas.openxmlformats.org/officeDocument/2006/relationships/slide" Target="slide39.xml"/><Relationship Id="rId25" Type="http://schemas.openxmlformats.org/officeDocument/2006/relationships/slide" Target="slide39.xml"/><Relationship Id="rId26" Type="http://schemas.openxmlformats.org/officeDocument/2006/relationships/slide" Target="slide46.xml"/><Relationship Id="rId27" Type="http://schemas.openxmlformats.org/officeDocument/2006/relationships/slide" Target="slide23.xml"/><Relationship Id="rId28" Type="http://schemas.openxmlformats.org/officeDocument/2006/relationships/slide" Target="slide23.xml"/><Relationship Id="rId29" Type="http://schemas.openxmlformats.org/officeDocument/2006/relationships/slide" Target="slide24.xml"/><Relationship Id="rId30" Type="http://schemas.openxmlformats.org/officeDocument/2006/relationships/slide" Target="slide24.xml"/><Relationship Id="rId31" Type="http://schemas.openxmlformats.org/officeDocument/2006/relationships/slide" Target="slide25.xml"/><Relationship Id="rId32" Type="http://schemas.openxmlformats.org/officeDocument/2006/relationships/slide" Target="slide25.xml"/><Relationship Id="rId33" Type="http://schemas.openxmlformats.org/officeDocument/2006/relationships/slide" Target="slide41.xml"/><Relationship Id="rId34" Type="http://schemas.openxmlformats.org/officeDocument/2006/relationships/slide" Target="slide41.xml"/><Relationship Id="rId35" Type="http://schemas.openxmlformats.org/officeDocument/2006/relationships/slide" Target="slide43.xml"/><Relationship Id="rId36" Type="http://schemas.openxmlformats.org/officeDocument/2006/relationships/slide" Target="slide44.xml"/><Relationship Id="rId37" Type="http://schemas.openxmlformats.org/officeDocument/2006/relationships/slide" Target="slide44.xml"/><Relationship Id="rId38" Type="http://schemas.openxmlformats.org/officeDocument/2006/relationships/slide" Target="slide45.xml"/><Relationship Id="rId39" Type="http://schemas.openxmlformats.org/officeDocument/2006/relationships/slide" Target="slide45.xml"/><Relationship Id="rId40" Type="http://schemas.openxmlformats.org/officeDocument/2006/relationships/slide" Target="slide22.xml"/><Relationship Id="rId41" Type="http://schemas.openxmlformats.org/officeDocument/2006/relationships/slide" Target="slide22.xml"/><Relationship Id="rId42" Type="http://schemas.openxmlformats.org/officeDocument/2006/relationships/slide" Target="slide37.xml"/><Relationship Id="rId43" Type="http://schemas.openxmlformats.org/officeDocument/2006/relationships/slide" Target="slide37.xml"/><Relationship Id="rId44" Type="http://schemas.openxmlformats.org/officeDocument/2006/relationships/slide" Target="slide42.xml"/><Relationship Id="rId45" Type="http://schemas.openxmlformats.org/officeDocument/2006/relationships/slide" Target="slide42.xml"/><Relationship Id="rId46" Type="http://schemas.openxmlformats.org/officeDocument/2006/relationships/slide" Target="slide21.xml"/><Relationship Id="rId47" Type="http://schemas.openxmlformats.org/officeDocument/2006/relationships/slide" Target="slide21.xml"/><Relationship Id="rId48" Type="http://schemas.openxmlformats.org/officeDocument/2006/relationships/audio" Target="../media/whoosh.wav"/><Relationship Id="rId49" Type="http://schemas.openxmlformats.org/officeDocument/2006/relationships/audio" Target="../media/whoosh.wav"/><Relationship Id="rId50" Type="http://schemas.openxmlformats.org/officeDocument/2006/relationships/audio" Target="../media/whoosh.wav"/><Relationship Id="rId51" Type="http://schemas.openxmlformats.org/officeDocument/2006/relationships/audio" Target="../media/whoosh.wav"/><Relationship Id="rId52" Type="http://schemas.openxmlformats.org/officeDocument/2006/relationships/audio" Target="../media/whoosh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laser.wav"/><Relationship Id="rId69" Type="http://schemas.openxmlformats.org/officeDocument/2006/relationships/audio" Target="../media/laser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laser.wav"/><Relationship Id="rId78" Type="http://schemas.openxmlformats.org/officeDocument/2006/relationships/slideLayout" Target="../slideLayouts/slideLayout1.xml"/><Relationship Id="rId7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12.xml"/><Relationship Id="rId25" Type="http://schemas.openxmlformats.org/officeDocument/2006/relationships/slide" Target="slide12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19.xml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165240" y="1798560"/>
            <a:ext cx="8985240" cy="24386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3000240" y="6286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Ленинск-Кузнецки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5076720" y="350028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подаватель информатики Иванова Оксана Васильевна для профессии «Слесарь по ремонту автомобил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357200" y="5000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БОУ СПО «Ленинск-Кузнец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ологический технику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долго спал Илья Муромец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2825640" y="47628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6920" y="4437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33 го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Управляющая кнопка: назад 5">
            <a:hlinkClick r:id="rId1" action="ppaction://hlinksldjump"/>
          </p:cNvPr>
          <p:cNvSpPr/>
          <p:nvPr/>
        </p:nvSpPr>
        <p:spPr>
          <a:xfrm>
            <a:off x="8101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2625480" y="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14200" y="5072040"/>
            <a:ext cx="8929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Мизинец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(речь идет о пальцах: большой, указательный, средний, безымянный и мизине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214200" y="1857240"/>
            <a:ext cx="866484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ин получил свое имя за свои габариты, другой - за способность давать информацию, третий - за свою дислокацию, а четвертый и вовсе предпочитает оставаться инкогнит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как зовут пят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назад 5">
            <a:hlinkClick r:id="rId1" action="ppaction://hlinksldjump"/>
          </p:cNvPr>
          <p:cNvSpPr/>
          <p:nvPr/>
        </p:nvSpPr>
        <p:spPr>
          <a:xfrm>
            <a:off x="8101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71400" y="2786040"/>
            <a:ext cx="635796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ему равна дюжина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2554200" y="35712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57120" y="464328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Управляющая кнопка: назад 5">
            <a:hlinkClick r:id="rId1" action="ppaction://hlinksldjump"/>
          </p:cNvPr>
          <p:cNvSpPr/>
          <p:nvPr/>
        </p:nvSpPr>
        <p:spPr>
          <a:xfrm>
            <a:off x="8143920" y="60008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сли взять серу, свинец, серебро, радий, титан, золото и калий, то результат будет связан с двумя цветами. Назовите эти цвет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67680" y="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85840" y="3500280"/>
            <a:ext cx="864396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расный и Белы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(если прочитать первые буквы обозначений этих элементов в периодической системе элементов Д.И. Менделеева (S, Pb, Ag, Ra, Ti, Au, K), то получим название футбольного клуба Спартак, а цвета связанные с этим клуб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Управляющая кнопка: назад 5">
            <a:hlinkClick r:id="rId1" action="ppaction://hlinksldjump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10800"/>
                </a:moveTo>
                <a:lnTo>
                  <a:pt x="19179" y="3794"/>
                </a:lnTo>
                <a:lnTo>
                  <a:pt x="1917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781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то в переводе с греческого означает слово светофор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219120" y="40464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332000" y="43657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несущий св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назад 5">
            <a:hlinkClick r:id="rId1" action="ppaction://hlinksldjump"/>
          </p:cNvPr>
          <p:cNvSpPr/>
          <p:nvPr/>
        </p:nvSpPr>
        <p:spPr>
          <a:xfrm>
            <a:off x="788508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256500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Кто у русских царей впервые обратил внимание и принял меры для безопасности дорожного движения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146400" y="26028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116000" y="4365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етр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146400" y="33336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971640" y="43657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дорога для пешех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0000" y="2421000"/>
            <a:ext cx="795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значает слово «тротуар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дословно переводится на русский язык французское слово «шофер»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02400" y="33336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763640" y="4437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стопник, кочега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назад 5">
            <a:hlinkClick r:id="rId1" action="ppaction://hlinksldjump"/>
          </p:cNvPr>
          <p:cNvSpPr/>
          <p:nvPr/>
        </p:nvSpPr>
        <p:spPr>
          <a:xfrm>
            <a:off x="774072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524720" cy="187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Какой первый автобусный маршрут был в нашем горо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146400" y="33336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619280" y="4508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Базар и вокзал Ж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856720" cy="165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раунд</a:t>
            </a:r>
            <a:br>
              <a:rPr sz="5200"/>
            </a:br>
            <a:r>
              <a:rPr b="1" i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теоретический цикл»</a:t>
            </a:r>
            <a:endParaRPr b="0" lang="en-US" sz="5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7"/>
          <p:cNvSpPr/>
          <p:nvPr/>
        </p:nvSpPr>
        <p:spPr>
          <a:xfrm>
            <a:off x="1835280" y="2276640"/>
            <a:ext cx="58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раун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минк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>
            <a:hlinkClick r:id="" action="ppaction://hlinkshowjump?jump=nextslide"/>
          </p:cNvPr>
          <p:cNvSpPr/>
          <p:nvPr/>
        </p:nvSpPr>
        <p:spPr>
          <a:xfrm>
            <a:off x="179280" y="1413000"/>
            <a:ext cx="136836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атема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5">
            <a:hlinkClick r:id="" action="ppaction://hlinkshowjump?jump=nextslide"/>
          </p:cNvPr>
          <p:cNvSpPr/>
          <p:nvPr/>
        </p:nvSpPr>
        <p:spPr>
          <a:xfrm>
            <a:off x="179280" y="2565360"/>
            <a:ext cx="1357560" cy="9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с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164304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3143160" y="1428840"/>
            <a:ext cx="1419480" cy="944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64328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7715160" y="1428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164304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314316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4643280" y="2571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2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7715160" y="2571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4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164304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5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6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4643280" y="3714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7715160" y="3714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8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6">
            <a:hlinkClick r:id="" action="ppaction://hlinkshowjump?jump=nextslide"/>
          </p:cNvPr>
          <p:cNvSpPr/>
          <p:nvPr/>
        </p:nvSpPr>
        <p:spPr>
          <a:xfrm>
            <a:off x="179280" y="3716280"/>
            <a:ext cx="135756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бщ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6143760" y="1428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0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6143760" y="2571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61437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4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Управляющая кнопка: далее 21">
            <a:hlinkClick r:id="rId26" action="ppaction://hlinksldjump"/>
          </p:cNvPr>
          <p:cNvSpPr/>
          <p:nvPr/>
        </p:nvSpPr>
        <p:spPr>
          <a:xfrm>
            <a:off x="7885080" y="602136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6">
            <a:hlinkClick r:id="" action="ppaction://hlinkshowjump?jump=nextslide"/>
          </p:cNvPr>
          <p:cNvSpPr/>
          <p:nvPr/>
        </p:nvSpPr>
        <p:spPr>
          <a:xfrm>
            <a:off x="179280" y="4797360"/>
            <a:ext cx="136836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4">
            <a:hlinkClick r:id="" action="ppaction://hlinkshowjump?jump=nextslide"/>
          </p:cNvPr>
          <p:cNvSpPr/>
          <p:nvPr/>
        </p:nvSpPr>
        <p:spPr>
          <a:xfrm>
            <a:off x="179280" y="333360"/>
            <a:ext cx="136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Физ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643280" y="33336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7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8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6156360" y="33336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9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7740720" y="333360"/>
            <a:ext cx="12952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1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2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1619280" y="479736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3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4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4643280" y="479736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5" action="ppaction://hlinksldjump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156360" y="479736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6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7740720" y="4797360"/>
            <a:ext cx="1320840" cy="951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8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3132000" y="33336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0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1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3132000" y="371628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2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3132000" y="4797360"/>
            <a:ext cx="1440000" cy="951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4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1619280" y="33336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6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чем теплее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трех рубашках или в рубашке тройной толщин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21280" y="333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763640" y="4437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 трех рубашка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Управляющая кнопка: назад 6">
            <a:hlinkClick r:id="rId1" action="ppaction://hlinksldjump"/>
          </p:cNvPr>
          <p:cNvSpPr/>
          <p:nvPr/>
        </p:nvSpPr>
        <p:spPr>
          <a:xfrm>
            <a:off x="802800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то имеют ввиду, когда говорят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«Пошло дело, как по маслу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95280" y="4581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уменьшение силы т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Управляющая кнопка: назад 5">
            <a:hlinkClick r:id="rId1" action="ppaction://hlinksldjump"/>
          </p:cNvPr>
          <p:cNvSpPr/>
          <p:nvPr/>
        </p:nvSpPr>
        <p:spPr>
          <a:xfrm>
            <a:off x="810108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ез крыльев, без тела за тысячу вёрст прилетел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радиовол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ежит на земле: не закрасить, не соскоблить, не завалит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те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ри выходе из воды животные встряхиваются. Какой закон физики используется ими при этом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763640" y="4581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закон инер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Назовите Самую большую хорду окружности?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59720" y="549360"/>
            <a:ext cx="492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диамет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назад 4">
            <a:hlinkClick r:id="rId1" action="ppaction://hlinksldjump"/>
          </p:cNvPr>
          <p:cNvSpPr/>
          <p:nvPr/>
        </p:nvSpPr>
        <p:spPr>
          <a:xfrm>
            <a:off x="8101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3840" y="2143080"/>
            <a:ext cx="8929800" cy="199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клетке находятся 3 кролика. Три девочки попросили дать им по одному кролику. Каждой девочке дали кролика. И все же в клетке остался один кролик. Как так получилось?..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503080" y="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34000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ем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Управляющая кнопка: назад 7">
            <a:hlinkClick r:id="rId1" action="ppaction://hlinksldjump"/>
          </p:cNvPr>
          <p:cNvSpPr/>
          <p:nvPr/>
        </p:nvSpPr>
        <p:spPr>
          <a:xfrm>
            <a:off x="788508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136000" cy="187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Рыбака спросили, сколько он поймал рыбы. Он ответил: «Половину восьми, шесть без головы. Девять без хвоста».  Сколько рыбы поймал рыбак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2387160" y="26028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900000" y="4653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нискольк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Управляющая кнопка: назад 7">
            <a:hlinkClick r:id="rId1" action="ppaction://hlinksldjump"/>
          </p:cNvPr>
          <p:cNvSpPr/>
          <p:nvPr/>
        </p:nvSpPr>
        <p:spPr>
          <a:xfrm>
            <a:off x="802800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4400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сть у растения и у уравн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2487240" y="40464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2195640" y="45086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корен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назад 7">
            <a:hlinkClick r:id="rId1" action="ppaction://hlinksldjump"/>
          </p:cNvPr>
          <p:cNvSpPr/>
          <p:nvPr/>
        </p:nvSpPr>
        <p:spPr>
          <a:xfrm>
            <a:off x="795672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c8c3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>
            <a:hlinkClick r:id="" action="ppaction://hlinkshowjump?jump=nextslide"/>
          </p:cNvPr>
          <p:cNvSpPr/>
          <p:nvPr/>
        </p:nvSpPr>
        <p:spPr>
          <a:xfrm>
            <a:off x="142920" y="1428840"/>
            <a:ext cx="1357200" cy="92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лесар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>
            <a:hlinkClick r:id="" action="ppaction://hlinkshowjump?jump=nextslide"/>
          </p:cNvPr>
          <p:cNvSpPr/>
          <p:nvPr/>
        </p:nvSpPr>
        <p:spPr>
          <a:xfrm>
            <a:off x="142920" y="2571840"/>
            <a:ext cx="1357200" cy="9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 том, о с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64304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143160" y="1428840"/>
            <a:ext cx="1419480" cy="944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464328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7715160" y="1428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164304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314316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4643280" y="2571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2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7715160" y="2571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4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164304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5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6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31431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7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8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4643280" y="3714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7715160" y="3714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0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6">
            <a:hlinkClick r:id="" action="ppaction://hlinkshowjump?jump=nextslide"/>
          </p:cNvPr>
          <p:cNvSpPr/>
          <p:nvPr/>
        </p:nvSpPr>
        <p:spPr>
          <a:xfrm>
            <a:off x="142920" y="3714840"/>
            <a:ext cx="1357200" cy="9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ветоф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6143760" y="1428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6143760" y="2571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4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61437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6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Управляющая кнопка: далее 20">
            <a:hlinkClick r:id="rId28" action="ppaction://hlinksldjump"/>
          </p:cNvPr>
          <p:cNvSpPr/>
          <p:nvPr/>
        </p:nvSpPr>
        <p:spPr>
          <a:xfrm>
            <a:off x="8028000" y="6021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2213280" y="18900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25892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отрез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8" descr="C:\Users\Марина\Desktop\ребусы\ребус 11.png"/>
          <p:cNvPicPr/>
          <p:nvPr/>
        </p:nvPicPr>
        <p:blipFill>
          <a:blip r:embed="rId1"/>
          <a:stretch/>
        </p:blipFill>
        <p:spPr>
          <a:xfrm>
            <a:off x="2340000" y="2997360"/>
            <a:ext cx="3994200" cy="15588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"/>
          <p:cNvSpPr/>
          <p:nvPr/>
        </p:nvSpPr>
        <p:spPr>
          <a:xfrm>
            <a:off x="2195640" y="2421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Разгадайте ребу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Управляющая кнопка: назад 8">
            <a:hlinkClick r:id="rId2" action="ppaction://hlinksldjump"/>
          </p:cNvPr>
          <p:cNvSpPr/>
          <p:nvPr/>
        </p:nvSpPr>
        <p:spPr>
          <a:xfrm>
            <a:off x="795672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две династии правителей, которые правили в Росси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122640" y="549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39640" y="4365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Рюриковичи и Романов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II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мировая война началас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22640" y="549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476360" y="40053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1 сентября 1939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ород-герой Волгоград раньше называлс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3122640" y="549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талинград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Управляющая кнопка: назад 4">
            <a:hlinkClick r:id="rId1" action="ppaction://hlinksldjump"/>
          </p:cNvPr>
          <p:cNvSpPr/>
          <p:nvPr/>
        </p:nvSpPr>
        <p:spPr>
          <a:xfrm>
            <a:off x="7956720" y="5950080"/>
            <a:ext cx="576000" cy="5745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звали первого президента СССР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100680" y="333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24000" y="3933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Горбачев Михаил Сергееви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огда была принята конституция РФ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100680" y="333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258920" y="4292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12 декабря 1993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основные сферы обществ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2963520" y="18900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79280" y="3284640"/>
            <a:ext cx="878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экономическая, политическая, социальная, духовн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2268360" y="836640"/>
            <a:ext cx="48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Arial"/>
              </a:rPr>
              <a:t>АУКЦИ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Управляющая кнопка: назад 5">
            <a:hlinkClick r:id="rId1" action="ppaction://hlinksldjump"/>
          </p:cNvPr>
          <p:cNvSpPr/>
          <p:nvPr/>
        </p:nvSpPr>
        <p:spPr>
          <a:xfrm>
            <a:off x="817236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Закончить предложение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«Основным законом Российской Федерации является…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2906640" y="54936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908000" y="4581360"/>
            <a:ext cx="57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онституция Р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переводится на русский язык греческое слово «ЭТНОС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2906640" y="54936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нар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ечислите известные Вам виды социальных норм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890440" y="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468360" y="3141720"/>
            <a:ext cx="5398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Обычаи и трад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авовые нор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олитиче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Мор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елигио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Эстетиче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636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вая нота, вторая – игра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Целое встретится у столяр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69440" y="47628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403280" y="4292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доло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Управляющая кнопка: назад 5">
            <a:hlinkClick r:id="rId1" action="ppaction://hlinksldjump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10800"/>
                </a:moveTo>
                <a:lnTo>
                  <a:pt x="19179" y="3794"/>
                </a:lnTo>
                <a:lnTo>
                  <a:pt x="1917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называется перемещение людей из одной социальной группы в другую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906640" y="54936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50920" y="458136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оциальная мобильно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назад 4">
            <a:hlinkClick r:id="rId1" action="ppaction://hlinksldjump"/>
          </p:cNvPr>
          <p:cNvSpPr/>
          <p:nvPr/>
        </p:nvSpPr>
        <p:spPr>
          <a:xfrm>
            <a:off x="795672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7120" y="2060640"/>
            <a:ext cx="842976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сложилась судьба Одинцовой А.С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финале романа «Отцы и дети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2676240" y="11592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050920" y="4869000"/>
            <a:ext cx="56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вышла заму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611280" y="306864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гиб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шла заму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вятила жизнь сес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ехала за гра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2707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поэта, у которого любимое время года - осен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2676240" y="26028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А.С. Пушк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16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автора и стихотворение, которое в годы ВОВ считалось талисманом? (написано в 1941 году, солдаты его переписывали и хранили у сердца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2676240" y="11592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2627280" y="4581360"/>
            <a:ext cx="43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. Симонов «Жди мен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45164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О каком стихотворении идет речь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2676240" y="18900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763640" y="494172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А. Блок «Росси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324000" y="321300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ять, как в годы золот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стертых треплются шле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язнут спицы распи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асхлябанные коле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Управляющая кнопка: назад 5">
            <a:hlinkClick r:id="rId1" action="ppaction://hlinksldjump"/>
          </p:cNvPr>
          <p:cNvSpPr/>
          <p:nvPr/>
        </p:nvSpPr>
        <p:spPr>
          <a:xfrm>
            <a:off x="7885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ому герою пьесы «На дне» принадлежит фраза: «Человек – это звучит гордо!»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2734920" y="18900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2987640" y="537372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атин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411280" y="260280"/>
            <a:ext cx="48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Arial"/>
              </a:rPr>
              <a:t>КОТ В МЕШ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Управляющая кнопка: назад 6">
            <a:hlinkClick r:id="rId1" action="ppaction://hlinksldjump"/>
          </p:cNvPr>
          <p:cNvSpPr/>
          <p:nvPr/>
        </p:nvSpPr>
        <p:spPr>
          <a:xfrm>
            <a:off x="8101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324000" y="3429000"/>
            <a:ext cx="381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ат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у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кте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убно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1908000" y="2276640"/>
            <a:ext cx="57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ун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втомобиль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c8c3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>
            <a:hlinkClick r:id="" action="ppaction://hlinkshowjump?jump=nextslide"/>
          </p:cNvPr>
          <p:cNvSpPr/>
          <p:nvPr/>
        </p:nvSpPr>
        <p:spPr>
          <a:xfrm>
            <a:off x="142920" y="1428840"/>
            <a:ext cx="1357200" cy="92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с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втомоби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5">
            <a:hlinkClick r:id="" action="ppaction://hlinkshowjump?jump=nextslide"/>
          </p:cNvPr>
          <p:cNvSpPr/>
          <p:nvPr/>
        </p:nvSpPr>
        <p:spPr>
          <a:xfrm>
            <a:off x="142920" y="2571840"/>
            <a:ext cx="1357200" cy="9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Россий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втоп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164304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3143160" y="1428840"/>
            <a:ext cx="1419480" cy="944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464328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7715160" y="1428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164304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4"/>
          <p:cNvSpPr/>
          <p:nvPr/>
        </p:nvSpPr>
        <p:spPr>
          <a:xfrm>
            <a:off x="314316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4643280" y="2571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6"/>
          <p:cNvSpPr/>
          <p:nvPr/>
        </p:nvSpPr>
        <p:spPr>
          <a:xfrm>
            <a:off x="7715160" y="2571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>
            <a:off x="164304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8"/>
          <p:cNvSpPr/>
          <p:nvPr/>
        </p:nvSpPr>
        <p:spPr>
          <a:xfrm>
            <a:off x="31431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4643280" y="3714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0"/>
          <p:cNvSpPr/>
          <p:nvPr/>
        </p:nvSpPr>
        <p:spPr>
          <a:xfrm>
            <a:off x="7715160" y="3714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6">
            <a:hlinkClick r:id="" action="ppaction://hlinkshowjump?jump=nextslide"/>
          </p:cNvPr>
          <p:cNvSpPr/>
          <p:nvPr/>
        </p:nvSpPr>
        <p:spPr>
          <a:xfrm>
            <a:off x="142920" y="3714840"/>
            <a:ext cx="1357200" cy="9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Зарубеж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втоп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6143760" y="1428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6143760" y="2571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1437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Управляющая кнопка: далее 1"/>
          <p:cNvSpPr/>
          <p:nvPr/>
        </p:nvSpPr>
        <p:spPr>
          <a:xfrm>
            <a:off x="7956720" y="5732640"/>
            <a:ext cx="718920" cy="64908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23" h="21600">
                <a:moveTo>
                  <a:pt x="0" y="0"/>
                </a:moveTo>
                <a:lnTo>
                  <a:pt x="23923" y="0"/>
                </a:lnTo>
                <a:lnTo>
                  <a:pt x="23923" y="21600"/>
                </a:lnTo>
                <a:lnTo>
                  <a:pt x="0" y="21600"/>
                </a:lnTo>
                <a:close/>
              </a:path>
              <a:path fill="lightenLess" w="23923" h="21600">
                <a:moveTo>
                  <a:pt x="0" y="0"/>
                </a:moveTo>
                <a:lnTo>
                  <a:pt x="23923" y="0"/>
                </a:lnTo>
                <a:lnTo>
                  <a:pt x="22523" y="1400"/>
                </a:lnTo>
                <a:lnTo>
                  <a:pt x="1400" y="1400"/>
                </a:lnTo>
                <a:close/>
              </a:path>
              <a:path fill="darken" w="23923" h="21600">
                <a:moveTo>
                  <a:pt x="23923" y="0"/>
                </a:moveTo>
                <a:lnTo>
                  <a:pt x="23923" y="21600"/>
                </a:lnTo>
                <a:lnTo>
                  <a:pt x="22523" y="20200"/>
                </a:lnTo>
                <a:lnTo>
                  <a:pt x="22523" y="1400"/>
                </a:lnTo>
                <a:close/>
              </a:path>
              <a:path fill="darkenLess" w="23923" h="21600">
                <a:moveTo>
                  <a:pt x="23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3" y="20200"/>
                </a:lnTo>
                <a:close/>
              </a:path>
              <a:path fill="lighten" w="23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3" h="21600">
                <a:moveTo>
                  <a:pt x="4955" y="3794"/>
                </a:moveTo>
                <a:lnTo>
                  <a:pt x="18968" y="10800"/>
                </a:lnTo>
                <a:lnTo>
                  <a:pt x="4955" y="17806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21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927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945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51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7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9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975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993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вый автомобильный двигатель работал на…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353960" y="47628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403280" y="4292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ар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Управляющая кнопка: назад 5"/>
          <p:cNvSpPr/>
          <p:nvPr/>
        </p:nvSpPr>
        <p:spPr>
          <a:xfrm>
            <a:off x="7812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1886 г. Немецкий изобретатель Карл Бенц запатентовал свой автомобиль. Сколько было колес у этого автомобиля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332000" y="26028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826920" y="4437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т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Управляющая кнопка: назад 5"/>
          <p:cNvSpPr/>
          <p:nvPr/>
        </p:nvSpPr>
        <p:spPr>
          <a:xfrm>
            <a:off x="7885080" y="58053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524720" cy="201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Везде сует свой нос витой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Дыру проткнет в стене,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Чтобы узнать, а что на той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Обратной стороне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2214720" y="404640"/>
            <a:ext cx="514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763640" y="486900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вер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5640" y="2133720"/>
            <a:ext cx="7451640" cy="230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вая паровая повозка, пригодная для практического применения, была построена в 1769 году французским военным инженером Жозефом Кюньо. Для каких целей была построена эта повозка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1354680" y="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900000" y="45813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для перевозки артиллерийских снаряд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Управляющая кнопка: назад 5"/>
          <p:cNvSpPr/>
          <p:nvPr/>
        </p:nvSpPr>
        <p:spPr>
          <a:xfrm>
            <a:off x="8101080" y="59500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1508760" y="40464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2411280" y="443700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аре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6819840" cy="10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абушка автобус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Управляющая кнопка: назад 5"/>
          <p:cNvSpPr/>
          <p:nvPr/>
        </p:nvSpPr>
        <p:spPr>
          <a:xfrm>
            <a:off x="802800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11988"/>
                </a:moveTo>
                <a:lnTo>
                  <a:pt x="17806" y="4982"/>
                </a:lnTo>
                <a:lnTo>
                  <a:pt x="17806" y="18994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86920" y="2637000"/>
            <a:ext cx="7455240" cy="158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вый советский завод по выпуску автомобиле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592640" y="47628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42920" y="4581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АМ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Управляющая кнопка: назад 5"/>
          <p:cNvSpPr/>
          <p:nvPr/>
        </p:nvSpPr>
        <p:spPr>
          <a:xfrm>
            <a:off x="7740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580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переводится с латинского языка слово «автомобиль»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1409400" y="11592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476360" y="551664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самодвижущийс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324000" y="342900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движущий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правляем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ижущий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Управляющая кнопка: назад 6"/>
          <p:cNvSpPr/>
          <p:nvPr/>
        </p:nvSpPr>
        <p:spPr>
          <a:xfrm>
            <a:off x="838836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15640" y="206028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От какого слова произошло слово «фара»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340280" y="18900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57120" y="464328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От названия острова Фа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2411280" y="189000"/>
            <a:ext cx="48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Arial"/>
              </a:rPr>
              <a:t>КОТ В МЕШ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Управляющая кнопка: назад 6"/>
          <p:cNvSpPr/>
          <p:nvPr/>
        </p:nvSpPr>
        <p:spPr>
          <a:xfrm>
            <a:off x="8101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250920" y="2924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 названия острова Фа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 слова «фонар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 слова «фанфа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564920" y="40464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84360" y="2565360"/>
            <a:ext cx="81946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Управляющая кнопка: назад 5"/>
          <p:cNvSpPr/>
          <p:nvPr/>
        </p:nvSpPr>
        <p:spPr>
          <a:xfrm>
            <a:off x="774072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-252360" y="2781360"/>
            <a:ext cx="99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а меньше Волги и как ре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 автомоб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781360"/>
            <a:ext cx="7921440" cy="10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то является сердцем машины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1707840" y="40464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</a:t>
            </a:r>
            <a:r>
              <a:rPr b="1" lang="ru-RU" sz="40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771640" y="443700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мото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Управляющая кнопка: назад 5"/>
          <p:cNvSpPr/>
          <p:nvPr/>
        </p:nvSpPr>
        <p:spPr>
          <a:xfrm>
            <a:off x="7596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их колес не бывает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338120" y="18900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411280" y="508464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волосаты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Управляющая кнопка: назад 5"/>
          <p:cNvSpPr/>
          <p:nvPr/>
        </p:nvSpPr>
        <p:spPr>
          <a:xfrm>
            <a:off x="7885080" y="587700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395280" y="342900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ыс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пов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лосат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53452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1927 год, когда впервые 1000  серийных изготовленных автомобилей  появились на рынке, считаются официальным годом рождения фирмы Вольво. Что означает слово «Вольво» на латыни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157400" y="0"/>
            <a:ext cx="71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419640" y="5445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я качу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Управляющая кнопка: назад 5"/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324000" y="393372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Я ле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Я качу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Я тащу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2214720"/>
            <a:ext cx="8856720" cy="1861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Когда порывистый «двигатель» в одну  лошадиную силу на сено - овсовом  топливе сменился экипажем на 3-х колесах, долго не смогли найти название новому чуду . В Германии его называли </a:t>
            </a:r>
            <a:r>
              <a:rPr b="1" lang="en-US" sz="3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«</a:t>
            </a:r>
            <a:r>
              <a:rPr b="1" lang="en-US" sz="3000" spc="-1" strike="noStrike">
                <a:solidFill>
                  <a:srgbClr val="ffffff"/>
                </a:solidFill>
                <a:latin typeface="Franklin Gothic Book"/>
              </a:rPr>
              <a:t>motorwagen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», во Франции «отомобиль», а какое слово использовали в России для обозначения механических  экипажей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643040" y="0"/>
            <a:ext cx="643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116000" y="558972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амока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Управляющая кнопка: назад 5"/>
          <p:cNvSpPr/>
          <p:nvPr/>
        </p:nvSpPr>
        <p:spPr>
          <a:xfrm>
            <a:off x="831708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10800"/>
                </a:moveTo>
                <a:lnTo>
                  <a:pt x="19335" y="3794"/>
                </a:lnTo>
                <a:lnTo>
                  <a:pt x="19335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428760" y="4429080"/>
            <a:ext cx="331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Автог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Самоп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Само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репкий рот на тех серди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то зазря в доске сидит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2152800" y="54936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лещ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373400" y="115920"/>
            <a:ext cx="712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</a:t>
            </a:r>
            <a:r>
              <a:rPr b="1" lang="ru-RU" sz="40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68360" y="5157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на сельскохозяйственн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900000" y="2421000"/>
            <a:ext cx="795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Управляющая кнопка: назад 5"/>
          <p:cNvSpPr/>
          <p:nvPr/>
        </p:nvSpPr>
        <p:spPr>
          <a:xfrm>
            <a:off x="7885080" y="602136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395280" y="2060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какой выставке была представлена  широкой публике в 1904 г. в Лондоне первая «настоящая» машина Фор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7"/>
          <p:cNvSpPr/>
          <p:nvPr/>
        </p:nvSpPr>
        <p:spPr>
          <a:xfrm>
            <a:off x="324000" y="3573360"/>
            <a:ext cx="631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автомоби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сельскохозяйств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художеств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Автомобиль, который  доверили собирать узбека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444680" y="333360"/>
            <a:ext cx="71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763640" y="4437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Дэ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Управляющая кнопка: назад 5"/>
          <p:cNvSpPr/>
          <p:nvPr/>
        </p:nvSpPr>
        <p:spPr>
          <a:xfrm>
            <a:off x="781200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3" h="21600">
                <a:moveTo>
                  <a:pt x="5005" y="10800"/>
                </a:moveTo>
                <a:lnTo>
                  <a:pt x="19018" y="3794"/>
                </a:lnTo>
                <a:lnTo>
                  <a:pt x="19018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1444680" y="333360"/>
            <a:ext cx="71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619280" y="4508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дилижан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Управляющая кнопка: назад 5"/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82692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Дедушка автоб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755640" y="2349360"/>
            <a:ext cx="745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Спасибо за игр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7" descr="poke620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96200" y="4270320"/>
            <a:ext cx="24652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Заголовок 1" descr=""/>
          <p:cNvPicPr/>
          <p:nvPr/>
        </p:nvPicPr>
        <p:blipFill>
          <a:blip r:embed="rId1"/>
          <a:stretch/>
        </p:blipFill>
        <p:spPr>
          <a:xfrm>
            <a:off x="1616040" y="103320"/>
            <a:ext cx="6491160" cy="7318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85880" y="785520"/>
            <a:ext cx="7858080" cy="59562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рия: учебник для студентов учреждений СПО / В.В. Артемов, Ю.Н. Лубченков. – М.: Издательский центр «Академия», 2012. -256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ика. 10 класс. В 2ч. Задачник для общеобразовательных учреждений (базовый уровень) / Л.Э. Генденштейн, Л.А. Кирик, И.М. Гельфгат, И.Ю. Ненашев; под ред. Л.Э. Генденштейна. – М.: Мнемозина, 2010. – 127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тература. 10 класс. Учебник для общеобразовательных учреждений. Базовый и профил. уровни. В 2 ч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И. Коровин, Н.Л. Вершинина, Л.А. Капитанова и др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под ред. В.И. Коровина. – 12-е изд. – М.: Просвещение, 2012. – 384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le-savchen.ucoz.ru/index/0-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veselajashkol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eruditov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mitryukts.naro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hildren.kulichki.net/vopros/fizika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2240280" y="40464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627280" y="4437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тис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6819840" cy="10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Гостя примут от души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Так обнимут – не дыши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3" h="21600">
                <a:moveTo>
                  <a:pt x="5005" y="10800"/>
                </a:moveTo>
                <a:lnTo>
                  <a:pt x="19018" y="3794"/>
                </a:lnTo>
                <a:lnTo>
                  <a:pt x="19018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2637000"/>
            <a:ext cx="7454880" cy="158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ла, ела, дуб, дуб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отеряла зуб, зуб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324160" y="47628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042920" y="4581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6000" y="2707920"/>
            <a:ext cx="7580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Соперник «нолика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753280" y="40464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492360" y="4365720"/>
            <a:ext cx="27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рест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609300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10824"/>
                </a:moveTo>
                <a:lnTo>
                  <a:pt x="17806" y="3818"/>
                </a:lnTo>
                <a:lnTo>
                  <a:pt x="17806" y="17830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Иванова Оксана Васильевна</dc:creator>
  <dc:description/>
  <dc:language>en-US</dc:language>
  <cp:lastModifiedBy>FuckYouBill</cp:lastModifiedBy>
  <dcterms:modified xsi:type="dcterms:W3CDTF">2001-12-31T21:38:31Z</dcterms:modified>
  <cp:revision>149</cp:revision>
  <dc:subject/>
  <dc:title>Интеллектуальная игра «Самый умный»</dc:title>
</cp:coreProperties>
</file>