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30DB-A0AE-462F-BB0B-8BA246BA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2DAA-84E2-488C-9B0A-8EA51CAA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F3F7-2974-4ED1-863A-B40A655E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C40C-5E54-4552-B2A2-1FACA4CD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9C3B-1036-454A-B30F-1ED70E14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68F9-9CC6-40B0-BB01-D3184183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AE72-2A7B-4060-853B-880C6D84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686C-EF26-4261-99DC-22795D45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443E-4C9D-41E2-9ED0-CBDD232E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FE58-D6CB-4EAA-8F6F-217D8A59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BC63-28A3-4BBE-BC54-494AE171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CADC-2E96-4016-B552-59D638C4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F185-61DE-40CF-854A-45433057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BE5A-074D-4B21-B72E-EDB6FDD3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3DA7-DFA4-4EE8-B335-9051B62E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DF29-288A-447F-B439-96095472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91C1-792F-4189-8538-C21B0630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4E1EB-E29F-4A2B-848E-E86D8B7D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2ECB3-0F2B-4431-8BE7-D2840676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A9A73-8FDA-496A-9595-004E8D68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599E4-9C17-4722-AEEC-6B77FF61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F90EA-A10A-4502-B41C-D2688ABE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C434-F83F-45CF-B00A-C301835B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7E632-AD73-4680-89C1-F7C6C0A1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51721-5131-4F0E-B214-09DE5906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5A224-B7F0-42F1-B6BE-4635BEF1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D954A-C7D9-418A-A506-7A24982C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5167A-5049-46C9-8532-54B579A1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3BD65-15D4-43FA-AC20-6BFE027F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F91C7-8003-4B23-AB2D-2E12F066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8E3B8-F721-4C87-BC04-856FF6AD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71602-CDEB-461D-BE7F-5539FD7F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F463D-61B0-4185-A81D-D5002C95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4A12-6751-478D-94D9-D465182E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AF2F4-8862-4A99-904F-318F626D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F5721-4832-4111-BA53-2B500185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22895-ED5C-43E0-A70B-F443C1A5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CCCD1-A9E4-4238-8870-1B3386D8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1A7FE-9EBB-4C69-BFE7-7AB0A3F2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03AC2-0243-400F-BAE6-FEF12844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AAA1E-59EC-484B-9D75-FCB96FE6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0470B-E534-49E7-8B2A-37AB9F47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068B9-F42E-45B3-9ED1-7813D11B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C6C4B-C198-4BB6-AB2A-EB32A498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8202-38EC-45B0-8E0C-B57B4F61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3D95B-4006-4AD7-A501-30C03A55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09447-A10E-495E-880F-941B9551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554BD-75B3-430E-973D-F060D160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ADF5A-AD4F-4613-9A94-617BE70A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8BE9A-8C08-484B-9074-F90DE4BE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85D5C-04E4-47A0-91BE-8126D82D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71672-2523-42F2-844D-D4085EFB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3A6CE-49B3-45D6-87A4-7D82B7D9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C53B2-2CDA-495C-AD1C-FCCFEC8C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42EB7-629B-4F84-9B4F-EF16C072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340-A516-4FE6-81E5-CE1FC004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35FA5-3D10-4372-B54F-EB534903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2DEFB-1BA4-4D4B-8380-09422DE2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7297C-30F4-4D21-9376-7CEA660D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A737F-588B-4403-8003-B6474C8F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9C70C-8615-4FB4-B166-A3EB0340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F5D54-6180-4EED-9AAE-B890E08B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E935D-6C57-4CA1-A922-855A41EE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B5F72-719E-44BC-B0C8-0F1732BC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C57AB-0BA7-4650-B809-BD512381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DCBC9-4C73-425B-AD3E-600BA6DB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03E4-3E3F-43F5-8E51-62743AED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32283-512A-45C9-8963-906F6A1A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BE687-F797-4305-90C8-A2D5DC01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6C756-AB6D-4642-9D12-5F1B50E3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87590-FCF6-4013-995A-13C4351C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EFF96-CD16-4971-B241-760A45A2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1A35A-E61D-4411-9621-51A964CC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1AA98-43E3-4B1F-A7AF-297A7E55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51A21-8528-49AB-8D87-6E911C6D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8439C-FA40-43F1-9477-89C00E08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0C077-D75A-4602-B796-EAF19291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4615-0555-46B4-80FC-A9C64BC2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65209-DF90-4F04-9B1D-96CF747D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497E2-23EB-4068-8312-6F5AF421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1F9DB-3E4E-4545-BD07-DC7ECB89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FDE24-9E8C-4740-B25F-6B238A4F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F87EC-C636-4CDC-99B5-40EA4651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F80D-B7F1-4EF2-BECF-7AED7B31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9672-CB95-485A-8DCD-2F235727932A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C819-ADEF-42A6-A624-E7B8B0F08D3B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6897-4236-4A23-AE31-4D4F51BAA788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447E-383D-4106-AC59-8FEDB8119B59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C3DC-3186-47CD-85A4-50B955E5581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82C7-D80E-4362-B081-7409D0D161C3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A3D1-E4DA-453A-9860-3CF584540A9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785880" y="35676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fa326"/>
                </a:solidFill>
                <a:latin typeface="Corbel"/>
              </a:rPr>
              <a:t>Презентация на тему: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fa326"/>
                </a:solidFill>
                <a:latin typeface="Corbel"/>
              </a:rPr>
              <a:t>«Санкт-Петербург».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69" name="Рисунок 4" descr="мосты.jpg"/>
          <p:cNvPicPr/>
          <p:nvPr/>
        </p:nvPicPr>
        <p:blipFill>
          <a:blip r:embed="rId1"/>
          <a:stretch/>
        </p:blipFill>
        <p:spPr>
          <a:xfrm>
            <a:off x="500040" y="1928880"/>
            <a:ext cx="4286160" cy="335736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4" descr="санкт.jpg"/>
          <p:cNvPicPr/>
          <p:nvPr/>
        </p:nvPicPr>
        <p:blipFill>
          <a:blip r:embed="rId2"/>
          <a:stretch/>
        </p:blipFill>
        <p:spPr>
          <a:xfrm>
            <a:off x="4952880" y="3500280"/>
            <a:ext cx="3976920" cy="30006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Рисунок 4" descr="250px-Смольный.jpg"/>
          <p:cNvPicPr/>
          <p:nvPr/>
        </p:nvPicPr>
        <p:blipFill>
          <a:blip r:embed="rId1"/>
          <a:stretch/>
        </p:blipFill>
        <p:spPr>
          <a:xfrm rot="20430000">
            <a:off x="255240" y="480600"/>
            <a:ext cx="3240000" cy="2087640"/>
          </a:xfrm>
          <a:prstGeom prst="rect">
            <a:avLst/>
          </a:prstGeom>
          <a:ln w="0">
            <a:noFill/>
          </a:ln>
        </p:spPr>
      </p:pic>
      <p:sp>
        <p:nvSpPr>
          <p:cNvPr id="395" name="TextBox 5"/>
          <p:cNvSpPr/>
          <p:nvPr/>
        </p:nvSpPr>
        <p:spPr>
          <a:xfrm rot="20454600">
            <a:off x="1687680" y="22071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e8d6"/>
                </a:solidFill>
                <a:latin typeface="Corbel"/>
              </a:rPr>
              <a:t>Смо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Рисунок 6" descr="Собор Воскресения Христова.jpg"/>
          <p:cNvPicPr/>
          <p:nvPr/>
        </p:nvPicPr>
        <p:blipFill>
          <a:blip r:embed="rId2"/>
          <a:stretch/>
        </p:blipFill>
        <p:spPr>
          <a:xfrm>
            <a:off x="3643200" y="0"/>
            <a:ext cx="2286000" cy="3071880"/>
          </a:xfrm>
          <a:prstGeom prst="rect">
            <a:avLst/>
          </a:prstGeom>
          <a:ln w="0">
            <a:noFill/>
          </a:ln>
        </p:spPr>
      </p:pic>
      <p:sp>
        <p:nvSpPr>
          <p:cNvPr id="397" name="TextBox 7"/>
          <p:cNvSpPr/>
          <p:nvPr/>
        </p:nvSpPr>
        <p:spPr>
          <a:xfrm>
            <a:off x="3857760" y="30718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Собор Воскресения Христ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Рисунок 8" descr="Мариинский дворец.jpg"/>
          <p:cNvPicPr/>
          <p:nvPr/>
        </p:nvPicPr>
        <p:blipFill>
          <a:blip r:embed="rId3"/>
          <a:stretch/>
        </p:blipFill>
        <p:spPr>
          <a:xfrm rot="1379400">
            <a:off x="6082920" y="588960"/>
            <a:ext cx="3175200" cy="2387520"/>
          </a:xfrm>
          <a:prstGeom prst="rect">
            <a:avLst/>
          </a:prstGeom>
          <a:ln w="0">
            <a:noFill/>
          </a:ln>
        </p:spPr>
      </p:pic>
      <p:sp>
        <p:nvSpPr>
          <p:cNvPr id="399" name="TextBox 9"/>
          <p:cNvSpPr/>
          <p:nvPr/>
        </p:nvSpPr>
        <p:spPr>
          <a:xfrm rot="1416600">
            <a:off x="6206040" y="25110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orbel"/>
              </a:rPr>
              <a:t>Мариинский двор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Рисунок 10" descr="Исаакиевский сор.jpg"/>
          <p:cNvPicPr/>
          <p:nvPr/>
        </p:nvPicPr>
        <p:blipFill>
          <a:blip r:embed="rId4"/>
          <a:stretch/>
        </p:blipFill>
        <p:spPr>
          <a:xfrm>
            <a:off x="214200" y="3429000"/>
            <a:ext cx="3714840" cy="2571840"/>
          </a:xfrm>
          <a:prstGeom prst="rect">
            <a:avLst/>
          </a:prstGeom>
          <a:ln w="0">
            <a:noFill/>
          </a:ln>
        </p:spPr>
      </p:pic>
      <p:sp>
        <p:nvSpPr>
          <p:cNvPr id="401" name="TextBox 11"/>
          <p:cNvSpPr/>
          <p:nvPr/>
        </p:nvSpPr>
        <p:spPr>
          <a:xfrm>
            <a:off x="642960" y="6143760"/>
            <a:ext cx="29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rbel"/>
              </a:rPr>
              <a:t>     </a:t>
            </a:r>
            <a:r>
              <a:rPr b="0" lang="ru-RU" sz="2000" spc="-1" strike="noStrike">
                <a:solidFill>
                  <a:srgbClr val="ff0000"/>
                </a:solidFill>
                <a:latin typeface="Corbel"/>
              </a:rPr>
              <a:t>Исаакиевский соб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Рисунок 12" descr="Петергоф.jpg"/>
          <p:cNvPicPr/>
          <p:nvPr/>
        </p:nvPicPr>
        <p:blipFill>
          <a:blip r:embed="rId5"/>
          <a:stretch/>
        </p:blipFill>
        <p:spPr>
          <a:xfrm>
            <a:off x="5072040" y="3500280"/>
            <a:ext cx="3571920" cy="2500560"/>
          </a:xfrm>
          <a:prstGeom prst="rect">
            <a:avLst/>
          </a:prstGeom>
          <a:ln w="0">
            <a:noFill/>
          </a:ln>
        </p:spPr>
      </p:pic>
      <p:sp>
        <p:nvSpPr>
          <p:cNvPr id="403" name="TextBox 13"/>
          <p:cNvSpPr/>
          <p:nvPr/>
        </p:nvSpPr>
        <p:spPr>
          <a:xfrm>
            <a:off x="5929200" y="600084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rbel"/>
              </a:rPr>
              <a:t>      </a:t>
            </a:r>
            <a:r>
              <a:rPr b="0" lang="ru-RU" sz="2000" spc="-1" strike="noStrike">
                <a:solidFill>
                  <a:srgbClr val="ff0000"/>
                </a:solidFill>
                <a:latin typeface="Corbel"/>
              </a:rPr>
              <a:t>Петерго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57120" y="512640"/>
            <a:ext cx="832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Приглашаем всех в гости в наш город!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Презентацию выполнила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Воспитатель ГБДОУ 26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Пивень Екатерина Юрьевна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Источник информации: 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ru.</a:t>
            </a:r>
            <a:r>
              <a:rPr b="1" lang="en-US" sz="3200" spc="-1" strike="noStrike">
                <a:solidFill>
                  <a:srgbClr val="ffffff"/>
                </a:solidFill>
                <a:latin typeface="Corbel"/>
              </a:rPr>
              <a:t>wikipedia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.org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onsolas"/>
              </a:rPr>
              <a:t>Содержание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rbel"/>
              </a:rPr>
              <a:t>Географическое положение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rbel"/>
              </a:rPr>
              <a:t>Население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rbel"/>
              </a:rPr>
              <a:t>Промышленность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rbel"/>
              </a:rPr>
              <a:t>Природные ресурсы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rbel"/>
              </a:rPr>
              <a:t>Достопримечательности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ll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0105c"/>
                </a:solidFill>
                <a:latin typeface="Consolas"/>
              </a:rPr>
              <a:t>Географическое положение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00040" y="1500120"/>
            <a:ext cx="84297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73af"/>
                </a:solidFill>
                <a:latin typeface="Corbel"/>
              </a:rPr>
              <a:t>Санкт-Петербург является самым северным из городов мира . Он расположен на северо-западе Российской Федерации, в пределах Приневской низменности, на прилегающем к устью реки Невы побережье Невской губы Финского залива и на многочисленных островах Невской дельты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73af"/>
                </a:solidFill>
                <a:latin typeface="Corbe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Рисунок 4" descr="карта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42960" y="-28584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addc"/>
                </a:solidFill>
                <a:latin typeface="Consolas"/>
              </a:rPr>
              <a:t>Население.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28400" y="714240"/>
            <a:ext cx="27716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анкт-Петербург — 4-й по численности город Европы .С начала 1990-х по 2007 год наблюдалась устойчивая депопуляция  .С 2008 года отмечается прирост населения . По состоянию на 2013 год численность населения возрастает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8" name="Содержимое 4" descr="схема.png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3214800" y="857160"/>
            <a:ext cx="5715000" cy="52149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ffff"/>
                </a:solidFill>
                <a:uFillTx/>
                <a:latin typeface="Consolas"/>
              </a:rPr>
              <a:t>Промышленность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42960" y="1142640"/>
            <a:ext cx="82152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a1ca"/>
                </a:solidFill>
                <a:latin typeface="Corbel"/>
              </a:rPr>
              <a:t>Основа промышленности Санкт-Петербурга — тяжёлая индустрия. В городе работают такие гиганты машиностроения, как Кировский завод, Ленинградский металлический завод, «Электросила», Завод турбинных лопаток, Невский завод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a1ca"/>
                </a:solidFill>
                <a:latin typeface="Corbel"/>
              </a:rPr>
              <a:t>Развито транспортное машиностроение: «Вагонмаш», Петербургский трамвайно-механический завод, сборочный автобусный завод «Скания-Питер»,</a:t>
            </a:r>
            <a:r>
              <a:rPr b="0" lang="en-US" sz="2400" spc="-1" strike="noStrike">
                <a:solidFill>
                  <a:srgbClr val="f7a1ca"/>
                </a:solidFill>
                <a:latin typeface="Corbel"/>
              </a:rPr>
              <a:t> Toyota</a:t>
            </a:r>
            <a:r>
              <a:rPr b="0" lang="ru-RU" sz="2400" spc="-1" strike="noStrike">
                <a:solidFill>
                  <a:srgbClr val="f7a1ca"/>
                </a:solidFill>
                <a:latin typeface="Corbel"/>
              </a:rPr>
              <a:t>, </a:t>
            </a:r>
            <a:r>
              <a:rPr b="0" lang="en-US" sz="2400" spc="-1" strike="noStrike">
                <a:solidFill>
                  <a:srgbClr val="f7a1ca"/>
                </a:solidFill>
                <a:latin typeface="Corbel"/>
              </a:rPr>
              <a:t>General Motors</a:t>
            </a:r>
            <a:r>
              <a:rPr b="0" lang="ru-RU" sz="2400" spc="-1" strike="noStrike">
                <a:solidFill>
                  <a:srgbClr val="f7a1ca"/>
                </a:solidFill>
                <a:latin typeface="Corbel"/>
              </a:rPr>
              <a:t> и </a:t>
            </a:r>
            <a:r>
              <a:rPr b="0" lang="en-US" sz="2400" spc="-1" strike="noStrike">
                <a:solidFill>
                  <a:srgbClr val="f7a1ca"/>
                </a:solidFill>
                <a:latin typeface="Corbel"/>
              </a:rPr>
              <a:t>Hyundai</a:t>
            </a:r>
            <a:r>
              <a:rPr b="0" lang="ru-RU" sz="2400" spc="-1" strike="noStrike">
                <a:solidFill>
                  <a:srgbClr val="f7a1ca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a1ca"/>
                </a:solidFill>
                <a:latin typeface="Corbel"/>
              </a:rPr>
              <a:t>Санкт-Петербург — крупнейший российский центр военного и гражданского судостроения и судоремонта: работают заводы «Северная верфь», Балтийский завод, Адмиралтейские верфи, Канонерский завод, Невский судостроительный завод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edg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3" descr="символ.png"/>
          <p:cNvPicPr/>
          <p:nvPr/>
        </p:nvPicPr>
        <p:blipFill>
          <a:blip r:embed="rId1"/>
          <a:stretch/>
        </p:blipFill>
        <p:spPr>
          <a:xfrm>
            <a:off x="139680" y="0"/>
            <a:ext cx="2494080" cy="2365200"/>
          </a:xfrm>
          <a:prstGeom prst="rect">
            <a:avLst/>
          </a:prstGeom>
          <a:ln w="0">
            <a:noFill/>
          </a:ln>
        </p:spPr>
      </p:pic>
      <p:sp>
        <p:nvSpPr>
          <p:cNvPr id="382" name="TextBox 4"/>
          <p:cNvSpPr/>
          <p:nvPr/>
        </p:nvSpPr>
        <p:spPr>
          <a:xfrm rot="20587200">
            <a:off x="1466640" y="197316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имв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Рисунок 5" descr="7598f1c54bf3512d7d2150dcdf7e2991.jpg"/>
          <p:cNvPicPr/>
          <p:nvPr/>
        </p:nvPicPr>
        <p:blipFill>
          <a:blip r:embed="rId2"/>
          <a:stretch/>
        </p:blipFill>
        <p:spPr>
          <a:xfrm>
            <a:off x="5715000" y="285840"/>
            <a:ext cx="3143160" cy="178596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6" descr="90d834dc1f1cda5d22f5c0b109ceca67.jpg"/>
          <p:cNvPicPr/>
          <p:nvPr/>
        </p:nvPicPr>
        <p:blipFill>
          <a:blip r:embed="rId3"/>
          <a:stretch/>
        </p:blipFill>
        <p:spPr>
          <a:xfrm>
            <a:off x="2786040" y="1000080"/>
            <a:ext cx="2714760" cy="178596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7" descr="герб.png"/>
          <p:cNvPicPr/>
          <p:nvPr/>
        </p:nvPicPr>
        <p:blipFill>
          <a:blip r:embed="rId4"/>
          <a:stretch/>
        </p:blipFill>
        <p:spPr>
          <a:xfrm>
            <a:off x="1428840" y="3286080"/>
            <a:ext cx="2143080" cy="2643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8"/>
          <p:cNvSpPr/>
          <p:nvPr/>
        </p:nvSpPr>
        <p:spPr>
          <a:xfrm>
            <a:off x="2000160" y="61437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Гер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Рисунок 9" descr="флаг.png"/>
          <p:cNvPicPr/>
          <p:nvPr/>
        </p:nvPicPr>
        <p:blipFill>
          <a:blip r:embed="rId5"/>
          <a:stretch/>
        </p:blipFill>
        <p:spPr>
          <a:xfrm>
            <a:off x="4643280" y="3143160"/>
            <a:ext cx="3929400" cy="2286000"/>
          </a:xfrm>
          <a:prstGeom prst="rect">
            <a:avLst/>
          </a:prstGeom>
          <a:ln w="0">
            <a:noFill/>
          </a:ln>
        </p:spPr>
      </p:pic>
      <p:sp>
        <p:nvSpPr>
          <p:cNvPr id="388" name="TextBox 10"/>
          <p:cNvSpPr/>
          <p:nvPr/>
        </p:nvSpPr>
        <p:spPr>
          <a:xfrm>
            <a:off x="5214960" y="57862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Фл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 rot="20659800">
            <a:off x="856800" y="214200"/>
            <a:ext cx="3714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fa326"/>
                </a:solidFill>
                <a:latin typeface="Consolas"/>
              </a:rPr>
              <a:t>Природные ресурсы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00040" y="1928880"/>
            <a:ext cx="84297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Полезные ископаемые: нефть, природный газ, бокситы, сырье для строительных материалов. Наиболее известные месторождения: нефти, газа, газовых конденсатов - Васильковское, Ярейюсское, Лаявожское, Южно-Шапкинское, Харьягинское; бокситов - Северо-Онежское; известняков - Швакинское и Савинское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снову ресурсного потенциала Санкт-Петербурга составляют пресные поверхностные и подземные воды. Общая протяженность водотоков составляет 217,5 км. Основной водоток - река Нева.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В районе Сестрорецка эксплуатируются хлоридно-натриевые минеральные воды,в северной части города - железистые минеральные лечебно-столовые воды месторождения "Полюстрово"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1" name="Рисунок 4" descr="дворец.jpg"/>
          <p:cNvPicPr/>
          <p:nvPr/>
        </p:nvPicPr>
        <p:blipFill>
          <a:blip r:embed="rId1"/>
          <a:stretch/>
        </p:blipFill>
        <p:spPr>
          <a:xfrm>
            <a:off x="4643280" y="285840"/>
            <a:ext cx="3152880" cy="1547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Заголовок 1" descr=""/>
          <p:cNvPicPr/>
          <p:nvPr/>
        </p:nvPicPr>
        <p:blipFill>
          <a:blip r:embed="rId1"/>
          <a:stretch/>
        </p:blipFill>
        <p:spPr>
          <a:xfrm>
            <a:off x="927000" y="109440"/>
            <a:ext cx="7772400" cy="15177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642600" y="1571760"/>
            <a:ext cx="8286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ысокоширотным положением города объясняется явление белых ночей. В период, близкий ко дню летнего солнцестояния, Солнце в полночь опускается ниже горизонта всего на 7°, поэтому вечерняя заря практически сходится с утренней, и всю ночь длятся гражданские сумерки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Архитектурные ансамбли XVIII — XX веков: Петропавловская крепость, Александро-Невская лавра, Смольный институт, Дворцовая площадь с Зимним дворцом, Адмиралтейство, Невский проспект, стрелка Васильевского острова со зданием Биржи, Сенатская площадь с памятником Петру I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Одна из достопримечательностей Петербурга — фонтаны. Наиболее знаменитый из них — фонтанный комплекс Петергофа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amond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2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2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14-01-23T17:16:46Z</dcterms:modified>
  <cp:revision>15</cp:revision>
  <dc:subject/>
  <dc:title>Презентацию выполнила ученица 9 класса А Юшина Оксана</dc:title>
</cp:coreProperties>
</file>