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73D-5AC4-42D8-8E44-76BB0C9B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B5E-85AA-4EA6-8515-BDD43C90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0C2-1274-4E28-9F5D-BA1A5814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60A-AD32-4051-9E4E-F08B2F34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9B9-7F10-4FC4-AB81-4CB528E8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578-9B1D-42DB-BC11-4AAE670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C9D7-9F59-4899-B396-F7FDCEF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40B-3EC7-4C69-AE2E-74E3F08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7965-6E14-4F70-9D03-9CFCC73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557D-9ED3-4F6D-8BF5-E4044B93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715-FE42-42A5-BB4C-4F18BF1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844-58AD-4C26-B638-4877F14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8F7-072E-4F2A-BF56-C32124B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D76-5281-463E-BC80-AF4F9DC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A4A-350A-4589-9B9F-952B7DD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16E5-0E01-4B79-97B5-5B0B12E1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C66-A62F-4B0B-910A-ADFDC6A2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4CAB-E896-48E3-A801-835791C2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6C00-F114-4905-8621-E7C32A5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E783-4FCE-4254-8D14-2739D81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9ECC-D47E-4B18-B90C-7742385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CF67-694A-402D-A126-B075EF1D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7A2-DC9F-45A4-958F-F1C8299B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ECDC-004C-443D-B2FB-EA3D67BF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C6A7-A53A-42CA-8446-356FB15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B193-E3FD-4D96-A096-398A25B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C307-F84F-4351-A53C-FE5387C8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86B2-CAE4-48C0-ABF4-E4BC4C9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1B85-4417-414B-A1FB-E09E475C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959C-5DD3-48A7-A942-8C4D5A66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EDB7-9BD2-4D45-9A65-CC490021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222A-1A0A-47DD-B00E-E9B0F5E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8E45-0F11-4015-B6F7-011B2F31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136-BEBA-4C69-BCCC-4BC51335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526A-D1D7-4A03-8B09-3ABF9F7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8AC4-C204-427E-B52C-94124A15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038B-6F86-4E53-8D5A-8AAC5F56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4A0F-F29E-418C-B3FF-064C9B9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6086-4A64-48DB-AC44-B227B9F0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EA30-4845-4CA7-B5DC-A6341ED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5C31-F5DF-4961-B6D2-7DC611A2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BDEF-94F5-4DEE-B6D1-9D3552E9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1330-F50F-419F-84DB-26C6F509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E09B-6909-48C8-9652-04ADCB3A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573-4320-4F35-9B7C-F32F9D3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A949-1A6C-4625-9A98-250FB9BB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B3A1-D8FB-493A-83FF-3244546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165E-47C0-4650-BAF7-7135FC7C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A3653-1B7A-4ED1-A435-1139FC0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426F-9B0B-4CFA-A2F1-AD6C47D8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580D-06D4-4C76-BB82-90221BD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BEA6-6864-4B87-A583-C0B7E61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D778-AD92-4C39-BA2A-046CE23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C393-4CD9-4A51-8CB9-A2DBA1F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84E7-87E1-43AB-AB1E-F3CE136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D6C-8FB8-48AD-81FF-1FBA8BA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C6A07-5167-46B5-92EB-1C81416C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D6B65-2DC3-4D06-9D2A-9B4E83A2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064B-B1A2-4A60-B7BA-3565C8DA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7410-E916-4B75-84A4-6533BF3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26EA0-FDAB-4024-A2F3-4548AC84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9580-6D85-40FE-9770-3DFB483F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373B-5B93-4FCE-9D6D-AA3E22E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DA9B-7C92-4D9B-8AB2-4E22308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70BC-1E08-4D42-944B-BF7AD5E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491C-0760-41CD-B8EE-B16F093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212-ED7D-4E9F-94A8-F5B33A8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C55A-A6AB-4688-AA7E-2CC94416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1623-B9F6-4D53-94CA-B180B907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0C2E-B1BD-4E35-97DF-5758A480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7884-8C6C-456E-A5C4-46B2D61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9720-F854-49A3-83ED-8D89A40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69E8-A1A9-4239-87F3-D51536B0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152D-4B51-4C64-977D-B7FF454E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06D0-4F14-4D17-9409-EAF82D1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E56CB-5BB0-4BAD-9FE9-2EE9AE4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B9C3-23E3-4EB1-A77B-3234E26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3F5-AA05-4B9B-AD42-E3A2F0E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67D9-F425-4219-B840-7395A28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EF06-4CA6-4E38-99BB-F1C7603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C360-08DD-45F0-B9B7-DA456A43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3567-20A9-4489-9FC0-9D926BEB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E7C2-CEB0-4469-8447-465B9F4D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ADC-144B-4954-AC93-6A2A0B56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A174-29D2-440B-B808-1C88B6BA4CC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47A-BBC0-41F6-96EB-C9FAF9DED18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8267-D065-4211-862A-0A5D43308B4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A497-1929-423D-8942-2F274585159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9129-CD32-4FBF-9E90-B0DE21DBB0B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B04-156D-4FAD-BF46-159B8E14BB5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C418-40D4-41B6-B379-744FA4C9190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a326"/>
                </a:solidFill>
                <a:latin typeface="Corbel"/>
              </a:rPr>
              <a:t>Презентация на тему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a326"/>
                </a:solidFill>
                <a:latin typeface="Corbel"/>
              </a:rPr>
              <a:t>«Санкт-Петербург»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Рисунок 4" descr="мосты.jpg"/>
          <p:cNvPicPr/>
          <p:nvPr/>
        </p:nvPicPr>
        <p:blipFill>
          <a:blip r:embed="rId1"/>
          <a:stretch/>
        </p:blipFill>
        <p:spPr>
          <a:xfrm>
            <a:off x="500040" y="1928880"/>
            <a:ext cx="4286160" cy="33573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санкт.jpg"/>
          <p:cNvPicPr/>
          <p:nvPr/>
        </p:nvPicPr>
        <p:blipFill>
          <a:blip r:embed="rId2"/>
          <a:stretch/>
        </p:blipFill>
        <p:spPr>
          <a:xfrm>
            <a:off x="4952880" y="3500280"/>
            <a:ext cx="3976920" cy="3000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250px-Смольный.jpg"/>
          <p:cNvPicPr/>
          <p:nvPr/>
        </p:nvPicPr>
        <p:blipFill>
          <a:blip r:embed="rId1"/>
          <a:stretch/>
        </p:blipFill>
        <p:spPr>
          <a:xfrm rot="20430000">
            <a:off x="255240" y="480600"/>
            <a:ext cx="3240000" cy="2087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5"/>
          <p:cNvSpPr/>
          <p:nvPr/>
        </p:nvSpPr>
        <p:spPr>
          <a:xfrm rot="20454600">
            <a:off x="1687680" y="22071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e8d6"/>
                </a:solidFill>
                <a:latin typeface="Corbel"/>
              </a:rPr>
              <a:t>Смо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6" descr="Собор Воскресения Христова.jpg"/>
          <p:cNvPicPr/>
          <p:nvPr/>
        </p:nvPicPr>
        <p:blipFill>
          <a:blip r:embed="rId2"/>
          <a:stretch/>
        </p:blipFill>
        <p:spPr>
          <a:xfrm>
            <a:off x="3643200" y="0"/>
            <a:ext cx="2286000" cy="3071880"/>
          </a:xfrm>
          <a:prstGeom prst="rect">
            <a:avLst/>
          </a:prstGeom>
          <a:ln w="0">
            <a:noFill/>
          </a:ln>
        </p:spPr>
      </p:pic>
      <p:sp>
        <p:nvSpPr>
          <p:cNvPr id="397" name="TextBox 7"/>
          <p:cNvSpPr/>
          <p:nvPr/>
        </p:nvSpPr>
        <p:spPr>
          <a:xfrm>
            <a:off x="3857760" y="30718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Собор Воскресения Хрис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8" descr="Мариинский дворец.jpg"/>
          <p:cNvPicPr/>
          <p:nvPr/>
        </p:nvPicPr>
        <p:blipFill>
          <a:blip r:embed="rId3"/>
          <a:stretch/>
        </p:blipFill>
        <p:spPr>
          <a:xfrm rot="1379400">
            <a:off x="6082920" y="588960"/>
            <a:ext cx="3175200" cy="23875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9"/>
          <p:cNvSpPr/>
          <p:nvPr/>
        </p:nvSpPr>
        <p:spPr>
          <a:xfrm rot="1416600">
            <a:off x="6206040" y="2511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rbel"/>
              </a:rPr>
              <a:t>Мариинский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Рисунок 10" descr="Исаакиевский сор.jpg"/>
          <p:cNvPicPr/>
          <p:nvPr/>
        </p:nvPicPr>
        <p:blipFill>
          <a:blip r:embed="rId4"/>
          <a:stretch/>
        </p:blipFill>
        <p:spPr>
          <a:xfrm>
            <a:off x="214200" y="3429000"/>
            <a:ext cx="3714840" cy="25718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1"/>
          <p:cNvSpPr/>
          <p:nvPr/>
        </p:nvSpPr>
        <p:spPr>
          <a:xfrm>
            <a:off x="642960" y="614376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Исаакиевский со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Рисунок 12" descr="Петергоф.jpg"/>
          <p:cNvPicPr/>
          <p:nvPr/>
        </p:nvPicPr>
        <p:blipFill>
          <a:blip r:embed="rId5"/>
          <a:stretch/>
        </p:blipFill>
        <p:spPr>
          <a:xfrm>
            <a:off x="5072040" y="3500280"/>
            <a:ext cx="3571920" cy="25005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3"/>
          <p:cNvSpPr/>
          <p:nvPr/>
        </p:nvSpPr>
        <p:spPr>
          <a:xfrm>
            <a:off x="5929200" y="60008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Петерго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7120" y="512640"/>
            <a:ext cx="832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Приглашаем всех в гости в наш город!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езентацию выполнила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Воспитатель ГБДОУ 26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ивень Екатерина Юрьевна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Источник информации: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u.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wikipedia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or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onsolas"/>
              </a:rPr>
              <a:t>Содержани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Географическое положени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Населени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Природные ресурсы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Достопримечательности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Географическое положени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50012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Corbel"/>
              </a:rPr>
              <a:t>Санкт-Петербург является самым северным из городов мира . Он расположен на северо-западе Российской Федерации, в пределах Приневской низменности, на прилегающем к устью реки Невы побережье Невской губы Финского залива и на многочисленных островах Невской дельты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Corbe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4" descr="карт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2960" y="-28584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ddc"/>
                </a:solidFill>
                <a:latin typeface="Consolas"/>
              </a:rPr>
              <a:t>Население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8400" y="714240"/>
            <a:ext cx="27716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анкт-Петербург — 4-й по численности город Европы .С начала 1990-х по 2007 год наблюдалась устойчивая депопуляция  .С 2008 года отмечается прирост населения . По состоянию на 2013 год численность населения возрастает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Содержимое 4" descr="схема.pn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857160"/>
            <a:ext cx="5715000" cy="5214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Consolas"/>
              </a:rPr>
              <a:t>Промышленность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960" y="114264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Основа промышленности Санкт-Петербурга — тяжёлая индустрия. В городе работают такие гиганты машиностроения, как Кировский завод, Ленинградский металлический завод, «Электросила», Завод турбинных лопаток, Невский зав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Развито транспортное машиностроение: «Вагонмаш», Петербургский трамвайно-механический завод, сборочный автобусный завод «Скания-Питер»,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 Toyota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, 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General Motors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 и 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Hyundai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Санкт-Петербург — крупнейший российский центр военного и гражданского судостроения и судоремонта: работают заводы «Северная верфь», Балтийский завод, Адмиралтейские верфи, Канонерский завод, Невский судостроительный зав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символ.png"/>
          <p:cNvPicPr/>
          <p:nvPr/>
        </p:nvPicPr>
        <p:blipFill>
          <a:blip r:embed="rId1"/>
          <a:stretch/>
        </p:blipFill>
        <p:spPr>
          <a:xfrm>
            <a:off x="139680" y="0"/>
            <a:ext cx="2494080" cy="2365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 rot="20587200">
            <a:off x="1466640" y="1973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имв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5" descr="7598f1c54bf3512d7d2150dcdf7e2991.jpg"/>
          <p:cNvPicPr/>
          <p:nvPr/>
        </p:nvPicPr>
        <p:blipFill>
          <a:blip r:embed="rId2"/>
          <a:stretch/>
        </p:blipFill>
        <p:spPr>
          <a:xfrm>
            <a:off x="5715000" y="28584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90d834dc1f1cda5d22f5c0b109ceca67.jpg"/>
          <p:cNvPicPr/>
          <p:nvPr/>
        </p:nvPicPr>
        <p:blipFill>
          <a:blip r:embed="rId3"/>
          <a:stretch/>
        </p:blipFill>
        <p:spPr>
          <a:xfrm>
            <a:off x="2786040" y="100008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герб.png"/>
          <p:cNvPicPr/>
          <p:nvPr/>
        </p:nvPicPr>
        <p:blipFill>
          <a:blip r:embed="rId4"/>
          <a:stretch/>
        </p:blipFill>
        <p:spPr>
          <a:xfrm>
            <a:off x="1428840" y="3286080"/>
            <a:ext cx="2143080" cy="2643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8"/>
          <p:cNvSpPr/>
          <p:nvPr/>
        </p:nvSpPr>
        <p:spPr>
          <a:xfrm>
            <a:off x="2000160" y="6143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ер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9" descr="флаг.png"/>
          <p:cNvPicPr/>
          <p:nvPr/>
        </p:nvPicPr>
        <p:blipFill>
          <a:blip r:embed="rId5"/>
          <a:stretch/>
        </p:blipFill>
        <p:spPr>
          <a:xfrm>
            <a:off x="4643280" y="3143160"/>
            <a:ext cx="392940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0"/>
          <p:cNvSpPr/>
          <p:nvPr/>
        </p:nvSpPr>
        <p:spPr>
          <a:xfrm>
            <a:off x="521496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Ф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 rot="20659800">
            <a:off x="856800" y="214200"/>
            <a:ext cx="371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a326"/>
                </a:solidFill>
                <a:latin typeface="Consolas"/>
              </a:rPr>
              <a:t>Природные ресурсы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92888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лезные ископаемые: нефть, природный газ, бокситы, сырье для строительных материалов. Наиболее известные месторождения: нефти, газа, газовых конденсатов - Васильковское, Ярейюсское, Лаявожское, Южно-Шапкинское, Харьягинское; бокситов - Северо-Онежское; известняков - Швакинское и Савинское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снову ресурсного потенциала Санкт-Петербурга составляют пресные поверхностные и подземные воды. Общая протяженность водотоков составляет 217,5 км. Основной водоток - река Нева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районе Сестрорецка эксплуатируются хлоридно-натриевые минеральные воды,в северной части города - железистые минеральные лечебно-столовые воды месторождения "Полюстрово"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Рисунок 4" descr="дворец.jpg"/>
          <p:cNvPicPr/>
          <p:nvPr/>
        </p:nvPicPr>
        <p:blipFill>
          <a:blip r:embed="rId1"/>
          <a:stretch/>
        </p:blipFill>
        <p:spPr>
          <a:xfrm>
            <a:off x="4643280" y="285840"/>
            <a:ext cx="3152880" cy="154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927000" y="109440"/>
            <a:ext cx="7772400" cy="1517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42600" y="1571760"/>
            <a:ext cx="828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сокоширотным положением города объясняется явление белых ночей. В период, близкий ко дню летнего солнцестояния, Солнце в полночь опускается ниже горизонта всего на 7°, поэтому вечерняя заря практически сходится с утренней, и всю ночь длятся гражданские сумерк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рхитектурные ансамбли XVIII — XX веков: Петропавловская крепость, Александро-Невская лавра, Смольный институт, Дворцовая площадь с Зимним дворцом, Адмиралтейство, Невский проспект, стрелка Васильевского острова со зданием Биржи, Сенатская площадь с памятником Петру I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дна из достопримечательностей Петербурга — фонтаны. Наиболее знаменитый из них — фонтанный комплекс Петергофа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01-23T17:16:46Z</dcterms:modified>
  <cp:revision>15</cp:revision>
  <dc:subject/>
  <dc:title>Презентацию выполнила ученица 9 класса А Юшина Оксана</dc:title>
</cp:coreProperties>
</file>