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E4A-A11D-40A9-9720-469C5803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05D-9705-4773-82D2-074D4FF5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C3B-BE8B-48EA-ABAD-A2BE9C50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AC1-362B-4D99-8F6D-B8ECAFC3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E240-5F7D-4B75-8D88-0DAB8E4E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BFB1-0E10-4A3B-BED8-CAD839AC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840D-96BC-4EEE-B9AD-B1D34CFD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86B1-A874-43D1-AFC6-65D0DE78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2978-9FDC-438B-8CC6-40880BA4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A96F-78DA-4BD9-8946-5C8E413B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EAD2-F76A-44C0-8963-DB9D5CB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5BA-E86E-4BCB-BBA8-88978E71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2865-5E43-469D-90CB-37525BB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9BDF-BB66-4C4B-AFF6-5273258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1AC5-0D05-471D-8073-DFB44EF0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7FF0-EBDF-4EE4-8104-8F2539B1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612E-C2BF-4173-86E9-AFA704DC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15D2-72CE-4803-B956-73D1B26F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93FC-645E-4F10-9BBF-20EAD2D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D7C3-8B5F-416C-9897-7B795636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E376-3D28-4F94-B2F4-F36CE2A8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671D-7844-4ACA-9608-35756AF6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04E-AB0A-4C54-BCA6-73524F2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BF29-3267-4BB7-A253-689AA0C4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2B7B-DE97-4BA5-8D5A-5974E76D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F396-C8E5-4CCB-A902-DABD8AF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A047-3E2E-4B59-B68D-09F87CD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BD82-652A-40C5-A826-66B3B9C3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117C-3615-4996-8027-F40B73BE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5FBF-3DF5-4FE8-841E-40E57319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A05-F81E-4FC7-9325-55FD2A82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9A7-C2CC-4CD0-9D25-AABF9573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F46-7E32-43E8-A8AE-252CC960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A9F-2C8B-4097-9021-6E3D8020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996-EDED-45B9-9AE8-BD5AFA4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A75-5FFC-4CEA-8706-2996906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F94B-F727-4F8E-9BAE-830FF9126E4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8249-E348-4E81-8865-FC53B28014B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3D92-E686-4022-AC5B-314126D0A31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240"/>
            <a:ext cx="8418600" cy="3426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2857680" y="214200"/>
            <a:ext cx="313992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428720" y="1600200"/>
            <a:ext cx="42577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аждение выражалось на лице его; некоторые буквы у него были фавориты , до которых если он добирался, то был сам не свой: и подсмеивался, и подмигивал, и помогал губами, так что в лице его, казалось, можно было прочесть всякую букву, которую выводило перо его. Он снимал нарочно, для собственного удовольствия, копию для себ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3929040" cy="4857840"/>
          </a:xfrm>
          <a:prstGeom prst="rect">
            <a:avLst/>
          </a:prstGeom>
          <a:ln w="28440">
            <a:solidFill>
              <a:srgbClr val="ffd25d"/>
            </a:solidFill>
            <a:miter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34160" cy="1158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000320" y="1600200"/>
            <a:ext cx="46861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оголь не скрывает убожества внутреннего  мира своего героя, указывает на его </a:t>
            </a:r>
            <a:r>
              <a:rPr b="0" lang="ru-RU" sz="2600" spc="-1" strike="noStrike">
                <a:solidFill>
                  <a:srgbClr val="ffd25d"/>
                </a:solidFill>
                <a:latin typeface="Times New Roman"/>
              </a:rPr>
              <a:t>ограниченность, косноязычие, скудность его интересов, неспособность логически мыслить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Но он приглушает все эти отрицательные качества, не делает на них акцента, а крупным планом даёт другое: </a:t>
            </a:r>
            <a:r>
              <a:rPr b="0" lang="ru-RU" sz="2600" spc="-1" strike="noStrike">
                <a:solidFill>
                  <a:srgbClr val="ffd25d"/>
                </a:solidFill>
                <a:latin typeface="Times New Roman"/>
              </a:rPr>
              <a:t>кротость, незлобие, безропотное терпение забитого жизнью </a:t>
            </a:r>
            <a:r>
              <a:rPr b="0" lang="ru-RU" sz="2400" spc="-1" strike="noStrike">
                <a:solidFill>
                  <a:srgbClr val="ffd25d"/>
                </a:solidFill>
                <a:latin typeface="Times New Roman"/>
              </a:rPr>
              <a:t>бедня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4043520" cy="3326040"/>
          </a:xfrm>
          <a:prstGeom prst="rect">
            <a:avLst/>
          </a:prstGeom>
          <a:ln w="38160">
            <a:solidFill>
              <a:srgbClr val="ffd25d"/>
            </a:solidFill>
            <a:miter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429080" y="135684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звали Петровича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 привлекло  внимание Башмачкина, когда он пришёл к Петровичу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 чьего меха воротник новой шинели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колько денег взял Петрович за шинель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долго Петрович шил шинель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 изображено на табакерке Петровича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254040" cy="4071960"/>
          </a:xfrm>
          <a:prstGeom prst="rect">
            <a:avLst/>
          </a:prstGeom>
          <a:ln w="38160">
            <a:solidFill>
              <a:srgbClr val="bac0cc"/>
            </a:solidFill>
            <a:miter/>
          </a:ln>
        </p:spPr>
      </p:pic>
      <p:sp>
        <p:nvSpPr>
          <p:cNvPr id="155" name="Прямоугольник 5"/>
          <p:cNvSpPr/>
          <p:nvPr/>
        </p:nvSpPr>
        <p:spPr>
          <a:xfrm>
            <a:off x="1500120" y="357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ль художественной дет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214520" y="1523520"/>
            <a:ext cx="4492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бытие сие не остается незамеченным,  все хвалят шинель и требуют от Акакия Акакиевича по такому случаю задать вечер,  и только вмешательство некоего чиновника (как нарочно именинника),  позвавшего всех на чай,  спасает смущенного Акакия Акакиевич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2957400" cy="3786120"/>
          </a:xfrm>
          <a:prstGeom prst="rect">
            <a:avLst/>
          </a:prstGeom>
          <a:ln w="38160">
            <a:solidFill>
              <a:srgbClr val="98a0b2"/>
            </a:solidFill>
            <a:miter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286160" y="1571760"/>
            <a:ext cx="44006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чезло и скрылось существо, никем не защищённое, никому не дорогое, ни для кого не интересное, даже не обратившее на себя и вним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3146400" cy="4071600"/>
          </a:xfrm>
          <a:prstGeom prst="rect">
            <a:avLst/>
          </a:prstGeom>
          <a:ln w="38160">
            <a:solidFill>
              <a:srgbClr val="ffd25d"/>
            </a:solidFill>
            <a:miter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821440" cy="1140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d4d6"/>
                </a:solidFill>
                <a:latin typeface="Times New Roman"/>
              </a:rPr>
              <a:t>1 «Невский проспек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d4d6"/>
                </a:solidFill>
                <a:latin typeface="Times New Roman"/>
              </a:rPr>
              <a:t>2 «Нос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d4d6"/>
                </a:solidFill>
                <a:latin typeface="Times New Roman"/>
              </a:rPr>
              <a:t>3 «Портре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ad00"/>
                </a:solidFill>
                <a:latin typeface="Times New Roman"/>
              </a:rPr>
              <a:t>4 «Шинел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d4d6"/>
                </a:solidFill>
                <a:latin typeface="Times New Roman"/>
              </a:rPr>
              <a:t>5 «Записки сумасшедшего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867280" y="2781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33"/>
                </a:solidFill>
                <a:latin typeface="Arial"/>
              </a:rPr>
              <a:t>Петербургский ци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684360" y="5059440"/>
            <a:ext cx="237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 «Коляс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 «Р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4572000" y="1989000"/>
            <a:ext cx="1152360" cy="2737080"/>
          </a:xfrm>
          <a:custGeom>
            <a:avLst/>
            <a:gdLst>
              <a:gd name="textAreaLeft" fmla="*/ 0 w 1152360"/>
              <a:gd name="textAreaRight" fmla="*/ 416160 w 115236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61960" y="214200"/>
            <a:ext cx="786780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37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151516"/>
                </a:solidFill>
                <a:latin typeface="Times New Roman"/>
              </a:rPr>
              <a:t>Однажды при Гоголе был рассказан анекдот, который его вдохновил на создание повести </a:t>
            </a:r>
            <a:r>
              <a:rPr b="0" lang="en-US" sz="2000" spc="-1" strike="noStrike">
                <a:solidFill>
                  <a:srgbClr val="151516"/>
                </a:solidFill>
                <a:latin typeface="Book Antiqua"/>
              </a:rPr>
              <a:t>“</a:t>
            </a:r>
            <a:r>
              <a:rPr b="0" lang="ru-RU" sz="2000" spc="-1" strike="noStrike">
                <a:solidFill>
                  <a:srgbClr val="151516"/>
                </a:solidFill>
                <a:latin typeface="Times New Roman"/>
              </a:rPr>
              <a:t>Шинель</a:t>
            </a:r>
            <a:r>
              <a:rPr b="0" lang="en-US" sz="2000" spc="-1" strike="noStrike">
                <a:solidFill>
                  <a:srgbClr val="151516"/>
                </a:solidFill>
                <a:latin typeface="Book Antiqua"/>
              </a:rPr>
              <a:t>”</a:t>
            </a:r>
            <a:r>
              <a:rPr b="0" lang="ru-RU" sz="2000" spc="-1" strike="noStrike">
                <a:solidFill>
                  <a:srgbClr val="151516"/>
                </a:solidFill>
                <a:latin typeface="Times New Roman"/>
              </a:rPr>
              <a:t>.Он звучал так: жил один бедный чиновник .Будучи страстным охотником, он долго копил на ружье, о котором давно мечтал. Его мечта сбылась, но он его потерял, плывя по Финскому заливу. Вернувшись домой, от расстройства чиновник заболел и слёг. Сослуживцы собрали деньги и купили ему новое ружьё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0" y="333360"/>
            <a:ext cx="9144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екдот как замысел сюжет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10" descr="1"/>
          <p:cNvPicPr/>
          <p:nvPr/>
        </p:nvPicPr>
        <p:blipFill>
          <a:blip r:embed="rId2"/>
          <a:stretch/>
        </p:blipFill>
        <p:spPr>
          <a:xfrm>
            <a:off x="3276720" y="1052640"/>
            <a:ext cx="2477880" cy="250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215040" y="2857680"/>
            <a:ext cx="2357640" cy="3109680"/>
          </a:xfrm>
          <a:prstGeom prst="rect">
            <a:avLst/>
          </a:prstGeom>
          <a:ln w="38160">
            <a:solidFill>
              <a:srgbClr val="a0d3e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3357720" y="2143080"/>
            <a:ext cx="2428560" cy="3214800"/>
          </a:xfrm>
          <a:prstGeom prst="rect">
            <a:avLst/>
          </a:prstGeom>
          <a:ln w="38160">
            <a:solidFill>
              <a:srgbClr val="3792aa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28760" y="1071720"/>
            <a:ext cx="2500200" cy="3581280"/>
          </a:xfrm>
          <a:prstGeom prst="rect">
            <a:avLst/>
          </a:prstGeom>
          <a:ln w="38160">
            <a:solidFill>
              <a:srgbClr val="3792aa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714240" y="144468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енький человек — это человек невысокого социального положения и происхождения, не одаренный выдающимися способностями, не отличающийся силой характера, но при этом добрый, никому не делающий зла, безобидный. И Пушкин, и Гоголь, создавая образ маленького человека, хотели напомнить читателям, привыкшим восхищаться романтическими героями, что самый обыкновенный человек тоже человек, достойный сочувствия, внимания, поддерж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1571760" y="5000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25d"/>
                </a:solidFill>
                <a:latin typeface="Arial"/>
              </a:rPr>
              <a:t>Маленький челове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-133200"/>
            <a:ext cx="8242560" cy="1444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143320" y="1214280"/>
            <a:ext cx="3563640" cy="4214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голь </a:t>
            </a:r>
            <a:r>
              <a:rPr b="0" lang="ru-RU" sz="2400" spc="-1" strike="noStrike">
                <a:solidFill>
                  <a:srgbClr val="9d9da2"/>
                </a:solidFill>
                <a:latin typeface="Times New Roman"/>
              </a:rPr>
              <a:t>та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писывает внешность главного героя повест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зенького рост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рябова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рыжева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даже на вид подслеповат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небольшой лысиной на лбу, с морщинами по обеим сторонам щек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214200" y="1428840"/>
            <a:ext cx="4764240" cy="3643200"/>
          </a:xfrm>
          <a:prstGeom prst="rect">
            <a:avLst/>
          </a:prstGeom>
          <a:ln w="38160">
            <a:solidFill>
              <a:srgbClr val="98a0b2"/>
            </a:solidFill>
            <a:miter/>
          </a:ln>
        </p:spPr>
      </p:pic>
      <p:sp>
        <p:nvSpPr>
          <p:cNvPr id="143" name="Прямоугольник 5"/>
          <p:cNvSpPr/>
          <p:nvPr/>
        </p:nvSpPr>
        <p:spPr>
          <a:xfrm>
            <a:off x="214200" y="54291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ет сказать, что каждое имя несёт определённый смысл. “Акакий” – не делающий зла, незлобивый, невинный. Вот  и подумайте: случаен ли выбор имен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1"/>
          <a:stretch/>
        </p:blipFill>
        <p:spPr>
          <a:xfrm>
            <a:off x="463680" y="96840"/>
            <a:ext cx="8289720" cy="1141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851280" y="1483920"/>
            <a:ext cx="511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В департаменте не оказывалось к нему никакого уважения. Сторожа не только не вставали с мест, когда он проходил, но даже не глядели на него, как будто бы через приемную пролетела простая мух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чальники поступали с ним как-то холодно-деспотиче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одые чиновники подсмеивались и острили над ним… сыпали на голову ему бумажки…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16"/>
          <p:cNvPicPr/>
          <p:nvPr/>
        </p:nvPicPr>
        <p:blipFill>
          <a:blip r:embed="rId2"/>
          <a:stretch/>
        </p:blipFill>
        <p:spPr>
          <a:xfrm>
            <a:off x="250920" y="1268280"/>
            <a:ext cx="351612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8:27:19Z</dcterms:created>
  <dc:creator>Ученик</dc:creator>
  <dc:description/>
  <dc:language>en-US</dc:language>
  <cp:lastModifiedBy>Ольга</cp:lastModifiedBy>
  <dcterms:modified xsi:type="dcterms:W3CDTF">2014-01-23T09:57:40Z</dcterms:modified>
  <cp:revision>65</cp:revision>
  <dc:subject/>
  <dc:title> История создания и замысел повести Н.В.Гоголя “Шинель”. </dc:title>
</cp:coreProperties>
</file>