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978-1945-467D-90DE-3AC711C7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D3A-6F8C-4F50-91FC-91E4E423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9B4-BC3A-44B8-BFBD-7279AD96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4A8-4621-4365-B9B5-C3A3FD4B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ADEB-89BC-4B65-84EF-D26C814C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2EA8-90A7-45FE-9DB5-C290E53C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1A85-8F58-4324-8DF5-B30119AD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9941-7479-420D-88CC-EBAB9D74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5233-4BBD-4BCD-9446-3220EECF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48FE-0398-41C0-A516-9B41A7C6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D510-5AB7-47F9-BC4F-D39BC4D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963-265C-4286-88CA-F6CE60F0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47F8-C6CC-49C3-8473-EA0D44F1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F30E-896B-4432-8351-5E8211B7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39DA-1B74-433C-918E-C723D646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D26A-DE8B-4825-87A4-0D6C5570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B10F-1F9B-4D46-8AB1-ACE16B8E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5AF0-E605-4B9A-BBDB-F25459BE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583B3-280A-4327-9D43-C0BF6508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5A31-BF6B-4D00-A693-59B2547C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FCE30-B315-4B2A-88A7-323913F2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21D6-ABD3-4AFA-8A48-E1349477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B43-9A36-413B-BE6A-7F11394A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2383-FE5B-4B40-BAED-7FD2D822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3CAA-CAD4-48C2-9C87-D70E4748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AF96-0D20-42BB-8EED-C769CD32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FEF6-C7CC-4743-8D3A-E9FF8779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6677-C7B3-47D3-9DEF-14B6A6A6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53FA-DA6C-4210-9516-0076C3A2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46449-CD36-43AD-97AC-B23BA720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F75-E78A-4DB6-A030-8841B9E0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5DE-8477-4EEA-9732-A6B53413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5AD-5A40-4C70-B8F4-1C646344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AB1-10ED-472A-9C57-F8B72FF7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B6A-40C6-48BB-97F0-8B376016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274-9505-4CC4-A8B0-BBAD86FD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EBA6-36E6-4911-9639-4FE394A1B4C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2DFB-90CC-4E35-9B0E-E05ECA9DAB7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16A8-D798-4EF5-93DF-FF3ABB50C71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240"/>
            <a:ext cx="8418600" cy="3426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2857680" y="214200"/>
            <a:ext cx="313992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428720" y="1600200"/>
            <a:ext cx="42577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лаждение выражалось на лице его; некоторые буквы у него были фавориты , до которых если он добирался, то был сам не свой: и подсмеивался, и подмигивал, и помогал губами, так что в лице его, казалось, можно было прочесть всякую букву, которую выводило перо его. Он снимал нарочно, для собственного удовольствия, копию для себ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3929040" cy="4857840"/>
          </a:xfrm>
          <a:prstGeom prst="rect">
            <a:avLst/>
          </a:prstGeom>
          <a:ln w="28440">
            <a:solidFill>
              <a:srgbClr val="ffd25d"/>
            </a:solidFill>
            <a:miter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34160" cy="1158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000320" y="1600200"/>
            <a:ext cx="46861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оголь не скрывает убожества внутреннего  мира своего героя, указывает на его </a:t>
            </a:r>
            <a:r>
              <a:rPr b="0" lang="ru-RU" sz="2600" spc="-1" strike="noStrike">
                <a:solidFill>
                  <a:srgbClr val="ffd25d"/>
                </a:solidFill>
                <a:latin typeface="Times New Roman"/>
              </a:rPr>
              <a:t>ограниченность, косноязычие, скудность его интересов, неспособность логически мыслить.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Но он приглушает все эти отрицательные качества, не делает на них акцента, а крупным планом даёт другое: </a:t>
            </a:r>
            <a:r>
              <a:rPr b="0" lang="ru-RU" sz="2600" spc="-1" strike="noStrike">
                <a:solidFill>
                  <a:srgbClr val="ffd25d"/>
                </a:solidFill>
                <a:latin typeface="Times New Roman"/>
              </a:rPr>
              <a:t>кротость, незлобие, безропотное терпение забитого жизнью </a:t>
            </a:r>
            <a:r>
              <a:rPr b="0" lang="ru-RU" sz="2400" spc="-1" strike="noStrike">
                <a:solidFill>
                  <a:srgbClr val="ffd25d"/>
                </a:solidFill>
                <a:latin typeface="Times New Roman"/>
              </a:rPr>
              <a:t>бедня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4043520" cy="3326040"/>
          </a:xfrm>
          <a:prstGeom prst="rect">
            <a:avLst/>
          </a:prstGeom>
          <a:ln w="38160">
            <a:solidFill>
              <a:srgbClr val="ffd25d"/>
            </a:solidFill>
            <a:miter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429080" y="135684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 звали Петровича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  привлекло  внимание Башмачкина, когда он пришёл к Петровичу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з чьего меха воротник новой шинели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колько денег взял Петрович за шинель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 долго Петрович шил шинель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 изображено на табакерке Петровича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254040" cy="4071960"/>
          </a:xfrm>
          <a:prstGeom prst="rect">
            <a:avLst/>
          </a:prstGeom>
          <a:ln w="38160">
            <a:solidFill>
              <a:srgbClr val="bac0cc"/>
            </a:solidFill>
            <a:miter/>
          </a:ln>
        </p:spPr>
      </p:pic>
      <p:sp>
        <p:nvSpPr>
          <p:cNvPr id="155" name="Прямоугольник 5"/>
          <p:cNvSpPr/>
          <p:nvPr/>
        </p:nvSpPr>
        <p:spPr>
          <a:xfrm>
            <a:off x="1500120" y="357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ль художественной дет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214520" y="1523520"/>
            <a:ext cx="44924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бытие сие не остается незамеченным,  все хвалят шинель и требуют от Акакия Акакиевича по такому случаю задать вечер,  и только вмешательство некоего чиновника (как нарочно именинника),  позвавшего всех на чай,  спасает смущенного Акакия Акакиевич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2957400" cy="3786120"/>
          </a:xfrm>
          <a:prstGeom prst="rect">
            <a:avLst/>
          </a:prstGeom>
          <a:ln w="38160">
            <a:solidFill>
              <a:srgbClr val="98a0b2"/>
            </a:solidFill>
            <a:miter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286160" y="1571760"/>
            <a:ext cx="44006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чезло и скрылось существо, никем не защищённое, никому не дорогое, ни для кого не интересное, даже не обратившее на себя и вним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3146400" cy="4071600"/>
          </a:xfrm>
          <a:prstGeom prst="rect">
            <a:avLst/>
          </a:prstGeom>
          <a:ln w="38160">
            <a:solidFill>
              <a:srgbClr val="ffd25d"/>
            </a:solidFill>
            <a:miter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821440" cy="1140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d4d6"/>
                </a:solidFill>
                <a:latin typeface="Times New Roman"/>
              </a:rPr>
              <a:t>1 «Невский проспек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d4d6"/>
                </a:solidFill>
                <a:latin typeface="Times New Roman"/>
              </a:rPr>
              <a:t>2 «Нос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d4d6"/>
                </a:solidFill>
                <a:latin typeface="Times New Roman"/>
              </a:rPr>
              <a:t>3 «Портре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ad00"/>
                </a:solidFill>
                <a:latin typeface="Times New Roman"/>
              </a:rPr>
              <a:t>4 «Шинел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d4d6"/>
                </a:solidFill>
                <a:latin typeface="Times New Roman"/>
              </a:rPr>
              <a:t>5 «Записки сумасшедшего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867280" y="2781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етербургский ци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684360" y="5059440"/>
            <a:ext cx="237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 «Коляс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 «Р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4572000" y="1989000"/>
            <a:ext cx="1152360" cy="2737080"/>
          </a:xfrm>
          <a:custGeom>
            <a:avLst/>
            <a:gdLst>
              <a:gd name="textAreaLeft" fmla="*/ 0 w 1152360"/>
              <a:gd name="textAreaRight" fmla="*/ 416160 w 115236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61960" y="214200"/>
            <a:ext cx="7867800" cy="6000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37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151516"/>
                </a:solidFill>
                <a:latin typeface="Times New Roman"/>
              </a:rPr>
              <a:t>Однажды при Гоголе был рассказан анекдот, который его вдохновил на создание повести </a:t>
            </a:r>
            <a:r>
              <a:rPr b="0" lang="en-US" sz="2000" spc="-1" strike="noStrike">
                <a:solidFill>
                  <a:srgbClr val="151516"/>
                </a:solidFill>
                <a:latin typeface="Book Antiqua"/>
              </a:rPr>
              <a:t>“</a:t>
            </a:r>
            <a:r>
              <a:rPr b="0" lang="ru-RU" sz="2000" spc="-1" strike="noStrike">
                <a:solidFill>
                  <a:srgbClr val="151516"/>
                </a:solidFill>
                <a:latin typeface="Times New Roman"/>
              </a:rPr>
              <a:t>Шинель</a:t>
            </a:r>
            <a:r>
              <a:rPr b="0" lang="en-US" sz="2000" spc="-1" strike="noStrike">
                <a:solidFill>
                  <a:srgbClr val="151516"/>
                </a:solidFill>
                <a:latin typeface="Book Antiqua"/>
              </a:rPr>
              <a:t>”</a:t>
            </a:r>
            <a:r>
              <a:rPr b="0" lang="ru-RU" sz="2000" spc="-1" strike="noStrike">
                <a:solidFill>
                  <a:srgbClr val="151516"/>
                </a:solidFill>
                <a:latin typeface="Times New Roman"/>
              </a:rPr>
              <a:t>.Он звучал так: жил один бедный чиновник .Будучи страстным охотником, он долго копил на ружье, о котором давно мечтал. Его мечта сбылась, но он его потерял, плывя по Финскому заливу. Вернувшись домой, от расстройства чиновник заболел и слёг. Сослуживцы собрали деньги и купили ему новое ружьё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WordArt 9"/>
          <p:cNvSpPr txBox="1"/>
          <p:nvPr/>
        </p:nvSpPr>
        <p:spPr>
          <a:xfrm>
            <a:off x="0" y="333360"/>
            <a:ext cx="91440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екдот как замысел сюжет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Picture 10" descr="1"/>
          <p:cNvPicPr/>
          <p:nvPr/>
        </p:nvPicPr>
        <p:blipFill>
          <a:blip r:embed="rId2"/>
          <a:stretch/>
        </p:blipFill>
        <p:spPr>
          <a:xfrm>
            <a:off x="3276720" y="1052640"/>
            <a:ext cx="2477880" cy="250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215040" y="2857680"/>
            <a:ext cx="2357640" cy="3109680"/>
          </a:xfrm>
          <a:prstGeom prst="rect">
            <a:avLst/>
          </a:prstGeom>
          <a:ln w="38160">
            <a:solidFill>
              <a:srgbClr val="a0d3e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3357720" y="2143080"/>
            <a:ext cx="2428560" cy="3214800"/>
          </a:xfrm>
          <a:prstGeom prst="rect">
            <a:avLst/>
          </a:prstGeom>
          <a:ln w="38160">
            <a:solidFill>
              <a:srgbClr val="3792aa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28760" y="1071720"/>
            <a:ext cx="2500200" cy="3581280"/>
          </a:xfrm>
          <a:prstGeom prst="rect">
            <a:avLst/>
          </a:prstGeom>
          <a:ln w="38160">
            <a:solidFill>
              <a:srgbClr val="3792aa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714240" y="144468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енький человек — это человек невысокого социального положения и происхождения, не одаренный выдающимися способностями, не отличающийся силой характера, но при этом добрый, никому не делающий зла, безобидный. И Пушкин, и Гоголь, создавая образ маленького человека, хотели напомнить читателям, привыкшим восхищаться романтическими героями, что самый обыкновенный человек тоже человек, достойный сочувствия, внимания, поддерж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1571760" y="50004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25d"/>
                </a:solidFill>
                <a:latin typeface="Arial"/>
              </a:rPr>
              <a:t>Маленький челове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0720" y="-133200"/>
            <a:ext cx="8242560" cy="1444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5143320" y="1214280"/>
            <a:ext cx="3563640" cy="4214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голь </a:t>
            </a:r>
            <a:r>
              <a:rPr b="0" lang="ru-RU" sz="2400" spc="-1" strike="noStrike">
                <a:solidFill>
                  <a:srgbClr val="9d9da2"/>
                </a:solidFill>
                <a:latin typeface="Times New Roman"/>
              </a:rPr>
              <a:t>та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писывает внешность главного героя повест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зенького рост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рябова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рыжева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даже на вид подслепова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небольшой лысиной на лбу, с морщинами по обеим сторонам щек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214200" y="1428840"/>
            <a:ext cx="4764240" cy="3643200"/>
          </a:xfrm>
          <a:prstGeom prst="rect">
            <a:avLst/>
          </a:prstGeom>
          <a:ln w="38160">
            <a:solidFill>
              <a:srgbClr val="98a0b2"/>
            </a:solidFill>
            <a:miter/>
          </a:ln>
        </p:spPr>
      </p:pic>
      <p:sp>
        <p:nvSpPr>
          <p:cNvPr id="143" name="Прямоугольник 5"/>
          <p:cNvSpPr/>
          <p:nvPr/>
        </p:nvSpPr>
        <p:spPr>
          <a:xfrm>
            <a:off x="214200" y="54291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ет сказать, что каждое имя несёт определённый смысл. “Акакий” – не делающий зла, незлобивый, невинный. Вот  и подумайте: случаен ли выбор имен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" descr=""/>
          <p:cNvPicPr/>
          <p:nvPr/>
        </p:nvPicPr>
        <p:blipFill>
          <a:blip r:embed="rId1"/>
          <a:stretch/>
        </p:blipFill>
        <p:spPr>
          <a:xfrm>
            <a:off x="463680" y="96840"/>
            <a:ext cx="8289720" cy="1141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851280" y="1483920"/>
            <a:ext cx="511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В департаменте не оказывалось к нему никакого уважения. Сторожа не только не вставали с мест, когда он проходил, но даже не глядели на него, как будто бы через приемную пролетела простая мух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чальники поступали с ним как-то холодно-деспотиче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одые чиновники подсмеивались и острили над ним… сыпали на голову ему бумажки…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16"/>
          <p:cNvPicPr/>
          <p:nvPr/>
        </p:nvPicPr>
        <p:blipFill>
          <a:blip r:embed="rId2"/>
          <a:stretch/>
        </p:blipFill>
        <p:spPr>
          <a:xfrm>
            <a:off x="250920" y="1268280"/>
            <a:ext cx="351612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8:27:19Z</dcterms:created>
  <dc:creator>Ученик</dc:creator>
  <dc:description/>
  <dc:language>en-US</dc:language>
  <cp:lastModifiedBy>Ольга</cp:lastModifiedBy>
  <dcterms:modified xsi:type="dcterms:W3CDTF">2014-01-23T09:57:40Z</dcterms:modified>
  <cp:revision>65</cp:revision>
  <dc:subject/>
  <dc:title> История создания и замысел повести Н.В.Гоголя “Шинель”. </dc:title>
</cp:coreProperties>
</file>