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1800" cy="124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3501-5FB5-4B2B-B996-EE9AE5346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-856080"/>
            <a:ext cx="68626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D510-63E7-464D-9E3F-4C673C48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-856080"/>
            <a:ext cx="68626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1862-5A1E-4258-840B-1D3F09AAF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-856080"/>
            <a:ext cx="68626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536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492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536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492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AFEB-E5FF-43E6-93E2-DC7D24971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6E8E-FFD0-426B-A90C-6D399B365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-856080"/>
            <a:ext cx="68626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8A0F-EB16-444F-BCAA-3CFD60C2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-856080"/>
            <a:ext cx="68626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EA65-83EF-4A39-A42D-96B2FEA4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-856080"/>
            <a:ext cx="68626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1AD3-C400-4019-BA9D-E16F90FD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-856080"/>
            <a:ext cx="68626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3850-3738-4185-86EE-DF33C73C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-856080"/>
            <a:ext cx="6862680" cy="12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65BFB-9DF8-4A73-855A-D1C313EF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-856080"/>
            <a:ext cx="68626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107E-65F1-4C5B-8459-BE4B68C2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-856080"/>
            <a:ext cx="68626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0952-2FA5-4CF9-8887-8F5BA4E6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-856080"/>
            <a:ext cx="68626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2FF4-1FBA-4F5C-BCCF-B9B3F495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-856080"/>
            <a:ext cx="68626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FC33-787B-4642-99F7-1C280DEC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-856080"/>
            <a:ext cx="68626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DA3D-6B74-430C-8AF9-70D207C3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-856080"/>
            <a:ext cx="68626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636C-4C76-43DE-8C3A-49A2F452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-856080"/>
            <a:ext cx="68626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536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492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536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492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E2A2-722A-4B70-9B17-3B0732AC4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-856080"/>
            <a:ext cx="68626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F33F-5AFA-4155-908F-EAA39FEC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-856080"/>
            <a:ext cx="68626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12B5-0998-4E19-8A08-B1B4271E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-856080"/>
            <a:ext cx="68626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5784-5902-4F01-8F61-AA6FF618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-856080"/>
            <a:ext cx="6862680" cy="12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69F5-DBC2-4D79-BE69-173D685C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-856080"/>
            <a:ext cx="68626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7D11-8490-41D9-BAB8-C99B17BF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-856080"/>
            <a:ext cx="68626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5854-2116-46DC-8C31-4409FCF3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-856080"/>
            <a:ext cx="68626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FB38-91D5-4A50-8DD7-4970C5CD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 rot="18420000">
            <a:off x="7776360" y="-13680"/>
            <a:ext cx="116172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-856080"/>
            <a:ext cx="68626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1000" indent="-2610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573120" indent="-21672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89136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481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875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DC9A178-4C66-4F2E-B83B-E7E0AD439823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7"/>
          <p:cNvSpPr/>
          <p:nvPr/>
        </p:nvSpPr>
        <p:spPr>
          <a:xfrm rot="18420000">
            <a:off x="7858800" y="27360"/>
            <a:ext cx="116532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Freeform 8"/>
          <p:cNvSpPr/>
          <p:nvPr/>
        </p:nvSpPr>
        <p:spPr>
          <a:xfrm rot="18420000">
            <a:off x="7824960" y="192960"/>
            <a:ext cx="1025640" cy="157176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7920" y="5540400"/>
            <a:ext cx="1782360" cy="1244160"/>
            <a:chOff x="7920" y="5540400"/>
            <a:chExt cx="1782360" cy="1244160"/>
          </a:xfrm>
        </p:grpSpPr>
        <p:sp>
          <p:nvSpPr>
            <p:cNvPr id="9" name="Freeform 10"/>
            <p:cNvSpPr/>
            <p:nvPr/>
          </p:nvSpPr>
          <p:spPr>
            <a:xfrm>
              <a:off x="38160" y="5563800"/>
              <a:ext cx="1728720" cy="10285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1622520" y="5686200"/>
              <a:ext cx="112680" cy="20412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31680" y="5990400"/>
              <a:ext cx="1257480" cy="6498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204840" y="6044040"/>
              <a:ext cx="833400" cy="5925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770040" y="5606640"/>
              <a:ext cx="214200" cy="1918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1017720" y="6607080"/>
              <a:ext cx="120600" cy="1774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800280" y="5725800"/>
              <a:ext cx="306360" cy="6069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1060560" y="5698800"/>
              <a:ext cx="577800" cy="2754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>
              <a:off x="550800" y="5861880"/>
              <a:ext cx="247680" cy="10620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Group 19"/>
            <p:cNvGrpSpPr/>
            <p:nvPr/>
          </p:nvGrpSpPr>
          <p:grpSpPr>
            <a:xfrm>
              <a:off x="7920" y="5540400"/>
              <a:ext cx="1782360" cy="1234080"/>
              <a:chOff x="7920" y="5540400"/>
              <a:chExt cx="1782360" cy="1234080"/>
            </a:xfrm>
          </p:grpSpPr>
          <p:grpSp>
            <p:nvGrpSpPr>
              <p:cNvPr id="19" name="Group 20"/>
              <p:cNvGrpSpPr/>
              <p:nvPr/>
            </p:nvGrpSpPr>
            <p:grpSpPr>
              <a:xfrm>
                <a:off x="792000" y="5654160"/>
                <a:ext cx="868320" cy="1120320"/>
                <a:chOff x="792000" y="5654160"/>
                <a:chExt cx="868320" cy="1120320"/>
              </a:xfrm>
            </p:grpSpPr>
            <p:sp>
              <p:nvSpPr>
                <p:cNvPr id="20" name="Freeform 21"/>
                <p:cNvSpPr/>
                <p:nvPr/>
              </p:nvSpPr>
              <p:spPr>
                <a:xfrm>
                  <a:off x="792000" y="5693760"/>
                  <a:ext cx="248760" cy="137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2"/>
                <p:cNvSpPr/>
                <p:nvPr/>
              </p:nvSpPr>
              <p:spPr>
                <a:xfrm>
                  <a:off x="1009080" y="6563880"/>
                  <a:ext cx="182160" cy="210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3"/>
                <p:cNvSpPr/>
                <p:nvPr/>
              </p:nvSpPr>
              <p:spPr>
                <a:xfrm>
                  <a:off x="1592280" y="5654160"/>
                  <a:ext cx="68040" cy="185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4"/>
              <p:cNvSpPr/>
              <p:nvPr/>
            </p:nvSpPr>
            <p:spPr>
              <a:xfrm>
                <a:off x="120600" y="5923800"/>
                <a:ext cx="944640" cy="39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>
                <a:off x="412920" y="6167880"/>
                <a:ext cx="387360" cy="23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6"/>
              <p:cNvSpPr/>
              <p:nvPr/>
            </p:nvSpPr>
            <p:spPr>
              <a:xfrm>
                <a:off x="896760" y="5841360"/>
                <a:ext cx="169920" cy="37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Group 27"/>
              <p:cNvGrpSpPr/>
              <p:nvPr/>
            </p:nvGrpSpPr>
            <p:grpSpPr>
              <a:xfrm>
                <a:off x="7920" y="5540400"/>
                <a:ext cx="1782360" cy="1072440"/>
                <a:chOff x="7920" y="5540400"/>
                <a:chExt cx="1782360" cy="1072440"/>
              </a:xfrm>
            </p:grpSpPr>
            <p:sp>
              <p:nvSpPr>
                <p:cNvPr id="27" name="Freeform 28"/>
                <p:cNvSpPr/>
                <p:nvPr/>
              </p:nvSpPr>
              <p:spPr>
                <a:xfrm>
                  <a:off x="1060920" y="6423120"/>
                  <a:ext cx="118800" cy="137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29"/>
                <p:cNvSpPr/>
                <p:nvPr/>
              </p:nvSpPr>
              <p:spPr>
                <a:xfrm>
                  <a:off x="7920" y="5916600"/>
                  <a:ext cx="1335240" cy="69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0"/>
                <p:cNvSpPr/>
                <p:nvPr/>
              </p:nvSpPr>
              <p:spPr>
                <a:xfrm>
                  <a:off x="167760" y="5983200"/>
                  <a:ext cx="126720" cy="26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1"/>
                <p:cNvSpPr/>
                <p:nvPr/>
              </p:nvSpPr>
              <p:spPr>
                <a:xfrm>
                  <a:off x="712080" y="5540400"/>
                  <a:ext cx="510480" cy="939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2"/>
                <p:cNvSpPr/>
                <p:nvPr/>
              </p:nvSpPr>
              <p:spPr>
                <a:xfrm>
                  <a:off x="916560" y="5793120"/>
                  <a:ext cx="151920" cy="39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3"/>
                <p:cNvSpPr/>
                <p:nvPr/>
              </p:nvSpPr>
              <p:spPr>
                <a:xfrm>
                  <a:off x="519840" y="5761440"/>
                  <a:ext cx="309240" cy="213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4"/>
                <p:cNvSpPr/>
                <p:nvPr/>
              </p:nvSpPr>
              <p:spPr>
                <a:xfrm>
                  <a:off x="1043640" y="5616360"/>
                  <a:ext cx="746640" cy="334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5"/>
                <p:cNvSpPr/>
                <p:nvPr/>
              </p:nvSpPr>
              <p:spPr>
                <a:xfrm>
                  <a:off x="1136880" y="5723640"/>
                  <a:ext cx="388080" cy="136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6"/>
          <p:cNvGrpSpPr/>
          <p:nvPr/>
        </p:nvGrpSpPr>
        <p:grpSpPr>
          <a:xfrm>
            <a:off x="8680320" y="2116080"/>
            <a:ext cx="384120" cy="4306680"/>
            <a:chOff x="8680320" y="2116080"/>
            <a:chExt cx="384120" cy="4306680"/>
          </a:xfrm>
        </p:grpSpPr>
        <p:sp>
          <p:nvSpPr>
            <p:cNvPr id="36" name="Freeform 37"/>
            <p:cNvSpPr/>
            <p:nvPr/>
          </p:nvSpPr>
          <p:spPr>
            <a:xfrm flipH="1">
              <a:off x="8680320" y="4158360"/>
              <a:ext cx="324000" cy="226440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Freeform 38"/>
            <p:cNvSpPr/>
            <p:nvPr/>
          </p:nvSpPr>
          <p:spPr>
            <a:xfrm flipH="1">
              <a:off x="8740440" y="2116080"/>
              <a:ext cx="324000" cy="25912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Group 39"/>
          <p:cNvGrpSpPr/>
          <p:nvPr/>
        </p:nvGrpSpPr>
        <p:grpSpPr>
          <a:xfrm>
            <a:off x="6888240" y="-154800"/>
            <a:ext cx="2982600" cy="2846160"/>
            <a:chOff x="6888240" y="-154800"/>
            <a:chExt cx="2982600" cy="2846160"/>
          </a:xfrm>
        </p:grpSpPr>
        <p:grpSp>
          <p:nvGrpSpPr>
            <p:cNvPr id="39" name="Group 40"/>
            <p:cNvGrpSpPr/>
            <p:nvPr/>
          </p:nvGrpSpPr>
          <p:grpSpPr>
            <a:xfrm>
              <a:off x="6888240" y="-154800"/>
              <a:ext cx="2982600" cy="2846160"/>
              <a:chOff x="6888240" y="-154800"/>
              <a:chExt cx="2982600" cy="2846160"/>
            </a:xfrm>
          </p:grpSpPr>
          <p:sp>
            <p:nvSpPr>
              <p:cNvPr id="40" name="Freeform 41"/>
              <p:cNvSpPr/>
              <p:nvPr/>
            </p:nvSpPr>
            <p:spPr>
              <a:xfrm rot="18420000">
                <a:off x="8616960" y="1725120"/>
                <a:ext cx="9828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Group 42"/>
              <p:cNvGrpSpPr/>
              <p:nvPr/>
            </p:nvGrpSpPr>
            <p:grpSpPr>
              <a:xfrm>
                <a:off x="6888240" y="-154800"/>
                <a:ext cx="2982600" cy="2846160"/>
                <a:chOff x="6888240" y="-154800"/>
                <a:chExt cx="2982600" cy="2846160"/>
              </a:xfrm>
            </p:grpSpPr>
            <p:sp>
              <p:nvSpPr>
                <p:cNvPr id="42" name="Freeform 43"/>
                <p:cNvSpPr/>
                <p:nvPr/>
              </p:nvSpPr>
              <p:spPr>
                <a:xfrm rot="18420000">
                  <a:off x="7778520" y="-23400"/>
                  <a:ext cx="35028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4"/>
                <p:cNvSpPr/>
                <p:nvPr/>
              </p:nvSpPr>
              <p:spPr>
                <a:xfrm rot="18420000">
                  <a:off x="7901280" y="649800"/>
                  <a:ext cx="61596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5"/>
                <p:cNvSpPr/>
                <p:nvPr/>
              </p:nvSpPr>
              <p:spPr>
                <a:xfrm rot="18420000">
                  <a:off x="7510680" y="418320"/>
                  <a:ext cx="115560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6"/>
                <p:cNvSpPr/>
                <p:nvPr/>
              </p:nvSpPr>
              <p:spPr>
                <a:xfrm rot="18420000">
                  <a:off x="7511760" y="54720"/>
                  <a:ext cx="1734840" cy="2427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7"/>
                <p:cNvSpPr/>
                <p:nvPr/>
              </p:nvSpPr>
              <p:spPr>
                <a:xfrm rot="18420000">
                  <a:off x="8371800" y="1852920"/>
                  <a:ext cx="38700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8"/>
                <p:cNvSpPr/>
                <p:nvPr/>
              </p:nvSpPr>
              <p:spPr>
                <a:xfrm rot="18420000">
                  <a:off x="8283960" y="1671120"/>
                  <a:ext cx="41400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49"/>
                <p:cNvSpPr/>
                <p:nvPr/>
              </p:nvSpPr>
              <p:spPr>
                <a:xfrm rot="18420000">
                  <a:off x="7797240" y="308160"/>
                  <a:ext cx="41436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0"/>
                <p:cNvSpPr/>
                <p:nvPr/>
              </p:nvSpPr>
              <p:spPr>
                <a:xfrm rot="18420000">
                  <a:off x="7731720" y="147960"/>
                  <a:ext cx="40968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1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1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177560"/>
            <a:ext cx="63928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5259EC2-764E-470C-8FA2-8CD9FCEC0428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6"/>
          <p:cNvGrpSpPr/>
          <p:nvPr/>
        </p:nvGrpSpPr>
        <p:grpSpPr>
          <a:xfrm>
            <a:off x="195120" y="235080"/>
            <a:ext cx="3786480" cy="1775880"/>
            <a:chOff x="195120" y="235080"/>
            <a:chExt cx="3786480" cy="1775880"/>
          </a:xfrm>
        </p:grpSpPr>
        <p:sp>
          <p:nvSpPr>
            <p:cNvPr id="93" name="Freeform 7"/>
            <p:cNvSpPr/>
            <p:nvPr/>
          </p:nvSpPr>
          <p:spPr>
            <a:xfrm>
              <a:off x="281160" y="280800"/>
              <a:ext cx="3571560" cy="16124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8"/>
            <p:cNvSpPr/>
            <p:nvPr/>
          </p:nvSpPr>
          <p:spPr>
            <a:xfrm>
              <a:off x="263520" y="414000"/>
              <a:ext cx="3562200" cy="1596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9"/>
            <p:cNvSpPr/>
            <p:nvPr/>
          </p:nvSpPr>
          <p:spPr>
            <a:xfrm>
              <a:off x="752400" y="545760"/>
              <a:ext cx="2362320" cy="14569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Group 10"/>
            <p:cNvGrpSpPr/>
            <p:nvPr/>
          </p:nvGrpSpPr>
          <p:grpSpPr>
            <a:xfrm>
              <a:off x="195120" y="235080"/>
              <a:ext cx="3786480" cy="1712520"/>
              <a:chOff x="195120" y="235080"/>
              <a:chExt cx="3786480" cy="1712520"/>
            </a:xfrm>
          </p:grpSpPr>
          <p:sp>
            <p:nvSpPr>
              <p:cNvPr id="97" name="Freeform 11"/>
              <p:cNvSpPr/>
              <p:nvPr/>
            </p:nvSpPr>
            <p:spPr>
              <a:xfrm>
                <a:off x="3181320" y="1479960"/>
                <a:ext cx="33624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12"/>
              <p:cNvSpPr/>
              <p:nvPr/>
            </p:nvSpPr>
            <p:spPr>
              <a:xfrm>
                <a:off x="195120" y="235080"/>
                <a:ext cx="3786480" cy="171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13"/>
              <p:cNvSpPr/>
              <p:nvPr/>
            </p:nvSpPr>
            <p:spPr>
              <a:xfrm>
                <a:off x="514080" y="250560"/>
                <a:ext cx="2675520" cy="9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14"/>
              <p:cNvSpPr/>
              <p:nvPr/>
            </p:nvSpPr>
            <p:spPr>
              <a:xfrm>
                <a:off x="649080" y="398160"/>
                <a:ext cx="360000" cy="64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15"/>
              <p:cNvSpPr/>
              <p:nvPr/>
            </p:nvSpPr>
            <p:spPr>
              <a:xfrm>
                <a:off x="1342440" y="849600"/>
                <a:ext cx="1096200" cy="57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Group 16"/>
          <p:cNvGrpSpPr/>
          <p:nvPr/>
        </p:nvGrpSpPr>
        <p:grpSpPr>
          <a:xfrm>
            <a:off x="7719480" y="4231800"/>
            <a:ext cx="1168920" cy="1328760"/>
            <a:chOff x="7719480" y="4231800"/>
            <a:chExt cx="1168920" cy="1328760"/>
          </a:xfrm>
        </p:grpSpPr>
        <p:sp>
          <p:nvSpPr>
            <p:cNvPr id="103" name="Freeform 17"/>
            <p:cNvSpPr/>
            <p:nvPr/>
          </p:nvSpPr>
          <p:spPr>
            <a:xfrm rot="7320000">
              <a:off x="7800840" y="465264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18"/>
            <p:cNvSpPr/>
            <p:nvPr/>
          </p:nvSpPr>
          <p:spPr>
            <a:xfrm rot="7320000">
              <a:off x="7777440" y="4636080"/>
              <a:ext cx="99504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19"/>
            <p:cNvSpPr/>
            <p:nvPr/>
          </p:nvSpPr>
          <p:spPr>
            <a:xfrm rot="7320000">
              <a:off x="7943760" y="463104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Group 20"/>
            <p:cNvGrpSpPr/>
            <p:nvPr/>
          </p:nvGrpSpPr>
          <p:grpSpPr>
            <a:xfrm>
              <a:off x="7719480" y="4231800"/>
              <a:ext cx="1168920" cy="1328760"/>
              <a:chOff x="7719480" y="4231800"/>
              <a:chExt cx="1168920" cy="1328760"/>
            </a:xfrm>
          </p:grpSpPr>
          <p:sp>
            <p:nvSpPr>
              <p:cNvPr id="107" name="Freeform 21"/>
              <p:cNvSpPr/>
              <p:nvPr/>
            </p:nvSpPr>
            <p:spPr>
              <a:xfrm rot="7320000">
                <a:off x="7822800" y="5074560"/>
                <a:ext cx="10260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22"/>
              <p:cNvSpPr/>
              <p:nvPr/>
            </p:nvSpPr>
            <p:spPr>
              <a:xfrm rot="7320000">
                <a:off x="7725240" y="4568040"/>
                <a:ext cx="1157040" cy="655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23"/>
              <p:cNvSpPr/>
              <p:nvPr/>
            </p:nvSpPr>
            <p:spPr>
              <a:xfrm rot="7320000">
                <a:off x="8040960" y="4707720"/>
                <a:ext cx="818640" cy="37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24"/>
              <p:cNvSpPr/>
              <p:nvPr/>
            </p:nvSpPr>
            <p:spPr>
              <a:xfrm rot="7320000">
                <a:off x="8609400" y="4515120"/>
                <a:ext cx="108720" cy="24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25"/>
              <p:cNvSpPr/>
              <p:nvPr/>
            </p:nvSpPr>
            <p:spPr>
              <a:xfrm rot="7320000">
                <a:off x="8152200" y="4719240"/>
                <a:ext cx="334800" cy="21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Freeform 26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7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63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marL="261000" indent="-2610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573120" indent="-21672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89136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481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СНАРЯЖЕНИЕ ПЕРВОКЛАССНИК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115640" y="3860280"/>
            <a:ext cx="727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азбука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школьной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жизни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4786200" y="142920"/>
            <a:ext cx="335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262699"/>
                </a:solidFill>
                <a:latin typeface="Comic Sans MS"/>
              </a:rPr>
              <a:t>ПАМЯТКА ДЛЯ РОДИТЕ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03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03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3"/>
          <p:cNvSpPr txBox="1"/>
          <p:nvPr/>
        </p:nvSpPr>
        <p:spPr>
          <a:xfrm>
            <a:off x="684360" y="1341360"/>
            <a:ext cx="331128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</a:rPr>
              <a:t>С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197" name="Rectangle 4"/>
          <p:cNvSpPr/>
          <p:nvPr/>
        </p:nvSpPr>
        <p:spPr>
          <a:xfrm flipH="1" flipV="1">
            <a:off x="8602560" y="5172120"/>
            <a:ext cx="36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85520" y="214200"/>
            <a:ext cx="6870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НАРЯЖЕНИЕ ПЕРВОКЛАССН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Прямоугольник 9"/>
          <p:cNvSpPr/>
          <p:nvPr/>
        </p:nvSpPr>
        <p:spPr>
          <a:xfrm>
            <a:off x="4000680" y="1714680"/>
            <a:ext cx="4572000" cy="24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mic Sans MS"/>
              </a:rPr>
              <a:t>Недешевая покупка - письменный стол. Какой выбрать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mic Sans MS"/>
              </a:rPr>
              <a:t>Необходимо, чтобы материалы, из которых сделан стол, были экологически чистыми и соответствовали необходимым норма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Box 10"/>
          <p:cNvSpPr/>
          <p:nvPr/>
        </p:nvSpPr>
        <p:spPr>
          <a:xfrm>
            <a:off x="4429080" y="1285920"/>
            <a:ext cx="3714840" cy="3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Comic Sans MS"/>
              </a:rPr>
              <a:t>СТОЛ ПИСЬМЕН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Box 11"/>
          <p:cNvSpPr/>
          <p:nvPr/>
        </p:nvSpPr>
        <p:spPr>
          <a:xfrm>
            <a:off x="3500280" y="4143240"/>
            <a:ext cx="142884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Comic Sans MS"/>
              </a:rPr>
              <a:t>СТУ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Прямоугольник 12"/>
          <p:cNvSpPr/>
          <p:nvPr/>
        </p:nvSpPr>
        <p:spPr>
          <a:xfrm>
            <a:off x="3429000" y="4500720"/>
            <a:ext cx="5857920" cy="18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mic Sans MS"/>
              </a:rPr>
              <a:t>Высота стола и стула должны быть подобраны так, чтобы локти ребенка свободно лежали на столе, спина касалась спинки стула, а ноги, согнутые в коленях под прямым углом, стояли на полу или на скамеечке. А расстояние от глаз до книжки или тетрадки должно быть равно длине руки от локтя до кисти. Тогда осанка и зрение ребенка не будут подвергаться дополнительной нагрузк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3"/>
          <p:cNvSpPr txBox="1"/>
          <p:nvPr/>
        </p:nvSpPr>
        <p:spPr>
          <a:xfrm>
            <a:off x="395280" y="1341360"/>
            <a:ext cx="331164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</a:rPr>
              <a:t>М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57160" y="0"/>
            <a:ext cx="68709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НАРЯЖЕНИЕ ПЕРВОКЛАССН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Прямоугольник 7"/>
          <p:cNvSpPr/>
          <p:nvPr/>
        </p:nvSpPr>
        <p:spPr>
          <a:xfrm>
            <a:off x="3786120" y="2857680"/>
            <a:ext cx="457200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omic Sans MS"/>
              </a:rPr>
              <a:t>Матрас ортопедический многослойны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omic Sans MS"/>
              </a:rPr>
              <a:t>Не думайте, что он нужен только больным. Именно пока ребенок здоров, ортопедический матрас может очень многое - разгрузить его позвоночник во время сна и дать ему полноценное расслабл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4874400" y="2214720"/>
            <a:ext cx="2085840" cy="4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omic Sans MS"/>
              </a:rPr>
              <a:t>МАТРА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оугольник 9"/>
          <p:cNvSpPr/>
          <p:nvPr/>
        </p:nvSpPr>
        <p:spPr>
          <a:xfrm>
            <a:off x="3643200" y="1071720"/>
            <a:ext cx="457200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менно от качества сна во многом зависит качество жизни вообще, а у первоклассника в особен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714840" y="2071800"/>
            <a:ext cx="50004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11240"/>
                <a:tab algn="l" pos="560520"/>
                <a:tab algn="l" pos="1009800"/>
                <a:tab algn="l" pos="1459080"/>
                <a:tab algn="l" pos="1908000"/>
                <a:tab algn="l" pos="2357280"/>
                <a:tab algn="l" pos="2806560"/>
                <a:tab algn="l" pos="3255840"/>
                <a:tab algn="l" pos="3705120"/>
                <a:tab algn="l" pos="4154400"/>
                <a:tab algn="l" pos="4603680"/>
                <a:tab algn="l" pos="5052960"/>
                <a:tab algn="l" pos="5502240"/>
                <a:tab algn="l" pos="5951520"/>
                <a:tab algn="l" pos="6400800"/>
                <a:tab algn="l" pos="6850080"/>
                <a:tab algn="l" pos="7299360"/>
                <a:tab algn="l" pos="7748640"/>
                <a:tab algn="l" pos="8197920"/>
                <a:tab algn="l" pos="86472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ФОРМА ШКОЛЬНА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11240"/>
                <a:tab algn="l" pos="560520"/>
                <a:tab algn="l" pos="1009800"/>
                <a:tab algn="l" pos="1459080"/>
                <a:tab algn="l" pos="1908000"/>
                <a:tab algn="l" pos="2357280"/>
                <a:tab algn="l" pos="2806560"/>
                <a:tab algn="l" pos="3255840"/>
                <a:tab algn="l" pos="3705120"/>
                <a:tab algn="l" pos="4154400"/>
                <a:tab algn="l" pos="4603680"/>
                <a:tab algn="l" pos="5052960"/>
                <a:tab algn="l" pos="5502240"/>
                <a:tab algn="l" pos="5951520"/>
                <a:tab algn="l" pos="6400800"/>
                <a:tab algn="l" pos="6850080"/>
                <a:tab algn="l" pos="7299360"/>
                <a:tab algn="l" pos="7748640"/>
                <a:tab algn="l" pos="8197920"/>
                <a:tab algn="l" pos="86472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ФОРМА СПОРТИВНАЯ–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1240"/>
                <a:tab algn="l" pos="560520"/>
                <a:tab algn="l" pos="1009800"/>
                <a:tab algn="l" pos="1459080"/>
                <a:tab algn="l" pos="1908000"/>
                <a:tab algn="l" pos="2357280"/>
                <a:tab algn="l" pos="2806560"/>
                <a:tab algn="l" pos="3255840"/>
                <a:tab algn="l" pos="3705120"/>
                <a:tab algn="l" pos="4154400"/>
                <a:tab algn="l" pos="4603680"/>
                <a:tab algn="l" pos="5052960"/>
                <a:tab algn="l" pos="5502240"/>
                <a:tab algn="l" pos="5951520"/>
                <a:tab algn="l" pos="6400800"/>
                <a:tab algn="l" pos="6850080"/>
                <a:tab algn="l" pos="7299360"/>
                <a:tab algn="l" pos="7748640"/>
                <a:tab algn="l" pos="8197920"/>
                <a:tab algn="l" pos="86472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Comic Sans MS"/>
              </a:rPr>
              <a:t>ОБЯЗАТЕЛЬНО</a:t>
            </a: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37000"/>
              </a:lnSpc>
              <a:spcBef>
                <a:spcPts val="799"/>
              </a:spcBef>
              <a:buNone/>
              <a:tabLst>
                <a:tab algn="l" pos="0"/>
                <a:tab algn="l" pos="111240"/>
                <a:tab algn="l" pos="560520"/>
                <a:tab algn="l" pos="1009800"/>
                <a:tab algn="l" pos="1459080"/>
                <a:tab algn="l" pos="1908000"/>
                <a:tab algn="l" pos="2357280"/>
                <a:tab algn="l" pos="2806560"/>
                <a:tab algn="l" pos="3255840"/>
                <a:tab algn="l" pos="3705120"/>
                <a:tab algn="l" pos="4154400"/>
                <a:tab algn="l" pos="4603680"/>
                <a:tab algn="l" pos="5052960"/>
                <a:tab algn="l" pos="5502240"/>
                <a:tab algn="l" pos="5951520"/>
                <a:tab algn="l" pos="6400800"/>
                <a:tab algn="l" pos="6850080"/>
                <a:tab algn="l" pos="7299360"/>
                <a:tab algn="l" pos="7748640"/>
                <a:tab algn="l" pos="8197920"/>
                <a:tab algn="l" pos="86472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WordArt 3"/>
          <p:cNvSpPr txBox="1"/>
          <p:nvPr/>
        </p:nvSpPr>
        <p:spPr>
          <a:xfrm>
            <a:off x="468360" y="1260360"/>
            <a:ext cx="331164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</a:rPr>
              <a:t>Ф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857160" y="214200"/>
            <a:ext cx="68709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НАРЯЖЕНИЕ ПЕРВОКЛАССН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284720" y="1483920"/>
            <a:ext cx="413064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7030a0"/>
                </a:solidFill>
                <a:latin typeface="Comic Sans MS"/>
              </a:rPr>
              <a:t>О</a:t>
            </a:r>
            <a:r>
              <a:rPr b="1" lang="ru-RU" sz="4800" spc="-1" strike="noStrike">
                <a:solidFill>
                  <a:srgbClr val="7030a0"/>
                </a:solidFill>
                <a:latin typeface="Comic Sans MS"/>
              </a:rPr>
              <a:t>БУВЬ</a:t>
            </a:r>
            <a:r>
              <a:rPr b="1" lang="en-GB" sz="4800" spc="-1" strike="noStrike">
                <a:solidFill>
                  <a:srgbClr val="7030a0"/>
                </a:solidFill>
                <a:latin typeface="Comic Sans MS"/>
              </a:rPr>
              <a:t> —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WordArt 3"/>
          <p:cNvSpPr txBox="1"/>
          <p:nvPr/>
        </p:nvSpPr>
        <p:spPr>
          <a:xfrm>
            <a:off x="684360" y="1341360"/>
            <a:ext cx="331128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</a:rPr>
              <a:t>О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4500720" y="2399400"/>
            <a:ext cx="3786120" cy="37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mic Sans MS"/>
              </a:rPr>
              <a:t>Стопа должна фиксироваться во всех суставах, задник должен быть прочным, хорошо держать форму. покупайте первокласснику удобную сменку на липучках, фиксирующих подъем. Она и эргономична и удобна для дет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928440" y="214200"/>
            <a:ext cx="6870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НАРЯЖЕНИЕ ПЕРВОКЛАССН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76720" y="1484280"/>
            <a:ext cx="554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Индивидуальный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подход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WordArt 3"/>
          <p:cNvSpPr txBox="1"/>
          <p:nvPr/>
        </p:nvSpPr>
        <p:spPr>
          <a:xfrm>
            <a:off x="179280" y="1268280"/>
            <a:ext cx="331164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</a:rPr>
              <a:t>И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857160" y="142920"/>
            <a:ext cx="68709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НАРЯЖЕНИЕ ПЕРВОКЛАССН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2600" y="285480"/>
            <a:ext cx="686268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НАРЯЖЕНИЕ ПЕРВОКЛАССН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WordArt 3"/>
          <p:cNvSpPr txBox="1"/>
          <p:nvPr/>
        </p:nvSpPr>
        <p:spPr>
          <a:xfrm>
            <a:off x="357120" y="1428840"/>
            <a:ext cx="3311640" cy="40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</a:rPr>
              <a:t>А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163" name="TextBox 7"/>
          <p:cNvSpPr/>
          <p:nvPr/>
        </p:nvSpPr>
        <p:spPr>
          <a:xfrm>
            <a:off x="4143240" y="1500120"/>
            <a:ext cx="3929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обрать сына или дочку в первый класс - удовольствие недешево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4572000" y="3429000"/>
            <a:ext cx="413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Адекватно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4857840" y="4437720"/>
            <a:ext cx="3382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зумно относится к экипировке первоклассн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3"/>
          <p:cNvSpPr txBox="1"/>
          <p:nvPr/>
        </p:nvSpPr>
        <p:spPr>
          <a:xfrm>
            <a:off x="684360" y="1341360"/>
            <a:ext cx="331128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</a:rPr>
              <a:t>Б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68709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НАРЯЖЕНИЕ ПЕРВОКЛАССН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Box 8"/>
          <p:cNvSpPr/>
          <p:nvPr/>
        </p:nvSpPr>
        <p:spPr>
          <a:xfrm>
            <a:off x="4143240" y="1500120"/>
            <a:ext cx="4071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БЫТЬ ЭКОНОМНЫ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429080" y="1961280"/>
            <a:ext cx="3643200" cy="42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Можно обойтись более дешевыми и, что приятно, практичными вещами. Первоклассник, если он растет в адекватной среде, еще не сравнивает свои вещички с тем, чем пользуются одноклассни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Ему главное - выбрать то, что нравится. С любовью. И он будет доволе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3"/>
          <p:cNvSpPr txBox="1"/>
          <p:nvPr/>
        </p:nvSpPr>
        <p:spPr>
          <a:xfrm>
            <a:off x="684360" y="1341360"/>
            <a:ext cx="331128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</a:rPr>
              <a:t>В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3929040" y="1822320"/>
            <a:ext cx="4500720" cy="40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ещи для первоклассника и вообще школьника младших классов должны быт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- прочными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- легко заменяемым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5520" y="214200"/>
            <a:ext cx="6870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НАРЯЖЕНИЕ ПЕРВОКЛАССН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3"/>
          <p:cNvSpPr txBox="1"/>
          <p:nvPr/>
        </p:nvSpPr>
        <p:spPr>
          <a:xfrm>
            <a:off x="684360" y="1341360"/>
            <a:ext cx="331128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</a:rPr>
              <a:t>П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680000" y="5400720"/>
            <a:ext cx="1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Прямоугольник 7"/>
          <p:cNvSpPr/>
          <p:nvPr/>
        </p:nvSpPr>
        <p:spPr>
          <a:xfrm>
            <a:off x="3714840" y="1357200"/>
            <a:ext cx="457200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mic Sans MS"/>
              </a:rPr>
              <a:t>Пенал должен быть как можно прочнее и прощ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Прямоугольник 8"/>
          <p:cNvSpPr/>
          <p:nvPr/>
        </p:nvSpPr>
        <p:spPr>
          <a:xfrm>
            <a:off x="3643200" y="2571840"/>
            <a:ext cx="4572000" cy="28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omic Sans MS"/>
              </a:rPr>
              <a:t>Наилучший пенал для маленького школьника - обычная прочная деревянная или пластмассовая коробка с удобной крышкой, которая легко открывается и прочно закрываетс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42600" y="142920"/>
            <a:ext cx="6870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НАРЯЖЕНИЕ ПЕРВОКЛАССН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3"/>
          <p:cNvSpPr txBox="1"/>
          <p:nvPr/>
        </p:nvSpPr>
        <p:spPr>
          <a:xfrm>
            <a:off x="684360" y="1341360"/>
            <a:ext cx="331128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</a:rPr>
              <a:t>Т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179" name="Rectangle 4"/>
          <p:cNvSpPr/>
          <p:nvPr/>
        </p:nvSpPr>
        <p:spPr>
          <a:xfrm flipH="1" flipV="1">
            <a:off x="3418920" y="6118200"/>
            <a:ext cx="36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оугольник 7"/>
          <p:cNvSpPr/>
          <p:nvPr/>
        </p:nvSpPr>
        <p:spPr>
          <a:xfrm>
            <a:off x="3786120" y="2143080"/>
            <a:ext cx="4572000" cy="32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mic Sans MS"/>
              </a:rPr>
              <a:t>Тетради - самые простые. Обязательно посмотрите при покупке, чтобы бумага была белой и качественной, а линейки и клетки четки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57160" y="214200"/>
            <a:ext cx="68709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НАРЯЖЕНИЕ ПЕРВОКЛАССН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3"/>
          <p:cNvSpPr txBox="1"/>
          <p:nvPr/>
        </p:nvSpPr>
        <p:spPr>
          <a:xfrm>
            <a:off x="357120" y="1285920"/>
            <a:ext cx="331164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</a:rPr>
              <a:t>Р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183" name="Rectangle 4"/>
          <p:cNvSpPr/>
          <p:nvPr/>
        </p:nvSpPr>
        <p:spPr>
          <a:xfrm flipV="1">
            <a:off x="4140360" y="2519280"/>
            <a:ext cx="179280" cy="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Прямоугольник 7"/>
          <p:cNvSpPr/>
          <p:nvPr/>
        </p:nvSpPr>
        <p:spPr>
          <a:xfrm>
            <a:off x="3857760" y="2143080"/>
            <a:ext cx="4857480" cy="34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omic Sans MS"/>
              </a:rPr>
              <a:t>РУЧКИ, РЕЗИНКИ- самые простые и много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omic Sans MS"/>
              </a:rPr>
              <a:t>Маленький школьник обязательно будет их теря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omic Sans MS"/>
              </a:rPr>
              <a:t>Поэтому, чтобы не создавать стрессовых ситуаций, покупаем не три ручки, а десяток одинаковых или разных, но дешевы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85520" y="214200"/>
            <a:ext cx="6870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НАРЯЖЕНИЕ ПЕРВОКЛАССН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3"/>
          <p:cNvSpPr txBox="1"/>
          <p:nvPr/>
        </p:nvSpPr>
        <p:spPr>
          <a:xfrm>
            <a:off x="396720" y="1284120"/>
            <a:ext cx="302292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</a:rPr>
              <a:t>К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187" name="Прямоугольник 6"/>
          <p:cNvSpPr/>
          <p:nvPr/>
        </p:nvSpPr>
        <p:spPr>
          <a:xfrm>
            <a:off x="3714840" y="1643040"/>
            <a:ext cx="4572000" cy="42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mic Sans MS"/>
              </a:rPr>
              <a:t>К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mic Sans MS"/>
              </a:rPr>
              <a:t>Для уроков труда вас попросят его купить. Лучше всего купить ПВА в тюбика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mic Sans MS"/>
              </a:rPr>
              <a:t>Он превосходно склеивает дерево, ткани, пластмассу - те самые материалы, из которых мастерят свои поделки школьники. Выбирайте клей в удобной упаковке - в тюбике со специальным наконечником-дозатор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mic Sans MS"/>
              </a:rPr>
              <a:t>И руки им не испачкаешь, и лишнего не выльеш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28440" y="214200"/>
            <a:ext cx="6870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НАРЯЖЕНИЕ ПЕРВОКЛАССН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3"/>
          <p:cNvSpPr txBox="1"/>
          <p:nvPr/>
        </p:nvSpPr>
        <p:spPr>
          <a:xfrm>
            <a:off x="684360" y="1341360"/>
            <a:ext cx="331128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</a:rPr>
              <a:t>Р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190" name="Rectangle 4"/>
          <p:cNvSpPr/>
          <p:nvPr/>
        </p:nvSpPr>
        <p:spPr>
          <a:xfrm flipV="1">
            <a:off x="4140360" y="2519280"/>
            <a:ext cx="179280" cy="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Прямоугольник 7"/>
          <p:cNvSpPr/>
          <p:nvPr/>
        </p:nvSpPr>
        <p:spPr>
          <a:xfrm>
            <a:off x="4500720" y="1357200"/>
            <a:ext cx="3571560" cy="4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omic Sans MS"/>
              </a:rPr>
              <a:t>РАНЕ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85520" y="214200"/>
            <a:ext cx="6870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НАРЯЖЕНИЕ ПЕРВОКЛАССН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1"/>
          <p:cNvSpPr/>
          <p:nvPr/>
        </p:nvSpPr>
        <p:spPr>
          <a:xfrm>
            <a:off x="4214880" y="2003760"/>
            <a:ext cx="435780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omic Sans MS"/>
              </a:rPr>
              <a:t>ДОЛЖЕН БЫТЬ прочнее прочного! Прочными должны быть и ручки - если они прострочены, то не порву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оугольник 6"/>
          <p:cNvSpPr/>
          <p:nvPr/>
        </p:nvSpPr>
        <p:spPr>
          <a:xfrm>
            <a:off x="4000680" y="3071880"/>
            <a:ext cx="4572000" cy="11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omic Sans MS"/>
              </a:rPr>
              <a:t>У ранца должна быть плоской и достаточной мягкой та сторона, которая прилегает к спине - лучше из поролона или гибкого пласти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14800" y="4585680"/>
            <a:ext cx="5357880" cy="20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Не покупайте вещь из пленки и кожзаменителя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mic Sans MS"/>
              </a:rPr>
              <a:t>Из недорогих и прочных материалов хороша плотная синтетика или пропитанная джинсовая ткань. Разумеется, вне конкуренции – кожаные ранц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mic Sans MS"/>
              </a:rPr>
              <a:t>И постарайтесь найти нарядный ранец, который понравится малыш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valex</dc:creator>
  <dc:description/>
  <dc:language>en-US</dc:language>
  <cp:lastModifiedBy>USER</cp:lastModifiedBy>
  <dcterms:modified xsi:type="dcterms:W3CDTF">2009-05-13T07:43:03Z</dcterms:modified>
  <cp:revision>18</cp:revision>
  <dc:subject/>
  <dc:title>Слайд 1</dc:title>
</cp:coreProperties>
</file>