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33C-8FFA-4F40-81E4-1F50E410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097-D6B4-4110-B96F-712F927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1C9-426D-4575-83AC-53277704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5A5-4FC5-4BDC-838D-A0269020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688-70EB-4353-8589-A5D2C295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7037-BE51-41C5-BAC2-1F42AB4C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980-E08B-4E2D-B479-E26D464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2744-6990-40BB-AF3D-FC880EA7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7485-569B-4C18-B09F-D03A7D8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856080"/>
            <a:ext cx="6862680" cy="12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D353-7A1D-47DA-AA95-4A87934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B45E-6409-464C-93CE-11B4394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25E-9C14-4292-92CD-F1236E12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015E-B691-40E7-819A-117C75D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3C6-7B27-408D-8B58-3B7D635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0B3-D862-441F-9075-4B94599C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EBD3-92DF-40B0-9BBB-2D4BDBC7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4A7A-AE6E-42C6-9FB4-C2ABFA10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8E8-D304-4E8A-AFAA-FBFF4A54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AEC-0082-4903-A780-BFD3437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614-0033-4E64-BA82-E8E42CDD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856080"/>
            <a:ext cx="6862680" cy="12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ED0-C01A-4C92-A0D7-458BE63B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674-8D97-40A4-AA21-9370280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5E7-19EC-475F-93E1-BB183FD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6DB-94BB-4CB1-A64D-D6BD65F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856080"/>
            <a:ext cx="68626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9B80C6-058E-478D-8DE5-49514BD7BA6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88240" y="-154800"/>
            <a:ext cx="2982600" cy="2846160"/>
            <a:chOff x="6888240" y="-154800"/>
            <a:chExt cx="2982600" cy="2846160"/>
          </a:xfrm>
        </p:grpSpPr>
        <p:grpSp>
          <p:nvGrpSpPr>
            <p:cNvPr id="39" name="Group 40"/>
            <p:cNvGrpSpPr/>
            <p:nvPr/>
          </p:nvGrpSpPr>
          <p:grpSpPr>
            <a:xfrm>
              <a:off x="6888240" y="-154800"/>
              <a:ext cx="2982600" cy="2846160"/>
              <a:chOff x="6888240" y="-154800"/>
              <a:chExt cx="2982600" cy="284616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88240" y="-154800"/>
                <a:ext cx="2982600" cy="2846160"/>
                <a:chOff x="6888240" y="-154800"/>
                <a:chExt cx="2982600" cy="284616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520" y="-23400"/>
                  <a:ext cx="3502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901280" y="649800"/>
                  <a:ext cx="61596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10680" y="418320"/>
                  <a:ext cx="115560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11760" y="54720"/>
                  <a:ext cx="1734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1800" y="1852920"/>
                  <a:ext cx="38700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83960" y="1671120"/>
                  <a:ext cx="41400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797240" y="308160"/>
                  <a:ext cx="41436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1720" y="147960"/>
                  <a:ext cx="4096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177560"/>
            <a:ext cx="6392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FFCB52-5D77-45E4-9A5D-635DA47EC495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93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7719480" y="4231800"/>
            <a:ext cx="1168920" cy="1328760"/>
            <a:chOff x="7719480" y="4231800"/>
            <a:chExt cx="1168920" cy="132876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719480" y="4231800"/>
              <a:ext cx="1168920" cy="1328760"/>
              <a:chOff x="7719480" y="4231800"/>
              <a:chExt cx="1168920" cy="132876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7822800" y="507456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7725240" y="4568040"/>
                <a:ext cx="11570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8040960" y="4707720"/>
                <a:ext cx="81864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8609400" y="4515120"/>
                <a:ext cx="10872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8152200" y="4719240"/>
                <a:ext cx="33480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63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15640" y="3860280"/>
            <a:ext cx="727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азбука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школьной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жизн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786200" y="142920"/>
            <a:ext cx="33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Comic Sans MS"/>
              </a:rPr>
              <a:t>ПАМЯТКА ДЛЯ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С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97" name="Rectangle 4"/>
          <p:cNvSpPr/>
          <p:nvPr/>
        </p:nvSpPr>
        <p:spPr>
          <a:xfrm flipH="1" flipV="1">
            <a:off x="8602560" y="5172120"/>
            <a:ext cx="36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Прямоугольник 9"/>
          <p:cNvSpPr/>
          <p:nvPr/>
        </p:nvSpPr>
        <p:spPr>
          <a:xfrm>
            <a:off x="4000680" y="1714680"/>
            <a:ext cx="4572000" cy="24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Недешевая покупка - письменный стол. Какой выбрат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Необходимо, чтобы материалы, из которых сделан стол, были экологически чистыми и соответствовали необходимым норм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429080" y="1285920"/>
            <a:ext cx="371484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</a:rPr>
              <a:t>СТОЛ ПИСЬМЕ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3500280" y="4143240"/>
            <a:ext cx="14288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omic Sans MS"/>
              </a:rPr>
              <a:t>СТУ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3429000" y="4500720"/>
            <a:ext cx="585792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mic Sans MS"/>
              </a:rPr>
              <a:t>Высота стола и стула должны быть подобраны так, чтобы локти ребенка свободно лежали на столе, спина касалась спинки стула, а ноги, согнутые в коленях под прямым углом, стояли на полу или на скамеечке. А расстояние от глаз до книжки или тетрадки должно быть равно длине руки от локтя до кисти. Тогда осанка и зрение ребенка не будут подвергаться дополнительной нагруз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3"/>
          <p:cNvSpPr txBox="1"/>
          <p:nvPr/>
        </p:nvSpPr>
        <p:spPr>
          <a:xfrm>
            <a:off x="395280" y="134136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М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3786120" y="2857680"/>
            <a:ext cx="457200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Матрас ортопедический многослой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Не думайте, что он нужен только больным. Именно пока ребенок здоров, ортопедический матрас может очень многое - разгрузить его позвоночник во время сна и дать ему полноценное расслаб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4874400" y="2214720"/>
            <a:ext cx="20858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МАТР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3643200" y="1071720"/>
            <a:ext cx="457200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но от качества сна во многом зависит качество жизни вообще, а у первоклассника в особ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714840" y="2071800"/>
            <a:ext cx="5000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ФОРМА ШКОЛЬ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ФОРМА СПОРТИВНАЯ–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БЯЗАТЕЛЬНО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37000"/>
              </a:lnSpc>
              <a:spcBef>
                <a:spcPts val="799"/>
              </a:spcBef>
              <a:buNone/>
              <a:tabLst>
                <a:tab algn="l" pos="0"/>
                <a:tab algn="l" pos="111240"/>
                <a:tab algn="l" pos="56052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3"/>
          <p:cNvSpPr txBox="1"/>
          <p:nvPr/>
        </p:nvSpPr>
        <p:spPr>
          <a:xfrm>
            <a:off x="468360" y="126036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Ф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57160" y="21420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4720" y="1483920"/>
            <a:ext cx="413064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7030a0"/>
                </a:solidFill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7030a0"/>
                </a:solidFill>
                <a:latin typeface="Comic Sans MS"/>
              </a:rPr>
              <a:t>БУВЬ</a:t>
            </a:r>
            <a:r>
              <a:rPr b="1" lang="en-GB" sz="4800" spc="-1" strike="noStrike">
                <a:solidFill>
                  <a:srgbClr val="7030a0"/>
                </a:solidFill>
                <a:latin typeface="Comic Sans MS"/>
              </a:rPr>
              <a:t> —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О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00720" y="2399400"/>
            <a:ext cx="378612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Стопа должна фиксироваться во всех суставах, задник должен быть прочным, хорошо держать форму. покупайте первокласснику удобную сменку на липучках, фиксирующих подъем. Она и эргономична и удобна для де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2844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76720" y="1484280"/>
            <a:ext cx="554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Индивидуальны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подх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WordArt 3"/>
          <p:cNvSpPr txBox="1"/>
          <p:nvPr/>
        </p:nvSpPr>
        <p:spPr>
          <a:xfrm>
            <a:off x="179280" y="126828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И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857160" y="14292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686268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357120" y="1428840"/>
            <a:ext cx="331164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А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143240" y="1500120"/>
            <a:ext cx="39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брать сына или дочку в первый класс - удовольствие недешев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572000" y="3429000"/>
            <a:ext cx="413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Адекватно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857840" y="4437720"/>
            <a:ext cx="338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умно относится к экипировке первокласс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Б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143240" y="1500120"/>
            <a:ext cx="407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БЫТЬ ЭКОНОМ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9080" y="1961280"/>
            <a:ext cx="36432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Можно обойтись более дешевыми и, что приятно, практичными вещами. Первоклассник, если он растет в адекватной среде, еще не сравнивает свои вещички с тем, чем пользуются однокласс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Ему главное - выбрать то, что нравится. С любовью. И он будет довол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929040" y="1822320"/>
            <a:ext cx="450072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ещи для первоклассника и вообще школьника младших классов должны бы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 прочным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- легко заменяемы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П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0000" y="5400720"/>
            <a:ext cx="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714840" y="1357200"/>
            <a:ext cx="45720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Пенал должен быть как можно прочнее и прощ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3643200" y="2571840"/>
            <a:ext cx="4572000" cy="28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Наилучший пенал для маленького школьника - обычная прочная деревянная или пластмассовая коробка с удобной крышкой, которая легко открывается и прочно закрыв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42600" y="14292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Т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79" name="Rectangle 4"/>
          <p:cNvSpPr/>
          <p:nvPr/>
        </p:nvSpPr>
        <p:spPr>
          <a:xfrm flipH="1" flipV="1">
            <a:off x="3418920" y="6118200"/>
            <a:ext cx="36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3786120" y="2143080"/>
            <a:ext cx="45720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Тетради - самые простые. Обязательно посмотрите при покупке, чтобы бумага была белой и качественной, а линейки и клетки четки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3"/>
          <p:cNvSpPr txBox="1"/>
          <p:nvPr/>
        </p:nvSpPr>
        <p:spPr>
          <a:xfrm>
            <a:off x="357120" y="1285920"/>
            <a:ext cx="3311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Р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83" name="Rectangle 4"/>
          <p:cNvSpPr/>
          <p:nvPr/>
        </p:nvSpPr>
        <p:spPr>
          <a:xfrm flipV="1">
            <a:off x="4140360" y="2519280"/>
            <a:ext cx="17928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3857760" y="2143080"/>
            <a:ext cx="485748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РУЧКИ, РЕЗИНКИ- самые простые и много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Маленький школьник обязательно будет их теря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Поэтому, чтобы не создавать стрессовых ситуаций, покупаем не три ручки, а десяток одинаковых или разных, но дешевы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3"/>
          <p:cNvSpPr txBox="1"/>
          <p:nvPr/>
        </p:nvSpPr>
        <p:spPr>
          <a:xfrm>
            <a:off x="396720" y="1284120"/>
            <a:ext cx="30229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К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3714840" y="1643040"/>
            <a:ext cx="45720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К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Для уроков труда вас попросят его купить. Лучше всего купить ПВА в тюбик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Он превосходно склеивает дерево, ткани, пластмассу - те самые материалы, из которых мастерят свои поделки школьники. Выбирайте клей в удобной упаковке - в тюбике со специальным наконечником-дозато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И руки им не испачкаешь, и лишнего не вылье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684360" y="1341360"/>
            <a:ext cx="33112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Р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90" name="Rectangle 4"/>
          <p:cNvSpPr/>
          <p:nvPr/>
        </p:nvSpPr>
        <p:spPr>
          <a:xfrm flipV="1">
            <a:off x="4140360" y="2519280"/>
            <a:ext cx="179280" cy="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7"/>
          <p:cNvSpPr/>
          <p:nvPr/>
        </p:nvSpPr>
        <p:spPr>
          <a:xfrm>
            <a:off x="4500720" y="1357200"/>
            <a:ext cx="357156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</a:rPr>
              <a:t>РАНЕ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520" y="21420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НАРЯЖЕНИЕ ПЕРВОКЛАСС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4214880" y="2003760"/>
            <a:ext cx="435780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ДОЛЖЕН БЫТЬ прочнее прочного! Прочными должны быть и ручки - если они прострочены, то не порву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4000680" y="3071880"/>
            <a:ext cx="45720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У ранца должна быть плоской и достаточной мягкой та сторона, которая прилегает к спине - лучше из поролона или гибкого пласти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14800" y="4585680"/>
            <a:ext cx="5357880" cy="20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Не покупайте вещь из пленки и кожзаменителя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Из недорогих и прочных материалов хороша плотная синтетика или пропитанная джинсовая ткань. Разумеется, вне конкуренции – кожаные ран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mic Sans MS"/>
              </a:rPr>
              <a:t>И постарайтесь найти нарядный ранец, который понравится малыш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valex</dc:creator>
  <dc:description/>
  <dc:language>en-US</dc:language>
  <cp:lastModifiedBy>USER</cp:lastModifiedBy>
  <dcterms:modified xsi:type="dcterms:W3CDTF">2009-05-13T07:43:03Z</dcterms:modified>
  <cp:revision>18</cp:revision>
  <dc:subject/>
  <dc:title>Слайд 1</dc:title>
</cp:coreProperties>
</file>