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D49-B1C0-462B-BF74-FD35988C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A52-5357-4A24-9FC2-E3541E48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F9A-CFA4-43DC-960A-424441C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AE2-5A01-4A68-8D6B-EEEDFBE2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862-56B5-497D-B4DB-C53E64AC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C04-812B-4555-AFE0-704371BB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31B-03C4-4491-83F7-6F7BF5A0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58D-5319-42EE-8B89-2B81DA27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ED1-F888-4E43-8FC2-AB6E8B0C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E39-868A-42C0-983B-BDF582A4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BA0-F888-4932-B0E8-49C3C41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3BD-01F5-4FCF-A98D-DC2AF22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ffaf"/>
            </a:gs>
            <a:gs pos="50000">
              <a:srgbClr val="ddffdd"/>
            </a:gs>
            <a:gs pos="100000">
              <a:srgbClr val="afff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66A-F035-4DCA-B97C-1DB51F59E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дактическое пособ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изучения 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става чисел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4797000"/>
            <a:ext cx="381636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ананас"/>
          <p:cNvPicPr/>
          <p:nvPr/>
        </p:nvPicPr>
        <p:blipFill>
          <a:blip r:embed="rId1"/>
          <a:srcRect l="25766" t="0" r="2152" b="0"/>
          <a:stretch/>
        </p:blipFill>
        <p:spPr>
          <a:xfrm>
            <a:off x="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ананас"/>
          <p:cNvPicPr/>
          <p:nvPr/>
        </p:nvPicPr>
        <p:blipFill>
          <a:blip r:embed="rId2"/>
          <a:srcRect l="25766" t="0" r="2152" b="0"/>
          <a:stretch/>
        </p:blipFill>
        <p:spPr>
          <a:xfrm>
            <a:off x="10429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ананас"/>
          <p:cNvPicPr/>
          <p:nvPr/>
        </p:nvPicPr>
        <p:blipFill>
          <a:blip r:embed="rId3"/>
          <a:srcRect l="25766" t="0" r="2152" b="0"/>
          <a:stretch/>
        </p:blipFill>
        <p:spPr>
          <a:xfrm>
            <a:off x="20509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ананас"/>
          <p:cNvPicPr/>
          <p:nvPr/>
        </p:nvPicPr>
        <p:blipFill>
          <a:blip r:embed="rId4"/>
          <a:srcRect l="25766" t="0" r="2152" b="0"/>
          <a:stretch/>
        </p:blipFill>
        <p:spPr>
          <a:xfrm>
            <a:off x="3059280" y="0"/>
            <a:ext cx="1099800" cy="1700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ананас"/>
          <p:cNvPicPr/>
          <p:nvPr/>
        </p:nvPicPr>
        <p:blipFill>
          <a:blip r:embed="rId5"/>
          <a:srcRect l="25766" t="0" r="2152" b="0"/>
          <a:stretch/>
        </p:blipFill>
        <p:spPr>
          <a:xfrm>
            <a:off x="406728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нанас"/>
          <p:cNvPicPr/>
          <p:nvPr/>
        </p:nvPicPr>
        <p:blipFill>
          <a:blip r:embed="rId6"/>
          <a:srcRect l="25766" t="0" r="2152" b="0"/>
          <a:stretch/>
        </p:blipFill>
        <p:spPr>
          <a:xfrm>
            <a:off x="50767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ананас"/>
          <p:cNvPicPr/>
          <p:nvPr/>
        </p:nvPicPr>
        <p:blipFill>
          <a:blip r:embed="rId7"/>
          <a:srcRect l="25766" t="0" r="2152" b="0"/>
          <a:stretch/>
        </p:blipFill>
        <p:spPr>
          <a:xfrm>
            <a:off x="608472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ананас"/>
          <p:cNvPicPr/>
          <p:nvPr/>
        </p:nvPicPr>
        <p:blipFill>
          <a:blip r:embed="rId8"/>
          <a:srcRect l="25766" t="0" r="2152" b="0"/>
          <a:stretch/>
        </p:blipFill>
        <p:spPr>
          <a:xfrm>
            <a:off x="7093080" y="0"/>
            <a:ext cx="1100160" cy="170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ананас"/>
          <p:cNvPicPr/>
          <p:nvPr/>
        </p:nvPicPr>
        <p:blipFill>
          <a:blip r:embed="rId9"/>
          <a:srcRect l="25766" t="0" r="2152" b="0"/>
          <a:stretch/>
        </p:blipFill>
        <p:spPr>
          <a:xfrm>
            <a:off x="8043840" y="0"/>
            <a:ext cx="1100160" cy="1700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6"/>
          <p:cNvSpPr/>
          <p:nvPr/>
        </p:nvSpPr>
        <p:spPr>
          <a:xfrm>
            <a:off x="6732720" y="4265640"/>
            <a:ext cx="2232000" cy="259236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6443640" y="3429000"/>
            <a:ext cx="2700360" cy="866880"/>
          </a:xfrm>
          <a:prstGeom prst="flowChartExtra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7812000" y="4292640"/>
            <a:ext cx="0" cy="256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732720" y="551664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6732720" y="616572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6732720" y="494172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26"/>
          <p:cNvSpPr txBox="1"/>
          <p:nvPr/>
        </p:nvSpPr>
        <p:spPr>
          <a:xfrm>
            <a:off x="8172360" y="4365720"/>
            <a:ext cx="2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1" name="WordArt 27"/>
          <p:cNvSpPr txBox="1"/>
          <p:nvPr/>
        </p:nvSpPr>
        <p:spPr>
          <a:xfrm>
            <a:off x="7164360" y="4365720"/>
            <a:ext cx="2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2" name="WordArt 28"/>
          <p:cNvSpPr txBox="1"/>
          <p:nvPr/>
        </p:nvSpPr>
        <p:spPr>
          <a:xfrm>
            <a:off x="8244000" y="5013360"/>
            <a:ext cx="21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3" name="WordArt 29"/>
          <p:cNvSpPr txBox="1"/>
          <p:nvPr/>
        </p:nvSpPr>
        <p:spPr>
          <a:xfrm>
            <a:off x="7164360" y="501336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4" name="WordArt 30"/>
          <p:cNvSpPr txBox="1"/>
          <p:nvPr/>
        </p:nvSpPr>
        <p:spPr>
          <a:xfrm>
            <a:off x="8244000" y="5589720"/>
            <a:ext cx="21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5" name="WordArt 31"/>
          <p:cNvSpPr txBox="1"/>
          <p:nvPr/>
        </p:nvSpPr>
        <p:spPr>
          <a:xfrm>
            <a:off x="7164360" y="558972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6" name="WordArt 32"/>
          <p:cNvSpPr txBox="1"/>
          <p:nvPr/>
        </p:nvSpPr>
        <p:spPr>
          <a:xfrm>
            <a:off x="7164360" y="623736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7" name="WordArt 34"/>
          <p:cNvSpPr txBox="1"/>
          <p:nvPr/>
        </p:nvSpPr>
        <p:spPr>
          <a:xfrm>
            <a:off x="8244000" y="623736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98" name="WordArt 35"/>
          <p:cNvSpPr txBox="1"/>
          <p:nvPr/>
        </p:nvSpPr>
        <p:spPr>
          <a:xfrm>
            <a:off x="7524720" y="357336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99" name="AutoShape 36"/>
          <p:cNvSpPr/>
          <p:nvPr/>
        </p:nvSpPr>
        <p:spPr>
          <a:xfrm>
            <a:off x="2700360" y="6308640"/>
            <a:ext cx="1258920" cy="405000"/>
          </a:xfrm>
          <a:custGeom>
            <a:avLst/>
            <a:gdLst>
              <a:gd name="textAreaLeft" fmla="*/ 25920 w 1258920"/>
              <a:gd name="textAreaRight" fmla="*/ 1233000 w 12589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7102" h="21600">
                <a:moveTo>
                  <a:pt x="0" y="0"/>
                </a:moveTo>
                <a:lnTo>
                  <a:pt x="67102" y="0"/>
                </a:lnTo>
                <a:lnTo>
                  <a:pt x="67102" y="21600"/>
                </a:lnTo>
                <a:lnTo>
                  <a:pt x="0" y="21600"/>
                </a:lnTo>
                <a:close/>
              </a:path>
              <a:path fill="lightenLess" w="67102" h="21600">
                <a:moveTo>
                  <a:pt x="0" y="0"/>
                </a:moveTo>
                <a:lnTo>
                  <a:pt x="67102" y="0"/>
                </a:lnTo>
                <a:lnTo>
                  <a:pt x="65702" y="1400"/>
                </a:lnTo>
                <a:lnTo>
                  <a:pt x="1400" y="1400"/>
                </a:lnTo>
                <a:close/>
              </a:path>
              <a:path fill="darken" w="67102" h="21600">
                <a:moveTo>
                  <a:pt x="67102" y="0"/>
                </a:moveTo>
                <a:lnTo>
                  <a:pt x="67102" y="21600"/>
                </a:lnTo>
                <a:lnTo>
                  <a:pt x="65702" y="20200"/>
                </a:lnTo>
                <a:lnTo>
                  <a:pt x="65702" y="1400"/>
                </a:lnTo>
                <a:close/>
              </a:path>
              <a:path fill="darkenLess" w="67102" h="21600">
                <a:moveTo>
                  <a:pt x="67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02" y="20200"/>
                </a:lnTo>
                <a:close/>
              </a:path>
              <a:path fill="lighten" w="67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102" h="21600">
                <a:moveTo>
                  <a:pt x="33551" y="3837"/>
                </a:moveTo>
                <a:lnTo>
                  <a:pt x="36127" y="6448"/>
                </a:lnTo>
                <a:lnTo>
                  <a:pt x="36127" y="4707"/>
                </a:lnTo>
                <a:lnTo>
                  <a:pt x="37903" y="4707"/>
                </a:lnTo>
                <a:lnTo>
                  <a:pt x="37903" y="8224"/>
                </a:lnTo>
                <a:lnTo>
                  <a:pt x="40514" y="10800"/>
                </a:lnTo>
                <a:lnTo>
                  <a:pt x="38860" y="10800"/>
                </a:lnTo>
                <a:lnTo>
                  <a:pt x="38860" y="17989"/>
                </a:lnTo>
                <a:lnTo>
                  <a:pt x="28242" y="17989"/>
                </a:lnTo>
                <a:lnTo>
                  <a:pt x="28242" y="10800"/>
                </a:lnTo>
                <a:lnTo>
                  <a:pt x="26588" y="10800"/>
                </a:lnTo>
                <a:close/>
              </a:path>
              <a:path fill="darkenLess" w="67102" h="21600">
                <a:moveTo>
                  <a:pt x="36127" y="6448"/>
                </a:moveTo>
                <a:lnTo>
                  <a:pt x="36127" y="4707"/>
                </a:lnTo>
                <a:lnTo>
                  <a:pt x="37903" y="4707"/>
                </a:lnTo>
                <a:lnTo>
                  <a:pt x="37903" y="8224"/>
                </a:lnTo>
                <a:close/>
              </a:path>
              <a:path fill="darkenLess" w="67102" h="21600">
                <a:moveTo>
                  <a:pt x="32628" y="14299"/>
                </a:moveTo>
                <a:lnTo>
                  <a:pt x="34474" y="14299"/>
                </a:lnTo>
                <a:lnTo>
                  <a:pt x="34474" y="17989"/>
                </a:lnTo>
                <a:lnTo>
                  <a:pt x="38860" y="17989"/>
                </a:lnTo>
                <a:lnTo>
                  <a:pt x="38860" y="10800"/>
                </a:lnTo>
                <a:lnTo>
                  <a:pt x="28242" y="10800"/>
                </a:lnTo>
                <a:lnTo>
                  <a:pt x="28242" y="17989"/>
                </a:lnTo>
                <a:lnTo>
                  <a:pt x="32628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7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9704E-006 L -0.88073 0.23936 E">
                                      <p:cBhvr>
                                        <p:cTn id="40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9704E-006 L -0.66649 0.23936 E">
                                      <p:cBhvr>
                                        <p:cTn id="41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9704E-006 L -0.45382 0.23936 E">
                                      <p:cBhvr>
                                        <p:cTn id="43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9704E-006 L -0.24132 0.23936 E">
                                      <p:cBhvr>
                                        <p:cTn id="44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9704E-006 L -0.02066 0.23936 E">
                                      <p:cBhvr>
                                        <p:cTn id="46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8.51064E-007 L 0.11806 -8.51064E-007 E">
                                      <p:cBhvr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1841E-006 L -0.11805 2.11841E-006 E">
                                      <p:cBhvr>
                                        <p:cTn id="46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9704E-006 L 0.20781 0.23936 E">
                                      <p:cBhvr>
                                        <p:cTn id="47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8.51064E-007 L 0.11806 -8.51064E-007 E">
                                      <p:cBhvr>
                                        <p:cTn id="477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51064E-007 L -0.11805 -8.51064E-007 E">
                                      <p:cBhvr>
                                        <p:cTn id="47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9704E-006 L 0.4283 0.23936 E">
                                      <p:cBhvr>
                                        <p:cTn id="48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4.6346E-006 L 0.11823 -4.6346E-006 E">
                                      <p:cBhvr>
                                        <p:cTn id="48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6346E-006 L -0.11805 -4.6346E-006 E">
                                      <p:cBhvr>
                                        <p:cTn id="48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9704E-006 L 0.6566 0.23936 E">
                                      <p:cBhvr>
                                        <p:cTn id="49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11841E-006 L 0.11823 -2.11841E-006 E">
                                      <p:cBhvr>
                                        <p:cTn id="497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1841E-006 L -0.11024 -2.11841E-006 E">
                                      <p:cBhvr>
                                        <p:cTn id="49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732720" y="4265640"/>
            <a:ext cx="2232000" cy="259236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6443640" y="3429000"/>
            <a:ext cx="2700360" cy="86688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812000" y="4292640"/>
            <a:ext cx="0" cy="25653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732720" y="479736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732720" y="530064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732720" y="580536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732720" y="6381720"/>
            <a:ext cx="223200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7164360" y="4365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8244000" y="436572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09" name="WordArt 11"/>
          <p:cNvSpPr txBox="1"/>
          <p:nvPr/>
        </p:nvSpPr>
        <p:spPr>
          <a:xfrm>
            <a:off x="7164360" y="4869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0" name="WordArt 12"/>
          <p:cNvSpPr txBox="1"/>
          <p:nvPr/>
        </p:nvSpPr>
        <p:spPr>
          <a:xfrm>
            <a:off x="8244000" y="486900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7164360" y="5373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8244000" y="537372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3" name="WordArt 15"/>
          <p:cNvSpPr txBox="1"/>
          <p:nvPr/>
        </p:nvSpPr>
        <p:spPr>
          <a:xfrm>
            <a:off x="7164360" y="5877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4" name="WordArt 16"/>
          <p:cNvSpPr txBox="1"/>
          <p:nvPr/>
        </p:nvSpPr>
        <p:spPr>
          <a:xfrm>
            <a:off x="7164360" y="6453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5" name="WordArt 17"/>
          <p:cNvSpPr txBox="1"/>
          <p:nvPr/>
        </p:nvSpPr>
        <p:spPr>
          <a:xfrm>
            <a:off x="8317080" y="645336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6" name="WordArt 18"/>
          <p:cNvSpPr txBox="1"/>
          <p:nvPr/>
        </p:nvSpPr>
        <p:spPr>
          <a:xfrm>
            <a:off x="8244000" y="587700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217" name="WordArt 19"/>
          <p:cNvSpPr txBox="1"/>
          <p:nvPr/>
        </p:nvSpPr>
        <p:spPr>
          <a:xfrm>
            <a:off x="7524720" y="357336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2556000" y="6308640"/>
            <a:ext cx="1295280" cy="405000"/>
          </a:xfrm>
          <a:custGeom>
            <a:avLst/>
            <a:gdLst>
              <a:gd name="textAreaLeft" fmla="*/ 25920 w 1295280"/>
              <a:gd name="textAreaRight" fmla="*/ 1269360 w 1295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9039" h="21600">
                <a:moveTo>
                  <a:pt x="0" y="0"/>
                </a:moveTo>
                <a:lnTo>
                  <a:pt x="69039" y="0"/>
                </a:lnTo>
                <a:lnTo>
                  <a:pt x="69039" y="21600"/>
                </a:lnTo>
                <a:lnTo>
                  <a:pt x="0" y="21600"/>
                </a:lnTo>
                <a:close/>
              </a:path>
              <a:path fill="lightenLess" w="69039" h="21600">
                <a:moveTo>
                  <a:pt x="0" y="0"/>
                </a:moveTo>
                <a:lnTo>
                  <a:pt x="69039" y="0"/>
                </a:lnTo>
                <a:lnTo>
                  <a:pt x="67639" y="1400"/>
                </a:lnTo>
                <a:lnTo>
                  <a:pt x="1400" y="1400"/>
                </a:lnTo>
                <a:close/>
              </a:path>
              <a:path fill="darken" w="69039" h="21600">
                <a:moveTo>
                  <a:pt x="69039" y="0"/>
                </a:moveTo>
                <a:lnTo>
                  <a:pt x="69039" y="21600"/>
                </a:lnTo>
                <a:lnTo>
                  <a:pt x="67639" y="20200"/>
                </a:lnTo>
                <a:lnTo>
                  <a:pt x="67639" y="1400"/>
                </a:lnTo>
                <a:close/>
              </a:path>
              <a:path fill="darkenLess" w="69039" h="21600">
                <a:moveTo>
                  <a:pt x="69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39" y="20200"/>
                </a:lnTo>
                <a:close/>
              </a:path>
              <a:path fill="lighten" w="69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39" h="21600">
                <a:moveTo>
                  <a:pt x="34520" y="3837"/>
                </a:moveTo>
                <a:lnTo>
                  <a:pt x="37096" y="6448"/>
                </a:lnTo>
                <a:lnTo>
                  <a:pt x="37096" y="4707"/>
                </a:lnTo>
                <a:lnTo>
                  <a:pt x="38872" y="4707"/>
                </a:lnTo>
                <a:lnTo>
                  <a:pt x="38872" y="8224"/>
                </a:lnTo>
                <a:lnTo>
                  <a:pt x="41483" y="10800"/>
                </a:lnTo>
                <a:lnTo>
                  <a:pt x="39829" y="10800"/>
                </a:lnTo>
                <a:lnTo>
                  <a:pt x="39829" y="17989"/>
                </a:lnTo>
                <a:lnTo>
                  <a:pt x="29210" y="17989"/>
                </a:lnTo>
                <a:lnTo>
                  <a:pt x="29210" y="10800"/>
                </a:lnTo>
                <a:lnTo>
                  <a:pt x="27557" y="10800"/>
                </a:lnTo>
                <a:close/>
              </a:path>
              <a:path fill="darkenLess" w="69039" h="21600">
                <a:moveTo>
                  <a:pt x="37096" y="6448"/>
                </a:moveTo>
                <a:lnTo>
                  <a:pt x="37096" y="4707"/>
                </a:lnTo>
                <a:lnTo>
                  <a:pt x="38872" y="4707"/>
                </a:lnTo>
                <a:lnTo>
                  <a:pt x="38872" y="8224"/>
                </a:lnTo>
                <a:close/>
              </a:path>
              <a:path fill="darkenLess" w="69039" h="21600">
                <a:moveTo>
                  <a:pt x="33597" y="14299"/>
                </a:moveTo>
                <a:lnTo>
                  <a:pt x="35442" y="14299"/>
                </a:lnTo>
                <a:lnTo>
                  <a:pt x="35442" y="17989"/>
                </a:lnTo>
                <a:lnTo>
                  <a:pt x="39829" y="17989"/>
                </a:lnTo>
                <a:lnTo>
                  <a:pt x="39829" y="10800"/>
                </a:lnTo>
                <a:lnTo>
                  <a:pt x="29210" y="10800"/>
                </a:lnTo>
                <a:lnTo>
                  <a:pt x="29210" y="17989"/>
                </a:lnTo>
                <a:lnTo>
                  <a:pt x="33597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2" descr="Кукуруза"/>
          <p:cNvPicPr/>
          <p:nvPr/>
        </p:nvPicPr>
        <p:blipFill>
          <a:blip r:embed="rId2"/>
          <a:stretch/>
        </p:blipFill>
        <p:spPr>
          <a:xfrm>
            <a:off x="-181080" y="0"/>
            <a:ext cx="1086120" cy="13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Кукуруза"/>
          <p:cNvPicPr/>
          <p:nvPr/>
        </p:nvPicPr>
        <p:blipFill>
          <a:blip r:embed="rId3"/>
          <a:stretch/>
        </p:blipFill>
        <p:spPr>
          <a:xfrm>
            <a:off x="68436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7" descr="Кукуруза"/>
          <p:cNvPicPr/>
          <p:nvPr/>
        </p:nvPicPr>
        <p:blipFill>
          <a:blip r:embed="rId4"/>
          <a:stretch/>
        </p:blipFill>
        <p:spPr>
          <a:xfrm>
            <a:off x="161928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8" descr="Кукуруза"/>
          <p:cNvPicPr/>
          <p:nvPr/>
        </p:nvPicPr>
        <p:blipFill>
          <a:blip r:embed="rId5"/>
          <a:stretch/>
        </p:blipFill>
        <p:spPr>
          <a:xfrm>
            <a:off x="255600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9" descr="Кукуруза"/>
          <p:cNvPicPr/>
          <p:nvPr/>
        </p:nvPicPr>
        <p:blipFill>
          <a:blip r:embed="rId6"/>
          <a:stretch/>
        </p:blipFill>
        <p:spPr>
          <a:xfrm>
            <a:off x="3492360" y="0"/>
            <a:ext cx="1086120" cy="1368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Кукуруза"/>
          <p:cNvPicPr/>
          <p:nvPr/>
        </p:nvPicPr>
        <p:blipFill>
          <a:blip r:embed="rId7"/>
          <a:stretch/>
        </p:blipFill>
        <p:spPr>
          <a:xfrm>
            <a:off x="442764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" descr="Кукуруза"/>
          <p:cNvPicPr/>
          <p:nvPr/>
        </p:nvPicPr>
        <p:blipFill>
          <a:blip r:embed="rId8"/>
          <a:stretch/>
        </p:blipFill>
        <p:spPr>
          <a:xfrm>
            <a:off x="529272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2" descr="Кукуруза"/>
          <p:cNvPicPr/>
          <p:nvPr/>
        </p:nvPicPr>
        <p:blipFill>
          <a:blip r:embed="rId9"/>
          <a:stretch/>
        </p:blipFill>
        <p:spPr>
          <a:xfrm>
            <a:off x="6227640" y="0"/>
            <a:ext cx="1086120" cy="136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3" descr="Кукуруза"/>
          <p:cNvPicPr/>
          <p:nvPr/>
        </p:nvPicPr>
        <p:blipFill>
          <a:blip r:embed="rId10"/>
          <a:stretch/>
        </p:blipFill>
        <p:spPr>
          <a:xfrm>
            <a:off x="7164360" y="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4" descr="Кукуруза"/>
          <p:cNvPicPr/>
          <p:nvPr/>
        </p:nvPicPr>
        <p:blipFill>
          <a:blip r:embed="rId11"/>
          <a:stretch/>
        </p:blipFill>
        <p:spPr>
          <a:xfrm>
            <a:off x="8058240" y="0"/>
            <a:ext cx="1085760" cy="13683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5">
            <a:hlinkClick r:id="" action="ppaction://hlinkshowjump?jump=lastslide"/>
          </p:cNvPr>
          <p:cNvSpPr/>
          <p:nvPr/>
        </p:nvSpPr>
        <p:spPr>
          <a:xfrm>
            <a:off x="4140360" y="6308640"/>
            <a:ext cx="863280" cy="43344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03" h="21600">
                <a:moveTo>
                  <a:pt x="0" y="0"/>
                </a:moveTo>
                <a:lnTo>
                  <a:pt x="43003" y="0"/>
                </a:lnTo>
                <a:lnTo>
                  <a:pt x="43003" y="21600"/>
                </a:lnTo>
                <a:lnTo>
                  <a:pt x="0" y="21600"/>
                </a:lnTo>
                <a:close/>
              </a:path>
              <a:path fill="lightenLess" w="43003" h="21600">
                <a:moveTo>
                  <a:pt x="0" y="0"/>
                </a:moveTo>
                <a:lnTo>
                  <a:pt x="43003" y="0"/>
                </a:lnTo>
                <a:lnTo>
                  <a:pt x="41603" y="1400"/>
                </a:lnTo>
                <a:lnTo>
                  <a:pt x="1400" y="1400"/>
                </a:lnTo>
                <a:close/>
              </a:path>
              <a:path fill="darken" w="43003" h="21600">
                <a:moveTo>
                  <a:pt x="43003" y="0"/>
                </a:moveTo>
                <a:lnTo>
                  <a:pt x="43003" y="21600"/>
                </a:lnTo>
                <a:lnTo>
                  <a:pt x="41603" y="20200"/>
                </a:lnTo>
                <a:lnTo>
                  <a:pt x="41603" y="1400"/>
                </a:lnTo>
                <a:close/>
              </a:path>
              <a:path fill="darkenLess" w="43003" h="21600">
                <a:moveTo>
                  <a:pt x="43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03" y="20200"/>
                </a:lnTo>
                <a:close/>
              </a:path>
              <a:path fill="lighten" w="43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03" h="21600">
                <a:moveTo>
                  <a:pt x="25000" y="10800"/>
                </a:moveTo>
                <a:lnTo>
                  <a:pt x="14495" y="17806"/>
                </a:lnTo>
                <a:lnTo>
                  <a:pt x="14495" y="3794"/>
                </a:lnTo>
                <a:close/>
              </a:path>
              <a:path fill="darken" w="43003" h="21600">
                <a:moveTo>
                  <a:pt x="26845" y="3794"/>
                </a:moveTo>
                <a:lnTo>
                  <a:pt x="26845" y="17806"/>
                </a:lnTo>
                <a:lnTo>
                  <a:pt x="28508" y="17806"/>
                </a:lnTo>
                <a:lnTo>
                  <a:pt x="28508" y="3794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7428E-006 L -0.8974 0.23196 E">
                                      <p:cBhvr>
                                        <p:cTn id="5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7428E-006 L -0.70521 0.23196 E">
                                      <p:cBhvr>
                                        <p:cTn id="52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34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7428E-006 L -0.51614 0.23196 E">
                                      <p:cBhvr>
                                        <p:cTn id="53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7428E-006 L -0.32725 0.23196 E">
                                      <p:cBhvr>
                                        <p:cTn id="553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7428E-006 L -0.14601 0.23196 E">
                                      <p:cBhvr>
                                        <p:cTn id="56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82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7428E-006 L 0.04288 0.23196 E">
                                      <p:cBhvr>
                                        <p:cTn id="58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92593E-006 L 0.12604 5.92593E-006 E">
                                      <p:cBhvr>
                                        <p:cTn id="58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92593E-006 L -0.12587 5.92593E-006 E">
                                      <p:cBhvr>
                                        <p:cTn id="5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7428E-006 L 0.23993 0.23196 E">
                                      <p:cBhvr>
                                        <p:cTn id="59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12604 4.07407E-006 E">
                                      <p:cBhvr>
                                        <p:cTn id="5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-0.11805 4.07407E-006 E">
                                      <p:cBhvr>
                                        <p:cTn id="600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02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7428E-006 L 0.42899 0.23196 E">
                                      <p:cBhvr>
                                        <p:cTn id="60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12604 2.59259E-006 E">
                                      <p:cBhvr>
                                        <p:cTn id="60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0.11805 2.59259E-006 E">
                                      <p:cBhvr>
                                        <p:cTn id="61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7428E-006 L 0.6257 0.23196 E">
                                      <p:cBhvr>
                                        <p:cTn id="61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12604 4.07407E-006 E">
                                      <p:cBhvr>
                                        <p:cTn id="61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4.07407E-006 L -0.12587 4.07407E-006 E">
                                      <p:cBhvr>
                                        <p:cTn id="62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2" action="ppaction://hlinksldjump"/>
          </p:cNvPr>
          <p:cNvSpPr/>
          <p:nvPr/>
        </p:nvSpPr>
        <p:spPr>
          <a:xfrm>
            <a:off x="2340000" y="134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067280" y="134136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>
            <a:hlinkClick r:id="rId3" action="ppaction://hlinksldjump"/>
          </p:cNvPr>
          <p:cNvSpPr/>
          <p:nvPr/>
        </p:nvSpPr>
        <p:spPr>
          <a:xfrm>
            <a:off x="5724360" y="134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rId4" action="ppaction://hlinksldjump"/>
          </p:cNvPr>
          <p:cNvSpPr/>
          <p:nvPr/>
        </p:nvSpPr>
        <p:spPr>
          <a:xfrm>
            <a:off x="2340000" y="2997360"/>
            <a:ext cx="1079640" cy="10792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340000" y="458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067280" y="3068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5" action="ppaction://hlinksldjump"/>
          </p:cNvPr>
          <p:cNvSpPr/>
          <p:nvPr/>
        </p:nvSpPr>
        <p:spPr>
          <a:xfrm>
            <a:off x="5724360" y="2997360"/>
            <a:ext cx="1079640" cy="107928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6" action="ppaction://hlinksldjump"/>
          </p:cNvPr>
          <p:cNvSpPr/>
          <p:nvPr/>
        </p:nvSpPr>
        <p:spPr>
          <a:xfrm>
            <a:off x="2340000" y="458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7" action="ppaction://hlinksldjump"/>
          </p:cNvPr>
          <p:cNvSpPr/>
          <p:nvPr/>
        </p:nvSpPr>
        <p:spPr>
          <a:xfrm>
            <a:off x="4067280" y="306864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8" action="ppaction://hlinksldjump"/>
          </p:cNvPr>
          <p:cNvSpPr/>
          <p:nvPr/>
        </p:nvSpPr>
        <p:spPr>
          <a:xfrm>
            <a:off x="4067280" y="458136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9" action="ppaction://hlinksldjump"/>
          </p:cNvPr>
          <p:cNvSpPr/>
          <p:nvPr/>
        </p:nvSpPr>
        <p:spPr>
          <a:xfrm>
            <a:off x="5724360" y="4581360"/>
            <a:ext cx="1079640" cy="1079640"/>
          </a:xfrm>
          <a:custGeom>
            <a:avLst/>
            <a:gdLst>
              <a:gd name="textAreaLeft" fmla="*/ 69840 w 1079640"/>
              <a:gd name="textAreaRight" fmla="*/ 1009800 w 1079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10" action="ppaction://hlinksldjump"/>
          </p:cNvPr>
          <p:cNvSpPr/>
          <p:nvPr/>
        </p:nvSpPr>
        <p:spPr>
          <a:xfrm>
            <a:off x="4067280" y="1341360"/>
            <a:ext cx="1079280" cy="107964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2">
            <a:hlinkClick r:id="" action="ppaction://hlinkshowjump?jump=previousslide"/>
          </p:cNvPr>
          <p:cNvSpPr/>
          <p:nvPr/>
        </p:nvSpPr>
        <p:spPr>
          <a:xfrm>
            <a:off x="611280" y="5877000"/>
            <a:ext cx="865080" cy="3585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2083" h="21600">
                <a:moveTo>
                  <a:pt x="0" y="0"/>
                </a:moveTo>
                <a:lnTo>
                  <a:pt x="52083" y="0"/>
                </a:lnTo>
                <a:lnTo>
                  <a:pt x="52083" y="21600"/>
                </a:lnTo>
                <a:lnTo>
                  <a:pt x="0" y="21600"/>
                </a:lnTo>
                <a:close/>
              </a:path>
              <a:path fill="lightenLess" w="52083" h="21600">
                <a:moveTo>
                  <a:pt x="0" y="0"/>
                </a:moveTo>
                <a:lnTo>
                  <a:pt x="52083" y="0"/>
                </a:lnTo>
                <a:lnTo>
                  <a:pt x="50683" y="1400"/>
                </a:lnTo>
                <a:lnTo>
                  <a:pt x="1400" y="1400"/>
                </a:lnTo>
                <a:close/>
              </a:path>
              <a:path fill="darken" w="52083" h="21600">
                <a:moveTo>
                  <a:pt x="52083" y="0"/>
                </a:moveTo>
                <a:lnTo>
                  <a:pt x="52083" y="21600"/>
                </a:lnTo>
                <a:lnTo>
                  <a:pt x="50683" y="20200"/>
                </a:lnTo>
                <a:lnTo>
                  <a:pt x="50683" y="1400"/>
                </a:lnTo>
                <a:close/>
              </a:path>
              <a:path fill="darkenLess" w="52083" h="21600">
                <a:moveTo>
                  <a:pt x="52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83" y="20200"/>
                </a:lnTo>
                <a:close/>
              </a:path>
              <a:path fill="lighten" w="52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83" h="21600">
                <a:moveTo>
                  <a:pt x="19035" y="10800"/>
                </a:moveTo>
                <a:lnTo>
                  <a:pt x="33048" y="3794"/>
                </a:lnTo>
                <a:lnTo>
                  <a:pt x="330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 rot="16200000">
            <a:off x="6155640" y="3788280"/>
            <a:ext cx="2305080" cy="331308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508720" y="3789360"/>
            <a:ext cx="3635280" cy="115416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7020000" y="400536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885080" y="5373720"/>
            <a:ext cx="43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7308720" y="4941720"/>
            <a:ext cx="0" cy="16560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6227640" y="5373720"/>
            <a:ext cx="43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62" name="Picture 12" descr="подсолнух"/>
          <p:cNvPicPr/>
          <p:nvPr/>
        </p:nvPicPr>
        <p:blipFill>
          <a:blip r:embed="rId2"/>
          <a:srcRect l="0" t="47492" r="36017" b="0"/>
          <a:stretch/>
        </p:blipFill>
        <p:spPr>
          <a:xfrm>
            <a:off x="1476360" y="4149720"/>
            <a:ext cx="194328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подсолнух"/>
          <p:cNvPicPr/>
          <p:nvPr/>
        </p:nvPicPr>
        <p:blipFill>
          <a:blip r:embed="rId3"/>
          <a:srcRect l="0" t="47492" r="38373" b="0"/>
          <a:stretch/>
        </p:blipFill>
        <p:spPr>
          <a:xfrm>
            <a:off x="3708360" y="4149720"/>
            <a:ext cx="1871640" cy="270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подсолнух"/>
          <p:cNvPicPr/>
          <p:nvPr/>
        </p:nvPicPr>
        <p:blipFill>
          <a:blip r:embed="rId4"/>
          <a:srcRect l="0" t="0" r="0" b="52513"/>
          <a:stretch/>
        </p:blipFill>
        <p:spPr>
          <a:xfrm>
            <a:off x="3348000" y="333360"/>
            <a:ext cx="3036960" cy="244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подсолнух"/>
          <p:cNvPicPr/>
          <p:nvPr/>
        </p:nvPicPr>
        <p:blipFill>
          <a:blip r:embed="rId5"/>
          <a:srcRect l="0" t="0" r="0" b="52513"/>
          <a:stretch/>
        </p:blipFill>
        <p:spPr>
          <a:xfrm>
            <a:off x="5867280" y="404640"/>
            <a:ext cx="3036960" cy="24498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9"/>
          <p:cNvSpPr/>
          <p:nvPr/>
        </p:nvSpPr>
        <p:spPr>
          <a:xfrm>
            <a:off x="755640" y="623736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21130" y="3837"/>
                </a:moveTo>
                <a:lnTo>
                  <a:pt x="23706" y="6448"/>
                </a:ln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lnTo>
                  <a:pt x="28093" y="10800"/>
                </a:lnTo>
                <a:lnTo>
                  <a:pt x="26439" y="10800"/>
                </a:lnTo>
                <a:lnTo>
                  <a:pt x="26439" y="17989"/>
                </a:lnTo>
                <a:lnTo>
                  <a:pt x="15820" y="17989"/>
                </a:lnTo>
                <a:lnTo>
                  <a:pt x="15820" y="10800"/>
                </a:lnTo>
                <a:lnTo>
                  <a:pt x="14167" y="10800"/>
                </a:lnTo>
                <a:close/>
              </a:path>
              <a:path fill="darkenLess" w="42259" h="21600">
                <a:moveTo>
                  <a:pt x="23706" y="6448"/>
                </a:move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close/>
              </a:path>
              <a:path fill="darkenLess" w="42259" h="21600">
                <a:moveTo>
                  <a:pt x="20207" y="14299"/>
                </a:moveTo>
                <a:lnTo>
                  <a:pt x="22052" y="14299"/>
                </a:lnTo>
                <a:lnTo>
                  <a:pt x="22052" y="17989"/>
                </a:lnTo>
                <a:lnTo>
                  <a:pt x="26439" y="17989"/>
                </a:lnTo>
                <a:lnTo>
                  <a:pt x="26439" y="10800"/>
                </a:lnTo>
                <a:lnTo>
                  <a:pt x="15820" y="10800"/>
                </a:lnTo>
                <a:lnTo>
                  <a:pt x="15820" y="17989"/>
                </a:lnTo>
                <a:lnTo>
                  <a:pt x="20207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26549E-006 L -0.20538 0.20976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022E-007 L -0.23681 0.19935 E">
                                      <p:cBhvr>
                                        <p:cTn id="1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7"/>
          <p:cNvSpPr/>
          <p:nvPr/>
        </p:nvSpPr>
        <p:spPr>
          <a:xfrm rot="16200000">
            <a:off x="5400000" y="3103920"/>
            <a:ext cx="3816360" cy="331308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7236000" y="3716280"/>
            <a:ext cx="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5651640" y="3789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5651640" y="5157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5508720" y="2637000"/>
            <a:ext cx="3635280" cy="115380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>
            <a:off x="7020000" y="2852640"/>
            <a:ext cx="5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781200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622764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6227640" y="551664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7885080" y="5445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77" name="Picture 17" descr="тыква"/>
          <p:cNvPicPr/>
          <p:nvPr/>
        </p:nvPicPr>
        <p:blipFill>
          <a:blip r:embed="rId2"/>
          <a:stretch/>
        </p:blipFill>
        <p:spPr>
          <a:xfrm>
            <a:off x="0" y="0"/>
            <a:ext cx="2597040" cy="220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тыква"/>
          <p:cNvPicPr/>
          <p:nvPr/>
        </p:nvPicPr>
        <p:blipFill>
          <a:blip r:embed="rId3"/>
          <a:stretch/>
        </p:blipFill>
        <p:spPr>
          <a:xfrm>
            <a:off x="2340000" y="0"/>
            <a:ext cx="2597040" cy="220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тыква"/>
          <p:cNvPicPr/>
          <p:nvPr/>
        </p:nvPicPr>
        <p:blipFill>
          <a:blip r:embed="rId4"/>
          <a:stretch/>
        </p:blipFill>
        <p:spPr>
          <a:xfrm>
            <a:off x="4716360" y="0"/>
            <a:ext cx="2597400" cy="22017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1"/>
          <p:cNvSpPr/>
          <p:nvPr/>
        </p:nvSpPr>
        <p:spPr>
          <a:xfrm>
            <a:off x="2050920" y="6308640"/>
            <a:ext cx="1368720" cy="405000"/>
          </a:xfrm>
          <a:custGeom>
            <a:avLst/>
            <a:gdLst>
              <a:gd name="textAreaLeft" fmla="*/ 25920 w 1368720"/>
              <a:gd name="textAreaRight" fmla="*/ 1342800 w 1368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2953" h="21600">
                <a:moveTo>
                  <a:pt x="0" y="0"/>
                </a:moveTo>
                <a:lnTo>
                  <a:pt x="72953" y="0"/>
                </a:lnTo>
                <a:lnTo>
                  <a:pt x="72953" y="21600"/>
                </a:lnTo>
                <a:lnTo>
                  <a:pt x="0" y="21600"/>
                </a:lnTo>
                <a:close/>
              </a:path>
              <a:path fill="lightenLess" w="72953" h="21600">
                <a:moveTo>
                  <a:pt x="0" y="0"/>
                </a:moveTo>
                <a:lnTo>
                  <a:pt x="72953" y="0"/>
                </a:lnTo>
                <a:lnTo>
                  <a:pt x="71553" y="1400"/>
                </a:lnTo>
                <a:lnTo>
                  <a:pt x="1400" y="1400"/>
                </a:lnTo>
                <a:close/>
              </a:path>
              <a:path fill="darken" w="72953" h="21600">
                <a:moveTo>
                  <a:pt x="72953" y="0"/>
                </a:moveTo>
                <a:lnTo>
                  <a:pt x="72953" y="21600"/>
                </a:lnTo>
                <a:lnTo>
                  <a:pt x="71553" y="20200"/>
                </a:lnTo>
                <a:lnTo>
                  <a:pt x="71553" y="1400"/>
                </a:lnTo>
                <a:close/>
              </a:path>
              <a:path fill="darkenLess" w="72953" h="21600">
                <a:moveTo>
                  <a:pt x="72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53" y="20200"/>
                </a:lnTo>
                <a:close/>
              </a:path>
              <a:path fill="lighten" w="72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953" h="21600">
                <a:moveTo>
                  <a:pt x="36476" y="3837"/>
                </a:moveTo>
                <a:lnTo>
                  <a:pt x="39053" y="6448"/>
                </a:lnTo>
                <a:lnTo>
                  <a:pt x="39053" y="4707"/>
                </a:lnTo>
                <a:lnTo>
                  <a:pt x="40828" y="4707"/>
                </a:lnTo>
                <a:lnTo>
                  <a:pt x="40828" y="8224"/>
                </a:lnTo>
                <a:lnTo>
                  <a:pt x="43439" y="10800"/>
                </a:lnTo>
                <a:lnTo>
                  <a:pt x="41786" y="10800"/>
                </a:lnTo>
                <a:lnTo>
                  <a:pt x="41786" y="17989"/>
                </a:lnTo>
                <a:lnTo>
                  <a:pt x="31167" y="17989"/>
                </a:lnTo>
                <a:lnTo>
                  <a:pt x="31167" y="10800"/>
                </a:lnTo>
                <a:lnTo>
                  <a:pt x="29513" y="10800"/>
                </a:lnTo>
                <a:close/>
              </a:path>
              <a:path fill="darkenLess" w="72953" h="21600">
                <a:moveTo>
                  <a:pt x="39053" y="6448"/>
                </a:moveTo>
                <a:lnTo>
                  <a:pt x="39053" y="4707"/>
                </a:lnTo>
                <a:lnTo>
                  <a:pt x="40828" y="4707"/>
                </a:lnTo>
                <a:lnTo>
                  <a:pt x="40828" y="8224"/>
                </a:lnTo>
                <a:close/>
              </a:path>
              <a:path fill="darkenLess" w="72953" h="21600">
                <a:moveTo>
                  <a:pt x="35554" y="14299"/>
                </a:moveTo>
                <a:lnTo>
                  <a:pt x="37399" y="14299"/>
                </a:lnTo>
                <a:lnTo>
                  <a:pt x="37399" y="17989"/>
                </a:lnTo>
                <a:lnTo>
                  <a:pt x="41786" y="17989"/>
                </a:lnTo>
                <a:lnTo>
                  <a:pt x="41786" y="10800"/>
                </a:lnTo>
                <a:lnTo>
                  <a:pt x="31167" y="10800"/>
                </a:lnTo>
                <a:lnTo>
                  <a:pt x="31167" y="17989"/>
                </a:lnTo>
                <a:lnTo>
                  <a:pt x="35554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2988E-006 L -0.52014 0.38113 E">
                                      <p:cBhvr>
                                        <p:cTn id="2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2988E-006 L 0.00764 0.39177 E">
                                      <p:cBhvr>
                                        <p:cTn id="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 rot="16200000">
            <a:off x="5400000" y="3103920"/>
            <a:ext cx="3816360" cy="331308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236000" y="3716280"/>
            <a:ext cx="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651640" y="3789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651640" y="5157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5508720" y="2637000"/>
            <a:ext cx="3635280" cy="115380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7020000" y="2852640"/>
            <a:ext cx="5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7812000" y="407664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622764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6227640" y="551664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7885080" y="551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91" name="Picture 15" descr="божья коровка"/>
          <p:cNvPicPr/>
          <p:nvPr/>
        </p:nvPicPr>
        <p:blipFill>
          <a:blip r:embed="rId2"/>
          <a:stretch/>
        </p:blipFill>
        <p:spPr>
          <a:xfrm rot="2473800">
            <a:off x="179280" y="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божья коровка"/>
          <p:cNvPicPr/>
          <p:nvPr/>
        </p:nvPicPr>
        <p:blipFill>
          <a:blip r:embed="rId3"/>
          <a:stretch/>
        </p:blipFill>
        <p:spPr>
          <a:xfrm rot="2473800">
            <a:off x="2124000" y="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божья коровка"/>
          <p:cNvPicPr/>
          <p:nvPr/>
        </p:nvPicPr>
        <p:blipFill>
          <a:blip r:embed="rId4"/>
          <a:stretch/>
        </p:blipFill>
        <p:spPr>
          <a:xfrm rot="2473800">
            <a:off x="4067280" y="0"/>
            <a:ext cx="187488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божья коровка"/>
          <p:cNvPicPr/>
          <p:nvPr/>
        </p:nvPicPr>
        <p:blipFill>
          <a:blip r:embed="rId5"/>
          <a:stretch/>
        </p:blipFill>
        <p:spPr>
          <a:xfrm rot="2473800">
            <a:off x="5940360" y="0"/>
            <a:ext cx="187488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0"/>
          <p:cNvSpPr/>
          <p:nvPr/>
        </p:nvSpPr>
        <p:spPr>
          <a:xfrm>
            <a:off x="2050920" y="6237360"/>
            <a:ext cx="1368720" cy="476280"/>
          </a:xfrm>
          <a:custGeom>
            <a:avLst/>
            <a:gdLst>
              <a:gd name="textAreaLeft" fmla="*/ 30600 w 1368720"/>
              <a:gd name="textAreaRight" fmla="*/ 1338120 w 1368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2043" h="21600">
                <a:moveTo>
                  <a:pt x="0" y="0"/>
                </a:moveTo>
                <a:lnTo>
                  <a:pt x="62043" y="0"/>
                </a:lnTo>
                <a:lnTo>
                  <a:pt x="62043" y="21600"/>
                </a:lnTo>
                <a:lnTo>
                  <a:pt x="0" y="21600"/>
                </a:lnTo>
                <a:close/>
              </a:path>
              <a:path fill="lightenLess" w="62043" h="21600">
                <a:moveTo>
                  <a:pt x="0" y="0"/>
                </a:moveTo>
                <a:lnTo>
                  <a:pt x="62043" y="0"/>
                </a:lnTo>
                <a:lnTo>
                  <a:pt x="60643" y="1400"/>
                </a:lnTo>
                <a:lnTo>
                  <a:pt x="1400" y="1400"/>
                </a:lnTo>
                <a:close/>
              </a:path>
              <a:path fill="darken" w="62043" h="21600">
                <a:moveTo>
                  <a:pt x="62043" y="0"/>
                </a:moveTo>
                <a:lnTo>
                  <a:pt x="62043" y="21600"/>
                </a:lnTo>
                <a:lnTo>
                  <a:pt x="60643" y="20200"/>
                </a:lnTo>
                <a:lnTo>
                  <a:pt x="60643" y="1400"/>
                </a:lnTo>
                <a:close/>
              </a:path>
              <a:path fill="darkenLess" w="62043" h="21600">
                <a:moveTo>
                  <a:pt x="62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3" y="20200"/>
                </a:lnTo>
                <a:close/>
              </a:path>
              <a:path fill="lighten" w="62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43" h="21600">
                <a:moveTo>
                  <a:pt x="31021" y="3837"/>
                </a:moveTo>
                <a:lnTo>
                  <a:pt x="33598" y="6448"/>
                </a:lnTo>
                <a:lnTo>
                  <a:pt x="33598" y="4707"/>
                </a:lnTo>
                <a:lnTo>
                  <a:pt x="35373" y="4707"/>
                </a:lnTo>
                <a:lnTo>
                  <a:pt x="35373" y="8224"/>
                </a:lnTo>
                <a:lnTo>
                  <a:pt x="37984" y="10800"/>
                </a:lnTo>
                <a:lnTo>
                  <a:pt x="36331" y="10800"/>
                </a:lnTo>
                <a:lnTo>
                  <a:pt x="36331" y="17989"/>
                </a:lnTo>
                <a:lnTo>
                  <a:pt x="25712" y="17989"/>
                </a:lnTo>
                <a:lnTo>
                  <a:pt x="25712" y="10800"/>
                </a:lnTo>
                <a:lnTo>
                  <a:pt x="24058" y="10800"/>
                </a:lnTo>
                <a:close/>
              </a:path>
              <a:path fill="darkenLess" w="62043" h="21600">
                <a:moveTo>
                  <a:pt x="33598" y="6448"/>
                </a:moveTo>
                <a:lnTo>
                  <a:pt x="33598" y="4707"/>
                </a:lnTo>
                <a:lnTo>
                  <a:pt x="35373" y="4707"/>
                </a:lnTo>
                <a:lnTo>
                  <a:pt x="35373" y="8224"/>
                </a:lnTo>
                <a:close/>
              </a:path>
              <a:path fill="darkenLess" w="62043" h="21600">
                <a:moveTo>
                  <a:pt x="30099" y="14299"/>
                </a:moveTo>
                <a:lnTo>
                  <a:pt x="31944" y="14299"/>
                </a:lnTo>
                <a:lnTo>
                  <a:pt x="31944" y="17989"/>
                </a:lnTo>
                <a:lnTo>
                  <a:pt x="36331" y="17989"/>
                </a:lnTo>
                <a:lnTo>
                  <a:pt x="36331" y="10800"/>
                </a:lnTo>
                <a:lnTo>
                  <a:pt x="25712" y="10800"/>
                </a:lnTo>
                <a:lnTo>
                  <a:pt x="25712" y="17989"/>
                </a:lnTo>
                <a:lnTo>
                  <a:pt x="30099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8483E-006 L -0.64583 0.3055 E">
                                      <p:cBhvr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8483E-006 L -0.2283 0.31614 E">
                                      <p:cBhvr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38483E-006 L 0.1967 0.31614 E">
                                      <p:cBhvr>
                                        <p:cTn id="9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942E-006 L -0.16927 -2.22942E-006 E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942E-006 L 0.18125 -2.22942E-006 E">
                                      <p:cBhvr>
                                        <p:cTn id="9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"/>
          <p:cNvSpPr/>
          <p:nvPr/>
        </p:nvSpPr>
        <p:spPr>
          <a:xfrm rot="16200000">
            <a:off x="5400000" y="3103920"/>
            <a:ext cx="3816360" cy="331308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7236000" y="3716280"/>
            <a:ext cx="0" cy="295272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5651640" y="3789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5651640" y="5157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5508720" y="2637000"/>
            <a:ext cx="3635280" cy="115380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7020000" y="2852640"/>
            <a:ext cx="5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02" name="WordArt 13"/>
          <p:cNvSpPr txBox="1"/>
          <p:nvPr/>
        </p:nvSpPr>
        <p:spPr>
          <a:xfrm>
            <a:off x="781200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6227640" y="4076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6227640" y="5445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7885080" y="544500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106" name="Picture 27" descr="бабочка"/>
          <p:cNvPicPr/>
          <p:nvPr/>
        </p:nvPicPr>
        <p:blipFill>
          <a:blip r:embed="rId2"/>
          <a:srcRect l="0" t="0" r="0" b="19014"/>
          <a:stretch/>
        </p:blipFill>
        <p:spPr>
          <a:xfrm>
            <a:off x="32400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бабочка"/>
          <p:cNvPicPr/>
          <p:nvPr/>
        </p:nvPicPr>
        <p:blipFill>
          <a:blip r:embed="rId3"/>
          <a:srcRect l="0" t="0" r="0" b="19014"/>
          <a:stretch/>
        </p:blipFill>
        <p:spPr>
          <a:xfrm>
            <a:off x="205092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бабочка"/>
          <p:cNvPicPr/>
          <p:nvPr/>
        </p:nvPicPr>
        <p:blipFill>
          <a:blip r:embed="rId4"/>
          <a:srcRect l="0" t="0" r="0" b="19014"/>
          <a:stretch/>
        </p:blipFill>
        <p:spPr>
          <a:xfrm>
            <a:off x="399564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1" descr="бабочка"/>
          <p:cNvPicPr/>
          <p:nvPr/>
        </p:nvPicPr>
        <p:blipFill>
          <a:blip r:embed="rId5"/>
          <a:srcRect l="0" t="0" r="0" b="19014"/>
          <a:stretch/>
        </p:blipFill>
        <p:spPr>
          <a:xfrm>
            <a:off x="5867280" y="0"/>
            <a:ext cx="1239840" cy="148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2" descr="бабочка"/>
          <p:cNvPicPr/>
          <p:nvPr/>
        </p:nvPicPr>
        <p:blipFill>
          <a:blip r:embed="rId6"/>
          <a:srcRect l="0" t="0" r="0" b="19014"/>
          <a:stretch/>
        </p:blipFill>
        <p:spPr>
          <a:xfrm>
            <a:off x="7667640" y="0"/>
            <a:ext cx="123984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3"/>
          <p:cNvSpPr/>
          <p:nvPr/>
        </p:nvSpPr>
        <p:spPr>
          <a:xfrm>
            <a:off x="2050920" y="6308640"/>
            <a:ext cx="1224000" cy="405000"/>
          </a:xfrm>
          <a:custGeom>
            <a:avLst/>
            <a:gdLst>
              <a:gd name="textAreaLeft" fmla="*/ 25920 w 1224000"/>
              <a:gd name="textAreaRight" fmla="*/ 1198080 w 1224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65241" h="21600">
                <a:moveTo>
                  <a:pt x="0" y="0"/>
                </a:moveTo>
                <a:lnTo>
                  <a:pt x="65241" y="0"/>
                </a:lnTo>
                <a:lnTo>
                  <a:pt x="65241" y="21600"/>
                </a:lnTo>
                <a:lnTo>
                  <a:pt x="0" y="21600"/>
                </a:lnTo>
                <a:close/>
              </a:path>
              <a:path fill="lightenLess" w="65241" h="21600">
                <a:moveTo>
                  <a:pt x="0" y="0"/>
                </a:moveTo>
                <a:lnTo>
                  <a:pt x="65241" y="0"/>
                </a:lnTo>
                <a:lnTo>
                  <a:pt x="63841" y="1400"/>
                </a:lnTo>
                <a:lnTo>
                  <a:pt x="1400" y="1400"/>
                </a:lnTo>
                <a:close/>
              </a:path>
              <a:path fill="darken" w="65241" h="21600">
                <a:moveTo>
                  <a:pt x="65241" y="0"/>
                </a:moveTo>
                <a:lnTo>
                  <a:pt x="65241" y="21600"/>
                </a:lnTo>
                <a:lnTo>
                  <a:pt x="63841" y="20200"/>
                </a:lnTo>
                <a:lnTo>
                  <a:pt x="63841" y="1400"/>
                </a:lnTo>
                <a:close/>
              </a:path>
              <a:path fill="darkenLess" w="65241" h="21600">
                <a:moveTo>
                  <a:pt x="65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41" y="20200"/>
                </a:lnTo>
                <a:close/>
              </a:path>
              <a:path fill="lighten" w="65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41" h="21600">
                <a:moveTo>
                  <a:pt x="32621" y="3837"/>
                </a:moveTo>
                <a:lnTo>
                  <a:pt x="35197" y="6448"/>
                </a:lnTo>
                <a:lnTo>
                  <a:pt x="35197" y="4707"/>
                </a:lnTo>
                <a:lnTo>
                  <a:pt x="36972" y="4707"/>
                </a:lnTo>
                <a:lnTo>
                  <a:pt x="36972" y="8224"/>
                </a:lnTo>
                <a:lnTo>
                  <a:pt x="39584" y="10800"/>
                </a:lnTo>
                <a:lnTo>
                  <a:pt x="37930" y="10800"/>
                </a:lnTo>
                <a:lnTo>
                  <a:pt x="37930" y="17989"/>
                </a:lnTo>
                <a:lnTo>
                  <a:pt x="27311" y="17989"/>
                </a:lnTo>
                <a:lnTo>
                  <a:pt x="27311" y="10800"/>
                </a:lnTo>
                <a:lnTo>
                  <a:pt x="25658" y="10800"/>
                </a:lnTo>
                <a:close/>
              </a:path>
              <a:path fill="darkenLess" w="65241" h="21600">
                <a:moveTo>
                  <a:pt x="35197" y="6448"/>
                </a:moveTo>
                <a:lnTo>
                  <a:pt x="35197" y="4707"/>
                </a:lnTo>
                <a:lnTo>
                  <a:pt x="36972" y="4707"/>
                </a:lnTo>
                <a:lnTo>
                  <a:pt x="36972" y="8224"/>
                </a:lnTo>
                <a:close/>
              </a:path>
              <a:path fill="darkenLess" w="65241" h="21600">
                <a:moveTo>
                  <a:pt x="31698" y="14299"/>
                </a:moveTo>
                <a:lnTo>
                  <a:pt x="33543" y="14299"/>
                </a:lnTo>
                <a:lnTo>
                  <a:pt x="33543" y="17989"/>
                </a:lnTo>
                <a:lnTo>
                  <a:pt x="37930" y="17989"/>
                </a:lnTo>
                <a:lnTo>
                  <a:pt x="37930" y="10800"/>
                </a:lnTo>
                <a:lnTo>
                  <a:pt x="27311" y="10800"/>
                </a:lnTo>
                <a:lnTo>
                  <a:pt x="27311" y="17989"/>
                </a:lnTo>
                <a:lnTo>
                  <a:pt x="31698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014E-006 L -0.80781 0.21323 E">
                                      <p:cBhvr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014E-006 L -0.41407 0.22364 E">
                                      <p:cBhvr>
                                        <p:cTn id="12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014E-006 L -0.00469 0.21323 E">
                                      <p:cBhvr>
                                        <p:cTn id="13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8085E-006 L -0.18125 -4.680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68085E-006 L 0.18125 -4.68085E-006 E">
                                      <p:cBhvr>
                                        <p:cTn id="14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014E-006 L 0.40487 0.21323 E">
                                      <p:cBhvr>
                                        <p:cTn id="14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2.22942E-006 L 0.17344 -2.22942E-006 E">
                                      <p:cBhvr>
                                        <p:cTn id="14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942E-006 L -0.18108 -2.22942E-006 E">
                                      <p:cBhvr>
                                        <p:cTn id="15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груша"/>
          <p:cNvPicPr/>
          <p:nvPr/>
        </p:nvPicPr>
        <p:blipFill>
          <a:blip r:embed="rId1"/>
          <a:stretch/>
        </p:blipFill>
        <p:spPr>
          <a:xfrm>
            <a:off x="32400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груша"/>
          <p:cNvPicPr/>
          <p:nvPr/>
        </p:nvPicPr>
        <p:blipFill>
          <a:blip r:embed="rId2"/>
          <a:stretch/>
        </p:blipFill>
        <p:spPr>
          <a:xfrm>
            <a:off x="147636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груша"/>
          <p:cNvPicPr/>
          <p:nvPr/>
        </p:nvPicPr>
        <p:blipFill>
          <a:blip r:embed="rId3"/>
          <a:stretch/>
        </p:blipFill>
        <p:spPr>
          <a:xfrm>
            <a:off x="262728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груша"/>
          <p:cNvPicPr/>
          <p:nvPr/>
        </p:nvPicPr>
        <p:blipFill>
          <a:blip r:embed="rId4"/>
          <a:stretch/>
        </p:blipFill>
        <p:spPr>
          <a:xfrm>
            <a:off x="378000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груша"/>
          <p:cNvPicPr/>
          <p:nvPr/>
        </p:nvPicPr>
        <p:blipFill>
          <a:blip r:embed="rId5"/>
          <a:stretch/>
        </p:blipFill>
        <p:spPr>
          <a:xfrm>
            <a:off x="4932360" y="0"/>
            <a:ext cx="1058760" cy="15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груша"/>
          <p:cNvPicPr/>
          <p:nvPr/>
        </p:nvPicPr>
        <p:blipFill>
          <a:blip r:embed="rId6"/>
          <a:stretch/>
        </p:blipFill>
        <p:spPr>
          <a:xfrm>
            <a:off x="6084720" y="0"/>
            <a:ext cx="1059120" cy="1557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9"/>
          <p:cNvSpPr/>
          <p:nvPr/>
        </p:nvSpPr>
        <p:spPr>
          <a:xfrm>
            <a:off x="5651640" y="3573360"/>
            <a:ext cx="3313080" cy="309564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5508720" y="2421000"/>
            <a:ext cx="3635280" cy="1154160"/>
          </a:xfrm>
          <a:prstGeom prst="flowChartExtra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651640" y="4581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5651640" y="5589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7236000" y="3573360"/>
            <a:ext cx="0" cy="3095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25"/>
          <p:cNvSpPr txBox="1"/>
          <p:nvPr/>
        </p:nvSpPr>
        <p:spPr>
          <a:xfrm>
            <a:off x="622764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4" name="WordArt 26"/>
          <p:cNvSpPr txBox="1"/>
          <p:nvPr/>
        </p:nvSpPr>
        <p:spPr>
          <a:xfrm>
            <a:off x="7020000" y="2637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25" name="WordArt 27"/>
          <p:cNvSpPr txBox="1"/>
          <p:nvPr/>
        </p:nvSpPr>
        <p:spPr>
          <a:xfrm>
            <a:off x="622764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6" name="WordArt 28"/>
          <p:cNvSpPr txBox="1"/>
          <p:nvPr/>
        </p:nvSpPr>
        <p:spPr>
          <a:xfrm>
            <a:off x="630072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7" name="WordArt 29"/>
          <p:cNvSpPr txBox="1"/>
          <p:nvPr/>
        </p:nvSpPr>
        <p:spPr>
          <a:xfrm>
            <a:off x="781200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8" name="WordArt 30"/>
          <p:cNvSpPr txBox="1"/>
          <p:nvPr/>
        </p:nvSpPr>
        <p:spPr>
          <a:xfrm>
            <a:off x="7740720" y="4724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29" name="WordArt 31"/>
          <p:cNvSpPr txBox="1"/>
          <p:nvPr/>
        </p:nvSpPr>
        <p:spPr>
          <a:xfrm>
            <a:off x="7740720" y="37162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1979640" y="6237360"/>
            <a:ext cx="1368360" cy="404640"/>
          </a:xfrm>
          <a:custGeom>
            <a:avLst/>
            <a:gdLst>
              <a:gd name="textAreaLeft" fmla="*/ 25920 w 1368360"/>
              <a:gd name="textAreaRight" fmla="*/ 1342440 w 13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72998" h="21600">
                <a:moveTo>
                  <a:pt x="0" y="0"/>
                </a:moveTo>
                <a:lnTo>
                  <a:pt x="72998" y="0"/>
                </a:lnTo>
                <a:lnTo>
                  <a:pt x="72998" y="21600"/>
                </a:lnTo>
                <a:lnTo>
                  <a:pt x="0" y="21600"/>
                </a:lnTo>
                <a:close/>
              </a:path>
              <a:path fill="lightenLess" w="72998" h="21600">
                <a:moveTo>
                  <a:pt x="0" y="0"/>
                </a:moveTo>
                <a:lnTo>
                  <a:pt x="72998" y="0"/>
                </a:lnTo>
                <a:lnTo>
                  <a:pt x="71598" y="1400"/>
                </a:lnTo>
                <a:lnTo>
                  <a:pt x="1400" y="1400"/>
                </a:lnTo>
                <a:close/>
              </a:path>
              <a:path fill="darken" w="72998" h="21600">
                <a:moveTo>
                  <a:pt x="72998" y="0"/>
                </a:moveTo>
                <a:lnTo>
                  <a:pt x="72998" y="21600"/>
                </a:lnTo>
                <a:lnTo>
                  <a:pt x="71598" y="20200"/>
                </a:lnTo>
                <a:lnTo>
                  <a:pt x="71598" y="1400"/>
                </a:lnTo>
                <a:close/>
              </a:path>
              <a:path fill="darkenLess" w="72998" h="21600">
                <a:moveTo>
                  <a:pt x="7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598" y="20200"/>
                </a:lnTo>
                <a:close/>
              </a:path>
              <a:path fill="lighten" w="7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998" h="21600">
                <a:moveTo>
                  <a:pt x="36499" y="3837"/>
                </a:moveTo>
                <a:lnTo>
                  <a:pt x="39075" y="6448"/>
                </a:lnTo>
                <a:lnTo>
                  <a:pt x="39075" y="4707"/>
                </a:lnTo>
                <a:lnTo>
                  <a:pt x="40851" y="4707"/>
                </a:lnTo>
                <a:lnTo>
                  <a:pt x="40851" y="8224"/>
                </a:lnTo>
                <a:lnTo>
                  <a:pt x="43462" y="10800"/>
                </a:lnTo>
                <a:lnTo>
                  <a:pt x="41808" y="10800"/>
                </a:lnTo>
                <a:lnTo>
                  <a:pt x="41808" y="17989"/>
                </a:lnTo>
                <a:lnTo>
                  <a:pt x="31190" y="17989"/>
                </a:lnTo>
                <a:lnTo>
                  <a:pt x="31190" y="10800"/>
                </a:lnTo>
                <a:lnTo>
                  <a:pt x="29536" y="10800"/>
                </a:lnTo>
                <a:close/>
              </a:path>
              <a:path fill="darkenLess" w="72998" h="21600">
                <a:moveTo>
                  <a:pt x="39075" y="6448"/>
                </a:moveTo>
                <a:lnTo>
                  <a:pt x="39075" y="4707"/>
                </a:lnTo>
                <a:lnTo>
                  <a:pt x="40851" y="4707"/>
                </a:lnTo>
                <a:lnTo>
                  <a:pt x="40851" y="8224"/>
                </a:lnTo>
                <a:close/>
              </a:path>
              <a:path fill="darkenLess" w="72998" h="21600">
                <a:moveTo>
                  <a:pt x="35577" y="14299"/>
                </a:moveTo>
                <a:lnTo>
                  <a:pt x="37422" y="14299"/>
                </a:lnTo>
                <a:lnTo>
                  <a:pt x="37422" y="17989"/>
                </a:lnTo>
                <a:lnTo>
                  <a:pt x="41808" y="17989"/>
                </a:lnTo>
                <a:lnTo>
                  <a:pt x="41808" y="10800"/>
                </a:lnTo>
                <a:lnTo>
                  <a:pt x="31190" y="10800"/>
                </a:lnTo>
                <a:lnTo>
                  <a:pt x="31190" y="17989"/>
                </a:lnTo>
                <a:lnTo>
                  <a:pt x="35577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99075E-007 L -0.64062 0.23936 E">
                                      <p:cBhvr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9.99075E-007 L -0.38073 0.23936 E">
                                      <p:cBhvr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9.99075E-007 L -0.12865 0.23936 E">
                                      <p:cBhvr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99075E-007 L 0.13906 0.23936 E">
                                      <p:cBhvr>
                                        <p:cTn id="205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93802E-007 L -0.16545 6.93802E-007 E">
                                      <p:cBhvr>
                                        <p:cTn id="20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93802E-007 L 0.16545 6.93802E-007 E">
                                      <p:cBhvr>
                                        <p:cTn id="2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9.99075E-007 L 0.39097 0.23936 E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18125 -4.44444E-006 E">
                                      <p:cBhvr>
                                        <p:cTn id="21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54209E-006 L -0.18107 -4.54209E-006 E">
                                      <p:cBhvr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5651640" y="3573360"/>
            <a:ext cx="3313080" cy="309564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5508720" y="2421000"/>
            <a:ext cx="3635280" cy="115416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>
            <a:off x="7020000" y="2637000"/>
            <a:ext cx="5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7236000" y="3573360"/>
            <a:ext cx="0" cy="3095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5651640" y="458136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5651640" y="5589720"/>
            <a:ext cx="3313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9"/>
          <p:cNvSpPr txBox="1"/>
          <p:nvPr/>
        </p:nvSpPr>
        <p:spPr>
          <a:xfrm>
            <a:off x="622764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38" name="WordArt 20"/>
          <p:cNvSpPr txBox="1"/>
          <p:nvPr/>
        </p:nvSpPr>
        <p:spPr>
          <a:xfrm>
            <a:off x="7956720" y="5734080"/>
            <a:ext cx="43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39" name="WordArt 21"/>
          <p:cNvSpPr txBox="1"/>
          <p:nvPr/>
        </p:nvSpPr>
        <p:spPr>
          <a:xfrm>
            <a:off x="6300720" y="57340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40" name="WordArt 22"/>
          <p:cNvSpPr txBox="1"/>
          <p:nvPr/>
        </p:nvSpPr>
        <p:spPr>
          <a:xfrm>
            <a:off x="622764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41" name="WordArt 23"/>
          <p:cNvSpPr txBox="1"/>
          <p:nvPr/>
        </p:nvSpPr>
        <p:spPr>
          <a:xfrm>
            <a:off x="7885080" y="4724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42" name="WordArt 24"/>
          <p:cNvSpPr txBox="1"/>
          <p:nvPr/>
        </p:nvSpPr>
        <p:spPr>
          <a:xfrm>
            <a:off x="7812000" y="371628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143" name="Picture 25" descr="d2bc72b93974"/>
          <p:cNvPicPr/>
          <p:nvPr/>
        </p:nvPicPr>
        <p:blipFill>
          <a:blip r:embed="rId2"/>
          <a:stretch/>
        </p:blipFill>
        <p:spPr>
          <a:xfrm>
            <a:off x="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d2bc72b93974"/>
          <p:cNvPicPr/>
          <p:nvPr/>
        </p:nvPicPr>
        <p:blipFill>
          <a:blip r:embed="rId3"/>
          <a:stretch/>
        </p:blipFill>
        <p:spPr>
          <a:xfrm>
            <a:off x="104292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d2bc72b93974"/>
          <p:cNvPicPr/>
          <p:nvPr/>
        </p:nvPicPr>
        <p:blipFill>
          <a:blip r:embed="rId4"/>
          <a:stretch/>
        </p:blipFill>
        <p:spPr>
          <a:xfrm>
            <a:off x="205092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d2bc72b93974"/>
          <p:cNvPicPr/>
          <p:nvPr/>
        </p:nvPicPr>
        <p:blipFill>
          <a:blip r:embed="rId5"/>
          <a:stretch/>
        </p:blipFill>
        <p:spPr>
          <a:xfrm>
            <a:off x="313200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d2bc72b93974"/>
          <p:cNvPicPr/>
          <p:nvPr/>
        </p:nvPicPr>
        <p:blipFill>
          <a:blip r:embed="rId6"/>
          <a:stretch/>
        </p:blipFill>
        <p:spPr>
          <a:xfrm>
            <a:off x="4211640" y="115920"/>
            <a:ext cx="10461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d2bc72b93974"/>
          <p:cNvPicPr/>
          <p:nvPr/>
        </p:nvPicPr>
        <p:blipFill>
          <a:blip r:embed="rId7"/>
          <a:stretch/>
        </p:blipFill>
        <p:spPr>
          <a:xfrm>
            <a:off x="5292720" y="189000"/>
            <a:ext cx="104616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d2bc72b93974"/>
          <p:cNvPicPr/>
          <p:nvPr/>
        </p:nvPicPr>
        <p:blipFill>
          <a:blip r:embed="rId8"/>
          <a:stretch/>
        </p:blipFill>
        <p:spPr>
          <a:xfrm>
            <a:off x="6372360" y="189000"/>
            <a:ext cx="1046160" cy="1439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3"/>
          <p:cNvSpPr/>
          <p:nvPr/>
        </p:nvSpPr>
        <p:spPr>
          <a:xfrm>
            <a:off x="2195640" y="6308640"/>
            <a:ext cx="1224000" cy="333360"/>
          </a:xfrm>
          <a:custGeom>
            <a:avLst/>
            <a:gdLst>
              <a:gd name="textAreaLeft" fmla="*/ 21600 w 1224000"/>
              <a:gd name="textAreaRight" fmla="*/ 1202400 w 1224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79247" h="21600">
                <a:moveTo>
                  <a:pt x="0" y="0"/>
                </a:moveTo>
                <a:lnTo>
                  <a:pt x="79247" y="0"/>
                </a:lnTo>
                <a:lnTo>
                  <a:pt x="79247" y="21600"/>
                </a:lnTo>
                <a:lnTo>
                  <a:pt x="0" y="21600"/>
                </a:lnTo>
                <a:close/>
              </a:path>
              <a:path fill="lightenLess" w="79247" h="21600">
                <a:moveTo>
                  <a:pt x="0" y="0"/>
                </a:moveTo>
                <a:lnTo>
                  <a:pt x="79247" y="0"/>
                </a:lnTo>
                <a:lnTo>
                  <a:pt x="77847" y="1400"/>
                </a:lnTo>
                <a:lnTo>
                  <a:pt x="1400" y="1400"/>
                </a:lnTo>
                <a:close/>
              </a:path>
              <a:path fill="darken" w="79247" h="21600">
                <a:moveTo>
                  <a:pt x="79247" y="0"/>
                </a:moveTo>
                <a:lnTo>
                  <a:pt x="79247" y="21600"/>
                </a:lnTo>
                <a:lnTo>
                  <a:pt x="77847" y="20200"/>
                </a:lnTo>
                <a:lnTo>
                  <a:pt x="77847" y="1400"/>
                </a:lnTo>
                <a:close/>
              </a:path>
              <a:path fill="darkenLess" w="79247" h="21600">
                <a:moveTo>
                  <a:pt x="79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847" y="20200"/>
                </a:lnTo>
                <a:close/>
              </a:path>
              <a:path fill="lighten" w="79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247" h="21600">
                <a:moveTo>
                  <a:pt x="39623" y="3837"/>
                </a:moveTo>
                <a:lnTo>
                  <a:pt x="42200" y="6448"/>
                </a:lnTo>
                <a:lnTo>
                  <a:pt x="42200" y="4707"/>
                </a:lnTo>
                <a:lnTo>
                  <a:pt x="43975" y="4707"/>
                </a:lnTo>
                <a:lnTo>
                  <a:pt x="43975" y="8224"/>
                </a:lnTo>
                <a:lnTo>
                  <a:pt x="46586" y="10800"/>
                </a:lnTo>
                <a:lnTo>
                  <a:pt x="44933" y="10800"/>
                </a:lnTo>
                <a:lnTo>
                  <a:pt x="44933" y="17989"/>
                </a:lnTo>
                <a:lnTo>
                  <a:pt x="34314" y="17989"/>
                </a:lnTo>
                <a:lnTo>
                  <a:pt x="34314" y="10800"/>
                </a:lnTo>
                <a:lnTo>
                  <a:pt x="32660" y="10800"/>
                </a:lnTo>
                <a:close/>
              </a:path>
              <a:path fill="darkenLess" w="79247" h="21600">
                <a:moveTo>
                  <a:pt x="42200" y="6448"/>
                </a:moveTo>
                <a:lnTo>
                  <a:pt x="42200" y="4707"/>
                </a:lnTo>
                <a:lnTo>
                  <a:pt x="43975" y="4707"/>
                </a:lnTo>
                <a:lnTo>
                  <a:pt x="43975" y="8224"/>
                </a:lnTo>
                <a:close/>
              </a:path>
              <a:path fill="darkenLess" w="79247" h="21600">
                <a:moveTo>
                  <a:pt x="38701" y="14299"/>
                </a:moveTo>
                <a:lnTo>
                  <a:pt x="40546" y="14299"/>
                </a:lnTo>
                <a:lnTo>
                  <a:pt x="40546" y="17989"/>
                </a:lnTo>
                <a:lnTo>
                  <a:pt x="44933" y="17989"/>
                </a:lnTo>
                <a:lnTo>
                  <a:pt x="44933" y="10800"/>
                </a:lnTo>
                <a:lnTo>
                  <a:pt x="34314" y="10800"/>
                </a:lnTo>
                <a:lnTo>
                  <a:pt x="34314" y="17989"/>
                </a:lnTo>
                <a:lnTo>
                  <a:pt x="38701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92137E-006 L -0.69496 0.21 E">
                                      <p:cBhvr>
                                        <p:cTn id="22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92137E-006 L -0.46667 0.21 E">
                                      <p:cBhvr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765E-006 L -0.2382 0.22063 E">
                                      <p:cBhvr>
                                        <p:cTn id="25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765E-006 L -0.00208 0.22063 E">
                                      <p:cBhvr>
                                        <p:cTn id="27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18108 -0.00023 E">
                                      <p:cBhvr>
                                        <p:cTn id="2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00023 L -0.18108 -0.00046 E">
                                      <p:cBhvr>
                                        <p:cTn id="27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3765E-006 L 0.23438 0.22063 E">
                                      <p:cBhvr>
                                        <p:cTn id="28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0.18906 4.81481E-006 E">
                                      <p:cBhvr>
                                        <p:cTn id="28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1481E-006 L -0.18906 4.81481E-006 E">
                                      <p:cBhvr>
                                        <p:cTn id="28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3765E-006 L 0.46267 0.22063 E">
                                      <p:cBhvr>
                                        <p:cTn id="29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18906 -4.44444E-006 E">
                                      <p:cBhvr>
                                        <p:cTn id="2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4209E-006 L -0.18125 -4.54209E-006 E">
                                      <p:cBhvr>
                                        <p:cTn id="29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6227640" y="3933720"/>
            <a:ext cx="2737080" cy="2735280"/>
          </a:xfrm>
          <a:prstGeom prst="rect">
            <a:avLst/>
          </a:prstGeom>
          <a:solidFill>
            <a:srgbClr val="ffe6cd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6084720" y="2997360"/>
            <a:ext cx="3059280" cy="93816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7380360" y="314172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596360" y="3933720"/>
            <a:ext cx="0" cy="2735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6227640" y="5300640"/>
            <a:ext cx="2737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6227640" y="4581360"/>
            <a:ext cx="2737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6227640" y="6021360"/>
            <a:ext cx="2737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9"/>
          <p:cNvSpPr txBox="1"/>
          <p:nvPr/>
        </p:nvSpPr>
        <p:spPr>
          <a:xfrm>
            <a:off x="6732720" y="400536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6732720" y="4653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6732720" y="6093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1" name="WordArt 22"/>
          <p:cNvSpPr txBox="1"/>
          <p:nvPr/>
        </p:nvSpPr>
        <p:spPr>
          <a:xfrm>
            <a:off x="8172360" y="609300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8101080" y="5373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8101080" y="465300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4" name="WordArt 25"/>
          <p:cNvSpPr txBox="1"/>
          <p:nvPr/>
        </p:nvSpPr>
        <p:spPr>
          <a:xfrm>
            <a:off x="8028000" y="400536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6732720" y="5373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166" name="Picture 27" descr="арбуз"/>
          <p:cNvPicPr/>
          <p:nvPr/>
        </p:nvPicPr>
        <p:blipFill>
          <a:blip r:embed="rId2"/>
          <a:srcRect l="0" t="0" r="57773" b="55572"/>
          <a:stretch/>
        </p:blipFill>
        <p:spPr>
          <a:xfrm>
            <a:off x="0" y="115920"/>
            <a:ext cx="118728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арбуз"/>
          <p:cNvPicPr/>
          <p:nvPr/>
        </p:nvPicPr>
        <p:blipFill>
          <a:blip r:embed="rId3"/>
          <a:srcRect l="0" t="0" r="57773" b="55572"/>
          <a:stretch/>
        </p:blipFill>
        <p:spPr>
          <a:xfrm>
            <a:off x="111600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арбуз"/>
          <p:cNvPicPr/>
          <p:nvPr/>
        </p:nvPicPr>
        <p:blipFill>
          <a:blip r:embed="rId4"/>
          <a:srcRect l="0" t="0" r="57773" b="55572"/>
          <a:stretch/>
        </p:blipFill>
        <p:spPr>
          <a:xfrm>
            <a:off x="226836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арбуз"/>
          <p:cNvPicPr/>
          <p:nvPr/>
        </p:nvPicPr>
        <p:blipFill>
          <a:blip r:embed="rId5"/>
          <a:srcRect l="0" t="0" r="57773" b="55572"/>
          <a:stretch/>
        </p:blipFill>
        <p:spPr>
          <a:xfrm>
            <a:off x="3419640" y="115920"/>
            <a:ext cx="1187280" cy="1066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арбуз"/>
          <p:cNvPicPr/>
          <p:nvPr/>
        </p:nvPicPr>
        <p:blipFill>
          <a:blip r:embed="rId6"/>
          <a:srcRect l="0" t="0" r="57773" b="55572"/>
          <a:stretch/>
        </p:blipFill>
        <p:spPr>
          <a:xfrm>
            <a:off x="4572000" y="115920"/>
            <a:ext cx="118728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арбуз"/>
          <p:cNvPicPr/>
          <p:nvPr/>
        </p:nvPicPr>
        <p:blipFill>
          <a:blip r:embed="rId7"/>
          <a:srcRect l="0" t="0" r="57773" b="55572"/>
          <a:stretch/>
        </p:blipFill>
        <p:spPr>
          <a:xfrm>
            <a:off x="572436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арбуз"/>
          <p:cNvPicPr/>
          <p:nvPr/>
        </p:nvPicPr>
        <p:blipFill>
          <a:blip r:embed="rId8"/>
          <a:srcRect l="0" t="0" r="57773" b="55572"/>
          <a:stretch/>
        </p:blipFill>
        <p:spPr>
          <a:xfrm>
            <a:off x="6804000" y="115920"/>
            <a:ext cx="118764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арбуз"/>
          <p:cNvPicPr/>
          <p:nvPr/>
        </p:nvPicPr>
        <p:blipFill>
          <a:blip r:embed="rId9"/>
          <a:srcRect l="0" t="0" r="57773" b="55572"/>
          <a:stretch/>
        </p:blipFill>
        <p:spPr>
          <a:xfrm>
            <a:off x="7956720" y="115920"/>
            <a:ext cx="1187280" cy="1066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5"/>
          <p:cNvSpPr/>
          <p:nvPr/>
        </p:nvSpPr>
        <p:spPr>
          <a:xfrm>
            <a:off x="2411280" y="6308640"/>
            <a:ext cx="1440000" cy="405000"/>
          </a:xfrm>
          <a:custGeom>
            <a:avLst/>
            <a:gdLst>
              <a:gd name="textAreaLeft" fmla="*/ 25920 w 1440000"/>
              <a:gd name="textAreaRight" fmla="*/ 1414080 w 14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51" h="21600">
                <a:moveTo>
                  <a:pt x="0" y="0"/>
                </a:moveTo>
                <a:lnTo>
                  <a:pt x="76751" y="0"/>
                </a:lnTo>
                <a:lnTo>
                  <a:pt x="76751" y="21600"/>
                </a:lnTo>
                <a:lnTo>
                  <a:pt x="0" y="21600"/>
                </a:lnTo>
                <a:close/>
              </a:path>
              <a:path fill="lightenLess" w="76751" h="21600">
                <a:moveTo>
                  <a:pt x="0" y="0"/>
                </a:moveTo>
                <a:lnTo>
                  <a:pt x="76751" y="0"/>
                </a:lnTo>
                <a:lnTo>
                  <a:pt x="75351" y="1400"/>
                </a:lnTo>
                <a:lnTo>
                  <a:pt x="1400" y="1400"/>
                </a:lnTo>
                <a:close/>
              </a:path>
              <a:path fill="darken" w="76751" h="21600">
                <a:moveTo>
                  <a:pt x="76751" y="0"/>
                </a:moveTo>
                <a:lnTo>
                  <a:pt x="76751" y="21600"/>
                </a:lnTo>
                <a:lnTo>
                  <a:pt x="75351" y="20200"/>
                </a:lnTo>
                <a:lnTo>
                  <a:pt x="75351" y="1400"/>
                </a:lnTo>
                <a:close/>
              </a:path>
              <a:path fill="darkenLess" w="76751" h="21600">
                <a:moveTo>
                  <a:pt x="76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51" y="20200"/>
                </a:lnTo>
                <a:close/>
              </a:path>
              <a:path fill="lighten" w="76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51" h="21600">
                <a:moveTo>
                  <a:pt x="38375" y="3837"/>
                </a:moveTo>
                <a:lnTo>
                  <a:pt x="40952" y="6448"/>
                </a:lnTo>
                <a:lnTo>
                  <a:pt x="40952" y="4707"/>
                </a:lnTo>
                <a:lnTo>
                  <a:pt x="42727" y="4707"/>
                </a:lnTo>
                <a:lnTo>
                  <a:pt x="42727" y="8224"/>
                </a:lnTo>
                <a:lnTo>
                  <a:pt x="45338" y="10800"/>
                </a:lnTo>
                <a:lnTo>
                  <a:pt x="43685" y="10800"/>
                </a:lnTo>
                <a:lnTo>
                  <a:pt x="43685" y="17989"/>
                </a:lnTo>
                <a:lnTo>
                  <a:pt x="33066" y="17989"/>
                </a:lnTo>
                <a:lnTo>
                  <a:pt x="33066" y="10800"/>
                </a:lnTo>
                <a:lnTo>
                  <a:pt x="31413" y="10800"/>
                </a:lnTo>
                <a:close/>
              </a:path>
              <a:path fill="darkenLess" w="76751" h="21600">
                <a:moveTo>
                  <a:pt x="40952" y="6448"/>
                </a:moveTo>
                <a:lnTo>
                  <a:pt x="40952" y="4707"/>
                </a:lnTo>
                <a:lnTo>
                  <a:pt x="42727" y="4707"/>
                </a:lnTo>
                <a:lnTo>
                  <a:pt x="42727" y="8224"/>
                </a:lnTo>
                <a:close/>
              </a:path>
              <a:path fill="darkenLess" w="76751" h="21600">
                <a:moveTo>
                  <a:pt x="37453" y="14299"/>
                </a:moveTo>
                <a:lnTo>
                  <a:pt x="39298" y="14299"/>
                </a:lnTo>
                <a:lnTo>
                  <a:pt x="39298" y="17989"/>
                </a:lnTo>
                <a:lnTo>
                  <a:pt x="43685" y="17989"/>
                </a:lnTo>
                <a:lnTo>
                  <a:pt x="43685" y="10800"/>
                </a:lnTo>
                <a:lnTo>
                  <a:pt x="33066" y="10800"/>
                </a:lnTo>
                <a:lnTo>
                  <a:pt x="33066" y="17989"/>
                </a:lnTo>
                <a:lnTo>
                  <a:pt x="37453" y="17989"/>
                </a:lnTo>
                <a:close/>
              </a:path>
            </a:pathLst>
          </a:custGeom>
          <a:solidFill>
            <a:srgbClr val="0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65587E-006 L -0.86823 0.21623 E">
                                      <p:cBhvr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65587E-006 L -0.62396 0.21623 E">
                                      <p:cBhvr>
                                        <p:cTn id="32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5587E-006 L -0.38003 0.21623 E">
                                      <p:cBhvr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65587E-006 L -0.13576 0.21623 E">
                                      <p:cBhvr>
                                        <p:cTn id="35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65587E-006 L 0.11632 0.21623 E">
                                      <p:cBhvr>
                                        <p:cTn id="36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0.15747 4.07407E-006 E">
                                      <p:cBhvr>
                                        <p:cTn id="37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-0.15747 4.07407E-006 E">
                                      <p:cBhvr>
                                        <p:cTn id="37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65587E-006 L 0.36806 0.21623 E">
                                      <p:cBhvr>
                                        <p:cTn id="37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92593E-006 L 0.15747 -5.92593E-006 E">
                                      <p:cBhvr>
                                        <p:cTn id="38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5273E-006 L -0.14948 0.00532 E">
                                      <p:cBhvr>
                                        <p:cTn id="38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5587E-006 L 0.62014 0.21623 E">
                                      <p:cBhvr>
                                        <p:cTn id="38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0.15747 4.07407E-006 E">
                                      <p:cBhvr>
                                        <p:cTn id="39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951E-007 L -0.15747 0.00532 E">
                                      <p:cBhvr>
                                        <p:cTn id="39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36:32Z</dcterms:created>
  <dc:creator>User</dc:creator>
  <dc:description/>
  <dc:language>en-US</dc:language>
  <cp:lastModifiedBy>XTreme.ws</cp:lastModifiedBy>
  <dcterms:modified xsi:type="dcterms:W3CDTF">2014-01-23T08:22:32Z</dcterms:modified>
  <cp:revision>70</cp:revision>
  <dc:subject/>
  <dc:title>Слайд 1</dc:title>
</cp:coreProperties>
</file>