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182-473B-4F95-9A5A-DFB5C4DC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321-501E-4DA5-A24A-0D68321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D11-1D8D-4457-A073-E74A5FD0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56D-56CA-462A-A917-96DD7970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EC4-5BBC-4CB0-BC81-1777348B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13D-E5FD-4A1D-B2E1-F04CCAFD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8A7-AC2F-4E79-89FC-A8847B21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E762-04A6-46F6-A6F3-3C21F999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6B8-11A3-4A36-8140-BAF12168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9170-74A5-4638-9C17-486407B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CF2-26CD-4E49-935B-C533E39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D2E-3D08-480E-A425-B7CF5F4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BB8-AE04-4375-A344-7126DF8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82A-1033-47D8-A706-00BE69F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095-8D14-43A7-8C9A-B7A7971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FCB-F81F-40C8-8C1B-8479526B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491A-3E10-468E-8CB4-65DF5F74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F417-C658-4C8A-8028-72A9B80B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B923-4503-4279-8A7E-784D63C5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E994-5134-4440-A49F-E5A7C6B5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C905-119F-40A2-87F2-291F4EB0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1E12-2507-40CB-82E3-A3D28D1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B53-07D7-46A8-9DD4-CA2CBD4F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9848-8429-4EDD-82D3-EC6B0EDE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A922-3196-40CB-BD40-D484C9FC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200F-7FC2-4698-87BC-B8CE2CB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F434-AD28-4112-9A2A-1A1577B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C47B-1C1C-4C0E-B700-9CA15B92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8DDBF-6B0E-4916-9630-C4E6116E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68F0-F448-443C-B652-81FFBA94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C960-3C0E-4BC1-81ED-370F90A9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5AED-07F0-48A9-9EC9-2F9467D6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3CC4-E4AD-4A2F-829E-1DD43173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3D8-B4E6-4F73-B0CA-B669893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84DD-FE22-40F7-9CC2-1A9930D6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41E3-8E05-4F25-959F-308EF0C6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3EDB-ED02-4696-B0D0-CB3E247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25ED-73EA-4C44-943E-FF6EEAF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3A4D-2861-4DF6-B6BA-281B3E9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C2E2-4631-4F6B-AE12-2FDB70D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42BF-5645-4AC9-849A-6D8445D6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F71B-D404-425C-BCE5-A8C93F7B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DDB4-1041-4F2A-A62C-F4291985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405-9177-4378-BFAA-408B91EF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085-9B84-4717-ABA1-746B139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456-5FA9-4BA1-95B1-591481F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E17-75F8-489A-B390-B583FE7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15E-9A14-46C4-B732-486E0F4D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8C6-5A80-475C-8F3F-3B259427013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FE85-B917-4C95-8E1E-7FCC930DFA6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A312-9254-4E8D-AE1E-ED1F54D884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0E54-C4F9-4678-B82F-3BA2418D561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28600" y="1143000"/>
            <a:ext cx="8610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uten, Tag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6" descr="Water-Lilya"/>
          <p:cNvPicPr/>
          <p:nvPr/>
        </p:nvPicPr>
        <p:blipFill>
          <a:blip r:embed="rId1"/>
          <a:stretch/>
        </p:blipFill>
        <p:spPr>
          <a:xfrm>
            <a:off x="3124080" y="358128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Полина\Рабочий стол\Копия Scan_20131017_173148.jpg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Полина\Рабочий стол\Scan_20131017_173320.jpg"/>
          <p:cNvPicPr/>
          <p:nvPr/>
        </p:nvPicPr>
        <p:blipFill>
          <a:blip r:embed="rId1"/>
          <a:stretch/>
        </p:blipFill>
        <p:spPr>
          <a:xfrm>
            <a:off x="533520" y="9144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5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 antworten wir auf die Frage „Wo?"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o? 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hie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do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link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recht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vor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hint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                      geradeaus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s Schloß, der Park!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nks die Kirch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hts der Markt.</a:t>
            </a:r>
            <a:br>
              <a:rPr sz="1900"/>
            </a:b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rn die Post, 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Apothek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e Geschäfte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der Ecke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Museum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der Mitte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ommt, hierher,</a:t>
            </a:r>
            <a:br>
              <a:rPr sz="1900"/>
            </a:br>
            <a:r>
              <a:rPr b="0" lang="de-DE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sucht es bitte!</a:t>
            </a:r>
            <a:br>
              <a:rPr sz="1900"/>
            </a:br>
            <a:br>
              <a:rPr sz="1500"/>
            </a:b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1523880" y="45720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eine Stad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400800" y="1752480"/>
            <a:ext cx="312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rt am Ran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egt der Zoo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eich daneb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in Bistro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 die Burg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ier ein Betrieb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ine Stadt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ch hab’ dich lieb!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HGP明朝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9" descr="BABGBS"/>
          <p:cNvPicPr/>
          <p:nvPr/>
        </p:nvPicPr>
        <p:blipFill>
          <a:blip r:embed="rId1"/>
          <a:stretch/>
        </p:blipFill>
        <p:spPr>
          <a:xfrm>
            <a:off x="3200400" y="22096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Полина\Рабочий стол\Scan_20131017_190144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3"/>
          <p:cNvPicPr/>
          <p:nvPr/>
        </p:nvPicPr>
        <p:blipFill>
          <a:blip r:embed="rId2"/>
          <a:stretch/>
        </p:blipFill>
        <p:spPr>
          <a:xfrm>
            <a:off x="304920" y="6858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ir bauen unsere Stadt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685800" y="83808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s Projek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C:\Documents and Settings\Полина\Рабочий стол\Scan_20131017_173950.jpg"/>
          <p:cNvPicPr/>
          <p:nvPr/>
        </p:nvPicPr>
        <p:blipFill>
          <a:blip r:embed="rId3"/>
          <a:stretch/>
        </p:blipFill>
        <p:spPr>
          <a:xfrm>
            <a:off x="4648320" y="3505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Сегодня на уроке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зна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знакомился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омнил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Теперь 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  <a:ea typeface="HGP明朝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ю, как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 …  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1219320" y="838080"/>
            <a:ext cx="7010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Calibri"/>
              </a:rPr>
              <a:t>HAUSAUFGAB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. 57 Abzählreim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2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1494000"/>
            <a:ext cx="83152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440" y="1752120"/>
            <a:ext cx="8001000" cy="430380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457200" y="990720"/>
            <a:ext cx="8381880" cy="27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''Eine alte deutsche Stadt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as gibt es hier?''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04617b"/>
                </a:solidFill>
                <a:latin typeface="Calibri"/>
                <a:ea typeface="ＭＳ Ｐゴシック"/>
              </a:rPr>
              <a:t>Wiederholen wir die Wörter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Was gibt es in der Stadt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HGP明朝E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XXCASTLE"/>
          <p:cNvPicPr/>
          <p:nvPr/>
        </p:nvPicPr>
        <p:blipFill>
          <a:blip r:embed="rId2"/>
          <a:stretch/>
        </p:blipFill>
        <p:spPr>
          <a:xfrm>
            <a:off x="2209680" y="380880"/>
            <a:ext cx="6477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WINSCENE"/>
          <p:cNvPicPr/>
          <p:nvPr/>
        </p:nvPicPr>
        <p:blipFill>
          <a:blip r:embed="rId2"/>
          <a:stretch/>
        </p:blipFill>
        <p:spPr>
          <a:xfrm>
            <a:off x="380880" y="685800"/>
            <a:ext cx="8153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Полина\Рабочий стол\Scan_20131017_173441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Полина\Рабочий стол\Копия Scan_20131017_173441.jpg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C:\Documents and Settings\Полина\Рабочий стол\Scan_20131017_173148.jp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ина</cp:lastModifiedBy>
  <dcterms:modified xsi:type="dcterms:W3CDTF">2013-10-17T13:04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