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001-E805-44BF-8D1D-D6688236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5B3-21B2-40FF-B94E-4DAA24D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FF2-60D8-428D-83A6-17A07358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BB6-F653-4444-99A1-97F15C65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44FB-8210-4106-BF73-E983CC41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545-63D4-45E4-B17C-8827A2DE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C20D-6F54-4A16-A66B-610B2CE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5A6-10FD-4FE3-9E1F-A98CF3B2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5B05-F408-476D-B88C-9105208E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873C-E19C-4DAE-9E31-EE12254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CAB8-AEF6-419A-B300-31CCF1E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CEE-139F-4E67-8A62-3429D3B8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3B4-46DC-4F37-8B5D-7540D8A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D1B-0A4D-4AA9-8E8A-768A2FB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31D3-3868-4236-A8DA-60D2302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CB9-A350-46C0-AAC6-7E056823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91A-1416-4B00-AFBA-FE00CECF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6B15-0FA9-479A-A039-A6CC8CE4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FBBF-32BF-4263-BF02-D06986E9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A577-A8F1-4D6F-A711-96FEF37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7078-7D94-4901-968F-284DF42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9E3F-7DEA-4CEB-81C0-40057DF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0A5-B540-4E54-9C24-B63452E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1707-BD58-41B7-A753-9AA31BA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DCBF-94C6-4AE0-907C-B710B66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9457-5704-48B4-94AA-3824598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5D82-14A2-4C1A-ADEC-3F82D1F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E25C-BBED-4C54-B2BA-D335F728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B447-CBC4-45F8-9034-4897C4A6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ED06-48FE-4E1E-8EC1-EA99B310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56ED-C8BE-420E-90E8-24EFC4D4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9B73-6F4A-48BF-940E-FFE57AB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DAE5-0E1B-41BE-A04F-8469DEE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D3C-BA88-4804-BC3A-437E997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E8E3-9CFB-46F0-853E-B9540CAF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211B-5099-470E-A142-6BE3CA85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AA0E-FB0C-4B17-8229-70BBB0EA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ACE0-836C-40B6-916C-C3096B1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2550-5974-4A07-8155-C9B5EE4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6C82-E048-4144-B66E-2E1AA5E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CC0B-4798-44C9-9BA9-82BECB2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5D4D-9421-4DCC-8719-940FFAB8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35BC-5FB4-45AE-AAA6-62E4BCBF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685-CCCC-496A-B5BD-661F814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2C1-B953-43C5-8B6E-C556D72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DBA-1EA8-46FD-A38E-4359251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ACA-2B5E-4A76-98E2-F730C7B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510-7133-4600-B13D-6133BAB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473-DA78-4FA4-B3B6-016CB8CB8C9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EEA-FE88-4981-B71D-440EFA756AD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277B-6AA4-46AB-A2AA-573C96AD3A5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0B4-34E9-4E0E-808A-B98C043F0C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28600" y="1143000"/>
            <a:ext cx="8610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uten, Ta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6" descr="Water-Lilya"/>
          <p:cNvPicPr/>
          <p:nvPr/>
        </p:nvPicPr>
        <p:blipFill>
          <a:blip r:embed="rId1"/>
          <a:stretch/>
        </p:blipFill>
        <p:spPr>
          <a:xfrm>
            <a:off x="3124080" y="358128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Полина\Рабочий стол\Копия Scan_20131017_173148.jpg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Полина\Рабочий стол\Scan_20131017_173320.jpg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 antworten wir auf die Frage „Wo?"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o? 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hie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do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link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recht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vor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hint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      geradeaus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s Schloß, der Park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nks die Kirch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hts der Markt.</a:t>
            </a:r>
            <a:br>
              <a:rPr sz="1900"/>
            </a:b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rn die Post, 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Apothek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Geschäfte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der Ecke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Museum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der Mitt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ommt, hierher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sucht es bitte!</a:t>
            </a:r>
            <a:br>
              <a:rPr sz="1900"/>
            </a:br>
            <a:br>
              <a:rPr sz="15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1523880" y="45720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eine Stad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400800" y="1752480"/>
            <a:ext cx="312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rt am Ra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egt der Zoo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eich daneb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Bistro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 die Burg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ier ein Betrieb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ch hab’ dich lieb!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HGP明朝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9" descr="BABGBS"/>
          <p:cNvPicPr/>
          <p:nvPr/>
        </p:nvPicPr>
        <p:blipFill>
          <a:blip r:embed="rId1"/>
          <a:stretch/>
        </p:blipFill>
        <p:spPr>
          <a:xfrm>
            <a:off x="3200400" y="2209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Полина\Рабочий стол\Scan_20131017_190144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ir bauen unsere Stadt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685800" y="83808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s Projek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C:\Documents and Settings\Полина\Рабочий стол\Scan_20131017_173950.jpg"/>
          <p:cNvPicPr/>
          <p:nvPr/>
        </p:nvPicPr>
        <p:blipFill>
          <a:blip r:embed="rId3"/>
          <a:stretch/>
        </p:blipFill>
        <p:spPr>
          <a:xfrm>
            <a:off x="4648320" y="3505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Сегодня на уроке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зна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лся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омни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Теперь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ю, как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 …  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219320" y="838080"/>
            <a:ext cx="7010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HAUSAUFGAB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. 57 Abzählrei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1494000"/>
            <a:ext cx="83152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440" y="1752120"/>
            <a:ext cx="8001000" cy="4303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457200" y="990720"/>
            <a:ext cx="8381880" cy="27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''Eine alte deutsche Stadt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as gibt es hier?''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derholen wir die Wörter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as gibt es in der Stadt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HGP明朝E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XXCASTLE"/>
          <p:cNvPicPr/>
          <p:nvPr/>
        </p:nvPicPr>
        <p:blipFill>
          <a:blip r:embed="rId2"/>
          <a:stretch/>
        </p:blipFill>
        <p:spPr>
          <a:xfrm>
            <a:off x="2209680" y="380880"/>
            <a:ext cx="6477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WINSCENE"/>
          <p:cNvPicPr/>
          <p:nvPr/>
        </p:nvPicPr>
        <p:blipFill>
          <a:blip r:embed="rId2"/>
          <a:stretch/>
        </p:blipFill>
        <p:spPr>
          <a:xfrm>
            <a:off x="380880" y="685800"/>
            <a:ext cx="8153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Полина\Рабочий стол\Scan_20131017_173441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Полина\Рабочий стол\Копия Scan_20131017_173441.jpg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C:\Documents and Settings\Полина\Рабочий стол\Scan_20131017_173148.jp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ина</cp:lastModifiedBy>
  <dcterms:modified xsi:type="dcterms:W3CDTF">2013-10-17T13:04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