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8.gif" ContentType="image/gif"/>
  <Override PartName="/ppt/media/image23.jpeg" ContentType="image/jpeg"/>
  <Override PartName="/ppt/media/image22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4.png" ContentType="image/png"/>
  <Override PartName="/ppt/media/image12.wmf" ContentType="image/x-wmf"/>
  <Override PartName="/ppt/media/image6.jpeg" ContentType="image/jpeg"/>
  <Override PartName="/ppt/media/image29.gif" ContentType="image/gif"/>
  <Override PartName="/ppt/media/image9.png" ContentType="image/png"/>
  <Override PartName="/ppt/media/image31.gif" ContentType="image/gif"/>
  <Override PartName="/ppt/media/image13.wmf" ContentType="image/x-wmf"/>
  <Override PartName="/ppt/media/image7.jpeg" ContentType="image/jpeg"/>
  <Override PartName="/ppt/media/image11.png" ContentType="image/png"/>
  <Override PartName="/ppt/media/image33.gif" ContentType="image/gif"/>
  <Override PartName="/ppt/media/image3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16.png" ContentType="image/png"/>
  <Override PartName="/ppt/media/image17.jpeg" ContentType="image/jpeg"/>
  <Override PartName="/ppt/media/image18.jpeg" ContentType="image/jpeg"/>
  <Override PartName="/ppt/media/image15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3F4-082B-4798-A355-CA1D70D6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15C-1373-4CDB-9D20-4740162E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B9F-F1A9-41A6-8F11-C612FCB9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5F5-604D-4053-AB5E-456CA209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EC0D-2FC0-4BE8-B8B3-BA192632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B104-94E3-4C01-A464-797C546D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5E67-18F0-47F8-91F8-366A4834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BC7B-1E87-4CC1-813D-18E24313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89D1-AE79-4908-A5F5-C67BBBA1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DBF4-E60E-48DB-9422-4DC8912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BC2B-3F4E-4660-871E-B686FBB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7C5-75EE-4ED1-A024-4BD509B5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879F-B78A-44E0-B236-ED62EA5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3B7F-6DCD-4B04-A0C7-C2C27C6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6064-FB81-4FA4-9DF7-99D139F1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D8C-D311-4E4D-BBD5-4F7295AD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B0FC-E4D1-4413-B2AF-5D02E8A1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A977-F7E7-463C-8B81-A5E1A8BC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4359-622E-433A-A8ED-AD46E346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249A-F033-4C0E-9860-7812551C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6AD5-8C31-4E1C-AAC7-E38B66F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44FD-43B5-4620-BC7D-AA6DFDA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8A0-E0BE-43B6-AB89-1FFD1E4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CF2D-F8C9-41DC-BFD2-46A063CD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698D-66F5-4174-84BB-31776F21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1082-9D20-42CF-BA49-64C65D12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A065-4CDB-4418-B8D5-5743E94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18CB-F3F5-4C58-9195-76050587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141C-8983-4518-8586-61314E5F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AA10-06BA-4A49-B797-C369BABE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A2F3-0707-4B62-BB1B-1DB11264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BBB6D-D98A-449E-8CA8-DAEF1B4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DDCC-904D-43E4-B24F-76D6A933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389-F3AF-46FF-AF3F-A0E0CC24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879C-387A-4AA9-90CF-CDC364CA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928D-8DE0-4C7F-812E-CD948596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1F55-0026-4C50-882B-F1FBB64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DCE0-3D00-4270-88DD-931FB8B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A655-D845-45D9-B939-C49A57E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0B29-598C-455F-9923-3BC07C8B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71B3F-B3EB-4FE3-9859-EBEE00CD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4D789-845D-45AC-8C04-70640192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05F4-C5A0-492F-A151-E66DC1D2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BE9-7455-4354-BD24-08269222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5EA-F5DF-4372-B0C6-F0742F7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7F5-5064-4EE7-BF7B-C2A4A4C0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A38-77F4-468C-BC17-8D439EE4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3D6-AB8C-4B92-A09F-15C45BC8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78B8-1B05-409B-AC29-F557CC31F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1DF-CFD6-4400-B6A1-A8EB2AAE90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E629-A182-4B5D-ADA0-5849A8A7F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E55C-48C1-4CDD-8DC1-8107A63DD4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2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jpe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1471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RAVELLING TO THE UNITED KINGDOM OF GREAT BRITAIN AND NOTHERN IRELAN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Picture 18" descr="Англия"/>
          <p:cNvPicPr/>
          <p:nvPr/>
        </p:nvPicPr>
        <p:blipFill>
          <a:blip r:embed="rId1"/>
          <a:stretch/>
        </p:blipFill>
        <p:spPr>
          <a:xfrm>
            <a:off x="539640" y="4076640"/>
            <a:ext cx="3456000" cy="25192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00360" y="3531960"/>
            <a:ext cx="1719360" cy="49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6000" y="5157720"/>
            <a:ext cx="4181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Ь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ГЛИЙСКОГО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ЗЫ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шина наталья леонид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7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флаг ирландии"/>
          <p:cNvPicPr/>
          <p:nvPr/>
        </p:nvPicPr>
        <p:blipFill>
          <a:blip r:embed="rId1"/>
          <a:stretch/>
        </p:blipFill>
        <p:spPr>
          <a:xfrm>
            <a:off x="755640" y="1557360"/>
            <a:ext cx="2664000" cy="15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А"/>
          <p:cNvPicPr/>
          <p:nvPr/>
        </p:nvPicPr>
        <p:blipFill>
          <a:blip r:embed="rId2"/>
          <a:stretch/>
        </p:blipFill>
        <p:spPr>
          <a:xfrm>
            <a:off x="5292720" y="4653000"/>
            <a:ext cx="2811600" cy="1857240"/>
          </a:xfrm>
          <a:prstGeom prst="rect">
            <a:avLst/>
          </a:prstGeom>
          <a:ln w="0">
            <a:noFill/>
          </a:ln>
        </p:spPr>
      </p:pic>
      <p:sp>
        <p:nvSpPr>
          <p:cNvPr id="263" name="WordArt 6"/>
          <p:cNvSpPr txBox="1"/>
          <p:nvPr/>
        </p:nvSpPr>
        <p:spPr>
          <a:xfrm>
            <a:off x="1187280" y="476280"/>
            <a:ext cx="705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rthern Ireland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924360" y="1844640"/>
            <a:ext cx="468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rthern Ireland is a part of the United Kingdom. Its capital is Belf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Irish flag is red and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8" descr="MCj03050310000[1]"/>
          <p:cNvPicPr/>
          <p:nvPr/>
        </p:nvPicPr>
        <p:blipFill>
          <a:blip r:embed="rId3"/>
          <a:stretch/>
        </p:blipFill>
        <p:spPr>
          <a:xfrm>
            <a:off x="826920" y="3213000"/>
            <a:ext cx="2592720" cy="18716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"/>
          <p:cNvSpPr/>
          <p:nvPr/>
        </p:nvSpPr>
        <p:spPr>
          <a:xfrm>
            <a:off x="3995640" y="3645000"/>
            <a:ext cx="46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ymbol of Northern 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 a shamrock and a red h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84360" y="5445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rish are known for their charm and their pol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3">
            <a:hlinkClick r:id="" action="ppaction://hlinkshowjump?jump=nextslide"/>
          </p:cNvPr>
          <p:cNvSpPr/>
          <p:nvPr/>
        </p:nvSpPr>
        <p:spPr>
          <a:xfrm>
            <a:off x="864072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3794"/>
                </a:moveTo>
                <a:lnTo>
                  <a:pt x="18418" y="10800"/>
                </a:lnTo>
                <a:lnTo>
                  <a:pt x="440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4">
            <a:hlinkClick r:id="rId4" action="ppaction://hlinksldjump"/>
          </p:cNvPr>
          <p:cNvSpPr/>
          <p:nvPr/>
        </p:nvSpPr>
        <p:spPr>
          <a:xfrm>
            <a:off x="817236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3794" y="11906"/>
                </a:moveTo>
                <a:lnTo>
                  <a:pt x="17806" y="4900"/>
                </a:lnTo>
                <a:lnTo>
                  <a:pt x="17806" y="1891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6">
            <a:hlinkClick r:id="rId5" action="ppaction://hlinksldjump"/>
          </p:cNvPr>
          <p:cNvSpPr/>
          <p:nvPr/>
        </p:nvSpPr>
        <p:spPr>
          <a:xfrm>
            <a:off x="766764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8">
            <a:hlinkClick r:id="rId6" action="ppaction://hlinksldjump"/>
          </p:cNvPr>
          <p:cNvSpPr/>
          <p:nvPr/>
        </p:nvSpPr>
        <p:spPr>
          <a:xfrm>
            <a:off x="7164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824" h="21600">
                <a:moveTo>
                  <a:pt x="5885" y="3985"/>
                </a:moveTo>
                <a:lnTo>
                  <a:pt x="12883" y="3985"/>
                </a:lnTo>
                <a:lnTo>
                  <a:pt x="16939" y="7484"/>
                </a:lnTo>
                <a:lnTo>
                  <a:pt x="16939" y="17615"/>
                </a:lnTo>
                <a:lnTo>
                  <a:pt x="5885" y="17615"/>
                </a:lnTo>
                <a:close/>
              </a:path>
              <a:path fill="darken" w="22824" h="21600">
                <a:moveTo>
                  <a:pt x="12883" y="3985"/>
                </a:moveTo>
                <a:lnTo>
                  <a:pt x="16939" y="7484"/>
                </a:lnTo>
                <a:lnTo>
                  <a:pt x="12883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ru-RU" sz="4200" spc="-1" strike="noStrike">
                <a:solidFill>
                  <a:srgbClr val="1d14d8"/>
                </a:solidFill>
                <a:latin typeface="Times New Roman"/>
              </a:rPr>
              <a:t>Словарь</a:t>
            </a:r>
            <a:r>
              <a:rPr b="0" lang="ru-RU" sz="4200" spc="-1" strike="noStrike">
                <a:solidFill>
                  <a:srgbClr val="1d14d8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tle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топол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ffodil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ци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on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ч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тлан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ланд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sh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ли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" action="ppaction://hlinkshowjump?jump=previousslide"/>
          </p:cNvPr>
          <p:cNvSpPr/>
          <p:nvPr/>
        </p:nvSpPr>
        <p:spPr>
          <a:xfrm>
            <a:off x="4788000" y="558972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>
            <a:hlinkClick r:id="rId1" action="ppaction://hlinksldjump"/>
          </p:cNvPr>
          <p:cNvSpPr/>
          <p:nvPr/>
        </p:nvSpPr>
        <p:spPr>
          <a:xfrm>
            <a:off x="6156360" y="5589720"/>
            <a:ext cx="1079640" cy="574560"/>
          </a:xfrm>
          <a:custGeom>
            <a:avLst/>
            <a:gdLst>
              <a:gd name="textAreaLeft" fmla="*/ 37080 w 1079640"/>
              <a:gd name="textAreaRight" fmla="*/ 1042560 w 1079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0576" h="21600">
                <a:moveTo>
                  <a:pt x="0" y="0"/>
                </a:moveTo>
                <a:lnTo>
                  <a:pt x="40576" y="0"/>
                </a:lnTo>
                <a:lnTo>
                  <a:pt x="40576" y="21600"/>
                </a:lnTo>
                <a:lnTo>
                  <a:pt x="0" y="21600"/>
                </a:lnTo>
                <a:close/>
              </a:path>
              <a:path fill="lightenLess" w="40576" h="21600">
                <a:moveTo>
                  <a:pt x="0" y="0"/>
                </a:moveTo>
                <a:lnTo>
                  <a:pt x="40576" y="0"/>
                </a:lnTo>
                <a:lnTo>
                  <a:pt x="39176" y="1400"/>
                </a:lnTo>
                <a:lnTo>
                  <a:pt x="1400" y="1400"/>
                </a:lnTo>
                <a:close/>
              </a:path>
              <a:path fill="darken" w="40576" h="21600">
                <a:moveTo>
                  <a:pt x="40576" y="0"/>
                </a:moveTo>
                <a:lnTo>
                  <a:pt x="40576" y="21600"/>
                </a:lnTo>
                <a:lnTo>
                  <a:pt x="39176" y="20200"/>
                </a:lnTo>
                <a:lnTo>
                  <a:pt x="39176" y="1400"/>
                </a:lnTo>
                <a:close/>
              </a:path>
              <a:path fill="darkenLess" w="40576" h="21600">
                <a:moveTo>
                  <a:pt x="40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6" y="20200"/>
                </a:lnTo>
                <a:close/>
              </a:path>
              <a:path fill="lighten" w="40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6" h="21600">
                <a:moveTo>
                  <a:pt x="20288" y="3837"/>
                </a:moveTo>
                <a:lnTo>
                  <a:pt x="22864" y="6448"/>
                </a:lnTo>
                <a:lnTo>
                  <a:pt x="22864" y="4707"/>
                </a:lnTo>
                <a:lnTo>
                  <a:pt x="24640" y="4707"/>
                </a:lnTo>
                <a:lnTo>
                  <a:pt x="24640" y="8224"/>
                </a:lnTo>
                <a:lnTo>
                  <a:pt x="27251" y="10800"/>
                </a:lnTo>
                <a:lnTo>
                  <a:pt x="25597" y="10800"/>
                </a:lnTo>
                <a:lnTo>
                  <a:pt x="25597" y="17989"/>
                </a:lnTo>
                <a:lnTo>
                  <a:pt x="14979" y="17989"/>
                </a:lnTo>
                <a:lnTo>
                  <a:pt x="14979" y="10800"/>
                </a:lnTo>
                <a:lnTo>
                  <a:pt x="13325" y="10800"/>
                </a:lnTo>
                <a:close/>
              </a:path>
              <a:path fill="darkenLess" w="40576" h="21600">
                <a:moveTo>
                  <a:pt x="22864" y="6448"/>
                </a:moveTo>
                <a:lnTo>
                  <a:pt x="22864" y="4707"/>
                </a:lnTo>
                <a:lnTo>
                  <a:pt x="24640" y="4707"/>
                </a:lnTo>
                <a:lnTo>
                  <a:pt x="24640" y="8224"/>
                </a:lnTo>
                <a:close/>
              </a:path>
              <a:path fill="darkenLess" w="40576" h="21600">
                <a:moveTo>
                  <a:pt x="19365" y="14299"/>
                </a:moveTo>
                <a:lnTo>
                  <a:pt x="21211" y="14299"/>
                </a:lnTo>
                <a:lnTo>
                  <a:pt x="21211" y="17989"/>
                </a:lnTo>
                <a:lnTo>
                  <a:pt x="25597" y="17989"/>
                </a:lnTo>
                <a:lnTo>
                  <a:pt x="25597" y="10800"/>
                </a:lnTo>
                <a:lnTo>
                  <a:pt x="14979" y="10800"/>
                </a:lnTo>
                <a:lnTo>
                  <a:pt x="14979" y="17989"/>
                </a:lnTo>
                <a:lnTo>
                  <a:pt x="1936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7" name="Picture 6" descr="BImap"/>
          <p:cNvPicPr/>
          <p:nvPr/>
        </p:nvPicPr>
        <p:blipFill>
          <a:blip r:embed="rId1"/>
          <a:stretch/>
        </p:blipFill>
        <p:spPr>
          <a:xfrm>
            <a:off x="5435640" y="3141720"/>
            <a:ext cx="2492280" cy="2800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9640" y="907920"/>
            <a:ext cx="838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 two large islands that lie to the north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st of Europ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countries of the U.K.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British Isles surrounded by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nations live in the Great Britain? What are they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8" descr="uk"/>
          <p:cNvPicPr/>
          <p:nvPr/>
        </p:nvPicPr>
        <p:blipFill>
          <a:blip r:embed="rId2"/>
          <a:stretch/>
        </p:blipFill>
        <p:spPr>
          <a:xfrm>
            <a:off x="900000" y="2852640"/>
            <a:ext cx="3240360" cy="38116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10">
            <a:hlinkClick r:id="rId3" action="ppaction://hlinksldjump"/>
          </p:cNvPr>
          <p:cNvSpPr/>
          <p:nvPr/>
        </p:nvSpPr>
        <p:spPr>
          <a:xfrm>
            <a:off x="7020000" y="602136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1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1079280" cy="576000"/>
          </a:xfrm>
          <a:custGeom>
            <a:avLst/>
            <a:gdLst>
              <a:gd name="textAreaLeft" fmla="*/ 37080 w 1079280"/>
              <a:gd name="textAreaRight" fmla="*/ 1042200 w 107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61" h="21600">
                <a:moveTo>
                  <a:pt x="13224" y="10800"/>
                </a:moveTo>
                <a:lnTo>
                  <a:pt x="27237" y="3794"/>
                </a:lnTo>
                <a:lnTo>
                  <a:pt x="2723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3">
            <a:hlinkClick r:id="rId4" action="ppaction://hlinksldjump"/>
          </p:cNvPr>
          <p:cNvSpPr/>
          <p:nvPr/>
        </p:nvSpPr>
        <p:spPr>
          <a:xfrm>
            <a:off x="5867280" y="6093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3794"/>
                </a:moveTo>
                <a:lnTo>
                  <a:pt x="27044" y="10800"/>
                </a:lnTo>
                <a:lnTo>
                  <a:pt x="1303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ст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755640" y="1628640"/>
            <a:ext cx="6913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is the official name of The United Kingdom (U.K.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-Engl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-United Kingd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-The United Kingdom of Great Britain and Northern Ire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is the national symbol of Englan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a this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a red r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a daffod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Who is wearing the kilt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Ir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Scott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Engl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">
            <a:hlinkClick r:id="rId11" action="ppaction://hlinksldjump"/>
          </p:cNvPr>
          <p:cNvSpPr/>
          <p:nvPr/>
        </p:nvSpPr>
        <p:spPr>
          <a:xfrm>
            <a:off x="6227640" y="5734080"/>
            <a:ext cx="865440" cy="790560"/>
          </a:xfrm>
          <a:custGeom>
            <a:avLst/>
            <a:gdLst>
              <a:gd name="textAreaLeft" fmla="*/ 51120 w 865440"/>
              <a:gd name="textAreaRight" fmla="*/ 814320 w 86544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45" h="21600">
                <a:moveTo>
                  <a:pt x="0" y="0"/>
                </a:moveTo>
                <a:lnTo>
                  <a:pt x="23645" y="0"/>
                </a:lnTo>
                <a:lnTo>
                  <a:pt x="23645" y="21600"/>
                </a:lnTo>
                <a:lnTo>
                  <a:pt x="0" y="21600"/>
                </a:lnTo>
                <a:close/>
              </a:path>
              <a:path fill="lightenLess" w="23645" h="21600">
                <a:moveTo>
                  <a:pt x="0" y="0"/>
                </a:moveTo>
                <a:lnTo>
                  <a:pt x="23645" y="0"/>
                </a:lnTo>
                <a:lnTo>
                  <a:pt x="22245" y="1400"/>
                </a:lnTo>
                <a:lnTo>
                  <a:pt x="1400" y="1400"/>
                </a:lnTo>
                <a:close/>
              </a:path>
              <a:path fill="darken" w="23645" h="21600">
                <a:moveTo>
                  <a:pt x="23645" y="0"/>
                </a:moveTo>
                <a:lnTo>
                  <a:pt x="23645" y="21600"/>
                </a:lnTo>
                <a:lnTo>
                  <a:pt x="22245" y="20200"/>
                </a:lnTo>
                <a:lnTo>
                  <a:pt x="22245" y="1400"/>
                </a:lnTo>
                <a:close/>
              </a:path>
              <a:path fill="darkenLess" w="23645" h="21600">
                <a:moveTo>
                  <a:pt x="23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45" y="20200"/>
                </a:lnTo>
                <a:close/>
              </a:path>
              <a:path fill="lighten" w="23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45" h="21600">
                <a:moveTo>
                  <a:pt x="11822" y="3837"/>
                </a:moveTo>
                <a:lnTo>
                  <a:pt x="14399" y="6448"/>
                </a:lnTo>
                <a:lnTo>
                  <a:pt x="14399" y="4707"/>
                </a:lnTo>
                <a:lnTo>
                  <a:pt x="16174" y="4707"/>
                </a:lnTo>
                <a:lnTo>
                  <a:pt x="16174" y="8224"/>
                </a:lnTo>
                <a:lnTo>
                  <a:pt x="18785" y="10800"/>
                </a:lnTo>
                <a:lnTo>
                  <a:pt x="17132" y="10800"/>
                </a:lnTo>
                <a:lnTo>
                  <a:pt x="17132" y="17989"/>
                </a:lnTo>
                <a:lnTo>
                  <a:pt x="6513" y="17989"/>
                </a:lnTo>
                <a:lnTo>
                  <a:pt x="6513" y="10800"/>
                </a:lnTo>
                <a:lnTo>
                  <a:pt x="4860" y="10800"/>
                </a:lnTo>
                <a:close/>
              </a:path>
              <a:path fill="darkenLess" w="23645" h="21600">
                <a:moveTo>
                  <a:pt x="14399" y="6448"/>
                </a:moveTo>
                <a:lnTo>
                  <a:pt x="14399" y="4707"/>
                </a:lnTo>
                <a:lnTo>
                  <a:pt x="16174" y="4707"/>
                </a:lnTo>
                <a:lnTo>
                  <a:pt x="16174" y="8224"/>
                </a:lnTo>
                <a:close/>
              </a:path>
              <a:path fill="darkenLess" w="23645" h="21600">
                <a:moveTo>
                  <a:pt x="10900" y="14299"/>
                </a:moveTo>
                <a:lnTo>
                  <a:pt x="12745" y="14299"/>
                </a:lnTo>
                <a:lnTo>
                  <a:pt x="12745" y="17989"/>
                </a:lnTo>
                <a:lnTo>
                  <a:pt x="17132" y="17989"/>
                </a:lnTo>
                <a:lnTo>
                  <a:pt x="17132" y="10800"/>
                </a:lnTo>
                <a:lnTo>
                  <a:pt x="6513" y="10800"/>
                </a:lnTo>
                <a:lnTo>
                  <a:pt x="6513" y="17989"/>
                </a:lnTo>
                <a:lnTo>
                  <a:pt x="1090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8">
            <a:hlinkClick r:id="" action="ppaction://hlinkshowjump?jump=previousslide"/>
          </p:cNvPr>
          <p:cNvSpPr/>
          <p:nvPr/>
        </p:nvSpPr>
        <p:spPr>
          <a:xfrm>
            <a:off x="7236000" y="5734080"/>
            <a:ext cx="865080" cy="7905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635" h="21600">
                <a:moveTo>
                  <a:pt x="0" y="0"/>
                </a:moveTo>
                <a:lnTo>
                  <a:pt x="23635" y="0"/>
                </a:lnTo>
                <a:lnTo>
                  <a:pt x="23635" y="21600"/>
                </a:lnTo>
                <a:lnTo>
                  <a:pt x="0" y="21600"/>
                </a:lnTo>
                <a:close/>
              </a:path>
              <a:path fill="lightenLess" w="23635" h="21600">
                <a:moveTo>
                  <a:pt x="0" y="0"/>
                </a:moveTo>
                <a:lnTo>
                  <a:pt x="23635" y="0"/>
                </a:lnTo>
                <a:lnTo>
                  <a:pt x="22235" y="1400"/>
                </a:lnTo>
                <a:lnTo>
                  <a:pt x="1400" y="1400"/>
                </a:lnTo>
                <a:close/>
              </a:path>
              <a:path fill="darken" w="23635" h="21600">
                <a:moveTo>
                  <a:pt x="23635" y="0"/>
                </a:moveTo>
                <a:lnTo>
                  <a:pt x="23635" y="21600"/>
                </a:lnTo>
                <a:lnTo>
                  <a:pt x="22235" y="20200"/>
                </a:lnTo>
                <a:lnTo>
                  <a:pt x="22235" y="1400"/>
                </a:lnTo>
                <a:close/>
              </a:path>
              <a:path fill="darkenLess" w="23635" h="21600">
                <a:moveTo>
                  <a:pt x="2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5" y="20200"/>
                </a:lnTo>
                <a:close/>
              </a:path>
              <a:path fill="lighten" w="2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5" h="21600">
                <a:moveTo>
                  <a:pt x="4811" y="10800"/>
                </a:moveTo>
                <a:lnTo>
                  <a:pt x="18824" y="3794"/>
                </a:lnTo>
                <a:lnTo>
                  <a:pt x="188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>
            <a:hlinkClick r:id="rId12" action="ppaction://hlinksldjump"/>
          </p:cNvPr>
          <p:cNvSpPr/>
          <p:nvPr/>
        </p:nvSpPr>
        <p:spPr>
          <a:xfrm>
            <a:off x="8317080" y="5805360"/>
            <a:ext cx="576000" cy="648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98">
                <a:moveTo>
                  <a:pt x="0" y="0"/>
                </a:moveTo>
                <a:lnTo>
                  <a:pt x="21600" y="0"/>
                </a:lnTo>
                <a:lnTo>
                  <a:pt x="21600" y="24298"/>
                </a:lnTo>
                <a:lnTo>
                  <a:pt x="0" y="24298"/>
                </a:lnTo>
                <a:close/>
              </a:path>
              <a:path fill="lightenLess" w="21600" h="242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8">
                <a:moveTo>
                  <a:pt x="21600" y="0"/>
                </a:moveTo>
                <a:lnTo>
                  <a:pt x="21600" y="24298"/>
                </a:lnTo>
                <a:lnTo>
                  <a:pt x="20200" y="22898"/>
                </a:lnTo>
                <a:lnTo>
                  <a:pt x="20200" y="1400"/>
                </a:lnTo>
                <a:close/>
              </a:path>
              <a:path fill="darkenLess" w="21600" h="24298">
                <a:moveTo>
                  <a:pt x="21600" y="24298"/>
                </a:moveTo>
                <a:lnTo>
                  <a:pt x="0" y="24298"/>
                </a:lnTo>
                <a:lnTo>
                  <a:pt x="1400" y="22898"/>
                </a:lnTo>
                <a:lnTo>
                  <a:pt x="20200" y="22898"/>
                </a:lnTo>
                <a:close/>
              </a:path>
              <a:path fill="lighten" w="21600" h="24298">
                <a:moveTo>
                  <a:pt x="0" y="242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8"/>
                </a:lnTo>
                <a:close/>
              </a:path>
              <a:path fill="darken" w="21600" h="24298">
                <a:moveTo>
                  <a:pt x="3794" y="5143"/>
                </a:moveTo>
                <a:lnTo>
                  <a:pt x="17806" y="12149"/>
                </a:lnTo>
                <a:lnTo>
                  <a:pt x="3794" y="1915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lock.avi" descr=""/>
          <p:cNvPicPr/>
          <p:nvPr/>
        </p:nvPicPr>
        <p:blipFill>
          <a:blip r:embed="rId1"/>
          <a:stretch/>
        </p:blipFill>
        <p:spPr>
          <a:xfrm>
            <a:off x="5364000" y="476280"/>
            <a:ext cx="3057840" cy="3057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j0213521"/>
          <p:cNvPicPr/>
          <p:nvPr/>
        </p:nvPicPr>
        <p:blipFill>
          <a:blip r:embed="rId2"/>
          <a:stretch/>
        </p:blipFill>
        <p:spPr>
          <a:xfrm>
            <a:off x="900000" y="476280"/>
            <a:ext cx="3241800" cy="1440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30"/>
          <p:cNvPicPr/>
          <p:nvPr/>
        </p:nvPicPr>
        <p:blipFill>
          <a:blip r:embed="rId3"/>
          <a:stretch/>
        </p:blipFill>
        <p:spPr>
          <a:xfrm>
            <a:off x="6012000" y="4292640"/>
            <a:ext cx="2016000" cy="1655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12"/>
          <p:cNvPicPr/>
          <p:nvPr/>
        </p:nvPicPr>
        <p:blipFill>
          <a:blip r:embed="rId4"/>
          <a:stretch/>
        </p:blipFill>
        <p:spPr>
          <a:xfrm>
            <a:off x="755640" y="3500280"/>
            <a:ext cx="3959280" cy="27226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9">
            <a:hlinkClick r:id="" action="ppaction://hlinkshowjump?jump=previousslide"/>
          </p:cNvPr>
          <p:cNvSpPr/>
          <p:nvPr/>
        </p:nvSpPr>
        <p:spPr>
          <a:xfrm>
            <a:off x="5292720" y="5589720"/>
            <a:ext cx="792000" cy="93492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934920"/>
              <a:gd name="textAreaBottom" fmla="*/ 883800 h 934920"/>
            </a:gdLst>
            <a:ahLst/>
            <a:rect l="textAreaLeft" t="textAreaTop" r="textAreaRight" b="textAreaBottom"/>
            <a:pathLst>
              <a:path w="21600" h="25496">
                <a:moveTo>
                  <a:pt x="0" y="0"/>
                </a:moveTo>
                <a:lnTo>
                  <a:pt x="21600" y="0"/>
                </a:lnTo>
                <a:lnTo>
                  <a:pt x="21600" y="25496"/>
                </a:lnTo>
                <a:lnTo>
                  <a:pt x="0" y="25496"/>
                </a:lnTo>
                <a:close/>
              </a:path>
              <a:path fill="lightenLess" w="21600" h="254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96">
                <a:moveTo>
                  <a:pt x="21600" y="0"/>
                </a:moveTo>
                <a:lnTo>
                  <a:pt x="21600" y="25496"/>
                </a:lnTo>
                <a:lnTo>
                  <a:pt x="20200" y="24096"/>
                </a:lnTo>
                <a:lnTo>
                  <a:pt x="20200" y="1400"/>
                </a:lnTo>
                <a:close/>
              </a:path>
              <a:path fill="darkenLess" w="21600" h="25496">
                <a:moveTo>
                  <a:pt x="21600" y="25496"/>
                </a:moveTo>
                <a:lnTo>
                  <a:pt x="0" y="25496"/>
                </a:lnTo>
                <a:lnTo>
                  <a:pt x="1400" y="24096"/>
                </a:lnTo>
                <a:lnTo>
                  <a:pt x="20200" y="24096"/>
                </a:lnTo>
                <a:close/>
              </a:path>
              <a:path fill="lighten" w="21600" h="25496">
                <a:moveTo>
                  <a:pt x="0" y="254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96"/>
                </a:lnTo>
                <a:close/>
              </a:path>
              <a:path fill="darken" w="21600" h="25496">
                <a:moveTo>
                  <a:pt x="3794" y="12748"/>
                </a:moveTo>
                <a:lnTo>
                  <a:pt x="17806" y="5742"/>
                </a:lnTo>
                <a:lnTo>
                  <a:pt x="17806" y="1975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wow_anm"/>
          <p:cNvPicPr/>
          <p:nvPr/>
        </p:nvPicPr>
        <p:blipFill>
          <a:blip r:embed="rId1"/>
          <a:stretch/>
        </p:blipFill>
        <p:spPr>
          <a:xfrm>
            <a:off x="900000" y="1628640"/>
            <a:ext cx="5256360" cy="3372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50"/>
          <p:cNvPicPr/>
          <p:nvPr/>
        </p:nvPicPr>
        <p:blipFill>
          <a:blip r:embed="rId2"/>
          <a:stretch/>
        </p:blipFill>
        <p:spPr>
          <a:xfrm>
            <a:off x="3203640" y="4653000"/>
            <a:ext cx="2520720" cy="194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91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20"/>
          <p:cNvPicPr/>
          <p:nvPr/>
        </p:nvPicPr>
        <p:blipFill>
          <a:blip r:embed="rId4"/>
          <a:stretch/>
        </p:blipFill>
        <p:spPr>
          <a:xfrm>
            <a:off x="6804000" y="234936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8">
            <a:hlinkClick r:id="" action="ppaction://hlinkshowjump?jump=previousslide"/>
          </p:cNvPr>
          <p:cNvSpPr/>
          <p:nvPr/>
        </p:nvSpPr>
        <p:spPr>
          <a:xfrm>
            <a:off x="7524720" y="537372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" w="21600" h="23988">
                <a:moveTo>
                  <a:pt x="3794" y="11994"/>
                </a:moveTo>
                <a:lnTo>
                  <a:pt x="17806" y="4988"/>
                </a:lnTo>
                <a:lnTo>
                  <a:pt x="17806" y="190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-1522440" y="843480"/>
            <a:ext cx="121921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GRAMM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струкция Complex Subject (сложное подлежащее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эквивален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даточного предло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The British are considered to be polite. (Считают, что британцы вежливы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едующая таблица вам поможет переводить Complex Su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is said to… – Говоря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supposed to… – Предполаг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believed to… – Полаг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expected to… – Ожид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reported to… – Сообщ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considered to… – Счит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thought to… – Думают, что…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is known to… – Известно, ч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People say a lot of things about the Britis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They obey the law and respect authority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They are prudent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They are proud of their sense of humour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They are countrymen at heart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They take everything with a sense of humour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79280" y="5877000"/>
            <a:ext cx="871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39640" y="5084640"/>
            <a:ext cx="8280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Write sentences about the British using the expressions from the table abo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The British are considered to obey the law and respect authority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The British are..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_________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7">
            <a:hlinkClick r:id="rId1" action="ppaction://hlinksldjump"/>
          </p:cNvPr>
          <p:cNvSpPr/>
          <p:nvPr/>
        </p:nvSpPr>
        <p:spPr>
          <a:xfrm>
            <a:off x="6588000" y="5734080"/>
            <a:ext cx="792360" cy="7905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1649" h="21600">
                <a:moveTo>
                  <a:pt x="0" y="0"/>
                </a:moveTo>
                <a:lnTo>
                  <a:pt x="21649" y="0"/>
                </a:lnTo>
                <a:lnTo>
                  <a:pt x="21649" y="21600"/>
                </a:lnTo>
                <a:lnTo>
                  <a:pt x="0" y="21600"/>
                </a:lnTo>
                <a:close/>
              </a:path>
              <a:path fill="lightenLess" w="21649" h="21600">
                <a:moveTo>
                  <a:pt x="0" y="0"/>
                </a:moveTo>
                <a:lnTo>
                  <a:pt x="21649" y="0"/>
                </a:lnTo>
                <a:lnTo>
                  <a:pt x="20249" y="1400"/>
                </a:lnTo>
                <a:lnTo>
                  <a:pt x="1400" y="1400"/>
                </a:lnTo>
                <a:close/>
              </a:path>
              <a:path fill="darken" w="21649" h="21600">
                <a:moveTo>
                  <a:pt x="21649" y="0"/>
                </a:moveTo>
                <a:lnTo>
                  <a:pt x="21649" y="21600"/>
                </a:lnTo>
                <a:lnTo>
                  <a:pt x="20249" y="20200"/>
                </a:lnTo>
                <a:lnTo>
                  <a:pt x="20249" y="1400"/>
                </a:lnTo>
                <a:close/>
              </a:path>
              <a:path fill="darkenLess" w="21649" h="21600">
                <a:moveTo>
                  <a:pt x="21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9" y="20200"/>
                </a:lnTo>
                <a:close/>
              </a:path>
              <a:path fill="lighten" w="21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9" h="21600">
                <a:moveTo>
                  <a:pt x="10825" y="3837"/>
                </a:moveTo>
                <a:lnTo>
                  <a:pt x="13401" y="6448"/>
                </a:lnTo>
                <a:lnTo>
                  <a:pt x="13401" y="4707"/>
                </a:lnTo>
                <a:lnTo>
                  <a:pt x="15176" y="4707"/>
                </a:lnTo>
                <a:lnTo>
                  <a:pt x="15176" y="8224"/>
                </a:lnTo>
                <a:lnTo>
                  <a:pt x="17788" y="10800"/>
                </a:lnTo>
                <a:lnTo>
                  <a:pt x="16134" y="10800"/>
                </a:lnTo>
                <a:lnTo>
                  <a:pt x="16134" y="17989"/>
                </a:lnTo>
                <a:lnTo>
                  <a:pt x="5515" y="17989"/>
                </a:lnTo>
                <a:lnTo>
                  <a:pt x="5515" y="10800"/>
                </a:lnTo>
                <a:lnTo>
                  <a:pt x="3862" y="10800"/>
                </a:lnTo>
                <a:close/>
              </a:path>
              <a:path fill="darkenLess" w="21649" h="21600">
                <a:moveTo>
                  <a:pt x="13401" y="6448"/>
                </a:moveTo>
                <a:lnTo>
                  <a:pt x="13401" y="4707"/>
                </a:lnTo>
                <a:lnTo>
                  <a:pt x="15176" y="4707"/>
                </a:lnTo>
                <a:lnTo>
                  <a:pt x="15176" y="8224"/>
                </a:lnTo>
                <a:close/>
              </a:path>
              <a:path fill="darkenLess" w="21649" h="21600">
                <a:moveTo>
                  <a:pt x="9902" y="14299"/>
                </a:moveTo>
                <a:lnTo>
                  <a:pt x="11747" y="14299"/>
                </a:lnTo>
                <a:lnTo>
                  <a:pt x="11747" y="17989"/>
                </a:lnTo>
                <a:lnTo>
                  <a:pt x="16134" y="17989"/>
                </a:lnTo>
                <a:lnTo>
                  <a:pt x="16134" y="10800"/>
                </a:lnTo>
                <a:lnTo>
                  <a:pt x="5515" y="10800"/>
                </a:lnTo>
                <a:lnTo>
                  <a:pt x="5515" y="17989"/>
                </a:lnTo>
                <a:lnTo>
                  <a:pt x="990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8">
            <a:hlinkClick r:id="" action="ppaction://hlinkshowjump?jump=previousslide"/>
          </p:cNvPr>
          <p:cNvSpPr/>
          <p:nvPr/>
        </p:nvSpPr>
        <p:spPr>
          <a:xfrm>
            <a:off x="7667640" y="5805360"/>
            <a:ext cx="1225440" cy="719280"/>
          </a:xfrm>
          <a:custGeom>
            <a:avLst/>
            <a:gdLst>
              <a:gd name="textAreaLeft" fmla="*/ 46440 w 1225440"/>
              <a:gd name="textAreaRight" fmla="*/ 1179000 w 122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92" h="21600">
                <a:moveTo>
                  <a:pt x="0" y="0"/>
                </a:moveTo>
                <a:lnTo>
                  <a:pt x="36792" y="0"/>
                </a:lnTo>
                <a:lnTo>
                  <a:pt x="36792" y="21600"/>
                </a:lnTo>
                <a:lnTo>
                  <a:pt x="0" y="21600"/>
                </a:lnTo>
                <a:close/>
              </a:path>
              <a:path fill="lightenLess" w="36792" h="21600">
                <a:moveTo>
                  <a:pt x="0" y="0"/>
                </a:moveTo>
                <a:lnTo>
                  <a:pt x="36792" y="0"/>
                </a:lnTo>
                <a:lnTo>
                  <a:pt x="35392" y="1400"/>
                </a:lnTo>
                <a:lnTo>
                  <a:pt x="1400" y="1400"/>
                </a:lnTo>
                <a:close/>
              </a:path>
              <a:path fill="darken" w="36792" h="21600">
                <a:moveTo>
                  <a:pt x="36792" y="0"/>
                </a:moveTo>
                <a:lnTo>
                  <a:pt x="36792" y="21600"/>
                </a:lnTo>
                <a:lnTo>
                  <a:pt x="35392" y="20200"/>
                </a:lnTo>
                <a:lnTo>
                  <a:pt x="35392" y="1400"/>
                </a:lnTo>
                <a:close/>
              </a:path>
              <a:path fill="darkenLess" w="36792" h="21600">
                <a:moveTo>
                  <a:pt x="3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92" y="20200"/>
                </a:lnTo>
                <a:close/>
              </a:path>
              <a:path fill="lighten" w="3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92" h="21600">
                <a:moveTo>
                  <a:pt x="11390" y="10800"/>
                </a:moveTo>
                <a:lnTo>
                  <a:pt x="25403" y="3794"/>
                </a:lnTo>
                <a:lnTo>
                  <a:pt x="254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9">
            <a:hlinkClick r:id="rId2" action="ppaction://hlinksldjump"/>
          </p:cNvPr>
          <p:cNvSpPr/>
          <p:nvPr/>
        </p:nvSpPr>
        <p:spPr>
          <a:xfrm>
            <a:off x="5724360" y="587700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сыл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now-britai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theodora.com/maps/store/ord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enuki.org.uk/big/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know.britain.com/hotels_guest_houses/england.ht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enuki.org.uk/bi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132"/>
          <p:cNvPicPr/>
          <p:nvPr/>
        </p:nvPicPr>
        <p:blipFill>
          <a:blip r:embed="rId1"/>
          <a:stretch/>
        </p:blipFill>
        <p:spPr>
          <a:xfrm>
            <a:off x="3419640" y="508464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9"/>
          <p:cNvSpPr/>
          <p:nvPr/>
        </p:nvSpPr>
        <p:spPr>
          <a:xfrm>
            <a:off x="7380360" y="5950080"/>
            <a:ext cx="504720" cy="3585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96" h="21600">
                <a:moveTo>
                  <a:pt x="0" y="0"/>
                </a:moveTo>
                <a:lnTo>
                  <a:pt x="30396" y="0"/>
                </a:lnTo>
                <a:lnTo>
                  <a:pt x="30396" y="21600"/>
                </a:lnTo>
                <a:lnTo>
                  <a:pt x="0" y="21600"/>
                </a:lnTo>
                <a:close/>
              </a:path>
              <a:path fill="lightenLess" w="30396" h="21600">
                <a:moveTo>
                  <a:pt x="0" y="0"/>
                </a:moveTo>
                <a:lnTo>
                  <a:pt x="30396" y="0"/>
                </a:lnTo>
                <a:lnTo>
                  <a:pt x="28996" y="1400"/>
                </a:lnTo>
                <a:lnTo>
                  <a:pt x="1400" y="1400"/>
                </a:lnTo>
                <a:close/>
              </a:path>
              <a:path fill="darken" w="30396" h="21600">
                <a:moveTo>
                  <a:pt x="30396" y="0"/>
                </a:moveTo>
                <a:lnTo>
                  <a:pt x="30396" y="21600"/>
                </a:lnTo>
                <a:lnTo>
                  <a:pt x="28996" y="20200"/>
                </a:lnTo>
                <a:lnTo>
                  <a:pt x="28996" y="1400"/>
                </a:lnTo>
                <a:close/>
              </a:path>
              <a:path fill="darkenLess" w="30396" h="21600">
                <a:moveTo>
                  <a:pt x="30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96" y="20200"/>
                </a:lnTo>
                <a:close/>
              </a:path>
              <a:path fill="lighten" w="30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96" h="21600">
                <a:moveTo>
                  <a:pt x="15198" y="3837"/>
                </a:moveTo>
                <a:lnTo>
                  <a:pt x="17774" y="6448"/>
                </a:lnTo>
                <a:lnTo>
                  <a:pt x="17774" y="4707"/>
                </a:lnTo>
                <a:lnTo>
                  <a:pt x="19550" y="4707"/>
                </a:lnTo>
                <a:lnTo>
                  <a:pt x="19550" y="8224"/>
                </a:lnTo>
                <a:lnTo>
                  <a:pt x="22161" y="10800"/>
                </a:lnTo>
                <a:lnTo>
                  <a:pt x="20507" y="10800"/>
                </a:lnTo>
                <a:lnTo>
                  <a:pt x="20507" y="17989"/>
                </a:lnTo>
                <a:lnTo>
                  <a:pt x="9889" y="17989"/>
                </a:lnTo>
                <a:lnTo>
                  <a:pt x="9889" y="10800"/>
                </a:lnTo>
                <a:lnTo>
                  <a:pt x="8235" y="10800"/>
                </a:lnTo>
                <a:close/>
              </a:path>
              <a:path fill="darkenLess" w="30396" h="21600">
                <a:moveTo>
                  <a:pt x="17774" y="6448"/>
                </a:moveTo>
                <a:lnTo>
                  <a:pt x="17774" y="4707"/>
                </a:lnTo>
                <a:lnTo>
                  <a:pt x="19550" y="4707"/>
                </a:lnTo>
                <a:lnTo>
                  <a:pt x="19550" y="8224"/>
                </a:lnTo>
                <a:close/>
              </a:path>
              <a:path fill="darkenLess" w="30396" h="21600">
                <a:moveTo>
                  <a:pt x="14275" y="14299"/>
                </a:moveTo>
                <a:lnTo>
                  <a:pt x="16121" y="14299"/>
                </a:lnTo>
                <a:lnTo>
                  <a:pt x="16121" y="17989"/>
                </a:lnTo>
                <a:lnTo>
                  <a:pt x="20507" y="17989"/>
                </a:lnTo>
                <a:lnTo>
                  <a:pt x="20507" y="10800"/>
                </a:lnTo>
                <a:lnTo>
                  <a:pt x="9889" y="10800"/>
                </a:lnTo>
                <a:lnTo>
                  <a:pt x="9889" y="17989"/>
                </a:lnTo>
                <a:lnTo>
                  <a:pt x="1427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1763640" y="260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 Black"/>
              </a:rPr>
              <a:t>Содерж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1557360"/>
            <a:ext cx="460836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1" action="ppaction://hlinksldjump"/>
              </a:rPr>
              <a:t>Цели и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2" action="ppaction://hlinksldjump"/>
              </a:rPr>
              <a:t>Географическое положение Великобрит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3" action="ppaction://hlinksldjump"/>
              </a:rPr>
              <a:t>Официальное название Великобрит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4" action="ppaction://hlinksldjump"/>
              </a:rPr>
              <a:t>Страны Соединенного Королев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5" action="ppaction://hlinksldjump"/>
              </a:rPr>
              <a:t>Слова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6" action="ppaction://hlinksldjump"/>
              </a:rPr>
              <a:t>Задания</a:t>
            </a:r>
            <a:r>
              <a:rPr b="0" lang="ru-RU" sz="1600" spc="-1" strike="noStrike" u="sng">
                <a:solidFill>
                  <a:srgbClr val="990033"/>
                </a:solidFill>
                <a:uFillTx/>
                <a:latin typeface="Arial Black"/>
                <a:hlinkClick r:id="rId7" action="ppaction://hlinksldjump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 Black"/>
                <a:hlinkClick r:id="rId8" action="ppaction://hlinksldjump"/>
              </a:rPr>
              <a:t>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 Black"/>
                <a:hlinkClick r:id="rId9" action="ppaction://hlinksldjump"/>
              </a:rPr>
              <a:t>Ссы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0003"/>
          <p:cNvPicPr/>
          <p:nvPr/>
        </p:nvPicPr>
        <p:blipFill>
          <a:blip r:embed="rId10"/>
          <a:stretch/>
        </p:blipFill>
        <p:spPr>
          <a:xfrm rot="1831800">
            <a:off x="5435640" y="2491920"/>
            <a:ext cx="3200400" cy="7081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7">
            <a:hlinkClick r:id="" action="ppaction://hlinkshowjump?jump=firstslide"/>
          </p:cNvPr>
          <p:cNvSpPr/>
          <p:nvPr/>
        </p:nvSpPr>
        <p:spPr>
          <a:xfrm>
            <a:off x="6659640" y="5229360"/>
            <a:ext cx="1297080" cy="647640"/>
          </a:xfrm>
          <a:custGeom>
            <a:avLst/>
            <a:gdLst>
              <a:gd name="textAreaLeft" fmla="*/ 41760 w 1297080"/>
              <a:gd name="textAreaRight" fmla="*/ 1255320 w 1297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248" h="21600">
                <a:moveTo>
                  <a:pt x="0" y="0"/>
                </a:moveTo>
                <a:lnTo>
                  <a:pt x="43248" y="0"/>
                </a:lnTo>
                <a:lnTo>
                  <a:pt x="43248" y="21600"/>
                </a:lnTo>
                <a:lnTo>
                  <a:pt x="0" y="21600"/>
                </a:lnTo>
                <a:close/>
              </a:path>
              <a:path fill="lightenLess" w="43248" h="21600">
                <a:moveTo>
                  <a:pt x="0" y="0"/>
                </a:moveTo>
                <a:lnTo>
                  <a:pt x="43248" y="0"/>
                </a:lnTo>
                <a:lnTo>
                  <a:pt x="41848" y="1400"/>
                </a:lnTo>
                <a:lnTo>
                  <a:pt x="1400" y="1400"/>
                </a:lnTo>
                <a:close/>
              </a:path>
              <a:path fill="darken" w="43248" h="21600">
                <a:moveTo>
                  <a:pt x="43248" y="0"/>
                </a:moveTo>
                <a:lnTo>
                  <a:pt x="43248" y="21600"/>
                </a:lnTo>
                <a:lnTo>
                  <a:pt x="41848" y="20200"/>
                </a:lnTo>
                <a:lnTo>
                  <a:pt x="41848" y="1400"/>
                </a:lnTo>
                <a:close/>
              </a:path>
              <a:path fill="darkenLess" w="43248" h="21600">
                <a:moveTo>
                  <a:pt x="43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8" y="20200"/>
                </a:lnTo>
                <a:close/>
              </a:path>
              <a:path fill="lighten" w="43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8" h="21600">
                <a:moveTo>
                  <a:pt x="14618" y="10800"/>
                </a:moveTo>
                <a:lnTo>
                  <a:pt x="28630" y="3794"/>
                </a:lnTo>
                <a:lnTo>
                  <a:pt x="286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ль урока</a:t>
            </a:r>
            <a:r>
              <a:rPr b="1" lang="ru-RU" sz="3200" spc="-1" strike="noStrike">
                <a:solidFill>
                  <a:srgbClr val="200b29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200b29"/>
                </a:solidFill>
                <a:latin typeface="Times New Roman"/>
              </a:rPr>
              <a:t>совершенствование лексических и грамматических навыков говорения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ПУТСТВУЮЩ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АЗВИТИЕ УМЕНИЯ МОНОЛОГИЧЕСК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ПИТАТЕЛЬ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СИТЬ ИНТЕРЕС К СТРАНЕ ИЗУЧАЕМ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95672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3794"/>
                </a:moveTo>
                <a:lnTo>
                  <a:pt x="21854" y="10800"/>
                </a:lnTo>
                <a:lnTo>
                  <a:pt x="784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>
            <a:hlinkClick r:id="rId2" action="ppaction://hlinksldjump"/>
          </p:cNvPr>
          <p:cNvSpPr/>
          <p:nvPr/>
        </p:nvSpPr>
        <p:spPr>
          <a:xfrm>
            <a:off x="6948360" y="609300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16190" y="3837"/>
                </a:moveTo>
                <a:lnTo>
                  <a:pt x="18766" y="6448"/>
                </a:ln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lnTo>
                  <a:pt x="23153" y="10800"/>
                </a:lnTo>
                <a:lnTo>
                  <a:pt x="21499" y="10800"/>
                </a:lnTo>
                <a:lnTo>
                  <a:pt x="21499" y="17989"/>
                </a:lnTo>
                <a:lnTo>
                  <a:pt x="10881" y="17989"/>
                </a:lnTo>
                <a:lnTo>
                  <a:pt x="10881" y="10800"/>
                </a:lnTo>
                <a:lnTo>
                  <a:pt x="9227" y="10800"/>
                </a:lnTo>
                <a:close/>
              </a:path>
              <a:path fill="darkenLess" w="32380" h="21600">
                <a:moveTo>
                  <a:pt x="18766" y="6448"/>
                </a:moveTo>
                <a:lnTo>
                  <a:pt x="18766" y="4707"/>
                </a:lnTo>
                <a:lnTo>
                  <a:pt x="20542" y="4707"/>
                </a:lnTo>
                <a:lnTo>
                  <a:pt x="20542" y="8224"/>
                </a:lnTo>
                <a:close/>
              </a:path>
              <a:path fill="darkenLess" w="32380" h="21600">
                <a:moveTo>
                  <a:pt x="15267" y="14299"/>
                </a:moveTo>
                <a:lnTo>
                  <a:pt x="17112" y="14299"/>
                </a:lnTo>
                <a:lnTo>
                  <a:pt x="17112" y="17989"/>
                </a:lnTo>
                <a:lnTo>
                  <a:pt x="21499" y="17989"/>
                </a:lnTo>
                <a:lnTo>
                  <a:pt x="21499" y="10800"/>
                </a:lnTo>
                <a:lnTo>
                  <a:pt x="10881" y="10800"/>
                </a:lnTo>
                <a:lnTo>
                  <a:pt x="10881" y="17989"/>
                </a:lnTo>
                <a:lnTo>
                  <a:pt x="1526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8"/>
          <p:cNvSpPr/>
          <p:nvPr/>
        </p:nvSpPr>
        <p:spPr>
          <a:xfrm>
            <a:off x="3759120" y="163440"/>
            <a:ext cx="506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572000" y="692280"/>
            <a:ext cx="42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780000" y="1700280"/>
            <a:ext cx="4824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United Kingdom of Great Britain and Northern Island (the UK) occupies all the territory 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ac00ac"/>
                </a:solidFill>
                <a:latin typeface="Arial"/>
              </a:rPr>
              <a:t>the British Isl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ritish Isles includ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Great Brit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Irel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a number of smaller island. Great Britain is separated from the continent by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English Chann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The British Isles are surrounded by the shallow waters of 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Irish Se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North Chann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ac00ac"/>
                </a:solidFill>
                <a:latin typeface="Arial"/>
              </a:rPr>
              <a:t>Atlantic Oce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uk"/>
          <p:cNvPicPr/>
          <p:nvPr/>
        </p:nvPicPr>
        <p:blipFill>
          <a:blip r:embed="rId1"/>
          <a:stretch/>
        </p:blipFill>
        <p:spPr>
          <a:xfrm>
            <a:off x="324000" y="333360"/>
            <a:ext cx="2925720" cy="57038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5"/>
          <p:cNvSpPr txBox="1"/>
          <p:nvPr/>
        </p:nvSpPr>
        <p:spPr>
          <a:xfrm>
            <a:off x="4140360" y="549360"/>
            <a:ext cx="325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United Kingdom</a:t>
            </a:r>
            <a:endParaRPr b="0" lang="en-US" sz="1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AutoShape 16">
            <a:hlinkClick r:id="rId2" action="ppaction://hlinksldjump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7">
            <a:hlinkClick r:id="rId3" action="ppaction://hlinksldjump"/>
          </p:cNvPr>
          <p:cNvSpPr/>
          <p:nvPr/>
        </p:nvSpPr>
        <p:spPr>
          <a:xfrm>
            <a:off x="8172360" y="6093000"/>
            <a:ext cx="432000" cy="5029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2920"/>
              <a:gd name="textAreaBottom" fmla="*/ 475200 h 502920"/>
            </a:gdLst>
            <a:ahLst/>
            <a:rect l="textAreaLeft" t="textAreaTop" r="textAreaRight" b="textAreaBottom"/>
            <a:pathLst>
              <a:path w="21600" h="25143">
                <a:moveTo>
                  <a:pt x="0" y="0"/>
                </a:moveTo>
                <a:lnTo>
                  <a:pt x="21600" y="0"/>
                </a:lnTo>
                <a:lnTo>
                  <a:pt x="21600" y="25143"/>
                </a:lnTo>
                <a:lnTo>
                  <a:pt x="0" y="25143"/>
                </a:lnTo>
                <a:close/>
              </a:path>
              <a:path fill="lightenLess" w="21600" h="251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3">
                <a:moveTo>
                  <a:pt x="21600" y="0"/>
                </a:moveTo>
                <a:lnTo>
                  <a:pt x="21600" y="25143"/>
                </a:lnTo>
                <a:lnTo>
                  <a:pt x="20200" y="23743"/>
                </a:lnTo>
                <a:lnTo>
                  <a:pt x="20200" y="1400"/>
                </a:lnTo>
                <a:close/>
              </a:path>
              <a:path fill="darkenLess" w="21600" h="25143">
                <a:moveTo>
                  <a:pt x="21600" y="25143"/>
                </a:moveTo>
                <a:lnTo>
                  <a:pt x="0" y="25143"/>
                </a:lnTo>
                <a:lnTo>
                  <a:pt x="1400" y="23743"/>
                </a:lnTo>
                <a:lnTo>
                  <a:pt x="20200" y="23743"/>
                </a:lnTo>
                <a:close/>
              </a:path>
              <a:path fill="lighten" w="21600" h="25143">
                <a:moveTo>
                  <a:pt x="0" y="251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3"/>
                </a:lnTo>
                <a:close/>
              </a:path>
              <a:path fill="darken" w="21600" h="25143">
                <a:moveTo>
                  <a:pt x="3794" y="5565"/>
                </a:moveTo>
                <a:lnTo>
                  <a:pt x="17806" y="12572"/>
                </a:lnTo>
                <a:lnTo>
                  <a:pt x="3794" y="19578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8">
            <a:hlinkClick r:id="rId4" action="ppaction://hlinksldjump"/>
          </p:cNvPr>
          <p:cNvSpPr/>
          <p:nvPr/>
        </p:nvSpPr>
        <p:spPr>
          <a:xfrm>
            <a:off x="6948360" y="6093000"/>
            <a:ext cx="648000" cy="50472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27" h="21600">
                <a:moveTo>
                  <a:pt x="0" y="0"/>
                </a:moveTo>
                <a:lnTo>
                  <a:pt x="27727" y="0"/>
                </a:lnTo>
                <a:lnTo>
                  <a:pt x="27727" y="21600"/>
                </a:lnTo>
                <a:lnTo>
                  <a:pt x="0" y="21600"/>
                </a:lnTo>
                <a:close/>
              </a:path>
              <a:path fill="lightenLess" w="27727" h="21600">
                <a:moveTo>
                  <a:pt x="0" y="0"/>
                </a:moveTo>
                <a:lnTo>
                  <a:pt x="27727" y="0"/>
                </a:lnTo>
                <a:lnTo>
                  <a:pt x="26327" y="1400"/>
                </a:lnTo>
                <a:lnTo>
                  <a:pt x="1400" y="1400"/>
                </a:lnTo>
                <a:close/>
              </a:path>
              <a:path fill="darken" w="27727" h="21600">
                <a:moveTo>
                  <a:pt x="27727" y="0"/>
                </a:moveTo>
                <a:lnTo>
                  <a:pt x="27727" y="21600"/>
                </a:lnTo>
                <a:lnTo>
                  <a:pt x="26327" y="20200"/>
                </a:lnTo>
                <a:lnTo>
                  <a:pt x="26327" y="1400"/>
                </a:lnTo>
                <a:close/>
              </a:path>
              <a:path fill="darkenLess" w="27727" h="21600">
                <a:moveTo>
                  <a:pt x="27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27" y="20200"/>
                </a:lnTo>
                <a:close/>
              </a:path>
              <a:path fill="lighten" w="27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727" h="21600">
                <a:moveTo>
                  <a:pt x="8337" y="3985"/>
                </a:moveTo>
                <a:lnTo>
                  <a:pt x="15335" y="3985"/>
                </a:lnTo>
                <a:lnTo>
                  <a:pt x="19391" y="7484"/>
                </a:lnTo>
                <a:lnTo>
                  <a:pt x="19391" y="17615"/>
                </a:lnTo>
                <a:lnTo>
                  <a:pt x="8337" y="17615"/>
                </a:lnTo>
                <a:close/>
              </a:path>
              <a:path fill="darken" w="27727" h="21600">
                <a:moveTo>
                  <a:pt x="15335" y="3985"/>
                </a:moveTo>
                <a:lnTo>
                  <a:pt x="19391" y="7484"/>
                </a:lnTo>
                <a:lnTo>
                  <a:pt x="15335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332000" y="549360"/>
            <a:ext cx="165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1332000" y="620640"/>
            <a:ext cx="187164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itish Is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top_image"/>
          <p:cNvPicPr/>
          <p:nvPr/>
        </p:nvPicPr>
        <p:blipFill>
          <a:blip r:embed="rId1"/>
          <a:stretch/>
        </p:blipFill>
        <p:spPr>
          <a:xfrm>
            <a:off x="900000" y="2492280"/>
            <a:ext cx="1368360" cy="151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flag-uk"/>
          <p:cNvPicPr/>
          <p:nvPr/>
        </p:nvPicPr>
        <p:blipFill>
          <a:blip r:embed="rId2"/>
          <a:stretch/>
        </p:blipFill>
        <p:spPr>
          <a:xfrm>
            <a:off x="971640" y="4508640"/>
            <a:ext cx="2879640" cy="1528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MPj01484840000[1]"/>
          <p:cNvPicPr/>
          <p:nvPr/>
        </p:nvPicPr>
        <p:blipFill>
          <a:blip r:embed="rId3"/>
          <a:stretch/>
        </p:blipFill>
        <p:spPr>
          <a:xfrm>
            <a:off x="971640" y="47628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4067280" y="476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4067280" y="256536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pital of Great Britain is London but there are other large cities: Birmingham, Liverpool, Manchester, York ,Oxford and Cambri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140360" y="458136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lag of Great Britain is blue, red and whi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4140360" y="537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called Union Ja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0">
            <a:hlinkClick r:id="rId4" action="ppaction://hlinksldjump"/>
          </p:cNvPr>
          <p:cNvSpPr/>
          <p:nvPr/>
        </p:nvSpPr>
        <p:spPr>
          <a:xfrm>
            <a:off x="702000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8027" y="3837"/>
                </a:moveTo>
                <a:lnTo>
                  <a:pt x="20603" y="6448"/>
                </a:lnTo>
                <a:lnTo>
                  <a:pt x="20603" y="4707"/>
                </a:lnTo>
                <a:lnTo>
                  <a:pt x="22379" y="4707"/>
                </a:lnTo>
                <a:lnTo>
                  <a:pt x="22379" y="8224"/>
                </a:lnTo>
                <a:lnTo>
                  <a:pt x="24990" y="10800"/>
                </a:lnTo>
                <a:lnTo>
                  <a:pt x="23336" y="10800"/>
                </a:lnTo>
                <a:lnTo>
                  <a:pt x="23336" y="17989"/>
                </a:lnTo>
                <a:lnTo>
                  <a:pt x="12718" y="17989"/>
                </a:lnTo>
                <a:lnTo>
                  <a:pt x="12718" y="10800"/>
                </a:lnTo>
                <a:lnTo>
                  <a:pt x="11064" y="10800"/>
                </a:lnTo>
                <a:close/>
              </a:path>
              <a:path fill="darkenLess" w="36054" h="21600">
                <a:moveTo>
                  <a:pt x="20603" y="6448"/>
                </a:moveTo>
                <a:lnTo>
                  <a:pt x="20603" y="4707"/>
                </a:lnTo>
                <a:lnTo>
                  <a:pt x="22379" y="4707"/>
                </a:lnTo>
                <a:lnTo>
                  <a:pt x="22379" y="8224"/>
                </a:lnTo>
                <a:close/>
              </a:path>
              <a:path fill="darkenLess" w="36054" h="21600">
                <a:moveTo>
                  <a:pt x="17104" y="14299"/>
                </a:moveTo>
                <a:lnTo>
                  <a:pt x="18950" y="14299"/>
                </a:lnTo>
                <a:lnTo>
                  <a:pt x="18950" y="17989"/>
                </a:lnTo>
                <a:lnTo>
                  <a:pt x="23336" y="17989"/>
                </a:lnTo>
                <a:lnTo>
                  <a:pt x="23336" y="10800"/>
                </a:lnTo>
                <a:lnTo>
                  <a:pt x="12718" y="10800"/>
                </a:lnTo>
                <a:lnTo>
                  <a:pt x="12718" y="17989"/>
                </a:lnTo>
                <a:lnTo>
                  <a:pt x="17104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1">
            <a:hlinkClick r:id="rId5" action="ppaction://hlinksldjump"/>
          </p:cNvPr>
          <p:cNvSpPr/>
          <p:nvPr/>
        </p:nvSpPr>
        <p:spPr>
          <a:xfrm>
            <a:off x="774072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2">
            <a:hlinkClick r:id="rId6" action="ppaction://hlinksldjump"/>
          </p:cNvPr>
          <p:cNvSpPr/>
          <p:nvPr/>
        </p:nvSpPr>
        <p:spPr>
          <a:xfrm>
            <a:off x="651672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182" h="21600">
                <a:moveTo>
                  <a:pt x="7064" y="3985"/>
                </a:moveTo>
                <a:lnTo>
                  <a:pt x="14062" y="3985"/>
                </a:lnTo>
                <a:lnTo>
                  <a:pt x="18118" y="7484"/>
                </a:lnTo>
                <a:lnTo>
                  <a:pt x="18118" y="17615"/>
                </a:lnTo>
                <a:lnTo>
                  <a:pt x="7064" y="17615"/>
                </a:lnTo>
                <a:close/>
              </a:path>
              <a:path fill="darken" w="25182" h="21600">
                <a:moveTo>
                  <a:pt x="14062" y="3985"/>
                </a:moveTo>
                <a:lnTo>
                  <a:pt x="18118" y="7484"/>
                </a:lnTo>
                <a:lnTo>
                  <a:pt x="14062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4067280" y="83664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fficial name of the country we usually call “England” is the United Kingdom of Great Britain and Northern Ire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4" descr="герб вел"/>
          <p:cNvPicPr/>
          <p:nvPr/>
        </p:nvPicPr>
        <p:blipFill>
          <a:blip r:embed="rId7"/>
          <a:stretch/>
        </p:blipFill>
        <p:spPr>
          <a:xfrm>
            <a:off x="2268360" y="2565360"/>
            <a:ext cx="1656000" cy="151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BImap"/>
          <p:cNvPicPr/>
          <p:nvPr/>
        </p:nvPicPr>
        <p:blipFill>
          <a:blip r:embed="rId1"/>
          <a:stretch/>
        </p:blipFill>
        <p:spPr>
          <a:xfrm>
            <a:off x="2411280" y="1197000"/>
            <a:ext cx="6266160" cy="5327640"/>
          </a:xfrm>
          <a:prstGeom prst="rect">
            <a:avLst/>
          </a:prstGeom>
          <a:ln w="0">
            <a:noFill/>
          </a:ln>
        </p:spPr>
      </p:pic>
      <p:sp>
        <p:nvSpPr>
          <p:cNvPr id="215" name="Oval 15"/>
          <p:cNvSpPr/>
          <p:nvPr/>
        </p:nvSpPr>
        <p:spPr>
          <a:xfrm>
            <a:off x="5651640" y="1773360"/>
            <a:ext cx="504720" cy="504720"/>
          </a:xfrm>
          <a:prstGeom prst="ellipse">
            <a:avLst/>
          </a:prstGeom>
          <a:solidFill>
            <a:srgbClr val="1d14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16"/>
          <p:cNvSpPr/>
          <p:nvPr/>
        </p:nvSpPr>
        <p:spPr>
          <a:xfrm>
            <a:off x="2268360" y="2924280"/>
            <a:ext cx="505080" cy="504720"/>
          </a:xfrm>
          <a:prstGeom prst="ellipse">
            <a:avLst/>
          </a:prstGeom>
          <a:solidFill>
            <a:srgbClr val="ff6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7"/>
          <p:cNvSpPr/>
          <p:nvPr/>
        </p:nvSpPr>
        <p:spPr>
          <a:xfrm>
            <a:off x="2050920" y="5013360"/>
            <a:ext cx="505080" cy="504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8"/>
          <p:cNvSpPr/>
          <p:nvPr/>
        </p:nvSpPr>
        <p:spPr>
          <a:xfrm>
            <a:off x="6516720" y="342900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684360" y="1413000"/>
            <a:ext cx="244764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g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d14d8"/>
                </a:solidFill>
                <a:latin typeface="Arial"/>
              </a:rPr>
              <a:t>Scotl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3 </a:t>
            </a:r>
            <a:r>
              <a:rPr b="1" lang="en-US" sz="2000" spc="-1" strike="noStrike">
                <a:solidFill>
                  <a:srgbClr val="200b29"/>
                </a:solidFill>
                <a:latin typeface="Arial"/>
              </a:rPr>
              <a:t>W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9ff"/>
                </a:solidFill>
                <a:latin typeface="Arial"/>
              </a:rPr>
              <a:t>Irel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611280" y="549360"/>
            <a:ext cx="82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d8"/>
                </a:solidFill>
                <a:latin typeface="Arial"/>
              </a:rPr>
              <a:t>The United Kingdom’s countr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23">
            <a:hlinkClick r:id="rId10" action="ppaction://hlinksldjump"/>
          </p:cNvPr>
          <p:cNvSpPr/>
          <p:nvPr/>
        </p:nvSpPr>
        <p:spPr>
          <a:xfrm>
            <a:off x="7740720" y="62816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4">
            <a:hlinkClick r:id="" action="ppaction://hlinkshowjump?jump=nextslide"/>
          </p:cNvPr>
          <p:cNvSpPr/>
          <p:nvPr/>
        </p:nvSpPr>
        <p:spPr>
          <a:xfrm>
            <a:off x="8317080" y="6308640"/>
            <a:ext cx="576000" cy="54936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47" h="21600">
                <a:moveTo>
                  <a:pt x="0" y="0"/>
                </a:moveTo>
                <a:lnTo>
                  <a:pt x="22647" y="0"/>
                </a:lnTo>
                <a:lnTo>
                  <a:pt x="22647" y="21600"/>
                </a:lnTo>
                <a:lnTo>
                  <a:pt x="0" y="21600"/>
                </a:lnTo>
                <a:close/>
              </a:path>
              <a:path fill="lightenLess" w="22647" h="21600">
                <a:moveTo>
                  <a:pt x="0" y="0"/>
                </a:moveTo>
                <a:lnTo>
                  <a:pt x="22647" y="0"/>
                </a:lnTo>
                <a:lnTo>
                  <a:pt x="21247" y="1400"/>
                </a:lnTo>
                <a:lnTo>
                  <a:pt x="1400" y="1400"/>
                </a:lnTo>
                <a:close/>
              </a:path>
              <a:path fill="darken" w="22647" h="21600">
                <a:moveTo>
                  <a:pt x="22647" y="0"/>
                </a:moveTo>
                <a:lnTo>
                  <a:pt x="22647" y="21600"/>
                </a:lnTo>
                <a:lnTo>
                  <a:pt x="21247" y="20200"/>
                </a:lnTo>
                <a:lnTo>
                  <a:pt x="21247" y="1400"/>
                </a:lnTo>
                <a:close/>
              </a:path>
              <a:path fill="darkenLess" w="22647" h="21600">
                <a:moveTo>
                  <a:pt x="2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47" y="20200"/>
                </a:lnTo>
                <a:close/>
              </a:path>
              <a:path fill="lighten" w="2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47" h="21600">
                <a:moveTo>
                  <a:pt x="4317" y="3794"/>
                </a:moveTo>
                <a:lnTo>
                  <a:pt x="18330" y="10800"/>
                </a:lnTo>
                <a:lnTo>
                  <a:pt x="431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герб лондона"/>
          <p:cNvPicPr/>
          <p:nvPr/>
        </p:nvPicPr>
        <p:blipFill>
          <a:blip r:embed="rId1"/>
          <a:stretch/>
        </p:blipFill>
        <p:spPr>
          <a:xfrm>
            <a:off x="971640" y="189000"/>
            <a:ext cx="2501640" cy="1839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флаг лондона"/>
          <p:cNvPicPr/>
          <p:nvPr/>
        </p:nvPicPr>
        <p:blipFill>
          <a:blip r:embed="rId2"/>
          <a:stretch/>
        </p:blipFill>
        <p:spPr>
          <a:xfrm>
            <a:off x="755640" y="4221000"/>
            <a:ext cx="2575080" cy="13827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"/>
          <p:cNvSpPr/>
          <p:nvPr/>
        </p:nvSpPr>
        <p:spPr>
          <a:xfrm>
            <a:off x="4140360" y="2133720"/>
            <a:ext cx="4248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land is bigger than the others count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apital of England is Lond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ational symbol of England is a red r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3" descr="top_image"/>
          <p:cNvPicPr/>
          <p:nvPr/>
        </p:nvPicPr>
        <p:blipFill>
          <a:blip r:embed="rId3"/>
          <a:stretch/>
        </p:blipFill>
        <p:spPr>
          <a:xfrm>
            <a:off x="826920" y="2276640"/>
            <a:ext cx="2448000" cy="1439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4"/>
          <p:cNvSpPr/>
          <p:nvPr/>
        </p:nvSpPr>
        <p:spPr>
          <a:xfrm>
            <a:off x="4227480" y="4138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5" descr="j0304917"/>
          <p:cNvPicPr/>
          <p:nvPr/>
        </p:nvPicPr>
        <p:blipFill>
          <a:blip r:embed="rId4"/>
          <a:stretch/>
        </p:blipFill>
        <p:spPr>
          <a:xfrm>
            <a:off x="8028000" y="3284640"/>
            <a:ext cx="900000" cy="1079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4067280" y="436572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lag of England is white and r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WordArt 18"/>
          <p:cNvSpPr txBox="1"/>
          <p:nvPr/>
        </p:nvSpPr>
        <p:spPr>
          <a:xfrm>
            <a:off x="4572000" y="189000"/>
            <a:ext cx="316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gland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4140360" y="4797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itish are polite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ll-mannered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0" y="5950080"/>
            <a:ext cx="32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684360" y="5734080"/>
            <a:ext cx="65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s or phrases as ‘’please’’ or ‘’excuse me’’ are used very often in Britain. Queuing is a national hab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4" descr="j0231790"/>
          <p:cNvPicPr/>
          <p:nvPr/>
        </p:nvPicPr>
        <p:blipFill>
          <a:blip r:embed="rId5"/>
          <a:stretch/>
        </p:blipFill>
        <p:spPr>
          <a:xfrm>
            <a:off x="7093080" y="4797360"/>
            <a:ext cx="1560240" cy="1844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26">
            <a:hlinkClick r:id="" action="ppaction://hlinkshowjump?jump=nextslide"/>
          </p:cNvPr>
          <p:cNvSpPr/>
          <p:nvPr/>
        </p:nvSpPr>
        <p:spPr>
          <a:xfrm>
            <a:off x="5580000" y="638172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4" h="21600">
                <a:moveTo>
                  <a:pt x="6020" y="3794"/>
                </a:moveTo>
                <a:lnTo>
                  <a:pt x="20033" y="10800"/>
                </a:lnTo>
                <a:lnTo>
                  <a:pt x="6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28">
            <a:hlinkClick r:id="rId6" action="ppaction://hlinksldjump"/>
          </p:cNvPr>
          <p:cNvSpPr/>
          <p:nvPr/>
        </p:nvSpPr>
        <p:spPr>
          <a:xfrm>
            <a:off x="5076720" y="638172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29">
            <a:hlinkClick r:id="rId7" action="ppaction://hlinksldjump"/>
          </p:cNvPr>
          <p:cNvSpPr/>
          <p:nvPr/>
        </p:nvSpPr>
        <p:spPr>
          <a:xfrm>
            <a:off x="4572000" y="6381720"/>
            <a:ext cx="504720" cy="476280"/>
          </a:xfrm>
          <a:custGeom>
            <a:avLst/>
            <a:gdLst>
              <a:gd name="textAreaLeft" fmla="*/ 30600 w 504720"/>
              <a:gd name="textAreaRight" fmla="*/ 474120 w 504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89" h="21600">
                <a:moveTo>
                  <a:pt x="11444" y="3837"/>
                </a:moveTo>
                <a:lnTo>
                  <a:pt x="14021" y="6448"/>
                </a:ln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lnTo>
                  <a:pt x="18407" y="10800"/>
                </a:lnTo>
                <a:lnTo>
                  <a:pt x="16754" y="10800"/>
                </a:lnTo>
                <a:lnTo>
                  <a:pt x="16754" y="17989"/>
                </a:lnTo>
                <a:lnTo>
                  <a:pt x="6135" y="17989"/>
                </a:lnTo>
                <a:lnTo>
                  <a:pt x="6135" y="10800"/>
                </a:lnTo>
                <a:lnTo>
                  <a:pt x="4481" y="10800"/>
                </a:lnTo>
                <a:close/>
              </a:path>
              <a:path fill="darkenLess" w="22889" h="21600">
                <a:moveTo>
                  <a:pt x="14021" y="6448"/>
                </a:moveTo>
                <a:lnTo>
                  <a:pt x="14021" y="4707"/>
                </a:lnTo>
                <a:lnTo>
                  <a:pt x="15796" y="4707"/>
                </a:lnTo>
                <a:lnTo>
                  <a:pt x="15796" y="8224"/>
                </a:lnTo>
                <a:close/>
              </a:path>
              <a:path fill="darkenLess" w="22889" h="21600">
                <a:moveTo>
                  <a:pt x="10522" y="14299"/>
                </a:moveTo>
                <a:lnTo>
                  <a:pt x="12367" y="14299"/>
                </a:lnTo>
                <a:lnTo>
                  <a:pt x="12367" y="17989"/>
                </a:lnTo>
                <a:lnTo>
                  <a:pt x="16754" y="17989"/>
                </a:lnTo>
                <a:lnTo>
                  <a:pt x="16754" y="10800"/>
                </a:lnTo>
                <a:lnTo>
                  <a:pt x="6135" y="10800"/>
                </a:lnTo>
                <a:lnTo>
                  <a:pt x="6135" y="17989"/>
                </a:lnTo>
                <a:lnTo>
                  <a:pt x="10522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0">
            <a:hlinkClick r:id="rId8" action="ppaction://hlinksldjump"/>
          </p:cNvPr>
          <p:cNvSpPr/>
          <p:nvPr/>
        </p:nvSpPr>
        <p:spPr>
          <a:xfrm>
            <a:off x="6156360" y="6381720"/>
            <a:ext cx="649080" cy="476280"/>
          </a:xfrm>
          <a:custGeom>
            <a:avLst/>
            <a:gdLst>
              <a:gd name="textAreaLeft" fmla="*/ 30600 w 649080"/>
              <a:gd name="textAreaRight" fmla="*/ 618480 w 649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431" h="21600">
                <a:moveTo>
                  <a:pt x="0" y="0"/>
                </a:moveTo>
                <a:lnTo>
                  <a:pt x="29431" y="0"/>
                </a:lnTo>
                <a:lnTo>
                  <a:pt x="29431" y="21600"/>
                </a:lnTo>
                <a:lnTo>
                  <a:pt x="0" y="21600"/>
                </a:lnTo>
                <a:close/>
              </a:path>
              <a:path fill="lightenLess" w="29431" h="21600">
                <a:moveTo>
                  <a:pt x="0" y="0"/>
                </a:moveTo>
                <a:lnTo>
                  <a:pt x="29431" y="0"/>
                </a:lnTo>
                <a:lnTo>
                  <a:pt x="28031" y="1400"/>
                </a:lnTo>
                <a:lnTo>
                  <a:pt x="1400" y="1400"/>
                </a:lnTo>
                <a:close/>
              </a:path>
              <a:path fill="darken" w="29431" h="21600">
                <a:moveTo>
                  <a:pt x="29431" y="0"/>
                </a:moveTo>
                <a:lnTo>
                  <a:pt x="29431" y="21600"/>
                </a:lnTo>
                <a:lnTo>
                  <a:pt x="28031" y="20200"/>
                </a:lnTo>
                <a:lnTo>
                  <a:pt x="28031" y="1400"/>
                </a:lnTo>
                <a:close/>
              </a:path>
              <a:path fill="darkenLess" w="29431" h="21600">
                <a:moveTo>
                  <a:pt x="29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31" y="20200"/>
                </a:lnTo>
                <a:close/>
              </a:path>
              <a:path fill="lighten" w="29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9431" h="21600">
                <a:moveTo>
                  <a:pt x="9189" y="3985"/>
                </a:moveTo>
                <a:lnTo>
                  <a:pt x="16186" y="3985"/>
                </a:lnTo>
                <a:lnTo>
                  <a:pt x="20242" y="7484"/>
                </a:lnTo>
                <a:lnTo>
                  <a:pt x="20242" y="17615"/>
                </a:lnTo>
                <a:lnTo>
                  <a:pt x="9189" y="17615"/>
                </a:lnTo>
                <a:close/>
              </a:path>
              <a:path fill="darken" w="29431" h="21600">
                <a:moveTo>
                  <a:pt x="16186" y="3985"/>
                </a:moveTo>
                <a:lnTo>
                  <a:pt x="20242" y="7484"/>
                </a:lnTo>
                <a:lnTo>
                  <a:pt x="16186" y="748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5"/>
          <p:cNvSpPr txBox="1"/>
          <p:nvPr/>
        </p:nvSpPr>
        <p:spPr>
          <a:xfrm>
            <a:off x="2843280" y="404640"/>
            <a:ext cx="324000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otland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Picture 7" descr="Эдинбург"/>
          <p:cNvPicPr/>
          <p:nvPr/>
        </p:nvPicPr>
        <p:blipFill>
          <a:blip r:embed="rId1"/>
          <a:stretch/>
        </p:blipFill>
        <p:spPr>
          <a:xfrm>
            <a:off x="611280" y="1557360"/>
            <a:ext cx="2016000" cy="1241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герб эдинбурга"/>
          <p:cNvPicPr/>
          <p:nvPr/>
        </p:nvPicPr>
        <p:blipFill>
          <a:blip r:embed="rId2"/>
          <a:stretch/>
        </p:blipFill>
        <p:spPr>
          <a:xfrm>
            <a:off x="6732720" y="189000"/>
            <a:ext cx="2117520" cy="165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флаг шотландии"/>
          <p:cNvPicPr/>
          <p:nvPr/>
        </p:nvPicPr>
        <p:blipFill>
          <a:blip r:embed="rId3"/>
          <a:stretch/>
        </p:blipFill>
        <p:spPr>
          <a:xfrm>
            <a:off x="611280" y="3068640"/>
            <a:ext cx="2016000" cy="128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"/>
          <p:cNvSpPr/>
          <p:nvPr/>
        </p:nvSpPr>
        <p:spPr>
          <a:xfrm>
            <a:off x="3276720" y="191628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apital of Scotland is Edinbur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3276720" y="2492280"/>
            <a:ext cx="55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flag of Scotland is blue and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emblem of Scotland is thist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3" descr="th-peoples-volinka"/>
          <p:cNvPicPr/>
          <p:nvPr/>
        </p:nvPicPr>
        <p:blipFill>
          <a:blip r:embed="rId4"/>
          <a:stretch/>
        </p:blipFill>
        <p:spPr>
          <a:xfrm>
            <a:off x="611280" y="4437000"/>
            <a:ext cx="2016000" cy="2127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th-shertopoloh"/>
          <p:cNvPicPr/>
          <p:nvPr/>
        </p:nvPicPr>
        <p:blipFill>
          <a:blip r:embed="rId5"/>
          <a:stretch/>
        </p:blipFill>
        <p:spPr>
          <a:xfrm>
            <a:off x="4643280" y="3736800"/>
            <a:ext cx="1008360" cy="756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0"/>
          <p:cNvSpPr/>
          <p:nvPr/>
        </p:nvSpPr>
        <p:spPr>
          <a:xfrm>
            <a:off x="3059280" y="4508640"/>
            <a:ext cx="608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cottish are wearing kilts. The ki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ave different colours. The kilts show your Family’s col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1">
            <a:hlinkClick r:id="" action="ppaction://hlinkshowjump?jump=nextslide"/>
          </p:cNvPr>
          <p:cNvSpPr/>
          <p:nvPr/>
        </p:nvSpPr>
        <p:spPr>
          <a:xfrm>
            <a:off x="752472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0" h="21600">
                <a:moveTo>
                  <a:pt x="7838" y="3794"/>
                </a:moveTo>
                <a:lnTo>
                  <a:pt x="21851" y="10800"/>
                </a:lnTo>
                <a:lnTo>
                  <a:pt x="78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2">
            <a:hlinkClick r:id="rId6" action="ppaction://hlinksldjump"/>
          </p:cNvPr>
          <p:cNvSpPr/>
          <p:nvPr/>
        </p:nvSpPr>
        <p:spPr>
          <a:xfrm>
            <a:off x="665964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23">
            <a:hlinkClick r:id="rId7" action="ppaction://hlinksldjump"/>
          </p:cNvPr>
          <p:cNvSpPr/>
          <p:nvPr/>
        </p:nvSpPr>
        <p:spPr>
          <a:xfrm>
            <a:off x="6012000" y="587700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12173" y="3837"/>
                </a:moveTo>
                <a:lnTo>
                  <a:pt x="14749" y="6448"/>
                </a:lnTo>
                <a:lnTo>
                  <a:pt x="14749" y="4707"/>
                </a:lnTo>
                <a:lnTo>
                  <a:pt x="16525" y="4707"/>
                </a:lnTo>
                <a:lnTo>
                  <a:pt x="16525" y="8224"/>
                </a:lnTo>
                <a:lnTo>
                  <a:pt x="19136" y="10800"/>
                </a:lnTo>
                <a:lnTo>
                  <a:pt x="17482" y="10800"/>
                </a:lnTo>
                <a:lnTo>
                  <a:pt x="17482" y="17989"/>
                </a:lnTo>
                <a:lnTo>
                  <a:pt x="6864" y="17989"/>
                </a:lnTo>
                <a:lnTo>
                  <a:pt x="6864" y="10800"/>
                </a:lnTo>
                <a:lnTo>
                  <a:pt x="5210" y="10800"/>
                </a:lnTo>
                <a:close/>
              </a:path>
              <a:path fill="darkenLess" w="24346" h="21600">
                <a:moveTo>
                  <a:pt x="14749" y="6448"/>
                </a:moveTo>
                <a:lnTo>
                  <a:pt x="14749" y="4707"/>
                </a:lnTo>
                <a:lnTo>
                  <a:pt x="16525" y="4707"/>
                </a:lnTo>
                <a:lnTo>
                  <a:pt x="16525" y="8224"/>
                </a:lnTo>
                <a:close/>
              </a:path>
              <a:path fill="darkenLess" w="24346" h="21600">
                <a:moveTo>
                  <a:pt x="11250" y="14299"/>
                </a:moveTo>
                <a:lnTo>
                  <a:pt x="13095" y="14299"/>
                </a:lnTo>
                <a:lnTo>
                  <a:pt x="13095" y="17989"/>
                </a:lnTo>
                <a:lnTo>
                  <a:pt x="17482" y="17989"/>
                </a:lnTo>
                <a:lnTo>
                  <a:pt x="17482" y="10800"/>
                </a:lnTo>
                <a:lnTo>
                  <a:pt x="6864" y="10800"/>
                </a:lnTo>
                <a:lnTo>
                  <a:pt x="6864" y="17989"/>
                </a:lnTo>
                <a:lnTo>
                  <a:pt x="1125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24">
            <a:hlinkClick r:id="rId8" action="ppaction://hlinksldjump"/>
          </p:cNvPr>
          <p:cNvSpPr/>
          <p:nvPr/>
        </p:nvSpPr>
        <p:spPr>
          <a:xfrm>
            <a:off x="5580000" y="587700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Less" w="21600" h="28812">
                <a:moveTo>
                  <a:pt x="5273" y="7591"/>
                </a:moveTo>
                <a:lnTo>
                  <a:pt x="12271" y="7591"/>
                </a:lnTo>
                <a:lnTo>
                  <a:pt x="16327" y="11090"/>
                </a:lnTo>
                <a:lnTo>
                  <a:pt x="16327" y="21221"/>
                </a:lnTo>
                <a:lnTo>
                  <a:pt x="5273" y="21221"/>
                </a:lnTo>
                <a:close/>
              </a:path>
              <a:path fill="darken" w="21600" h="28812">
                <a:moveTo>
                  <a:pt x="12271" y="7591"/>
                </a:moveTo>
                <a:lnTo>
                  <a:pt x="16327" y="11090"/>
                </a:lnTo>
                <a:lnTo>
                  <a:pt x="12271" y="1109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1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флаг уэльса"/>
          <p:cNvPicPr/>
          <p:nvPr/>
        </p:nvPicPr>
        <p:blipFill>
          <a:blip r:embed="rId1"/>
          <a:stretch/>
        </p:blipFill>
        <p:spPr>
          <a:xfrm>
            <a:off x="900000" y="4221000"/>
            <a:ext cx="2700360" cy="1741680"/>
          </a:xfrm>
          <a:prstGeom prst="rect">
            <a:avLst/>
          </a:prstGeom>
          <a:ln w="0">
            <a:noFill/>
          </a:ln>
        </p:spPr>
      </p:pic>
      <p:sp>
        <p:nvSpPr>
          <p:cNvPr id="253" name="WordArt 6"/>
          <p:cNvSpPr txBox="1"/>
          <p:nvPr/>
        </p:nvSpPr>
        <p:spPr>
          <a:xfrm>
            <a:off x="3203640" y="476280"/>
            <a:ext cx="216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les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572000" y="1916280"/>
            <a:ext cx="35272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capital of Wales is Cardif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flag of Wales is green and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national symbol of Wales is a daffod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3" descr="j0182730"/>
          <p:cNvPicPr/>
          <p:nvPr/>
        </p:nvPicPr>
        <p:blipFill>
          <a:blip r:embed="rId2"/>
          <a:stretch/>
        </p:blipFill>
        <p:spPr>
          <a:xfrm>
            <a:off x="4716360" y="4869000"/>
            <a:ext cx="1586160" cy="1828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герб Кардифф"/>
          <p:cNvPicPr/>
          <p:nvPr/>
        </p:nvPicPr>
        <p:blipFill>
          <a:blip r:embed="rId3"/>
          <a:stretch/>
        </p:blipFill>
        <p:spPr>
          <a:xfrm>
            <a:off x="900000" y="836640"/>
            <a:ext cx="2286000" cy="25034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5">
            <a:hlinkClick r:id="" action="ppaction://hlinkshowjump?jump=nextslide"/>
          </p:cNvPr>
          <p:cNvSpPr/>
          <p:nvPr/>
        </p:nvSpPr>
        <p:spPr>
          <a:xfrm>
            <a:off x="810108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7">
            <a:hlinkClick r:id="rId4" action="ppaction://hlinksldjump"/>
          </p:cNvPr>
          <p:cNvSpPr/>
          <p:nvPr/>
        </p:nvSpPr>
        <p:spPr>
          <a:xfrm>
            <a:off x="6948360" y="602136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8">
            <a:hlinkClick r:id="rId5" action="ppaction://hlinksldjump"/>
          </p:cNvPr>
          <p:cNvSpPr/>
          <p:nvPr/>
        </p:nvSpPr>
        <p:spPr>
          <a:xfrm>
            <a:off x="752472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12329"/>
                </a:moveTo>
                <a:lnTo>
                  <a:pt x="17806" y="5322"/>
                </a:lnTo>
                <a:lnTo>
                  <a:pt x="17806" y="1933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9">
            <a:hlinkClick r:id="rId6" action="ppaction://hlinksldjump"/>
          </p:cNvPr>
          <p:cNvSpPr/>
          <p:nvPr/>
        </p:nvSpPr>
        <p:spPr>
          <a:xfrm>
            <a:off x="6516720" y="602136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  <a:path fill="darkenLess" w="21600" h="28836">
                <a:moveTo>
                  <a:pt x="5273" y="7603"/>
                </a:moveTo>
                <a:lnTo>
                  <a:pt x="12271" y="7603"/>
                </a:lnTo>
                <a:lnTo>
                  <a:pt x="16327" y="11102"/>
                </a:lnTo>
                <a:lnTo>
                  <a:pt x="16327" y="21233"/>
                </a:lnTo>
                <a:lnTo>
                  <a:pt x="5273" y="21233"/>
                </a:lnTo>
                <a:close/>
              </a:path>
              <a:path fill="darken" w="21600" h="28836">
                <a:moveTo>
                  <a:pt x="12271" y="7603"/>
                </a:moveTo>
                <a:lnTo>
                  <a:pt x="16327" y="11102"/>
                </a:lnTo>
                <a:lnTo>
                  <a:pt x="12271" y="11102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1:44:23Z</dcterms:created>
  <dc:creator>user</dc:creator>
  <dc:description/>
  <dc:language>en-US</dc:language>
  <cp:lastModifiedBy>Наташа</cp:lastModifiedBy>
  <dcterms:modified xsi:type="dcterms:W3CDTF">2014-01-23T17:57:50Z</dcterms:modified>
  <cp:revision>13</cp:revision>
  <dc:subject/>
  <dc:title>TRAVEL TO THE UNATED KINGDOM OF  THE GREAT BRITAIN</dc:title>
</cp:coreProperties>
</file>