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2DF-0A62-47A4-9CF9-42F76A01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A57-2013-45B1-85E9-3E08331E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5F9-BDE1-4103-9867-F58827F8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4B7-7F1F-458B-92BA-BFDB1DBE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23E7-EE6B-4502-A090-629EF8BA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BC2C-1121-42F3-BB2A-C1FA9488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DE3C-156C-4268-9510-835BA5A6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784D-F279-47B7-B096-70273F56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16EC-7A98-4497-9648-CC4C18A0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03DE-F58F-437F-B258-9D36F4A2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B459-9F68-4A3D-B865-DA4D27D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136-199B-4081-A6A5-73C63672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F2F5-08FE-4533-9E42-1A2E461F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83CA-6637-4CBC-AC9D-4F96F86E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38E5-9AA2-4305-9D55-3AAAAC92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B2B7-AC6C-47EE-A91D-F7AD5206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2CCB-397A-4AF4-8FDE-2F4492C6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A4F-DB01-4790-9F89-3FD0C297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ECB-7B52-4E23-9090-C693E666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E8D-A53F-4517-9A38-7B97A29B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60A-D19C-4BE7-81DD-F56D4E3A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23F-7088-4E41-BDD0-88C04CA3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86B-27C5-489A-B5CE-CF594FC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4C8-7A4F-4562-B9CF-4C6A2071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2146-48EE-406D-A469-FF45223D0E8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628F-DED3-46D3-B472-546E32669B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6"/>
          <p:cNvSpPr/>
          <p:nvPr/>
        </p:nvSpPr>
        <p:spPr>
          <a:xfrm>
            <a:off x="539640" y="333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стерство Образован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133440" y="981000"/>
            <a:ext cx="253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500040" y="2060640"/>
            <a:ext cx="81057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 Л Е Т Н Е Е    П Л А Т Ь Е  «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995640" y="458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полнила: Полянская В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ководитель: Ульянова М. 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71640" y="1125360"/>
            <a:ext cx="617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076400" y="64296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изготовление плать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57160" y="1785960"/>
            <a:ext cx="745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дготовка тка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качество ткани. Определить изнаночную и лицевую стороны, направление долевой нити. Отгладить ткань. Измерить длину и ширину ткани, срезать кромки по всей дли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скрой плать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ить ткань на столе, сложить ее вдвое кромку с кромкой, лицевой стороной  во внутрь. Разложить детали, следить за направлением долевой нити, соблюдать прибавки на швы. Обвести мелом и вырезать детали кро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042920" y="333360"/>
            <a:ext cx="617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004760" y="5000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изготовление плать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4360" y="1268280"/>
            <a:ext cx="345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дготовка изделия к первой примерк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тать плечевые срезы спинки и полочек, сделав посадку по плечевому срезу спинки. Сметать со стороны спинки. Сметать вытачки. Сметать боковые срезы спинки и пере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вая пример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ть верх платье, уточнить положение средних линий переда и спинки. Уточнить ширину изделия, положение плечевого шва, положение бокового ш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71640" y="1125360"/>
            <a:ext cx="617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153520" y="28584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вставки к юб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684360" y="1125360"/>
            <a:ext cx="374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зание крючком по схем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ряд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рать 160 воздушных пете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яд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здушные петли для подъема, затем столбики с 1 накидом  в каждую вторую петлю 1 ря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ряд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здушные петли для подъема, 2 столбика с одним   накидом в 1 воздушную петлю 2 ря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язать 37 см, затем по краям вставки провязать вверх еще 7 см в длиной, шириной 2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10" descr="SDC13279"/>
          <p:cNvPicPr/>
          <p:nvPr/>
        </p:nvPicPr>
        <p:blipFill>
          <a:blip r:embed="rId1"/>
          <a:stretch/>
        </p:blipFill>
        <p:spPr>
          <a:xfrm>
            <a:off x="4859280" y="2637000"/>
            <a:ext cx="36687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42600" y="928800"/>
            <a:ext cx="236700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хема вязания шляп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828720" y="187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2648520" y="21420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  шляп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7" descr="сканирование0031"/>
          <p:cNvPicPr/>
          <p:nvPr/>
        </p:nvPicPr>
        <p:blipFill>
          <a:blip r:embed="rId1"/>
          <a:stretch/>
        </p:blipFill>
        <p:spPr>
          <a:xfrm>
            <a:off x="611280" y="1989000"/>
            <a:ext cx="2976480" cy="280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SDC13278"/>
          <p:cNvPicPr/>
          <p:nvPr/>
        </p:nvPicPr>
        <p:blipFill>
          <a:blip r:embed="rId2"/>
          <a:srcRect l="-961" t="0" r="0" b="0"/>
          <a:stretch/>
        </p:blipFill>
        <p:spPr>
          <a:xfrm>
            <a:off x="4284720" y="1197000"/>
            <a:ext cx="2951280" cy="2303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SAM_6567"/>
          <p:cNvPicPr/>
          <p:nvPr/>
        </p:nvPicPr>
        <p:blipFill>
          <a:blip r:embed="rId3"/>
          <a:stretch/>
        </p:blipFill>
        <p:spPr>
          <a:xfrm>
            <a:off x="4572000" y="3645000"/>
            <a:ext cx="338292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856880" y="1214280"/>
            <a:ext cx="6745320" cy="27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основание возникшей проблемы и потреб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конкретной задачи и ее формулиров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явление основных параметров и огранич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стория плать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ставление схемы «обдумывания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работка идей, вариа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нализ идей и выбор оптимального вариан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бор ткани,  инструментов, приспособлений, оборуд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хнологическая карта изготовления издел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кономическое обоснов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троль каче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зготовление издел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ррекц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троль, испыт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работка рекламного проспекта издел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амооце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2486160" y="333360"/>
            <a:ext cx="36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0"/>
          <p:cNvSpPr/>
          <p:nvPr/>
        </p:nvSpPr>
        <p:spPr>
          <a:xfrm flipV="1">
            <a:off x="5435640" y="2922840"/>
            <a:ext cx="183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усские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468360" y="981000"/>
            <a:ext cx="7416720" cy="53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Обоснование возникшей проблемы и потребности.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 меня много оригинальных летних платьев, но хотелось бы платье, лично сшитое мной. Мама подарила мне ткань и я решила, что она подходит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Определение конкретной задачи и ее формулировка                                         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гда я обосновала возникшую проблему и потребность, то сразу поняла: моя задача – изготовить это плат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Выявление основных параметров и огранич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кие требования я предъявляю к своему будущему изделию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Платье должно быть красивое и оригинально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Платье должно хорошо сидеть  на фигур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Нужно, чтобы платье было стильным и оригинальным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 плать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5640" y="857160"/>
            <a:ext cx="6072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ье – одно из самых любимых женских нарядов, подчеркивающих красоту представительниц прекрасного пол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плат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чалась, пожалуй, одновременно с историей человечества и менялось от одной эпохи к другой. Каких только платьев не видала мода – от простых, напоминающих рубашку, одеяний древних вавилонян, до средневековых бальных платьев, представляющих собой настоящее произведение искус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istoriya-platya"/>
          <p:cNvPicPr/>
          <p:nvPr/>
        </p:nvPicPr>
        <p:blipFill>
          <a:blip r:embed="rId1"/>
          <a:stretch/>
        </p:blipFill>
        <p:spPr>
          <a:xfrm>
            <a:off x="0" y="1357200"/>
            <a:ext cx="2579760" cy="37814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2643120" y="4303800"/>
            <a:ext cx="6143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ье, в зависимости от моды и царящих в обществе нравов, менялось с течением истории. Платья были то свободными, скрывая фигуру, то, напротив, облегающими, чтобы подчеркнуть красоту тела. Менялась длина и ширина рукавов, глубина и форма вырезов, ткани, фасоны и покрои, но лишь одно оставалось неизменным – желание женщины быть нарядной и привлекательной для окружающ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хема 3" descr=""/>
          <p:cNvPicPr/>
          <p:nvPr/>
        </p:nvPicPr>
        <p:blipFill>
          <a:blip r:embed="rId1"/>
          <a:stretch/>
        </p:blipFill>
        <p:spPr>
          <a:xfrm>
            <a:off x="1279440" y="407880"/>
            <a:ext cx="679788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6837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6. Разработка идей, вариан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84360" y="83556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шла несколько вариантов«летних платьев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2" descr="http://s51.radikal.ru/i132/0905/42/e7cc1b564df9.jpg"/>
          <p:cNvPicPr/>
          <p:nvPr/>
        </p:nvPicPr>
        <p:blipFill>
          <a:blip r:embed="rId1"/>
          <a:stretch/>
        </p:blipFill>
        <p:spPr>
          <a:xfrm>
            <a:off x="324000" y="1413000"/>
            <a:ext cx="2357280" cy="36432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67" name="Picture 4" descr="http://www.ladyshopping.ru/catalog/media/citymoda/9/3/4e09a0ce04393_420.jpg"/>
          <p:cNvPicPr/>
          <p:nvPr/>
        </p:nvPicPr>
        <p:blipFill>
          <a:blip r:embed="rId2"/>
          <a:stretch/>
        </p:blipFill>
        <p:spPr>
          <a:xfrm>
            <a:off x="2411280" y="2997360"/>
            <a:ext cx="2286000" cy="3662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68" name="Picture 6" descr="http://img-fotki.yandex.ru/get/4516/smolina-snv3110.17/0_692a6_81afe6d1_XL"/>
          <p:cNvPicPr/>
          <p:nvPr/>
        </p:nvPicPr>
        <p:blipFill>
          <a:blip r:embed="rId3"/>
          <a:stretch/>
        </p:blipFill>
        <p:spPr>
          <a:xfrm>
            <a:off x="4427640" y="1413000"/>
            <a:ext cx="2428920" cy="3643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69" name="Picture 8" descr="http://bestdress.com.ua/uploads/posts/2010-12/thumbs/1292937421_v299100_p52.jpg"/>
          <p:cNvPicPr/>
          <p:nvPr/>
        </p:nvPicPr>
        <p:blipFill>
          <a:blip r:embed="rId4"/>
          <a:stretch/>
        </p:blipFill>
        <p:spPr>
          <a:xfrm>
            <a:off x="6516720" y="3357720"/>
            <a:ext cx="2427120" cy="3143160"/>
          </a:xfrm>
          <a:prstGeom prst="rect">
            <a:avLst/>
          </a:prstGeom>
          <a:ln w="9360">
            <a:solidFill>
              <a:srgbClr val="703d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сканирование0017"/>
          <p:cNvPicPr/>
          <p:nvPr/>
        </p:nvPicPr>
        <p:blipFill>
          <a:blip r:embed="rId1"/>
          <a:stretch/>
        </p:blipFill>
        <p:spPr>
          <a:xfrm>
            <a:off x="5286240" y="1285920"/>
            <a:ext cx="2857680" cy="5286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71" name="Rectangle 5"/>
          <p:cNvSpPr/>
          <p:nvPr/>
        </p:nvSpPr>
        <p:spPr>
          <a:xfrm>
            <a:off x="214200" y="1290240"/>
            <a:ext cx="49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шла несколько вариантов платьев и решила смоделировать свое издел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000160" y="2876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з моего плать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14200" y="2726640"/>
            <a:ext cx="485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Анализ идей и выбор оптимального вариан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ще учусь шить и вязать и выбрала простую модель, решив дополнить ее вставкой по талии, связанной крючком, а также шляп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6"/>
          <p:cNvSpPr/>
          <p:nvPr/>
        </p:nvSpPr>
        <p:spPr>
          <a:xfrm>
            <a:off x="285840" y="428760"/>
            <a:ext cx="828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48"/>
          <p:cNvSpPr/>
          <p:nvPr/>
        </p:nvSpPr>
        <p:spPr>
          <a:xfrm>
            <a:off x="1662120" y="57168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полной себестоимости издел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71680" y="1571760"/>
          <a:ext cx="8001000" cy="3714480"/>
        </p:xfrm>
        <a:graphic>
          <a:graphicData uri="http://schemas.openxmlformats.org/drawingml/2006/table">
            <a:tbl>
              <a:tblPr/>
              <a:tblGrid>
                <a:gridCol w="1500120"/>
                <a:gridCol w="1911240"/>
                <a:gridCol w="1521000"/>
                <a:gridCol w="1541160"/>
                <a:gridCol w="1527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атери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г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йные ни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сная л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9"/>
          <p:cNvSpPr/>
          <p:nvPr/>
        </p:nvSpPr>
        <p:spPr>
          <a:xfrm>
            <a:off x="1071720" y="1714680"/>
            <a:ext cx="61736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тец, пряжа (хлопок натуральный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Швейная маши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Гладильная доска, утю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учная игла №3, булавки, ножницы, наперсто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и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антиметровая лента , мелок, линей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Учебник, рабочая тетрадь, бумага для выкроек, журнал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1071720" y="42876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кани,  пряжи  инструментов, приспособлений, оборудов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8:20:19Z</dcterms:created>
  <dc:creator>User</dc:creator>
  <dc:description/>
  <dc:language>en-US</dc:language>
  <cp:lastModifiedBy>User</cp:lastModifiedBy>
  <dcterms:modified xsi:type="dcterms:W3CDTF">2014-01-23T12:05:39Z</dcterms:modified>
  <cp:revision>47</cp:revision>
  <dc:subject/>
  <dc:title>Слайд 1</dc:title>
</cp:coreProperties>
</file>