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238-BD16-409A-8853-14D5929E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C10-6691-48A4-9A6E-FBA00342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CC8-F42C-428D-B4C9-25E86A1A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87C-62C7-430C-8AF8-B873DCBA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7DB-2E93-452A-8DC0-41BCF666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747-4CB1-4EFB-8B33-F095CC04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5CA-BA56-4217-AEAA-67CFAE1A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C9D-FF93-410D-B270-FA196000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58B-C055-45B1-A04E-EF7178E6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3BF-D61A-4DB7-AAEF-082AB86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32F-947D-4383-A346-B505F5B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2BF-3582-4E86-8D4F-F65C422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72EC-B6DF-4B00-AEEB-6ECF440D3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3657600" cy="265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65760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114800" y="152280"/>
            <a:ext cx="426708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числите значение  функ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, если 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&lt;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=     (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, если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, если 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&gt;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6858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304812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20760" y="3733920"/>
            <a:ext cx="6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х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34340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х 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5867280"/>
            <a:ext cx="304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4920" y="2666880"/>
            <a:ext cx="3657600" cy="4038840"/>
            <a:chOff x="304920" y="2666880"/>
            <a:chExt cx="3657600" cy="4038840"/>
          </a:xfrm>
        </p:grpSpPr>
        <p:sp>
          <p:nvSpPr>
            <p:cNvPr id="50" name=""/>
            <p:cNvSpPr/>
            <p:nvPr/>
          </p:nvSpPr>
          <p:spPr>
            <a:xfrm>
              <a:off x="1676520" y="4267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04920" y="2666880"/>
              <a:ext cx="3657600" cy="4038840"/>
              <a:chOff x="304920" y="2666880"/>
              <a:chExt cx="3657600" cy="40388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5280" y="2666880"/>
                <a:ext cx="533520" cy="22860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нач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19320" y="3124080"/>
                <a:ext cx="609480" cy="304920"/>
              </a:xfrm>
              <a:prstGeom prst="flowChartInputOutpu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43000" y="3581280"/>
                <a:ext cx="762120" cy="60984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04920" y="4191120"/>
                <a:ext cx="990360" cy="3808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у:=х+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43000" y="4876920"/>
                <a:ext cx="1143000" cy="43956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у:=(х-3)</a:t>
                </a:r>
                <a:r>
                  <a:rPr b="1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81080" y="5943600"/>
                <a:ext cx="609840" cy="304920"/>
              </a:xfrm>
              <a:prstGeom prst="flowChartInputOutpu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57400" y="6477120"/>
                <a:ext cx="533520" cy="22860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он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3880" y="2895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23880" y="34290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5120" y="38862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438280" y="3886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62120" y="38862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2120" y="38862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2120" y="45720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2120" y="571500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86000" y="5715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86000" y="6248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7400" y="4267080"/>
                <a:ext cx="762120" cy="60984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71800" y="4876920"/>
                <a:ext cx="990720" cy="3808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у:=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819520" y="45720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429000" y="45720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1676520" y="45720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6520" y="45720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7652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29000" y="5257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" y="35053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8800" y="35053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19520" y="4191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4574160" y="3809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&lt;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3120" y="41148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:=x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3120" y="44197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91440" y="47242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:=(x-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(x-3)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0000" y="5029200"/>
            <a:ext cx="10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:=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819520"/>
            <a:ext cx="4419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54864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60320" y="441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x&lt;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3657600" cy="265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65760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114800" y="152280"/>
            <a:ext cx="426708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числите значение  функ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, если 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&lt;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=     (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, если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, если 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&gt;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6858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304812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10320" y="4419720"/>
            <a:ext cx="69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65760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х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gt;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867280"/>
            <a:ext cx="304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4267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666880"/>
            <a:ext cx="533520" cy="228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ч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124080"/>
            <a:ext cx="609480" cy="304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3581280"/>
            <a:ext cx="762120" cy="6098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4876920"/>
            <a:ext cx="99072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:=х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4876920"/>
            <a:ext cx="114300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:=(х-3)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5943600"/>
            <a:ext cx="609840" cy="304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6477120"/>
            <a:ext cx="533520" cy="2286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о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621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715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6248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762120" cy="6098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191120"/>
            <a:ext cx="99072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: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6765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505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505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4160" y="3809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&gt;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3840" y="411480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:=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3120" y="44197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1440" y="47242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:=(x-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(x-3)+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9640" y="50292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:=x+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2743200"/>
            <a:ext cx="4419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54864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0320" y="441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x&gt;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0"/>
          <a:ext cx="3124080" cy="226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124080" y="228600"/>
            <a:ext cx="3657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числите значение  фун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, если 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 =     (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, если 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, если х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914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095880" y="228600"/>
            <a:ext cx="2819160" cy="2611800"/>
            <a:chOff x="6095880" y="228600"/>
            <a:chExt cx="2819160" cy="2611800"/>
          </a:xfrm>
        </p:grpSpPr>
        <p:sp>
          <p:nvSpPr>
            <p:cNvPr id="139" name=""/>
            <p:cNvSpPr/>
            <p:nvPr/>
          </p:nvSpPr>
          <p:spPr>
            <a:xfrm>
              <a:off x="7162560" y="1218960"/>
              <a:ext cx="3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6095880" y="228600"/>
              <a:ext cx="2819160" cy="2611800"/>
              <a:chOff x="6095880" y="228600"/>
              <a:chExt cx="2819160" cy="2611800"/>
            </a:xfrm>
          </p:grpSpPr>
          <p:sp>
            <p:nvSpPr>
              <p:cNvPr id="141" name=""/>
              <p:cNvSpPr/>
              <p:nvPr/>
            </p:nvSpPr>
            <p:spPr>
              <a:xfrm>
                <a:off x="7467480" y="2286000"/>
                <a:ext cx="23508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у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6095880" y="228600"/>
                <a:ext cx="2819160" cy="2561760"/>
                <a:chOff x="6095880" y="228600"/>
                <a:chExt cx="2819160" cy="2561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388280" y="1293840"/>
                  <a:ext cx="704520" cy="55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ff0000"/>
                      </a:solidFill>
                      <a:latin typeface="Times New Roman"/>
                    </a:rPr>
                    <a:t>х  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1" lang="ru-RU" sz="1200" spc="-1" strike="noStrike">
                      <a:solidFill>
                        <a:srgbClr val="ff0000"/>
                      </a:solidFill>
                      <a:latin typeface="Times New Roman"/>
                    </a:rPr>
                    <a:t> 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6095880" y="228600"/>
                  <a:ext cx="2819160" cy="2561760"/>
                  <a:chOff x="6095880" y="228600"/>
                  <a:chExt cx="2819160" cy="256176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6783480" y="838080"/>
                    <a:ext cx="4964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х 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&lt;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6095880" y="228600"/>
                    <a:ext cx="2819160" cy="2561760"/>
                    <a:chOff x="6095880" y="228600"/>
                    <a:chExt cx="2819160" cy="256176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59440" y="469800"/>
                      <a:ext cx="352440" cy="554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8" name=""/>
                    <p:cNvGrpSpPr/>
                    <p:nvPr/>
                  </p:nvGrpSpPr>
                  <p:grpSpPr>
                    <a:xfrm>
                      <a:off x="6095880" y="228600"/>
                      <a:ext cx="2819160" cy="2561760"/>
                      <a:chOff x="6095880" y="228600"/>
                      <a:chExt cx="2819160" cy="2561760"/>
                    </a:xfrm>
                  </p:grpSpPr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6859080" y="228600"/>
                        <a:ext cx="411120" cy="144720"/>
                      </a:xfrm>
                      <a:prstGeom prst="flowChartTerminator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нач.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6800760" y="518400"/>
                        <a:ext cx="469800" cy="193320"/>
                      </a:xfrm>
                      <a:prstGeom prst="flowChartInputOutpu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6741720" y="808560"/>
                        <a:ext cx="587160" cy="386640"/>
                      </a:xfrm>
                      <a:prstGeom prst="diamond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6095880" y="1195560"/>
                        <a:ext cx="763200" cy="241560"/>
                      </a:xfrm>
                      <a:prstGeom prst="flowChartProcess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:=х+2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6741720" y="1630440"/>
                        <a:ext cx="880920" cy="278640"/>
                      </a:xfrm>
                      <a:prstGeom prst="flowChartProcess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:=(х-3)</a:t>
                        </a:r>
                        <a:r>
                          <a:rPr b="1" lang="en-US" sz="12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+3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7387920" y="2307240"/>
                        <a:ext cx="469800" cy="193320"/>
                      </a:xfrm>
                      <a:prstGeom prst="flowChartInputOutpu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7446600" y="2645640"/>
                        <a:ext cx="411120" cy="144720"/>
                      </a:xfrm>
                      <a:prstGeom prst="flowChartTerminator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.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7035480" y="373320"/>
                        <a:ext cx="0" cy="144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7035480" y="712080"/>
                        <a:ext cx="0" cy="96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7329240" y="1001880"/>
                        <a:ext cx="410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7740360" y="1001880"/>
                        <a:ext cx="0" cy="241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 flipH="1">
                        <a:off x="6447960" y="1001880"/>
                        <a:ext cx="293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6448320" y="1001880"/>
                        <a:ext cx="0" cy="193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6448320" y="1437120"/>
                        <a:ext cx="0" cy="725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6448320" y="2162160"/>
                        <a:ext cx="205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7623000" y="2162160"/>
                        <a:ext cx="0" cy="144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7623000" y="2500560"/>
                        <a:ext cx="0" cy="144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7446600" y="1243440"/>
                        <a:ext cx="587160" cy="386640"/>
                      </a:xfrm>
                      <a:prstGeom prst="diamond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8151480" y="1630440"/>
                        <a:ext cx="763560" cy="241560"/>
                      </a:xfrm>
                      <a:prstGeom prst="flowChartProcess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:=4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8034120" y="1437120"/>
                        <a:ext cx="4698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8503920" y="1437120"/>
                        <a:ext cx="0" cy="193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 flipH="1">
                        <a:off x="7152840" y="1437120"/>
                        <a:ext cx="293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7153200" y="1437120"/>
                        <a:ext cx="0" cy="193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" name=""/>
                      <p:cNvSpPr/>
                      <p:nvPr/>
                    </p:nvSpPr>
                    <p:spPr>
                      <a:xfrm>
                        <a:off x="7153200" y="1920600"/>
                        <a:ext cx="0" cy="241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8503920" y="1872000"/>
                        <a:ext cx="0" cy="289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6389280" y="762120"/>
                        <a:ext cx="35244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+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7270560" y="762120"/>
                        <a:ext cx="46980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-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8034120" y="1197360"/>
                        <a:ext cx="46980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-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77" name=""/>
          <p:cNvSpPr/>
          <p:nvPr/>
        </p:nvSpPr>
        <p:spPr>
          <a:xfrm>
            <a:off x="152280" y="3276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)   x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32004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)    2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32004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)  x &l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8600" y="3962520"/>
            <a:ext cx="2840040" cy="2582640"/>
            <a:chOff x="228600" y="3962520"/>
            <a:chExt cx="2840040" cy="2582640"/>
          </a:xfrm>
        </p:grpSpPr>
        <p:sp>
          <p:nvSpPr>
            <p:cNvPr id="181" name=""/>
            <p:cNvSpPr/>
            <p:nvPr/>
          </p:nvSpPr>
          <p:spPr>
            <a:xfrm>
              <a:off x="1752480" y="5867280"/>
              <a:ext cx="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28600" y="3962520"/>
              <a:ext cx="2840040" cy="2582640"/>
              <a:chOff x="228600" y="3962520"/>
              <a:chExt cx="2840040" cy="258264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28600" y="3962520"/>
                <a:ext cx="2840040" cy="2582640"/>
                <a:chOff x="228600" y="3962520"/>
                <a:chExt cx="2840040" cy="25826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57200" y="4419720"/>
                  <a:ext cx="352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228600" y="3962520"/>
                  <a:ext cx="2840040" cy="2582640"/>
                  <a:chOff x="228600" y="3962520"/>
                  <a:chExt cx="2840040" cy="25826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1295280" y="4876920"/>
                    <a:ext cx="3524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V="1">
                    <a:off x="2209680" y="4874760"/>
                    <a:ext cx="470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523880" y="4419720"/>
                    <a:ext cx="470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228600" y="3962520"/>
                    <a:ext cx="2840040" cy="2582640"/>
                    <a:chOff x="228600" y="3962520"/>
                    <a:chExt cx="2840040" cy="258264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228600" y="4929120"/>
                      <a:ext cx="763560" cy="241200"/>
                    </a:xfrm>
                    <a:prstGeom prst="flowChartProcess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: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461960" y="4735440"/>
                      <a:ext cx="411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166840" y="5170320"/>
                      <a:ext cx="470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flipH="1">
                      <a:off x="1285920" y="5170320"/>
                      <a:ext cx="293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1012680" y="3962520"/>
                      <a:ext cx="411480" cy="144360"/>
                    </a:xfrm>
                    <a:prstGeom prst="flowChartTerminator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954000" y="4253040"/>
                      <a:ext cx="470160" cy="193680"/>
                    </a:xfrm>
                    <a:prstGeom prst="flowChartInputOutpu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895320" y="4541760"/>
                      <a:ext cx="587520" cy="387360"/>
                    </a:xfrm>
                    <a:prstGeom prst="diamond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&lt;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895320" y="5364000"/>
                      <a:ext cx="880920" cy="279720"/>
                    </a:xfrm>
                    <a:prstGeom prst="flowChartProcess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:=(х-3)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1541520" y="6040440"/>
                      <a:ext cx="469800" cy="193680"/>
                    </a:xfrm>
                    <a:prstGeom prst="flowChartInputOutpu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1600200" y="6400800"/>
                      <a:ext cx="411120" cy="144360"/>
                    </a:xfrm>
                    <a:prstGeom prst="flowChartTerminator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1893960" y="4724280"/>
                      <a:ext cx="0" cy="254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1600200" y="4978440"/>
                      <a:ext cx="587520" cy="385560"/>
                    </a:xfrm>
                    <a:prstGeom prst="diamond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2305080" y="5364000"/>
                      <a:ext cx="763560" cy="241560"/>
                    </a:xfrm>
                    <a:prstGeom prst="flowChartProcess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:=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2657520" y="5181480"/>
                      <a:ext cx="0" cy="182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1306440" y="5181480"/>
                      <a:ext cx="0" cy="182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1316160" y="5638680"/>
                      <a:ext cx="0" cy="228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1773360" y="5867280"/>
                      <a:ext cx="914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2687760" y="5638680"/>
                      <a:ext cx="0" cy="228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457200" y="4114800"/>
                <a:ext cx="1295280" cy="2286000"/>
                <a:chOff x="457200" y="4114800"/>
                <a:chExt cx="1295280" cy="2286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143000" y="4114800"/>
                  <a:ext cx="0" cy="15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143000" y="4419720"/>
                  <a:ext cx="0" cy="15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457200" y="472428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57200" y="4724280"/>
                  <a:ext cx="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7200" y="518148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57200" y="5867280"/>
                  <a:ext cx="1295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752480" y="6248520"/>
                  <a:ext cx="0" cy="15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" name=""/>
          <p:cNvGrpSpPr/>
          <p:nvPr/>
        </p:nvGrpSpPr>
        <p:grpSpPr>
          <a:xfrm>
            <a:off x="3124080" y="3962520"/>
            <a:ext cx="2819520" cy="2562120"/>
            <a:chOff x="3124080" y="3962520"/>
            <a:chExt cx="2819520" cy="2562120"/>
          </a:xfrm>
        </p:grpSpPr>
        <p:sp>
          <p:nvSpPr>
            <p:cNvPr id="217" name=""/>
            <p:cNvSpPr/>
            <p:nvPr/>
          </p:nvSpPr>
          <p:spPr>
            <a:xfrm>
              <a:off x="4064040" y="4446720"/>
              <a:ext cx="0" cy="9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124080" y="3962520"/>
              <a:ext cx="2819520" cy="2562120"/>
              <a:chOff x="3124080" y="3962520"/>
              <a:chExt cx="2819520" cy="25621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124080" y="3962520"/>
                <a:ext cx="2819520" cy="2562120"/>
                <a:chOff x="3124080" y="3962520"/>
                <a:chExt cx="2819520" cy="25621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191120" y="4876920"/>
                  <a:ext cx="352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429000" y="4419720"/>
                  <a:ext cx="352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343400" y="4419720"/>
                  <a:ext cx="469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029200" y="4876920"/>
                  <a:ext cx="469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3124080" y="3962520"/>
                  <a:ext cx="2819520" cy="2562120"/>
                  <a:chOff x="3124080" y="3962520"/>
                  <a:chExt cx="2819520" cy="25621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887640" y="3962520"/>
                    <a:ext cx="411480" cy="144360"/>
                  </a:xfrm>
                  <a:prstGeom prst="flowChartTerminator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ач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828960" y="4253040"/>
                    <a:ext cx="470160" cy="193680"/>
                  </a:xfrm>
                  <a:prstGeom prst="flowChartInputOutpu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,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770280" y="4541760"/>
                    <a:ext cx="587520" cy="387360"/>
                  </a:xfrm>
                  <a:prstGeom prst="diamond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,5 &lt;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124080" y="4929120"/>
                    <a:ext cx="763560" cy="241200"/>
                  </a:xfrm>
                  <a:prstGeom prst="flowChart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:=х+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733920" y="5364000"/>
                    <a:ext cx="917280" cy="279720"/>
                  </a:xfrm>
                  <a:prstGeom prst="flowChart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у:=(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,5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3)</a:t>
                    </a:r>
                    <a:r>
                      <a:rPr b="1" lang="ru-RU" sz="1200" spc="-1" strike="noStrike" baseline="30000">
                        <a:solidFill>
                          <a:srgbClr val="ff0000"/>
                        </a:solidFill>
                        <a:latin typeface="Times New Roman"/>
                      </a:rPr>
                      <a:t>2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+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416480" y="6040440"/>
                    <a:ext cx="469800" cy="193680"/>
                  </a:xfrm>
                  <a:prstGeom prst="flowChartInputOutpu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3,2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475160" y="6380280"/>
                    <a:ext cx="411120" cy="144360"/>
                  </a:xfrm>
                  <a:prstGeom prst="flowChartTerminator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он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>
                    <a:off x="3476520" y="4735440"/>
                    <a:ext cx="293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476520" y="473544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476520" y="5170320"/>
                    <a:ext cx="0" cy="72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648320" y="5867280"/>
                    <a:ext cx="88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475160" y="4978440"/>
                    <a:ext cx="587520" cy="385560"/>
                  </a:xfrm>
                  <a:prstGeom prst="diamond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2,5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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180040" y="5364000"/>
                    <a:ext cx="763560" cy="241560"/>
                  </a:xfrm>
                  <a:prstGeom prst="flowChart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:=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062680" y="5170320"/>
                    <a:ext cx="469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32480" y="517032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5532480" y="5605560"/>
                    <a:ext cx="0" cy="290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505320" y="5867280"/>
                    <a:ext cx="685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4064040" y="4106880"/>
                <a:ext cx="704880" cy="2293920"/>
                <a:chOff x="4064040" y="4106880"/>
                <a:chExt cx="704880" cy="2293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064040" y="4106880"/>
                  <a:ext cx="0" cy="146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357800" y="4735440"/>
                  <a:ext cx="411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768920" y="4735440"/>
                  <a:ext cx="0" cy="24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651200" y="5896080"/>
                  <a:ext cx="0" cy="144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4181400" y="5170320"/>
                  <a:ext cx="2937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181400" y="5170320"/>
                  <a:ext cx="0" cy="193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181400" y="5654520"/>
                  <a:ext cx="0" cy="241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191120" y="586728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48320" y="6248520"/>
                  <a:ext cx="0" cy="15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2" name=""/>
          <p:cNvGrpSpPr/>
          <p:nvPr/>
        </p:nvGrpSpPr>
        <p:grpSpPr>
          <a:xfrm>
            <a:off x="6095880" y="3962520"/>
            <a:ext cx="2819520" cy="2562120"/>
            <a:chOff x="6095880" y="3962520"/>
            <a:chExt cx="2819520" cy="2562120"/>
          </a:xfrm>
        </p:grpSpPr>
        <p:sp>
          <p:nvSpPr>
            <p:cNvPr id="253" name=""/>
            <p:cNvSpPr/>
            <p:nvPr/>
          </p:nvSpPr>
          <p:spPr>
            <a:xfrm>
              <a:off x="6742080" y="5364000"/>
              <a:ext cx="880920" cy="2797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:=(х-3)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095880" y="3962520"/>
              <a:ext cx="2819520" cy="2562120"/>
              <a:chOff x="6095880" y="3962520"/>
              <a:chExt cx="2819520" cy="25621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6095880" y="3962520"/>
                <a:ext cx="2819520" cy="2562120"/>
                <a:chOff x="6095880" y="3962520"/>
                <a:chExt cx="2819520" cy="25621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086600" y="4876920"/>
                  <a:ext cx="352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6095880" y="3962520"/>
                  <a:ext cx="2819520" cy="2562120"/>
                  <a:chOff x="6095880" y="3962520"/>
                  <a:chExt cx="2819520" cy="25621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6859440" y="3962520"/>
                    <a:ext cx="411480" cy="144360"/>
                  </a:xfrm>
                  <a:prstGeom prst="flowChartTerminator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ач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800760" y="4253040"/>
                    <a:ext cx="470160" cy="193680"/>
                  </a:xfrm>
                  <a:prstGeom prst="flowChartInputOutpu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742080" y="4541760"/>
                    <a:ext cx="587520" cy="387360"/>
                  </a:xfrm>
                  <a:prstGeom prst="diamond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5 &lt; 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095880" y="4929120"/>
                    <a:ext cx="763560" cy="241200"/>
                  </a:xfrm>
                  <a:prstGeom prst="flowChart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:=х+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388280" y="6040440"/>
                    <a:ext cx="469800" cy="193680"/>
                  </a:xfrm>
                  <a:prstGeom prst="flowChartInputOutpu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446960" y="6380280"/>
                    <a:ext cx="411120" cy="144360"/>
                  </a:xfrm>
                  <a:prstGeom prst="flowChartTerminator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он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>
                    <a:off x="6448320" y="4735440"/>
                    <a:ext cx="293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6448320" y="473544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448320" y="5170320"/>
                    <a:ext cx="0" cy="72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448320" y="5896080"/>
                    <a:ext cx="1171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446960" y="4978440"/>
                    <a:ext cx="587520" cy="385560"/>
                  </a:xfrm>
                  <a:prstGeom prst="diamond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5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 </a:t>
                    </a:r>
                    <a:r>
                      <a:rPr b="1" lang="en-US" sz="12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</a:t>
                    </a:r>
                    <a:r>
                      <a:rPr b="1" lang="ru-RU" sz="1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151840" y="5364000"/>
                    <a:ext cx="763560" cy="241560"/>
                  </a:xfrm>
                  <a:prstGeom prst="flowChart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:=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>
                    <a:off x="7153200" y="5170320"/>
                    <a:ext cx="293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153200" y="517032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153200" y="5654520"/>
                    <a:ext cx="0" cy="24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3" name=""/>
                <p:cNvSpPr/>
                <p:nvPr/>
              </p:nvSpPr>
              <p:spPr>
                <a:xfrm>
                  <a:off x="6400800" y="4495680"/>
                  <a:ext cx="352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315200" y="4419720"/>
                  <a:ext cx="469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077320" y="4876920"/>
                  <a:ext cx="469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035840" y="4106880"/>
                <a:ext cx="1498680" cy="2273400"/>
                <a:chOff x="7035840" y="4106880"/>
                <a:chExt cx="1498680" cy="22734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035840" y="4106880"/>
                  <a:ext cx="0" cy="146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035840" y="4446720"/>
                  <a:ext cx="0" cy="950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329600" y="4735440"/>
                  <a:ext cx="411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740720" y="4735440"/>
                  <a:ext cx="0" cy="24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623000" y="5896080"/>
                  <a:ext cx="0" cy="144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623000" y="6234120"/>
                  <a:ext cx="0" cy="146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034480" y="5170320"/>
                  <a:ext cx="469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504280" y="5170320"/>
                  <a:ext cx="0" cy="193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504280" y="5605560"/>
                  <a:ext cx="0" cy="290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620120" y="58672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152280" y="3733920"/>
            <a:ext cx="4648320" cy="2701080"/>
            <a:chOff x="152280" y="3733920"/>
            <a:chExt cx="4648320" cy="2701080"/>
          </a:xfrm>
        </p:grpSpPr>
        <p:sp>
          <p:nvSpPr>
            <p:cNvPr id="288" name=""/>
            <p:cNvSpPr/>
            <p:nvPr/>
          </p:nvSpPr>
          <p:spPr>
            <a:xfrm>
              <a:off x="152280" y="3733920"/>
              <a:ext cx="441972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00" y="5727240"/>
              <a:ext cx="4572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459720" y="4332240"/>
              <a:ext cx="2751120" cy="1400760"/>
              <a:chOff x="459720" y="4332240"/>
              <a:chExt cx="2751120" cy="1400760"/>
            </a:xfrm>
          </p:grpSpPr>
          <p:sp>
            <p:nvSpPr>
              <p:cNvPr id="291" name=""/>
              <p:cNvSpPr/>
              <p:nvPr/>
            </p:nvSpPr>
            <p:spPr>
              <a:xfrm>
                <a:off x="459720" y="4332240"/>
                <a:ext cx="145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if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условие 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8320" y="4599360"/>
                <a:ext cx="18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th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8320" y="4863960"/>
                <a:ext cx="49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el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4120" y="5131440"/>
                <a:ext cx="18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then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5560" y="5395680"/>
                <a:ext cx="183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els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3&gt;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5880" y="4863960"/>
                <a:ext cx="146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if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условие 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228600" y="838080"/>
            <a:ext cx="3962520" cy="3047760"/>
            <a:chOff x="228600" y="838080"/>
            <a:chExt cx="3962520" cy="3047760"/>
          </a:xfrm>
        </p:grpSpPr>
        <p:sp>
          <p:nvSpPr>
            <p:cNvPr id="298" name=""/>
            <p:cNvSpPr/>
            <p:nvPr/>
          </p:nvSpPr>
          <p:spPr>
            <a:xfrm>
              <a:off x="838440" y="327636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28600" y="838080"/>
              <a:ext cx="3962520" cy="3047760"/>
              <a:chOff x="228600" y="838080"/>
              <a:chExt cx="3962520" cy="3047760"/>
            </a:xfrm>
          </p:grpSpPr>
          <p:sp>
            <p:nvSpPr>
              <p:cNvPr id="300" name=""/>
              <p:cNvSpPr/>
              <p:nvPr/>
            </p:nvSpPr>
            <p:spPr>
              <a:xfrm>
                <a:off x="1752840" y="1989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19320" y="1379520"/>
                <a:ext cx="762120" cy="54180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Times New Roman"/>
                  </a:rPr>
                  <a:t>усл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8600" y="1921680"/>
                <a:ext cx="1143000" cy="3384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19320" y="2531520"/>
                <a:ext cx="1143000" cy="3906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00200" y="1244160"/>
                <a:ext cx="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81440" y="16506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514600" y="165060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838440" y="1650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38440" y="1650600"/>
                <a:ext cx="0" cy="2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38440" y="2260440"/>
                <a:ext cx="0" cy="10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362320" y="327636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1989360"/>
                <a:ext cx="762120" cy="54180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Times New Roman"/>
                  </a:rPr>
                  <a:t>усл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48120" y="2531520"/>
                <a:ext cx="1143000" cy="3384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95840" y="2260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05320" y="2260440"/>
                <a:ext cx="0" cy="2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1752840" y="22604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52840" y="2260440"/>
                <a:ext cx="0" cy="2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52840" y="293796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05320" y="2869920"/>
                <a:ext cx="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62120" y="13122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905120" y="13122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95840" y="19216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600200" y="83808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62320" y="354744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495680" y="838080"/>
            <a:ext cx="4495680" cy="3048120"/>
            <a:chOff x="4495680" y="838080"/>
            <a:chExt cx="4495680" cy="3048120"/>
          </a:xfrm>
        </p:grpSpPr>
        <p:sp>
          <p:nvSpPr>
            <p:cNvPr id="325" name=""/>
            <p:cNvSpPr/>
            <p:nvPr/>
          </p:nvSpPr>
          <p:spPr>
            <a:xfrm>
              <a:off x="5028840" y="32767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71840" y="1379520"/>
              <a:ext cx="762120" cy="5428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усл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53080" y="124452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3960" y="1650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790960" y="1650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7848360" y="1600200"/>
              <a:ext cx="1143000" cy="1701360"/>
              <a:chOff x="7848360" y="1600200"/>
              <a:chExt cx="1143000" cy="1701360"/>
            </a:xfrm>
          </p:grpSpPr>
          <p:sp>
            <p:nvSpPr>
              <p:cNvPr id="331" name=""/>
              <p:cNvSpPr/>
              <p:nvPr/>
            </p:nvSpPr>
            <p:spPr>
              <a:xfrm>
                <a:off x="7848360" y="1884240"/>
                <a:ext cx="1143000" cy="3538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57840" y="160020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57840" y="2238120"/>
                <a:ext cx="0" cy="10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7314840" y="327672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14640" y="13129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7640" y="13129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495680" y="1676520"/>
              <a:ext cx="2971800" cy="1625040"/>
              <a:chOff x="4495680" y="1676520"/>
              <a:chExt cx="2971800" cy="1625040"/>
            </a:xfrm>
          </p:grpSpPr>
          <p:sp>
            <p:nvSpPr>
              <p:cNvPr id="338" name=""/>
              <p:cNvSpPr/>
              <p:nvPr/>
            </p:nvSpPr>
            <p:spPr>
              <a:xfrm>
                <a:off x="5029200" y="19303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95680" y="2557440"/>
                <a:ext cx="1143000" cy="3898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91320" y="1676520"/>
                <a:ext cx="0" cy="33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0080" y="2014200"/>
                <a:ext cx="762120" cy="54288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00"/>
                    </a:solidFill>
                    <a:latin typeface="Times New Roman"/>
                  </a:rPr>
                  <a:t>усл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24480" y="2557440"/>
                <a:ext cx="1143000" cy="3376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72200" y="22856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81680" y="2285640"/>
                <a:ext cx="0" cy="27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029200" y="22856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29200" y="2285640"/>
                <a:ext cx="0" cy="27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29200" y="296352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81680" y="2895480"/>
                <a:ext cx="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72200" y="19476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6553080" y="83808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4840" y="354816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572000" y="3733920"/>
            <a:ext cx="4572000" cy="2760480"/>
            <a:chOff x="4572000" y="3733920"/>
            <a:chExt cx="4572000" cy="2760480"/>
          </a:xfrm>
        </p:grpSpPr>
        <p:sp>
          <p:nvSpPr>
            <p:cNvPr id="353" name=""/>
            <p:cNvSpPr/>
            <p:nvPr/>
          </p:nvSpPr>
          <p:spPr>
            <a:xfrm>
              <a:off x="4724280" y="3733920"/>
              <a:ext cx="441972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72000" y="5786640"/>
              <a:ext cx="4572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…………………………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55400" y="4417920"/>
              <a:ext cx="145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if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условие 1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84000" y="46904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61400" y="5513040"/>
              <a:ext cx="18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else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ператор 3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gt;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715000" y="4690440"/>
              <a:ext cx="2066760" cy="887040"/>
              <a:chOff x="5715000" y="4690440"/>
              <a:chExt cx="2066760" cy="887040"/>
            </a:xfrm>
          </p:grpSpPr>
          <p:sp>
            <p:nvSpPr>
              <p:cNvPr id="359" name=""/>
              <p:cNvSpPr/>
              <p:nvPr/>
            </p:nvSpPr>
            <p:spPr>
              <a:xfrm>
                <a:off x="5715000" y="4965120"/>
                <a:ext cx="685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945760" y="4965120"/>
                <a:ext cx="18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then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 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46120" y="5240160"/>
                <a:ext cx="176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els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операто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17880" y="4690440"/>
                <a:ext cx="146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if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&lt;</a:t>
                </a: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условие 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2209680" y="2286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ложенные вет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7621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-й вариан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86600" y="7621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-й вариан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4:05:32Z</dcterms:created>
  <dc:creator>Дима</dc:creator>
  <dc:description/>
  <dc:language>en-US</dc:language>
  <cp:lastModifiedBy>Дима</cp:lastModifiedBy>
  <dcterms:modified xsi:type="dcterms:W3CDTF">2006-02-26T22:29:20Z</dcterms:modified>
  <cp:revision>54</cp:revision>
  <dc:subject/>
  <dc:title>Презентация PowerPoint</dc:title>
</cp:coreProperties>
</file>