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200-0591-4686-A1D4-A9D744BF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FB0-56EC-4589-9D47-E3ECF0EF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CC3-14D2-4CE6-9D70-83324C61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0E6-4CBA-4113-9A92-7583B0E6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D68A-CCFA-4329-85D6-02FCFA29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DA64-559A-4613-A18A-7C41240A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5C61-D549-472D-9BDB-01B8A45B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57C7-3DC6-4BC0-B2F2-B33C0597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49C7-7EA5-43DD-B54E-9E3F18B6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7449-190A-4DB9-91B8-5B1BB021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2F47-6DC7-4592-8991-B6125ADA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34D-EBFF-46DE-984C-2948BA38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2276-CF6C-4493-B00D-C63CD92C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9DE0-0E4E-445E-87DA-98E29DE2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C2FA-6416-4B86-9DAF-379317B5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A3D8-AE1A-432A-82E0-B399AB40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51B7-33B3-4D5E-A94C-27C130AE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8D08E-89D1-45F2-9418-9DAEB625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177E5-6E8D-47FE-AF32-BC73E6B9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90D29-93E5-4E23-91A1-DAC3009F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17862-4DA9-4D2B-B1C6-C46D05DF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8506E-F043-4C9E-BD7D-321DACB0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B3A-4E26-4DD2-9836-6D66082C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C7362-C57A-4E2C-A2EF-60EA1925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B02A0-F741-4C11-903A-DED0A9A3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F2C49-9864-415A-974C-74808E48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964C8-5C9F-4400-97DB-5C315A02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F75F8-FC39-434F-87B8-38384F75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928B1-C441-4EDB-9690-2A71672E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40226-649F-4C0A-AA23-4908F34E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C7D16-913F-4699-A167-9C1A4CE8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C00FF-EFB1-4A76-A6FE-1F259DB5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1D34C-3C53-4AE4-A526-5FDDEDC5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019E-AD7B-4B02-978C-8FBB913F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C7594-17BE-4526-9FF8-B7E8FFC3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7E24D-B1EB-4CD9-BB49-65B6084B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3C675-5DE5-4D1E-A01B-8BE3AD77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C0E05-8CF6-4F61-810C-B950EACB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550AE-8209-4D5A-9052-D33404EC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FBF31-5434-4D81-AFA1-FBE00C38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239F3-1290-43C1-90C8-3AED8083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43B2C-30D9-44D9-9E7E-F98ED274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8474D-6C1A-4E61-A0A1-2E1362FA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D18D0-F52E-407B-96C0-FC34C7A6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746-6004-4CB9-AD1F-E7ADBA1D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BFFA9-F84A-4238-8A33-E65BD2D7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A8D51-E475-4514-9679-E6D18200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E2E0A-F4B9-4416-AF8B-D101F52B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C7108-9D5C-4ED3-ABC4-A23BEE36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911CD-FA8E-42CB-94F0-BBB14984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E1456-221C-45AB-B3E9-EAAA29B8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B5FF1-B08C-4836-810E-E41A8A88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1DA37-BFB2-43AF-91EF-9E92B6D5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D3BEC-6774-4A03-9AFF-7E0E29DD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7F490-F46E-4B04-8EB7-C61F7E8F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6A83-8BB7-4EB3-8D3E-41B034BA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12630-EDEA-449E-8149-BBF6CF29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C755E-75BC-43DC-88D2-6E9F4256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D9EE2-1204-4C3B-9C42-240A7081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7A960-C7A8-46E7-AFD4-1F138DAA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DA5EA-BDC8-409E-836E-D22EDF5D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75F6E-B8FF-465E-AE2D-0E4729C6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8AAEE-9446-4B75-86CC-9BB96665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53276-2F57-44C7-B8B4-9D605C06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9D00B-0F63-458E-99A4-B952A0F2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9F262-9CE8-4BD5-8D03-BCF9B3FE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547-356E-4AC7-B070-BA1A7E93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28B51-0BFF-4027-8EFB-72062459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E6F56-5FF7-469C-8C39-92602D48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4C0E5-3CA8-404D-90E5-43999FCF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B4C9C-82DC-4B85-AAA7-36BA4620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6ABA2-9D4D-42E9-8E63-65D82659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68602-6655-4529-A38D-CAE5DF1C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B2DD6-AE67-4648-AC3B-4B19E8E7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44EB0-3FB7-4537-BE74-721B70AF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8D199-8DFE-43F2-A266-759D4930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46804-86E0-4B22-99F1-8DC3DBEF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B38-D667-4E69-AAD0-0D15B440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31F9D-FC91-4653-AB44-345F3FC6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E76E5-9619-4C74-AB88-97B13A23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1547A-94DA-43B1-9944-9C877E27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BE3C7-2110-43EE-ADBB-792D5ED6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D5C86-145B-4B8E-93BE-D95D3E81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518-D9D4-4815-95DF-159D26B4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6E21-7EEB-4530-8D52-A0F14BA3BB2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18E3-E238-44D8-A631-A0A1074898C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7852-1F2C-452C-88FD-955FD71617B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38F0-0628-447E-AEFB-598D94FF6C7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3F44-CED2-4C13-A4D9-4EE32329E26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A035-8FF5-431C-A3FD-728CD5E75FD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4EEF-670C-485C-9076-1AA9C7292FB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10920" y="2276640"/>
            <a:ext cx="5543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ема:</a:t>
            </a:r>
            <a:r>
              <a:rPr b="1" i="1" lang="ru-RU" sz="5400" spc="-1" strike="noStrike">
                <a:solidFill>
                  <a:srgbClr val="073e87"/>
                </a:solidFill>
                <a:latin typeface="Candara"/>
              </a:rPr>
              <a:t>«Загадки воды»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2592360" y="5877000"/>
            <a:ext cx="3384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Никольск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2013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1979640" y="126828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2160720" y="35031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ксимова Настя, ученица 4 класс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4309920" y="46004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льянова Марина Дмитрие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Candara"/>
              </a:rPr>
              <a:t>Выводы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8560" y="1557360"/>
            <a:ext cx="8461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1. вода – бесцветная жидкость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434160" indent="-43416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2. вода текучая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434160" indent="-43416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3. принимает любую форму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434160" indent="-43416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4.растворяет вещества, но не все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434160" indent="-43416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5. жир не растворяется в воде и легче ее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Candara"/>
              </a:rPr>
              <a:t>Выводы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6. </a:t>
            </a: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вода имеет поверхность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7. капли воды  образуется,  потому что состоят из молекул, которые притягиваются друг к другу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92000" y="512640"/>
            <a:ext cx="723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00000" y="0"/>
            <a:ext cx="7408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Цель: </a:t>
            </a:r>
            <a:r>
              <a:rPr b="0" i="1" lang="ru-RU" sz="3600" spc="-1" strike="noStrike">
                <a:solidFill>
                  <a:srgbClr val="073e87"/>
                </a:solidFill>
                <a:latin typeface="Candara"/>
              </a:rPr>
              <a:t>разгадать  секреты воды и поделиться своими наблюдениями с одноклассниками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.</a:t>
            </a:r>
            <a:br>
              <a:rPr sz="3600"/>
            </a:b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1560" y="1521000"/>
            <a:ext cx="74088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1.изучить литературу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2. провести опыты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3. сделать выводы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4. рассказать одноклассникам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Методы исследования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: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опыты, сравнения, анализ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ода – бесцветная жидк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58920" y="2060280"/>
            <a:ext cx="7408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6" name="Picture 4" descr="DSCN0288"/>
          <p:cNvPicPr/>
          <p:nvPr/>
        </p:nvPicPr>
        <p:blipFill>
          <a:blip r:embed="rId1"/>
          <a:stretch/>
        </p:blipFill>
        <p:spPr>
          <a:xfrm>
            <a:off x="358920" y="2023920"/>
            <a:ext cx="748980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ода - текуча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Picture 7" descr="DSCN0290"/>
          <p:cNvPicPr/>
          <p:nvPr/>
        </p:nvPicPr>
        <p:blipFill>
          <a:blip r:embed="rId1"/>
          <a:stretch/>
        </p:blipFill>
        <p:spPr>
          <a:xfrm>
            <a:off x="3281400" y="2674800"/>
            <a:ext cx="34862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ода принимает любую форм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0" name="Picture 5" descr="DSCN0291"/>
          <p:cNvPicPr/>
          <p:nvPr/>
        </p:nvPicPr>
        <p:blipFill>
          <a:blip r:embed="rId1"/>
          <a:stretch/>
        </p:blipFill>
        <p:spPr>
          <a:xfrm>
            <a:off x="2987640" y="2241720"/>
            <a:ext cx="414036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ода и жир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6" descr="DSCN0308"/>
          <p:cNvPicPr/>
          <p:nvPr/>
        </p:nvPicPr>
        <p:blipFill>
          <a:blip r:embed="rId1"/>
          <a:stretch/>
        </p:blipFill>
        <p:spPr>
          <a:xfrm>
            <a:off x="1511280" y="1700280"/>
            <a:ext cx="5940360" cy="51577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976720" y="3897000"/>
            <a:ext cx="20509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Жир легче воды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и не растворяется в ней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Picture 5" descr="DSCN0298"/>
          <p:cNvPicPr/>
          <p:nvPr/>
        </p:nvPicPr>
        <p:blipFill>
          <a:blip r:embed="rId1"/>
          <a:stretch/>
        </p:blipFill>
        <p:spPr>
          <a:xfrm>
            <a:off x="1332000" y="2674800"/>
            <a:ext cx="2555640" cy="3451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DSCN0299"/>
          <p:cNvPicPr/>
          <p:nvPr/>
        </p:nvPicPr>
        <p:blipFill>
          <a:blip r:embed="rId2"/>
          <a:stretch/>
        </p:blipFill>
        <p:spPr>
          <a:xfrm>
            <a:off x="4824360" y="2674800"/>
            <a:ext cx="30956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У воды есть поверх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Picture 5" descr="DSCN0304"/>
          <p:cNvPicPr/>
          <p:nvPr/>
        </p:nvPicPr>
        <p:blipFill>
          <a:blip r:embed="rId1"/>
          <a:stretch/>
        </p:blipFill>
        <p:spPr>
          <a:xfrm>
            <a:off x="1150920" y="1484280"/>
            <a:ext cx="702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2:45:33Z</dcterms:created>
  <dc:creator>_</dc:creator>
  <dc:description/>
  <dc:language>en-US</dc:language>
  <cp:lastModifiedBy>User</cp:lastModifiedBy>
  <dcterms:modified xsi:type="dcterms:W3CDTF">2014-01-23T12:12:10Z</dcterms:modified>
  <cp:revision>20</cp:revision>
  <dc:subject/>
  <dc:title>Три                           ступени                         ведущие вниз</dc:title>
</cp:coreProperties>
</file>