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8E0-C48B-4DF3-809D-CDF3B947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195-FAED-4CB7-AB79-6E30ABF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709-028F-4CD5-B416-BE02880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235-0381-4979-A2CF-392D9322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04CC-F887-490F-A590-7EF00826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28D-EBC9-4862-8562-812042E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23A5-76B4-40C7-8279-7A34F0BF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42B1-0209-49AA-ADC5-D9C89CE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3768-174D-43DF-A85F-B0D9A5D7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76F2-E7D7-4C85-B431-DBB87DB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427-0FFC-45F6-A38F-7E5EC29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13A-4765-4389-BCA8-0C757942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71A6-C363-4AD0-BC1D-EBF04DA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1848-7633-47A4-8D16-55FE076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9CC3-BD8B-4613-B0A5-E80898B8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9F0-1BDB-4CB8-A441-A12FED2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C12D-8B6E-4592-B2B5-36FD5016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9AF8-5192-4BEE-BB5E-C27229AE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AF44-2959-40D1-A0D0-C43567F6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4747-8871-42C7-B167-E1502D5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CAEE-25D0-428D-9A44-7FF9CA8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0DC5-3360-476A-90FD-22BDA814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C79-4AEB-45EE-950B-6937841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57DF-13A6-4AA4-A3DD-4498545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0C13-9CA5-4382-9D5D-AE320B2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8CFC-D88A-4E46-A52C-BC5D1F4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C199-FA40-477E-BB4F-46DA3B2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5FF5-AEA1-49A1-AA92-72B7FBF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FE37-649A-4F24-A6C4-70A78808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676F-F13A-4721-A4C9-6AFA8F4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7C3C-6BB3-4126-B7F2-11548082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009B-429E-4B2C-B522-CF13782E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B026-931E-4B12-BF35-D4D579EB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479-ABB1-4417-AD16-B3A0186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47E4-5F9E-4BBC-B34E-2E36A32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85AA-6173-4B31-A607-E30FB2E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6376-3F83-4675-ACA5-EC4E1841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2DEE-E5DD-448F-803A-B4FB88E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701A-DE44-4063-AC87-0479BEA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8729-C3F4-4026-AD3D-AACCF8F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C38E-D701-44CB-8E81-49A7C9A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95B7-2A20-4DA3-B6C7-20089F2F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CC39-CA6B-4593-AF4D-D58095A8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7E0B-E065-4E92-8FF0-390749F8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8DF-EFC6-4B28-B21A-1C9EA2A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DC3C-FED0-442D-836C-79BD1BF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EC29-C67E-4358-B47E-EE3E899E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7509-97F6-4EB6-995C-D17DAAA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119A-91F1-4628-AC9E-E9E0F70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72A1-BAF4-4BFC-AA87-45D1A8D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ADFB-5DA3-41FF-BEA5-C4B865C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A5B7-C69F-4D85-8180-6F835A6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71960-F0D9-49EE-B442-1F1CED7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8C598-D533-4F8B-9451-496423C3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46CE-922D-4C21-8844-82044786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20F-DE77-4DD9-B6D6-9E1DB078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6527-8D7A-479E-845C-E97C66AC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4749-7BD7-49E8-9E2A-129801FE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C7E1-3A55-4AED-9F92-E21CA07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48C81-2BEE-477A-9D90-5C7CE2C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4738-51C1-4D30-B45C-1C2E6C44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2679-C74E-4CEA-AB1D-A5B0EA76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7008F-9173-41AE-8B39-26F9D3B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DA32-72BA-4678-AF6B-408EDAD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4A60-19AB-4469-BEA0-D499BD4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6F8C-0D18-47C9-B1F5-5E82B16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EF3-9DDA-410A-97A9-1EAD3FE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D674-98F4-42DF-B58C-B89230EC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0431-F2C4-493B-B2A2-055F0C0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D5F7-B6EE-4106-9BF5-0E632395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F79E-ABFC-4615-AC32-74DB39FD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DE07-2044-464F-844A-5D0523A3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66B0-16AB-41B3-BFF8-EF03460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7EAC-F4CD-4170-8BD9-FCE9A5A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E2BF-FD15-46A4-97D0-5D11F6B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D995-F5C2-4AC2-BEB5-66E7D13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4C9D-CC82-4456-9346-1381BAF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652-3B33-4145-A9E5-807F8DE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B1603-FE93-45B2-8901-29EC1E2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2409-BF0F-4C0A-9BEE-23A9BA1C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CB4A-7A81-4196-9F1E-98C4CB3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7C90-7462-4B83-AC6A-02A69D45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E246-FDFC-4621-B099-D50DF36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0C2-B0B5-4901-9C19-9543CB8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657-DDCB-439B-AB35-7601B6E56AC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4C8C-FF14-4361-B80B-2750D0A4BF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7AF-3396-44EC-8E1D-C081DFB1CC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E949-1EBC-46E2-A2DD-B9AB3EDA63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471-7A74-4A64-B5BF-2358F31FD7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631-8BEB-4CC0-ACA4-96A7A0F778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214-5BDC-419A-9B01-F5860FEC5F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0920" y="227664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«Загадки воды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92360" y="5877000"/>
            <a:ext cx="3384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Никольск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13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1979640" y="12682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160720" y="35031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ова Настя, ученица 4 класс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309920" y="46004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льянова Марина Дмитри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461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1. вода – бесцветная жидкос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2. вода текуча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3. принимает любую форму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4.растворяет вещества, но не все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5. жир не растворяется в воде и легче ее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6. 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вода имеет поверхнос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7. капли воды  образуется,  потому что состоят из молекул, которые притягиваются друг к другу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2000" y="51264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0"/>
            <a:ext cx="7408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Цель: </a:t>
            </a:r>
            <a:r>
              <a:rPr b="0" i="1" lang="ru-RU" sz="3600" spc="-1" strike="noStrike">
                <a:solidFill>
                  <a:srgbClr val="073e87"/>
                </a:solidFill>
                <a:latin typeface="Candara"/>
              </a:rPr>
              <a:t>разгадать  секреты воды и поделиться своими наблюдениями с одноклассниками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1521000"/>
            <a:ext cx="74088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1.изучить литературу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2. провести опыт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3. сделать вывод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4. рассказать одноклассникам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етоды исследования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пыты, сравнения, анализ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– бесцветная жидк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8920" y="206028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4" descr="DSCN0288"/>
          <p:cNvPicPr/>
          <p:nvPr/>
        </p:nvPicPr>
        <p:blipFill>
          <a:blip r:embed="rId1"/>
          <a:stretch/>
        </p:blipFill>
        <p:spPr>
          <a:xfrm>
            <a:off x="358920" y="2023920"/>
            <a:ext cx="7489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- текуч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DSCN0290"/>
          <p:cNvPicPr/>
          <p:nvPr/>
        </p:nvPicPr>
        <p:blipFill>
          <a:blip r:embed="rId1"/>
          <a:stretch/>
        </p:blipFill>
        <p:spPr>
          <a:xfrm>
            <a:off x="3281400" y="2674800"/>
            <a:ext cx="3486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принимает любую форм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5" descr="DSCN0291"/>
          <p:cNvPicPr/>
          <p:nvPr/>
        </p:nvPicPr>
        <p:blipFill>
          <a:blip r:embed="rId1"/>
          <a:stretch/>
        </p:blipFill>
        <p:spPr>
          <a:xfrm>
            <a:off x="2987640" y="2241720"/>
            <a:ext cx="41403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и жи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6" descr="DSCN0308"/>
          <p:cNvPicPr/>
          <p:nvPr/>
        </p:nvPicPr>
        <p:blipFill>
          <a:blip r:embed="rId1"/>
          <a:stretch/>
        </p:blipFill>
        <p:spPr>
          <a:xfrm>
            <a:off x="1511280" y="1700280"/>
            <a:ext cx="5940360" cy="51577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976720" y="3897000"/>
            <a:ext cx="20509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Жир легче вод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 не растворяется в н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DSCN0298"/>
          <p:cNvPicPr/>
          <p:nvPr/>
        </p:nvPicPr>
        <p:blipFill>
          <a:blip r:embed="rId1"/>
          <a:stretch/>
        </p:blipFill>
        <p:spPr>
          <a:xfrm>
            <a:off x="1332000" y="2674800"/>
            <a:ext cx="2555640" cy="3451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DSCN0299"/>
          <p:cNvPicPr/>
          <p:nvPr/>
        </p:nvPicPr>
        <p:blipFill>
          <a:blip r:embed="rId2"/>
          <a:stretch/>
        </p:blipFill>
        <p:spPr>
          <a:xfrm>
            <a:off x="4824360" y="2674800"/>
            <a:ext cx="3095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У воды есть поверх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5" descr="DSCN0304"/>
          <p:cNvPicPr/>
          <p:nvPr/>
        </p:nvPicPr>
        <p:blipFill>
          <a:blip r:embed="rId1"/>
          <a:stretch/>
        </p:blipFill>
        <p:spPr>
          <a:xfrm>
            <a:off x="1150920" y="1484280"/>
            <a:ext cx="70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2:45:33Z</dcterms:created>
  <dc:creator>_</dc:creator>
  <dc:description/>
  <dc:language>en-US</dc:language>
  <cp:lastModifiedBy>User</cp:lastModifiedBy>
  <dcterms:modified xsi:type="dcterms:W3CDTF">2014-01-23T12:12:10Z</dcterms:modified>
  <cp:revision>20</cp:revision>
  <dc:subject/>
  <dc:title>Три                           ступени                         ведущие вниз</dc:title>
</cp:coreProperties>
</file>