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11C-A4EC-4D73-9B94-3813A7E7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9AB-73A3-465D-BA02-46A94748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A65-B437-4762-A9BB-36F041DE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28E-6AD4-4A81-8524-5107B13B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D68-5032-48F3-9B3D-072F2FE8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BD5-DD2D-4A42-99D1-D1EBED8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2DA7-B75D-453B-AA2D-5B440B6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30E-D1E3-450E-9D20-700F847C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7728-F382-4F5C-8B3E-D24828D9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E6A-CEA2-43DF-BA62-EBBB4510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D122-C713-40A6-8565-EF78D7D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225-088E-411C-8E5C-6E8A085C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5383-906A-4812-B386-2EB9BB1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A917-3299-453E-8C3E-FD3E52C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7871-4B67-4E14-9AD4-1BF56BB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F3DD-3D5E-4C9B-AE56-C3F3B425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3657-9914-4C3F-A088-D68B3782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194-A79F-474B-855F-48D9A19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8C2-B6DE-4222-9570-EA96077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80F-5BAF-44D4-9FBD-4789F69E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888-1193-40E2-B277-BB15113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CE9-CAB9-4190-8EA4-FB225FAC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15D-D8B9-431F-8843-122BEF4C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A53-D0D4-4B66-8D7E-49F6120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9C7-0657-475B-83BE-6C374138F7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433-2BE5-4354-B346-16079ADE7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12189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ие человеческие потребности, которые, якобы, удовлетворяются с помощью алкоголя, табака или наркотиков, могут быть удовлетворены с помощью здоровых способ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22080" y="212400"/>
            <a:ext cx="4441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Получить кайф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22080" y="212400"/>
            <a:ext cx="4441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Получить кайф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05120"/>
            <a:ext cx="38862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одить на каток или в бассей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ыгнуть с парашю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308" t="0" r="9011" b="0"/>
          <a:stretch/>
        </p:blipFill>
        <p:spPr>
          <a:xfrm>
            <a:off x="1676520" y="4106880"/>
            <a:ext cx="3581280" cy="275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3520" y="2457360"/>
            <a:ext cx="39304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78040" y="213840"/>
            <a:ext cx="57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быть о проблема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2404"/>
          <a:stretch/>
        </p:blipFill>
        <p:spPr>
          <a:xfrm>
            <a:off x="2895480" y="1828800"/>
            <a:ext cx="35719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78040" y="213840"/>
            <a:ext cx="57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Забыть о проблема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5740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оговорить с мамой, папой, друзьями и решать проблемы вме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06440" y="24408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барьеры в общении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2000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06440" y="244080"/>
            <a:ext cx="66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барьеры в общении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05740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являть неподдельный интерес к собеседнику, это располагает и снимает барь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32146"/>
          <a:stretch/>
        </p:blipFill>
        <p:spPr>
          <a:xfrm>
            <a:off x="4191120" y="2354400"/>
            <a:ext cx="4952880" cy="33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02600" y="213840"/>
            <a:ext cx="3678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огреться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10170"/>
          <a:stretch/>
        </p:blipFill>
        <p:spPr>
          <a:xfrm>
            <a:off x="1600200" y="2057400"/>
            <a:ext cx="6000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02600" y="213840"/>
            <a:ext cx="3678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Согреться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752480"/>
            <a:ext cx="40384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еться потеплее, попрыгать, зайти в магазин погре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ить горячего ч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42120" y="3295800"/>
            <a:ext cx="2801880" cy="3562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7811"/>
          <a:stretch/>
        </p:blipFill>
        <p:spPr>
          <a:xfrm>
            <a:off x="3200400" y="4419720"/>
            <a:ext cx="3314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29120" y="2440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напряж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5085"/>
          <a:stretch/>
        </p:blipFill>
        <p:spPr>
          <a:xfrm>
            <a:off x="1066680" y="1981080"/>
            <a:ext cx="67532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29120" y="2440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Снять напряж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676520"/>
            <a:ext cx="3886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елать физические упраж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улять в пар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ить сок, ча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ходить в театр или ки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203040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7720" y="15048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Любопытство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331" b="0"/>
          <a:stretch/>
        </p:blipFill>
        <p:spPr>
          <a:xfrm>
            <a:off x="1676520" y="16002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457200"/>
            <a:ext cx="82296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Любую естественную потребность человека можно удовлетворить здоровым способом, а любую проблему можно решить, если  от нее не отворачиваться. Проблема нездоровых привычек состоит в том, что мы не знаем себя, своих возможностей и не умеем строить конструктивные взаимоотношения с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Этому можно научитьс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600200"/>
            <a:ext cx="3657600" cy="40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читать о проблеме вредных привычек, посмотреть на других зависимых людей, поспрашивать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 Сходить в наркодиспансер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6760" y="15228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Любопытство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53341" b="0"/>
          <a:stretch/>
        </p:blipFill>
        <p:spPr>
          <a:xfrm>
            <a:off x="6248520" y="3757680"/>
            <a:ext cx="2895480" cy="31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335268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84960" y="152280"/>
            <a:ext cx="48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Расслабле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49568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84960" y="152280"/>
            <a:ext cx="48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Расслабле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26080"/>
            <a:ext cx="365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 ван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ть массаж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сть и помедитиров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14840" y="4394160"/>
            <a:ext cx="3629160" cy="246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350532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31280" y="213840"/>
            <a:ext cx="59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литься в компанию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594360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31280" y="213840"/>
            <a:ext cx="592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Влиться в компанию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1080"/>
            <a:ext cx="3657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ть лидером компании, а не последова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нравиться у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62520" y="3400560"/>
            <a:ext cx="518148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5120" y="273960"/>
            <a:ext cx="907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нравиться молодому человеку (девушк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5120" y="273960"/>
            <a:ext cx="907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ТРЕБНОС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нравиться молодому человеку (девушк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752480"/>
            <a:ext cx="38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оявлять уважение и искренность, естественность в отношен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7800" y="4387680"/>
            <a:ext cx="3886200" cy="247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а</cp:lastModifiedBy>
  <dcterms:modified xsi:type="dcterms:W3CDTF">2013-12-01T16:06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