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8BA0-0D34-447E-9163-7C854D4EC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4045-6652-4151-8725-3C18849D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26FF-2963-40E1-B79C-52757244D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799B-EB10-4ADC-9A25-93C0A13C2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1704-33CA-4BC1-8C19-C62101BE5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6AE2-B4D0-44B2-A80F-E6484381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A857-3783-4A97-BF50-00D71E0B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3EB1-6D33-4649-B191-95E19F81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4916-81D0-4AAB-83E3-72C5537C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E2AB-7679-479F-9EFA-6DB40D5F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DE62-0640-425C-BBC0-0221A4EA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E250-55ED-4577-B577-CD37DD9C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3E06-A56C-4275-99A5-6D6E086B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73D3-2CAD-49F8-A35C-A28E1D7E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9D2B-C5FA-493C-812D-1C670E74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964E-C920-45BA-8674-FC24A495E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AD86-FE46-4028-B34F-BB30CC9C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514F-3C93-4C56-BA78-89BE596A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FB1A-C7D9-4DDF-9C2F-E1B93FC4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E8E9-5796-4C79-BBB7-049C491D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EB5F-138B-4D42-9CF7-191B87C1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6E05-2A30-4290-941F-D42FF5A7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99ED-D582-4B3C-BDFB-66574159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DA10-86C6-4124-83EB-29FAADA1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7868-7675-41E6-BF71-BA9EEEB0B2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CBF0-7853-40D6-AEE5-2D0CAC3907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62120" y="1218960"/>
            <a:ext cx="7848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акие человеческие потребности, которые, якобы, удовлетворяются с помощью алкоголя, табака или наркотиков, могут быть удовлетворены с помощью здоровых способ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422080" y="212400"/>
            <a:ext cx="4441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ТРЕБНОСТ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Получить кайф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238880" cy="45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422080" y="212400"/>
            <a:ext cx="4441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ТРЕБНОСТ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Получить кайф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1905120"/>
            <a:ext cx="388620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ходить на каток или в бассейн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ыгнуть с парашют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10308" t="0" r="9011" b="0"/>
          <a:stretch/>
        </p:blipFill>
        <p:spPr>
          <a:xfrm>
            <a:off x="1676520" y="4106880"/>
            <a:ext cx="3581280" cy="2751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213520" y="2457360"/>
            <a:ext cx="3930480" cy="44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78040" y="213840"/>
            <a:ext cx="57294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ТРЕБНОСТ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Забыть о проблемах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0" t="0" r="0" b="2404"/>
          <a:stretch/>
        </p:blipFill>
        <p:spPr>
          <a:xfrm>
            <a:off x="2895480" y="1828800"/>
            <a:ext cx="357192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778040" y="213840"/>
            <a:ext cx="57294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ТРЕБНОСТ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Забыть о проблемах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2057400"/>
            <a:ext cx="3886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Поговорить с мамой, папой, друзьями и решать проблемы вмес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267080" y="32004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306440" y="244080"/>
            <a:ext cx="667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ТРЕБНОСТ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Снять барьеры в общении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020000" cy="46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306440" y="244080"/>
            <a:ext cx="667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ТРЕБНОСТ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Снять барьеры в общении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057400"/>
            <a:ext cx="396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Проявлять неподдельный интерес к собеседнику, это располагает и снимает барье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32146"/>
          <a:stretch/>
        </p:blipFill>
        <p:spPr>
          <a:xfrm>
            <a:off x="4191120" y="2354400"/>
            <a:ext cx="4952880" cy="33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802600" y="213840"/>
            <a:ext cx="36784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ТРЕБНОСТ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Согреться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10170"/>
          <a:stretch/>
        </p:blipFill>
        <p:spPr>
          <a:xfrm>
            <a:off x="1600200" y="2057400"/>
            <a:ext cx="60008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802600" y="213840"/>
            <a:ext cx="36784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ТРЕБНОСТ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Согреться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1752480"/>
            <a:ext cx="403848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еться потеплее, попрыгать, зайти в магазин погретьс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ить горячего ч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342120" y="3295800"/>
            <a:ext cx="2801880" cy="3562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rcRect l="0" t="0" r="0" b="7811"/>
          <a:stretch/>
        </p:blipFill>
        <p:spPr>
          <a:xfrm>
            <a:off x="3200400" y="4419720"/>
            <a:ext cx="331488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29120" y="244080"/>
            <a:ext cx="482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ТРЕБНОСТ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Снять напряжение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0" t="0" r="0" b="5085"/>
          <a:stretch/>
        </p:blipFill>
        <p:spPr>
          <a:xfrm>
            <a:off x="1066680" y="1981080"/>
            <a:ext cx="675324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29120" y="244080"/>
            <a:ext cx="482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ТРЕБНОСТ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Снять напряжение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1676520"/>
            <a:ext cx="38862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делать физические упражн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гулять в парк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пить сок, ча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ходить в театр или ки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962520" y="2030400"/>
            <a:ext cx="5181480" cy="337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917720" y="150480"/>
            <a:ext cx="475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ТРЕБНОСТ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Tahoma"/>
              </a:rPr>
              <a:t>Любопытство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4331" b="0"/>
          <a:stretch/>
        </p:blipFill>
        <p:spPr>
          <a:xfrm>
            <a:off x="1676520" y="1600200"/>
            <a:ext cx="50292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04920" y="457200"/>
            <a:ext cx="822960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Вывод: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Любую естественную потребность человека можно удовлетворить здоровым способом, а любую проблему можно решить, если  от нее не отворачиваться. Проблема нездоровых привычек состоит в том, что мы не знаем себя, своих возможностей и не умеем строить конструктивные взаимоотношения с людь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Этому можно научиться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505320" y="48006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280" y="1600200"/>
            <a:ext cx="3657600" cy="40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Почитать о проблеме вредных привычек, посмотреть на других зависимых людей, поспрашивать 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- Сходить в наркодиспансер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6760" y="152280"/>
            <a:ext cx="475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ТРЕБНОСТ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Tahoma"/>
              </a:rPr>
              <a:t>Любопытство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0" r="53341" b="0"/>
          <a:stretch/>
        </p:blipFill>
        <p:spPr>
          <a:xfrm>
            <a:off x="6248520" y="3757680"/>
            <a:ext cx="2895480" cy="3100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886200" y="1752480"/>
            <a:ext cx="3352680" cy="28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884960" y="152280"/>
            <a:ext cx="481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ТРЕБНОСТ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Tahoma"/>
              </a:rPr>
              <a:t>Расслабление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362320" y="2133720"/>
            <a:ext cx="4495680" cy="435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884960" y="152280"/>
            <a:ext cx="481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ТРЕБНОСТ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Tahoma"/>
              </a:rPr>
              <a:t>Расслабление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026080"/>
            <a:ext cx="3657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нять ванн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делать массаж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сть и помедитирова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514840" y="4394160"/>
            <a:ext cx="3629160" cy="2463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638680" y="1981080"/>
            <a:ext cx="3505320" cy="23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31280" y="213840"/>
            <a:ext cx="5923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ТРЕБНОСТ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Влиться в компанию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5943600" cy="44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331280" y="213840"/>
            <a:ext cx="5923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ТРЕБНОСТ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Влиться в компанию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981080"/>
            <a:ext cx="36576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ать лидером компании, а не последователе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нравиться ум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962520" y="3400560"/>
            <a:ext cx="5181480" cy="34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05120" y="273960"/>
            <a:ext cx="90748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ТРЕБНОСТ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Понравиться молодому человеку (девушке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61976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5120" y="273960"/>
            <a:ext cx="90748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ТРЕБНОСТ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Понравиться молодому человеку (девушке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1752480"/>
            <a:ext cx="380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Проявлять уважение и искренность, естественность в отношения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62520" y="1828800"/>
            <a:ext cx="4267080" cy="2857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257800" y="4387680"/>
            <a:ext cx="3886200" cy="2470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ова</cp:lastModifiedBy>
  <dcterms:modified xsi:type="dcterms:W3CDTF">2013-12-01T16:06:02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