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9.png" ContentType="image/png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2.wmf" ContentType="image/x-wm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033-31F5-4E56-83D9-9DE761E6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F3F-453B-45CD-8B1A-7848B295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E4B7-807F-4D8D-A6AD-F6E0181F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61ED-A72A-4304-A21D-55888BE0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9A36-D944-40FC-93B6-4C7904F1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75A4-FB68-4BD5-9FEB-E0223E47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277A-9DCD-45B1-AA83-E9B0E02D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0DB7-3CCB-4CBB-A286-2E15F26E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CE9F-B9FD-4306-9B6D-4E086CD4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1A35-26C7-4CAB-8A89-4550969C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487B-92FF-4CF8-B90E-A4ADE2DA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9174-91D7-49E4-ACC0-4B33C322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9F0E-93B8-4C79-AEA5-5D23385B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2B4A-48AF-434E-AB0F-FD346108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FA28-F1BD-4BE6-B0A1-36D8898A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B8DC-FA44-4E99-9A5E-90D9F740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922F-5212-45C9-8B04-C4EF9301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F6B1B-3724-4B6F-A1B5-F1E8D346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A37D4-8A67-4080-8B6D-3F23E3DD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F463-C6DE-4D52-B60C-F727BCB4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D491D-6839-4F80-9BCC-F490BA86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B3E6C-4EC1-477F-82E7-B7B717AE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B6FE-A7E7-4C23-85D8-24B8C6D9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98DA4-F605-40ED-991C-EF9DCD65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3E0D-B7B2-4849-9C7C-543BA49C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E049C-DE46-4617-9645-C70D6B16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B6644-2F78-4CCA-B382-0233BA2F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5BE63-604B-4502-B5A7-4115E1A2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D6A7F-9ECE-4377-ACF4-CA8B97F5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BC4CD-4C49-4310-AA7C-045EB4B7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A3E86-243A-4FD4-A498-B3A7AC09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E634C-421B-4310-8AAB-81E8D001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A199B-05D5-4BC1-BA1D-928070F4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059-FBE0-4C25-880C-5B780AD2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56A79-847B-4F94-A6F6-5D20D5D5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0CF09-6C94-41A4-A187-CB035551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D1B38-1842-448B-8F0D-3366C5E9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679DC-0154-432F-A963-06380B9E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995E1-0D55-47B0-90EB-B40D387C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6B737-D552-4EF8-96FC-BC68EF50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E4131-6741-44FE-83D5-39EB748B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E91E5-7673-48EB-B3E8-7E85F2F8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FB3C3-CB0B-4E36-AD78-C419E3BF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278FE-28E7-42F7-B99A-F68C3BDF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D70-9C19-4316-A229-3803A1EC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0D96D-4A3A-4960-94DB-05B16366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0F623-A2D0-4827-A40F-05D7E603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3ACC6-AEC9-4CD1-A045-4D6D758A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8E9DA-302E-4986-BFB5-0F05E34F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10BB8-7D90-4183-87EB-F5EAA3B8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842A8-B00E-44EE-83FA-76CFE4FF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E0EEE-F3DD-4AED-BA33-74D830F3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A81C6-4657-4B23-80F5-BA6C24EB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F1E66-C793-4C14-9B67-ED90D09C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1997B-0EF1-46B3-B7F2-65DDBA1B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93C-C5A7-4D36-8A5C-4DCC155E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0A20B-48CC-48D1-B01D-B1C410DB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023E6-DAF7-4040-AA41-87A52B08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62F59-AAE7-4230-BC1B-F55ED383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EB16B-B2FA-4907-91E5-BA8EC7C0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049AC-E201-4A41-ABAC-F9E31D9E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509E6-AEEA-48DD-8289-8A0C18BE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77957-CC87-4189-BE1E-D992C480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3B0C9-7665-43EF-8181-0642FC83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1BDB4-19C7-4FD5-86D1-8C175950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E7EB0-95AB-432B-AB3F-10BFDFB2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36D-F676-4B25-8666-1450CF61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7FB1A-315C-4352-93EA-E98B5E2C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79C80-D7F3-4149-9E2D-9AD74E57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7B8D3-6702-4FA7-AE8C-55DD5F78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16C01-54D4-49EB-AE07-7205F3DD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529B4-3F1B-4C63-8CC3-B30A1830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41012-5315-4509-A12C-28B98583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9DD76-7ABD-4B95-A0C9-0C2CD5F5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3140F-4632-4E0D-9E09-A49C1E9C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34BF7-B6A0-46BF-BD93-5D57D193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228B6-A478-4E9D-9589-20D4E843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187-CC6B-42EB-A13F-786D47AD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DEA5B-D453-4D6A-8C14-203E4C07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F9CDA-4C69-43F7-BB24-1A3D54ED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A3B5F-9AB3-4261-BCC5-5FC09F37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FD48F-2935-41B3-8BFC-B852EF2A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73F35-3AB8-45B1-A310-CC0AAF37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D31-BAB5-431D-B783-9A23CABA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388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2d05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c007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6a7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ACA5-AC07-4487-9A2B-EAFB0030D337}" type="slidenum">
              <a:rPr b="0" lang="ru-RU" sz="1000" spc="-1" strike="noStrike">
                <a:solidFill>
                  <a:srgbClr val="76a7b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388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2d05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c007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6a7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ACD2-A7EB-4CBE-BA9B-C4816A11F256}" type="slidenum">
              <a:rPr b="0" lang="ru-RU" sz="1000" spc="-1" strike="noStrike">
                <a:solidFill>
                  <a:srgbClr val="76a7b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388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2d05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c007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6a7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2AB6-FBD7-4AA3-ABDF-A279357FD285}" type="slidenum">
              <a:rPr b="0" lang="ru-RU" sz="1000" spc="-1" strike="noStrike">
                <a:solidFill>
                  <a:srgbClr val="76a7b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388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2d05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c007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6a7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0077-9087-449A-B097-FD841FA738E7}" type="slidenum">
              <a:rPr b="0" lang="ru-RU" sz="1000" spc="-1" strike="noStrike">
                <a:solidFill>
                  <a:srgbClr val="76a7b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388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2d05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c007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6a7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A573-E645-4D07-BF79-FC044861D3A2}" type="slidenum">
              <a:rPr b="0" lang="ru-RU" sz="1000" spc="-1" strike="noStrike">
                <a:solidFill>
                  <a:srgbClr val="76a7b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388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2d05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c007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6a7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1A2E-6661-47DD-84D0-69E77C20E990}" type="slidenum">
              <a:rPr b="0" lang="ru-RU" sz="1000" spc="-1" strike="noStrike">
                <a:solidFill>
                  <a:srgbClr val="76a7b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388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2d05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c007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6a7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EEA1-F83D-4AF5-A689-9D5A7EF2F5A6}" type="slidenum">
              <a:rPr b="0" lang="ru-RU" sz="1000" spc="-1" strike="noStrike">
                <a:solidFill>
                  <a:srgbClr val="76a7b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706320" y="1663560"/>
            <a:ext cx="7871040" cy="39816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85520" y="-2142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У Начальная общеобразовательная шко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ТО Звёз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Rectangle 2" descr=""/>
          <p:cNvPicPr/>
          <p:nvPr/>
        </p:nvPicPr>
        <p:blipFill>
          <a:blip r:embed="rId2"/>
          <a:stretch/>
        </p:blipFill>
        <p:spPr>
          <a:xfrm>
            <a:off x="1206360" y="5924520"/>
            <a:ext cx="6578640" cy="5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004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Franklin Gothic Book"/>
              </a:rPr>
              <a:t>Технологический этап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0" y="571680"/>
          <a:ext cx="9144000" cy="6354720"/>
        </p:xfrm>
        <a:graphic>
          <a:graphicData uri="http://schemas.openxmlformats.org/drawingml/2006/table">
            <a:tbl>
              <a:tblPr/>
              <a:tblGrid>
                <a:gridCol w="3500280"/>
                <a:gridCol w="2071800"/>
                <a:gridCol w="1571760"/>
                <a:gridCol w="2000160"/>
              </a:tblGrid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и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о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У Н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ный руководитель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 №2, 3, 4 (дет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шкина А.В.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мова О.В.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пова О.А.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знецова С.Н.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юкова Е.А.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арова В.И.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ави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 бросового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технологических  к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безопасного игрового инвентар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ормление, украшение инвентар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 книжки-малыш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о октября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упление агитбригады на линейке и вручение инвента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о октября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гр на перемене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-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амятки -алгорит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Franklin Gothic Book"/>
              </a:rPr>
              <a:t>Заключительный этап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928800"/>
          <a:ext cx="9144000" cy="40226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оприя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и реализ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о реализ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едение итог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-март 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У Н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ный руководител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 № 5 (дети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и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ееваО.А.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йченко Т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ка презент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та проекта на конкурс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Franklin Gothic Book"/>
              </a:rPr>
              <a:t>Этапы</a:t>
            </a:r>
            <a:br>
              <a:rPr sz="4800"/>
            </a:br>
            <a:endParaRPr b="0" lang="en-US" sz="6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Овал 8"/>
          <p:cNvSpPr/>
          <p:nvPr/>
        </p:nvSpPr>
        <p:spPr>
          <a:xfrm>
            <a:off x="357120" y="1857240"/>
            <a:ext cx="3643560" cy="928800"/>
          </a:xfrm>
          <a:prstGeom prst="ellipse">
            <a:avLst/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следовательск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Овал 9"/>
          <p:cNvSpPr/>
          <p:nvPr/>
        </p:nvSpPr>
        <p:spPr>
          <a:xfrm>
            <a:off x="4572000" y="1643040"/>
            <a:ext cx="4286160" cy="1143000"/>
          </a:xfrm>
          <a:prstGeom prst="ellipse">
            <a:avLst/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 е х н о л о г и ч е с к и 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Овал 10"/>
          <p:cNvSpPr/>
          <p:nvPr/>
        </p:nvSpPr>
        <p:spPr>
          <a:xfrm>
            <a:off x="2786040" y="3929040"/>
            <a:ext cx="3500640" cy="1071720"/>
          </a:xfrm>
          <a:prstGeom prst="ellipse">
            <a:avLst/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лючительн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8" name="Прямая со стрелкой 12"/>
          <p:cNvCxnSpPr/>
          <p:nvPr/>
        </p:nvCxnSpPr>
        <p:spPr>
          <a:xfrm flipH="1">
            <a:off x="3214080" y="857160"/>
            <a:ext cx="929160" cy="929520"/>
          </a:xfrm>
          <a:prstGeom prst="straightConnector1">
            <a:avLst/>
          </a:prstGeom>
          <a:ln w="9360">
            <a:solidFill>
              <a:srgbClr val="ff0055"/>
            </a:solidFill>
            <a:miter/>
            <a:tailEnd len="med" type="arrow" w="med"/>
          </a:ln>
        </p:spPr>
      </p:cxnSp>
      <p:cxnSp>
        <p:nvCxnSpPr>
          <p:cNvPr id="339" name="Прямая со стрелкой 14"/>
          <p:cNvCxnSpPr/>
          <p:nvPr/>
        </p:nvCxnSpPr>
        <p:spPr>
          <a:xfrm>
            <a:off x="4713840" y="785520"/>
            <a:ext cx="572040" cy="857880"/>
          </a:xfrm>
          <a:prstGeom prst="straightConnector1">
            <a:avLst/>
          </a:prstGeom>
          <a:ln w="9360">
            <a:solidFill>
              <a:srgbClr val="ff0055"/>
            </a:solidFill>
            <a:miter/>
            <a:tailEnd len="med" type="arrow" w="med"/>
          </a:ln>
        </p:spPr>
      </p:cxnSp>
      <p:cxnSp>
        <p:nvCxnSpPr>
          <p:cNvPr id="340" name="Прямая со стрелкой 16"/>
          <p:cNvCxnSpPr/>
          <p:nvPr/>
        </p:nvCxnSpPr>
        <p:spPr>
          <a:xfrm>
            <a:off x="4357800" y="856800"/>
            <a:ext cx="72000" cy="2786760"/>
          </a:xfrm>
          <a:prstGeom prst="straightConnector1">
            <a:avLst/>
          </a:prstGeom>
          <a:ln w="9360">
            <a:solidFill>
              <a:srgbClr val="ff005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3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5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5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Правила безопасной работы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42" name="Содержимое 6" descr="чн5е.jpg"/>
          <p:cNvPicPr/>
          <p:nvPr/>
        </p:nvPicPr>
        <p:blipFill>
          <a:blip r:embed="rId1"/>
          <a:stretch/>
        </p:blipFill>
        <p:spPr>
          <a:xfrm>
            <a:off x="714240" y="2041560"/>
            <a:ext cx="3225960" cy="4192560"/>
          </a:xfrm>
          <a:prstGeom prst="rect">
            <a:avLst/>
          </a:prstGeom>
          <a:ln w="0">
            <a:noFill/>
          </a:ln>
        </p:spPr>
      </p:pic>
      <p:pic>
        <p:nvPicPr>
          <p:cNvPr id="343" name="Содержимое 7" descr="пар.jpg"/>
          <p:cNvPicPr/>
          <p:nvPr/>
        </p:nvPicPr>
        <p:blipFill>
          <a:blip r:embed="rId2"/>
          <a:stretch/>
        </p:blipFill>
        <p:spPr>
          <a:xfrm>
            <a:off x="4894200" y="2000160"/>
            <a:ext cx="3321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Franklin Gothic Book"/>
              </a:rPr>
              <a:t>Технологические карты</a:t>
            </a:r>
            <a:br>
              <a:rPr sz="5400"/>
            </a:br>
            <a:r>
              <a:rPr b="1" i="1" lang="ru-RU" sz="3200" spc="-1" strike="noStrike">
                <a:solidFill>
                  <a:srgbClr val="7030a0"/>
                </a:solidFill>
                <a:latin typeface="Franklin Gothic Book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45" name="Picture 69" descr="j0299763"/>
          <p:cNvPicPr/>
          <p:nvPr/>
        </p:nvPicPr>
        <p:blipFill>
          <a:blip r:embed="rId1"/>
          <a:stretch/>
        </p:blipFill>
        <p:spPr>
          <a:xfrm>
            <a:off x="5357880" y="1285920"/>
            <a:ext cx="2717640" cy="22366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31"/>
          <p:cNvSpPr/>
          <p:nvPr/>
        </p:nvSpPr>
        <p:spPr>
          <a:xfrm>
            <a:off x="-9360" y="629640"/>
            <a:ext cx="5038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обходимо сделать выкройк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7" name="Group 70"/>
          <p:cNvGrpSpPr/>
          <p:nvPr/>
        </p:nvGrpSpPr>
        <p:grpSpPr>
          <a:xfrm>
            <a:off x="0" y="1000080"/>
            <a:ext cx="4108320" cy="2143080"/>
            <a:chOff x="0" y="1000080"/>
            <a:chExt cx="4108320" cy="2143080"/>
          </a:xfrm>
        </p:grpSpPr>
        <p:sp>
          <p:nvSpPr>
            <p:cNvPr id="348" name="AutoShape 130"/>
            <p:cNvSpPr/>
            <p:nvPr/>
          </p:nvSpPr>
          <p:spPr>
            <a:xfrm>
              <a:off x="0" y="1000080"/>
              <a:ext cx="410832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Line 129"/>
            <p:cNvSpPr/>
            <p:nvPr/>
          </p:nvSpPr>
          <p:spPr>
            <a:xfrm>
              <a:off x="267840" y="2696760"/>
              <a:ext cx="360" cy="44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Line 128"/>
            <p:cNvSpPr/>
            <p:nvPr/>
          </p:nvSpPr>
          <p:spPr>
            <a:xfrm>
              <a:off x="3646800" y="2696760"/>
              <a:ext cx="360" cy="44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1" name="Group 72"/>
            <p:cNvGrpSpPr/>
            <p:nvPr/>
          </p:nvGrpSpPr>
          <p:grpSpPr>
            <a:xfrm>
              <a:off x="178560" y="1123920"/>
              <a:ext cx="3848040" cy="1929960"/>
              <a:chOff x="178560" y="1123920"/>
              <a:chExt cx="3848040" cy="1929960"/>
            </a:xfrm>
          </p:grpSpPr>
          <p:sp>
            <p:nvSpPr>
              <p:cNvPr id="352" name="Rectangle 127"/>
              <p:cNvSpPr/>
              <p:nvPr/>
            </p:nvSpPr>
            <p:spPr>
              <a:xfrm>
                <a:off x="267840" y="1128240"/>
                <a:ext cx="3375720" cy="1688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" name="Line 126"/>
              <p:cNvSpPr/>
              <p:nvPr/>
            </p:nvSpPr>
            <p:spPr>
              <a:xfrm>
                <a:off x="178560" y="1932480"/>
                <a:ext cx="357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Line 125"/>
              <p:cNvSpPr/>
              <p:nvPr/>
            </p:nvSpPr>
            <p:spPr>
              <a:xfrm flipV="1">
                <a:off x="3580200" y="2808000"/>
                <a:ext cx="4464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Line 124"/>
              <p:cNvSpPr/>
              <p:nvPr/>
            </p:nvSpPr>
            <p:spPr>
              <a:xfrm flipV="1">
                <a:off x="3572640" y="1126080"/>
                <a:ext cx="4464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" name="Line 123"/>
              <p:cNvSpPr/>
              <p:nvPr/>
            </p:nvSpPr>
            <p:spPr>
              <a:xfrm>
                <a:off x="267840" y="3053880"/>
                <a:ext cx="33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" name="Line 122"/>
              <p:cNvSpPr/>
              <p:nvPr/>
            </p:nvSpPr>
            <p:spPr>
              <a:xfrm flipV="1">
                <a:off x="3944880" y="1123920"/>
                <a:ext cx="360" cy="168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Text Box 121"/>
              <p:cNvSpPr/>
              <p:nvPr/>
            </p:nvSpPr>
            <p:spPr>
              <a:xfrm>
                <a:off x="1786320" y="2875320"/>
                <a:ext cx="3571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Comic Sans MS"/>
                    <a:ea typeface="Times New Roman"/>
                  </a:rPr>
                  <a:t>А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" name="Text Box 120"/>
              <p:cNvSpPr/>
              <p:nvPr/>
            </p:nvSpPr>
            <p:spPr>
              <a:xfrm>
                <a:off x="3714120" y="1892880"/>
                <a:ext cx="2880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Comic Sans MS"/>
                    <a:ea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0" name="Group 113"/>
              <p:cNvGrpSpPr/>
              <p:nvPr/>
            </p:nvGrpSpPr>
            <p:grpSpPr>
              <a:xfrm>
                <a:off x="267480" y="1133640"/>
                <a:ext cx="536040" cy="1677240"/>
                <a:chOff x="267480" y="1133640"/>
                <a:chExt cx="536040" cy="1677240"/>
              </a:xfrm>
            </p:grpSpPr>
            <p:grpSp>
              <p:nvGrpSpPr>
                <p:cNvPr id="361" name="Group 117"/>
                <p:cNvGrpSpPr/>
                <p:nvPr/>
              </p:nvGrpSpPr>
              <p:grpSpPr>
                <a:xfrm>
                  <a:off x="267480" y="1133640"/>
                  <a:ext cx="282600" cy="1677240"/>
                  <a:chOff x="267480" y="1133640"/>
                  <a:chExt cx="282600" cy="1677240"/>
                </a:xfrm>
              </p:grpSpPr>
              <p:sp>
                <p:nvSpPr>
                  <p:cNvPr id="362" name="Arc 119"/>
                  <p:cNvSpPr/>
                  <p:nvPr/>
                </p:nvSpPr>
                <p:spPr>
                  <a:xfrm flipH="1">
                    <a:off x="267120" y="11336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" name="Arc 118"/>
                  <p:cNvSpPr/>
                  <p:nvPr/>
                </p:nvSpPr>
                <p:spPr>
                  <a:xfrm flipH="1" flipV="1">
                    <a:off x="268200" y="19670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4" name="Group 114"/>
                <p:cNvGrpSpPr/>
                <p:nvPr/>
              </p:nvGrpSpPr>
              <p:grpSpPr>
                <a:xfrm>
                  <a:off x="520920" y="1133640"/>
                  <a:ext cx="282600" cy="1677240"/>
                  <a:chOff x="520920" y="1133640"/>
                  <a:chExt cx="282600" cy="1677240"/>
                </a:xfrm>
              </p:grpSpPr>
              <p:sp>
                <p:nvSpPr>
                  <p:cNvPr id="365" name="Arc 116"/>
                  <p:cNvSpPr/>
                  <p:nvPr/>
                </p:nvSpPr>
                <p:spPr>
                  <a:xfrm>
                    <a:off x="522360" y="11336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6" name="Arc 115"/>
                  <p:cNvSpPr/>
                  <p:nvPr/>
                </p:nvSpPr>
                <p:spPr>
                  <a:xfrm flipV="1">
                    <a:off x="520920" y="19670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67" name="Group 106"/>
              <p:cNvGrpSpPr/>
              <p:nvPr/>
            </p:nvGrpSpPr>
            <p:grpSpPr>
              <a:xfrm>
                <a:off x="828000" y="1133640"/>
                <a:ext cx="536040" cy="1677240"/>
                <a:chOff x="828000" y="1133640"/>
                <a:chExt cx="536040" cy="1677240"/>
              </a:xfrm>
            </p:grpSpPr>
            <p:grpSp>
              <p:nvGrpSpPr>
                <p:cNvPr id="368" name="Group 110"/>
                <p:cNvGrpSpPr/>
                <p:nvPr/>
              </p:nvGrpSpPr>
              <p:grpSpPr>
                <a:xfrm>
                  <a:off x="828000" y="1133640"/>
                  <a:ext cx="282600" cy="1677240"/>
                  <a:chOff x="828000" y="1133640"/>
                  <a:chExt cx="282600" cy="1677240"/>
                </a:xfrm>
              </p:grpSpPr>
              <p:sp>
                <p:nvSpPr>
                  <p:cNvPr id="369" name="Arc 112"/>
                  <p:cNvSpPr/>
                  <p:nvPr/>
                </p:nvSpPr>
                <p:spPr>
                  <a:xfrm flipH="1">
                    <a:off x="827640" y="11336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0" name="Arc 111"/>
                  <p:cNvSpPr/>
                  <p:nvPr/>
                </p:nvSpPr>
                <p:spPr>
                  <a:xfrm flipH="1" flipV="1">
                    <a:off x="829080" y="19670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71" name="Group 107"/>
                <p:cNvGrpSpPr/>
                <p:nvPr/>
              </p:nvGrpSpPr>
              <p:grpSpPr>
                <a:xfrm>
                  <a:off x="1081440" y="1133640"/>
                  <a:ext cx="282600" cy="1677240"/>
                  <a:chOff x="1081440" y="1133640"/>
                  <a:chExt cx="282600" cy="1677240"/>
                </a:xfrm>
              </p:grpSpPr>
              <p:sp>
                <p:nvSpPr>
                  <p:cNvPr id="372" name="Arc 109"/>
                  <p:cNvSpPr/>
                  <p:nvPr/>
                </p:nvSpPr>
                <p:spPr>
                  <a:xfrm>
                    <a:off x="1082880" y="11336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" name="Arc 108"/>
                  <p:cNvSpPr/>
                  <p:nvPr/>
                </p:nvSpPr>
                <p:spPr>
                  <a:xfrm flipV="1">
                    <a:off x="1081440" y="19670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74" name="Group 99"/>
              <p:cNvGrpSpPr/>
              <p:nvPr/>
            </p:nvGrpSpPr>
            <p:grpSpPr>
              <a:xfrm>
                <a:off x="1381320" y="1133640"/>
                <a:ext cx="536040" cy="1677240"/>
                <a:chOff x="1381320" y="1133640"/>
                <a:chExt cx="536040" cy="1677240"/>
              </a:xfrm>
            </p:grpSpPr>
            <p:grpSp>
              <p:nvGrpSpPr>
                <p:cNvPr id="375" name="Group 103"/>
                <p:cNvGrpSpPr/>
                <p:nvPr/>
              </p:nvGrpSpPr>
              <p:grpSpPr>
                <a:xfrm>
                  <a:off x="1381320" y="1133640"/>
                  <a:ext cx="282600" cy="1677240"/>
                  <a:chOff x="1381320" y="1133640"/>
                  <a:chExt cx="282600" cy="1677240"/>
                </a:xfrm>
              </p:grpSpPr>
              <p:sp>
                <p:nvSpPr>
                  <p:cNvPr id="376" name="Arc 105"/>
                  <p:cNvSpPr/>
                  <p:nvPr/>
                </p:nvSpPr>
                <p:spPr>
                  <a:xfrm flipH="1">
                    <a:off x="1380960" y="11336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7" name="Arc 104"/>
                  <p:cNvSpPr/>
                  <p:nvPr/>
                </p:nvSpPr>
                <p:spPr>
                  <a:xfrm flipH="1" flipV="1">
                    <a:off x="1382400" y="19670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78" name="Group 100"/>
                <p:cNvGrpSpPr/>
                <p:nvPr/>
              </p:nvGrpSpPr>
              <p:grpSpPr>
                <a:xfrm>
                  <a:off x="1634760" y="1133640"/>
                  <a:ext cx="282600" cy="1677240"/>
                  <a:chOff x="1634760" y="1133640"/>
                  <a:chExt cx="282600" cy="1677240"/>
                </a:xfrm>
              </p:grpSpPr>
              <p:sp>
                <p:nvSpPr>
                  <p:cNvPr id="379" name="Arc 102"/>
                  <p:cNvSpPr/>
                  <p:nvPr/>
                </p:nvSpPr>
                <p:spPr>
                  <a:xfrm>
                    <a:off x="1636200" y="11336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0" name="Arc 101"/>
                  <p:cNvSpPr/>
                  <p:nvPr/>
                </p:nvSpPr>
                <p:spPr>
                  <a:xfrm flipV="1">
                    <a:off x="1634760" y="19670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81" name="Group 92"/>
              <p:cNvGrpSpPr/>
              <p:nvPr/>
            </p:nvGrpSpPr>
            <p:grpSpPr>
              <a:xfrm>
                <a:off x="1944720" y="1133640"/>
                <a:ext cx="536040" cy="1677240"/>
                <a:chOff x="1944720" y="1133640"/>
                <a:chExt cx="536040" cy="1677240"/>
              </a:xfrm>
            </p:grpSpPr>
            <p:grpSp>
              <p:nvGrpSpPr>
                <p:cNvPr id="382" name="Group 96"/>
                <p:cNvGrpSpPr/>
                <p:nvPr/>
              </p:nvGrpSpPr>
              <p:grpSpPr>
                <a:xfrm>
                  <a:off x="1944720" y="1133640"/>
                  <a:ext cx="282600" cy="1677240"/>
                  <a:chOff x="1944720" y="1133640"/>
                  <a:chExt cx="282600" cy="1677240"/>
                </a:xfrm>
              </p:grpSpPr>
              <p:sp>
                <p:nvSpPr>
                  <p:cNvPr id="383" name="Arc 98"/>
                  <p:cNvSpPr/>
                  <p:nvPr/>
                </p:nvSpPr>
                <p:spPr>
                  <a:xfrm flipH="1">
                    <a:off x="1944360" y="11336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" name="Arc 97"/>
                  <p:cNvSpPr/>
                  <p:nvPr/>
                </p:nvSpPr>
                <p:spPr>
                  <a:xfrm flipH="1" flipV="1">
                    <a:off x="1945800" y="19670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85" name="Group 93"/>
                <p:cNvGrpSpPr/>
                <p:nvPr/>
              </p:nvGrpSpPr>
              <p:grpSpPr>
                <a:xfrm>
                  <a:off x="2198160" y="1133640"/>
                  <a:ext cx="282600" cy="1677240"/>
                  <a:chOff x="2198160" y="1133640"/>
                  <a:chExt cx="282600" cy="1677240"/>
                </a:xfrm>
              </p:grpSpPr>
              <p:sp>
                <p:nvSpPr>
                  <p:cNvPr id="386" name="Arc 95"/>
                  <p:cNvSpPr/>
                  <p:nvPr/>
                </p:nvSpPr>
                <p:spPr>
                  <a:xfrm>
                    <a:off x="2199600" y="11336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7" name="Arc 94"/>
                  <p:cNvSpPr/>
                  <p:nvPr/>
                </p:nvSpPr>
                <p:spPr>
                  <a:xfrm flipV="1">
                    <a:off x="2198160" y="19670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88" name="Group 85"/>
              <p:cNvGrpSpPr/>
              <p:nvPr/>
            </p:nvGrpSpPr>
            <p:grpSpPr>
              <a:xfrm>
                <a:off x="2515320" y="1133640"/>
                <a:ext cx="536040" cy="1677240"/>
                <a:chOff x="2515320" y="1133640"/>
                <a:chExt cx="536040" cy="1677240"/>
              </a:xfrm>
            </p:grpSpPr>
            <p:grpSp>
              <p:nvGrpSpPr>
                <p:cNvPr id="389" name="Group 89"/>
                <p:cNvGrpSpPr/>
                <p:nvPr/>
              </p:nvGrpSpPr>
              <p:grpSpPr>
                <a:xfrm>
                  <a:off x="2515320" y="1133640"/>
                  <a:ext cx="282600" cy="1677240"/>
                  <a:chOff x="2515320" y="1133640"/>
                  <a:chExt cx="282600" cy="1677240"/>
                </a:xfrm>
              </p:grpSpPr>
              <p:sp>
                <p:nvSpPr>
                  <p:cNvPr id="390" name="Arc 91"/>
                  <p:cNvSpPr/>
                  <p:nvPr/>
                </p:nvSpPr>
                <p:spPr>
                  <a:xfrm flipH="1">
                    <a:off x="2514960" y="11336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1" name="Arc 90"/>
                  <p:cNvSpPr/>
                  <p:nvPr/>
                </p:nvSpPr>
                <p:spPr>
                  <a:xfrm flipH="1" flipV="1">
                    <a:off x="2516400" y="19670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2" name="Group 86"/>
                <p:cNvGrpSpPr/>
                <p:nvPr/>
              </p:nvGrpSpPr>
              <p:grpSpPr>
                <a:xfrm>
                  <a:off x="2768760" y="1133640"/>
                  <a:ext cx="282600" cy="1677240"/>
                  <a:chOff x="2768760" y="1133640"/>
                  <a:chExt cx="282600" cy="1677240"/>
                </a:xfrm>
              </p:grpSpPr>
              <p:sp>
                <p:nvSpPr>
                  <p:cNvPr id="393" name="Arc 88"/>
                  <p:cNvSpPr/>
                  <p:nvPr/>
                </p:nvSpPr>
                <p:spPr>
                  <a:xfrm>
                    <a:off x="2770200" y="11336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" name="Arc 87"/>
                  <p:cNvSpPr/>
                  <p:nvPr/>
                </p:nvSpPr>
                <p:spPr>
                  <a:xfrm flipV="1">
                    <a:off x="2768760" y="19670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95" name="Group 78"/>
              <p:cNvGrpSpPr/>
              <p:nvPr/>
            </p:nvGrpSpPr>
            <p:grpSpPr>
              <a:xfrm>
                <a:off x="3085920" y="1133640"/>
                <a:ext cx="536040" cy="1677240"/>
                <a:chOff x="3085920" y="1133640"/>
                <a:chExt cx="536040" cy="1677240"/>
              </a:xfrm>
            </p:grpSpPr>
            <p:grpSp>
              <p:nvGrpSpPr>
                <p:cNvPr id="396" name="Group 82"/>
                <p:cNvGrpSpPr/>
                <p:nvPr/>
              </p:nvGrpSpPr>
              <p:grpSpPr>
                <a:xfrm>
                  <a:off x="3085920" y="1133640"/>
                  <a:ext cx="282600" cy="1677240"/>
                  <a:chOff x="3085920" y="1133640"/>
                  <a:chExt cx="282600" cy="1677240"/>
                </a:xfrm>
              </p:grpSpPr>
              <p:sp>
                <p:nvSpPr>
                  <p:cNvPr id="397" name="Arc 84"/>
                  <p:cNvSpPr/>
                  <p:nvPr/>
                </p:nvSpPr>
                <p:spPr>
                  <a:xfrm flipH="1">
                    <a:off x="3085560" y="11336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8" name="Arc 83"/>
                  <p:cNvSpPr/>
                  <p:nvPr/>
                </p:nvSpPr>
                <p:spPr>
                  <a:xfrm flipH="1" flipV="1">
                    <a:off x="3087000" y="19670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9" name="Group 79"/>
                <p:cNvGrpSpPr/>
                <p:nvPr/>
              </p:nvGrpSpPr>
              <p:grpSpPr>
                <a:xfrm>
                  <a:off x="3339360" y="1133640"/>
                  <a:ext cx="282600" cy="1677240"/>
                  <a:chOff x="3339360" y="1133640"/>
                  <a:chExt cx="282600" cy="1677240"/>
                </a:xfrm>
              </p:grpSpPr>
              <p:sp>
                <p:nvSpPr>
                  <p:cNvPr id="400" name="Arc 81"/>
                  <p:cNvSpPr/>
                  <p:nvPr/>
                </p:nvSpPr>
                <p:spPr>
                  <a:xfrm>
                    <a:off x="3340800" y="11336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1" name="Arc 80"/>
                  <p:cNvSpPr/>
                  <p:nvPr/>
                </p:nvSpPr>
                <p:spPr>
                  <a:xfrm flipV="1">
                    <a:off x="3339360" y="19670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402" name="Line 77"/>
              <p:cNvSpPr/>
              <p:nvPr/>
            </p:nvSpPr>
            <p:spPr>
              <a:xfrm>
                <a:off x="813600" y="1123920"/>
                <a:ext cx="360" cy="168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" name="Line 76"/>
              <p:cNvSpPr/>
              <p:nvPr/>
            </p:nvSpPr>
            <p:spPr>
              <a:xfrm>
                <a:off x="1371960" y="1123920"/>
                <a:ext cx="360" cy="168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4" name="Line 75"/>
              <p:cNvSpPr/>
              <p:nvPr/>
            </p:nvSpPr>
            <p:spPr>
              <a:xfrm>
                <a:off x="1929960" y="1123920"/>
                <a:ext cx="360" cy="168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5" name="Line 74"/>
              <p:cNvSpPr/>
              <p:nvPr/>
            </p:nvSpPr>
            <p:spPr>
              <a:xfrm>
                <a:off x="2498400" y="1123920"/>
                <a:ext cx="360" cy="168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" name="Line 73"/>
              <p:cNvSpPr/>
              <p:nvPr/>
            </p:nvSpPr>
            <p:spPr>
              <a:xfrm>
                <a:off x="3071520" y="1123920"/>
                <a:ext cx="360" cy="168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07" name="Line 71"/>
            <p:cNvSpPr/>
            <p:nvPr/>
          </p:nvSpPr>
          <p:spPr>
            <a:xfrm>
              <a:off x="535680" y="1000080"/>
              <a:ext cx="0" cy="1875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8" name="Rectangle 134"/>
          <p:cNvSpPr/>
          <p:nvPr/>
        </p:nvSpPr>
        <p:spPr>
          <a:xfrm>
            <a:off x="-153360" y="3370680"/>
            <a:ext cx="895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– длина окружности мяч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– половина длины окружности мяча (В=А: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еренести выкройку на тка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шить мяч. Оставить небольшое отверстие для набив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бить мяч синтепоном или другим материало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шить отверст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красить мяч аппликацией или вышивк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яч готов! Осталось выбрать игр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8686800" cy="184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Franklin Gothic Book"/>
              </a:rPr>
              <a:t>Технологические карты</a:t>
            </a: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928800"/>
            <a:ext cx="4572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8520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.ВЗЯЛИ КОРОБКУ  ИЗ - ПОД  КОНФ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2.РАСЧЕРТИЛИ НА КЛЕТКИ. ВСЕГО КЛЕТОК 64 (8 *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3.РАСКРАСИЛИ КЛЕТКИ В КОНТРАСТНЫЕ ЦВЕТА, ЧЕРЕДУ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4.НАКЛЕИЛИ НА ПОЛЕ СКОТ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5.СОБРАЛИ КРЫШКИ  ИЗ - ПОД НАПИТКОВ, МАСЛА И СО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6.ВЫБРАЛИ 24 КРЫШКИ (12 КРЫШЕК ОДНОГО ЦВЕТА И 12 КРЫШЕК ДРУГОГ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Рисунок 7" descr=""/>
          <p:cNvPicPr/>
          <p:nvPr/>
        </p:nvPicPr>
        <p:blipFill>
          <a:blip r:embed="rId1"/>
          <a:stretch/>
        </p:blipFill>
        <p:spPr>
          <a:xfrm>
            <a:off x="5214960" y="1643040"/>
            <a:ext cx="2857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8760" y="-3571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Franklin Gothic Book"/>
              </a:rPr>
              <a:t>«Вторая жизнь упаковки»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4" name="Содержимое 4" descr="images.jpg"/>
          <p:cNvPicPr/>
          <p:nvPr/>
        </p:nvPicPr>
        <p:blipFill>
          <a:blip r:embed="rId1"/>
          <a:stretch/>
        </p:blipFill>
        <p:spPr>
          <a:xfrm>
            <a:off x="0" y="857160"/>
            <a:ext cx="2610000" cy="175284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5" descr="hilazon.jpg"/>
          <p:cNvPicPr/>
          <p:nvPr/>
        </p:nvPicPr>
        <p:blipFill>
          <a:blip r:embed="rId2"/>
          <a:stretch/>
        </p:blipFill>
        <p:spPr>
          <a:xfrm>
            <a:off x="5649840" y="714240"/>
            <a:ext cx="3494160" cy="246708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8" descr="image002.jpg"/>
          <p:cNvPicPr/>
          <p:nvPr/>
        </p:nvPicPr>
        <p:blipFill>
          <a:blip r:embed="rId3"/>
          <a:stretch/>
        </p:blipFill>
        <p:spPr>
          <a:xfrm>
            <a:off x="4572000" y="3357720"/>
            <a:ext cx="2928960" cy="304632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0" descr="2.jpg"/>
          <p:cNvPicPr/>
          <p:nvPr/>
        </p:nvPicPr>
        <p:blipFill>
          <a:blip r:embed="rId4"/>
          <a:stretch/>
        </p:blipFill>
        <p:spPr>
          <a:xfrm>
            <a:off x="2928960" y="785880"/>
            <a:ext cx="2624040" cy="195264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6" descr="пластиковые крышки для бутылок ПЭТ.jpeg"/>
          <p:cNvPicPr/>
          <p:nvPr/>
        </p:nvPicPr>
        <p:blipFill>
          <a:blip r:embed="rId5"/>
          <a:stretch/>
        </p:blipFill>
        <p:spPr>
          <a:xfrm>
            <a:off x="900000" y="4005360"/>
            <a:ext cx="28101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6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9720" y="-357120"/>
            <a:ext cx="6870600" cy="141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ff"/>
                </a:solidFill>
                <a:latin typeface="Franklin Gothic Book"/>
              </a:rPr>
              <a:t>Работа над </a:t>
            </a:r>
            <a:r>
              <a:rPr b="1" i="1" lang="ru-RU" sz="4600" spc="-1" strike="noStrike">
                <a:solidFill>
                  <a:srgbClr val="0000ff"/>
                </a:solidFill>
                <a:latin typeface="Franklin Gothic Book"/>
              </a:rPr>
              <a:t>дизайном</a:t>
            </a:r>
            <a:r>
              <a:rPr b="1" lang="ru-RU" sz="46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0" name="Содержимое 6" descr="IMG_1384.jpg"/>
          <p:cNvPicPr/>
          <p:nvPr/>
        </p:nvPicPr>
        <p:blipFill>
          <a:blip r:embed="rId1"/>
          <a:srcRect l="0" t="0" r="15077" b="14548"/>
          <a:stretch/>
        </p:blipFill>
        <p:spPr>
          <a:xfrm rot="21284400">
            <a:off x="734760" y="2084400"/>
            <a:ext cx="3786120" cy="285732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11" descr="IMG_0142.jpg"/>
          <p:cNvPicPr/>
          <p:nvPr/>
        </p:nvPicPr>
        <p:blipFill>
          <a:blip r:embed="rId2"/>
          <a:srcRect l="43517" t="39726" r="20525" b="20548"/>
          <a:stretch/>
        </p:blipFill>
        <p:spPr>
          <a:xfrm rot="184800">
            <a:off x="4792680" y="929880"/>
            <a:ext cx="3535200" cy="2928960"/>
          </a:xfrm>
          <a:prstGeom prst="rect">
            <a:avLst/>
          </a:prstGeom>
          <a:ln w="0">
            <a:noFill/>
          </a:ln>
        </p:spPr>
      </p:pic>
      <p:pic>
        <p:nvPicPr>
          <p:cNvPr id="422" name="Содержимое 12" descr="IMG_3298.jpg"/>
          <p:cNvPicPr/>
          <p:nvPr/>
        </p:nvPicPr>
        <p:blipFill>
          <a:blip r:embed="rId3"/>
          <a:stretch/>
        </p:blipFill>
        <p:spPr>
          <a:xfrm rot="842400">
            <a:off x="5500440" y="4142880"/>
            <a:ext cx="33573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85800" y="182880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609800" y="182880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Содержимое 6" descr="IMG_0884.jpg"/>
          <p:cNvPicPr/>
          <p:nvPr/>
        </p:nvPicPr>
        <p:blipFill>
          <a:blip r:embed="rId1"/>
          <a:srcRect l="4408" t="0" r="11766" b="0"/>
          <a:stretch/>
        </p:blipFill>
        <p:spPr>
          <a:xfrm>
            <a:off x="571680" y="357120"/>
            <a:ext cx="4071600" cy="3643560"/>
          </a:xfrm>
          <a:prstGeom prst="rect">
            <a:avLst/>
          </a:prstGeom>
          <a:ln w="0">
            <a:noFill/>
          </a:ln>
        </p:spPr>
      </p:pic>
      <p:pic>
        <p:nvPicPr>
          <p:cNvPr id="427" name="Содержимое 7" descr="IMG_0886.jpg"/>
          <p:cNvPicPr/>
          <p:nvPr/>
        </p:nvPicPr>
        <p:blipFill>
          <a:blip r:embed="rId2"/>
          <a:stretch/>
        </p:blipFill>
        <p:spPr>
          <a:xfrm>
            <a:off x="5357880" y="2214720"/>
            <a:ext cx="30844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Franklin Gothic Book"/>
              </a:rPr>
              <a:t>Ожидаемые результаты: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214200" y="1356840"/>
            <a:ext cx="8715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влечение как можно больше детей в игры на переменах, с использованием инвентаря, изготовленного своими р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материала из книжки-малышки при организации игр ребятами  из других бло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памятки с алгоритмом изготовления шашек и мягких мячей ребятами из других клас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ff"/>
                </a:solidFill>
                <a:latin typeface="Franklin Gothic Book"/>
              </a:rPr>
              <a:t>Социальный проект</a:t>
            </a:r>
            <a:br>
              <a:rPr sz="4300"/>
            </a:br>
            <a:r>
              <a:rPr b="1" lang="ru-RU" sz="4800" spc="-1" strike="noStrike">
                <a:solidFill>
                  <a:srgbClr val="9c007f"/>
                </a:solidFill>
                <a:latin typeface="Franklin Gothic Book"/>
              </a:rPr>
              <a:t>«Мастерская игровых наук»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зработчики проек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ащие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«Б»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пкина А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сультан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уппа родителей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Б» класс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ип проек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о-культур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авление проек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ая пробл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доминирующей деятельн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ктико-ориентирова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продолжительн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среднесроч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00ff"/>
                </a:solidFill>
                <a:latin typeface="Franklin Gothic Book"/>
              </a:rPr>
              <a:t>Ресурсы:</a:t>
            </a:r>
            <a:endParaRPr b="0" lang="en-US" sz="65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500040" y="1143000"/>
          <a:ext cx="8258040" cy="5275440"/>
        </p:xfrm>
        <a:graphic>
          <a:graphicData uri="http://schemas.openxmlformats.org/drawingml/2006/table">
            <a:tbl>
              <a:tblPr/>
              <a:tblGrid>
                <a:gridCol w="4143240"/>
                <a:gridCol w="411480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ческие ресурс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4 «Б»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и учащихся 4 «Б»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и начальной школы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ллектуально-творческие ресур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е ресур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и детской литературы в домашней , школьной и поселковой библиоте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нет-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чь и советы родителей , педагогов дошко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щение в начальной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ционная сис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ля презентац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ьный инвент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визиты с предыдущ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ка по трудовому обучению с         инструментами и принадлежностями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99"/>
                </a:solidFill>
                <a:latin typeface="Franklin Gothic Book"/>
              </a:rPr>
              <a:t>«Творческий калейдоскоп» </a:t>
            </a:r>
            <a:r>
              <a:rPr b="1" i="1" lang="ru-RU" sz="4400" spc="-1" strike="noStrike">
                <a:solidFill>
                  <a:srgbClr val="0000ff"/>
                </a:solidFill>
                <a:latin typeface="Franklin Gothic Book"/>
              </a:rPr>
              <a:t>советует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ff388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 спешите выбрасывать мусор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ff388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экспериментируйте! А вдруг он «заиграет» в ваших рука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ff388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гда и перемены станут веселей, и у вас появится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НОГО  НОВЫХ ДРУЗЕ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6870960" cy="103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Franklin Gothic Book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85800" y="182880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09800" y="182880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3" name="Содержимое 4" descr="rebenok.jpg"/>
          <p:cNvPicPr/>
          <p:nvPr/>
        </p:nvPicPr>
        <p:blipFill>
          <a:blip r:embed="rId1"/>
          <a:stretch/>
        </p:blipFill>
        <p:spPr>
          <a:xfrm>
            <a:off x="3214800" y="2428920"/>
            <a:ext cx="2962080" cy="300024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5" descr="32110s.jpg"/>
          <p:cNvPicPr/>
          <p:nvPr/>
        </p:nvPicPr>
        <p:blipFill>
          <a:blip r:embed="rId2"/>
          <a:stretch/>
        </p:blipFill>
        <p:spPr>
          <a:xfrm>
            <a:off x="6643800" y="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6" descr="1271336566.JPG"/>
          <p:cNvPicPr/>
          <p:nvPr/>
        </p:nvPicPr>
        <p:blipFill>
          <a:blip r:embed="rId3"/>
          <a:stretch/>
        </p:blipFill>
        <p:spPr>
          <a:xfrm>
            <a:off x="0" y="-25560"/>
            <a:ext cx="2905200" cy="214956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7" descr="DSC00990.JPG"/>
          <p:cNvPicPr/>
          <p:nvPr/>
        </p:nvPicPr>
        <p:blipFill>
          <a:blip r:embed="rId4"/>
          <a:stretch/>
        </p:blipFill>
        <p:spPr>
          <a:xfrm>
            <a:off x="0" y="4500720"/>
            <a:ext cx="3030480" cy="2357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j0299763"/>
          <p:cNvPicPr/>
          <p:nvPr/>
        </p:nvPicPr>
        <p:blipFill>
          <a:blip r:embed="rId5"/>
          <a:stretch/>
        </p:blipFill>
        <p:spPr>
          <a:xfrm>
            <a:off x="3500280" y="214200"/>
            <a:ext cx="2289240" cy="188460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7" descr=""/>
          <p:cNvPicPr/>
          <p:nvPr/>
        </p:nvPicPr>
        <p:blipFill>
          <a:blip r:embed="rId6"/>
          <a:stretch/>
        </p:blipFill>
        <p:spPr>
          <a:xfrm>
            <a:off x="6286680" y="4267080"/>
            <a:ext cx="2857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6"/>
          <p:cNvSpPr/>
          <p:nvPr/>
        </p:nvSpPr>
        <p:spPr>
          <a:xfrm>
            <a:off x="4429080" y="1571760"/>
            <a:ext cx="3929040" cy="1071360"/>
          </a:xfrm>
          <a:prstGeom prst="rect">
            <a:avLst/>
          </a:prstGeom>
          <a:solidFill>
            <a:srgbClr val="ffafd1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Прямоугольник 5"/>
          <p:cNvSpPr/>
          <p:nvPr/>
        </p:nvSpPr>
        <p:spPr>
          <a:xfrm>
            <a:off x="500040" y="1714680"/>
            <a:ext cx="3643200" cy="1000080"/>
          </a:xfrm>
          <a:prstGeom prst="rect">
            <a:avLst/>
          </a:prstGeom>
          <a:solidFill>
            <a:srgbClr val="9effff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Franklin Gothic Book"/>
              </a:rPr>
              <a:t>Исследовательский этап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28760" y="192852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блю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в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е ребята вовлечены в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285800" y="1643040"/>
            <a:ext cx="43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циологический 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 предпочита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подвижные игр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игры с мяч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астольны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COMPLAIN"/>
          <p:cNvPicPr/>
          <p:nvPr/>
        </p:nvPicPr>
        <p:blipFill>
          <a:blip r:embed="rId1"/>
          <a:stretch/>
        </p:blipFill>
        <p:spPr>
          <a:xfrm>
            <a:off x="2571840" y="4214880"/>
            <a:ext cx="17222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00ff"/>
                </a:solidFill>
                <a:latin typeface="Franklin Gothic Book"/>
              </a:rPr>
              <a:t>Проблема:</a:t>
            </a:r>
            <a:endParaRPr b="0" lang="en-US" sz="6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недостаточное количество игрового инвентаря не даёт возможность организовать разнообразные игры на перемене и вовлечь большее количество детей в эти игр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-48,-1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-48,-1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00ff"/>
                </a:solidFill>
                <a:latin typeface="Franklin Gothic Book"/>
              </a:rPr>
              <a:t>Цель:</a:t>
            </a:r>
            <a:endParaRPr b="0" lang="en-US" sz="6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935000"/>
            <a:ext cx="575784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мочь в организации разнообразных и безопасных игр на перемене первоклассникам и второклассни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LOOKOUT"/>
          <p:cNvPicPr/>
          <p:nvPr/>
        </p:nvPicPr>
        <p:blipFill>
          <a:blip r:embed="rId1"/>
          <a:stretch/>
        </p:blipFill>
        <p:spPr>
          <a:xfrm>
            <a:off x="6505560" y="785880"/>
            <a:ext cx="24462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00ff"/>
                </a:solidFill>
                <a:latin typeface="Franklin Gothic Book"/>
              </a:rPr>
              <a:t>Задачи:</a:t>
            </a:r>
            <a:endParaRPr b="0" lang="en-US" sz="6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99680" y="1785600"/>
            <a:ext cx="70009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узна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подробнее о настольных играх и различных безопасных играх с мячами в помещен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изучить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хнологические карты изготовления мячей и шашек из бросового матери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использовать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ыт ребят нашего класса с конкурса «Вторая жизнь упаковки» и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изготови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шашки и мягкие мя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AMDOUBT"/>
          <p:cNvPicPr/>
          <p:nvPr/>
        </p:nvPicPr>
        <p:blipFill>
          <a:blip r:embed="rId1"/>
          <a:stretch/>
        </p:blipFill>
        <p:spPr>
          <a:xfrm>
            <a:off x="7572240" y="428760"/>
            <a:ext cx="1206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794376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00ff"/>
                </a:solidFill>
                <a:latin typeface="Franklin Gothic Book"/>
              </a:rPr>
              <a:t>Задачи:</a:t>
            </a:r>
            <a:endParaRPr b="0" lang="en-US" sz="6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85480" y="1214280"/>
            <a:ext cx="70009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знакоми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ребят с безопасными играми с мячами и приёмами игры в шашки,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вовлеч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иг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создать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нижки-малышки «Игры с мячами» и памятки с алгоритмом изготовления шашек и мягких мячей из бросового матери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двести ито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AMDOUBT"/>
          <p:cNvPicPr/>
          <p:nvPr/>
        </p:nvPicPr>
        <p:blipFill>
          <a:blip r:embed="rId1"/>
          <a:stretch/>
        </p:blipFill>
        <p:spPr>
          <a:xfrm>
            <a:off x="7572240" y="428760"/>
            <a:ext cx="1206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2960" y="-214560"/>
            <a:ext cx="794376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Franklin Gothic Book"/>
              </a:rPr>
              <a:t>Исследовательский этап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544680"/>
          <a:ext cx="9144000" cy="6313320"/>
        </p:xfrm>
        <a:graphic>
          <a:graphicData uri="http://schemas.openxmlformats.org/drawingml/2006/table">
            <a:tbl>
              <a:tblPr/>
              <a:tblGrid>
                <a:gridCol w="2643120"/>
                <a:gridCol w="1928880"/>
                <a:gridCol w="2286000"/>
                <a:gridCol w="228600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и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о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 за организацией игр на перемен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 201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реации на 1 – 3 этажах МОУ НОШ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блиотек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нет-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ный руководитель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 №1 (дет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шнякова Н.В.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ина О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19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ологический опрос первоклассников и второклассников (выборочно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ить какой безопасный инвентарь можно использовать при организации игр на перемен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6:25:10Z</dcterms:created>
  <dc:creator>Comp</dc:creator>
  <dc:description/>
  <dc:language>en-US</dc:language>
  <cp:lastModifiedBy>Олеся</cp:lastModifiedBy>
  <dcterms:modified xsi:type="dcterms:W3CDTF">2014-01-24T16:51:14Z</dcterms:modified>
  <cp:revision>80</cp:revision>
  <dc:subject/>
  <dc:title>Слайд 1</dc:title>
</cp:coreProperties>
</file>