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9.png" ContentType="image/pn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2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BBE-BFDC-4748-B678-ED64E206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9D8-AD45-4A00-B524-88C58A25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254-F0B8-45FD-B4E8-EF95523F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CF3-CF9C-413C-9C2D-E9EF2E67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5CA0-6541-48B3-9829-8391B0FD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E34C-1C75-4487-A45C-68509BEF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2446-9253-40E4-8C25-C02996B1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2917-A0DC-41B7-94E6-EE466368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5AB-54EC-4D12-A387-E75DDE16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342E-B866-4C2C-86A0-8E80F9FF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ECE5-BCEE-44DE-AA0A-A9E9E01F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CBE-ABA1-4676-8AE0-C06D3248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876C-E26A-49EB-A135-D5686B62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C86D-E8F7-4069-8380-402C71EA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30C8-88A0-441D-B740-13D05E3F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7FDA-466A-4133-A8CC-3576E1D3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C466-5F8B-4842-89B0-4A3A7145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79F1-7B4D-4C98-888F-8C1D2B80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8AC7-B31E-4BE2-A7A6-2F027BFC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23C9-7C41-450C-8657-3667E784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DC83-6C12-4254-84E2-163E97EA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88E5-E956-4404-937B-28EC714F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5C8-C3E5-4C88-BB8E-7F56FB3C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C46A-1FB8-4575-B695-6673C660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A3BB-389B-44AA-8883-A1055014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26B5-6D59-42C8-91B9-789B616A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4753-36E8-463B-B6E8-AC86620F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D3AB-019D-41FB-B74A-D034C94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828D-D238-441A-BEC6-D94EF706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C366-1237-4C0A-A32C-DC603977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C9CE-3048-4A79-A93C-B3F2300D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77F7-B493-4D3D-9C32-FB4732FE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4EDF-3015-4EF7-AF8E-E58BD296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F72-C532-4F21-9216-F6A236C5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2A5F-0AED-44DD-8BF4-575718B3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C1DDB-C856-42BE-99CF-D07C05D7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6C6AD-D7E6-48C4-8C62-25324597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AD9E-D108-404B-8C86-78B4712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C954-44AD-4DE3-A791-DF29180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7904F-F4AD-4C59-9CF6-23722698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D02EF-D0BB-4D0E-A4B8-9B98D87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D4C3-2687-4D27-B5F9-97888B44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26FA-F639-4107-BCE0-E0CA03B2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23B02-E716-475A-9505-60EBE638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46A-4D80-44A0-B68F-523B7E2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FEAE-1901-4910-BF0D-54EFEFDC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041A6-2CA7-43C4-80CD-84DF4CA7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E0649-7592-4A26-91BD-77271AE0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ED116-3B80-49BC-9B27-11C9AD46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DCF96-11B2-424F-8951-CA13F831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56E0F-42F2-4CF1-A284-1E4179BF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E326-EDA8-4D88-80B6-A9EC271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B2A0-2649-4C5F-BC55-FC7AC7BF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D3FC-ED82-4C5D-9D48-02A3240F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914E5-F33D-4ABA-ACEF-7F6FACAE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121-BCC1-4F06-9DD4-D728F3CB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D0860-F128-47FA-875E-9D2A2D89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43A0F-FC88-48F8-A241-865C8C8A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9D396-753C-489A-968B-7A0E83FB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B117-F399-4795-B163-D598338E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0D03E-278A-4525-9883-3950784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96D91-FF50-4B0A-A8D9-3DB9421A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909CA-008D-4BC8-A76B-A2686A4D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BEDDC-F199-490F-9B24-3914E8C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C0656-499C-4225-BD19-0559EF2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07D5E-393E-4F90-AA6E-5C6AAB33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8C9-3A05-4B58-8278-2253181B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AD775-2E92-4B21-AD29-5C502D98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06FD7-7751-4035-A3F6-BA05CE32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D41B0-5A6C-438C-9811-84D18CAF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234D3-9152-4734-802E-D49A1074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8DB6B-EBEA-486C-8BE0-FB4F2E62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FA7AF-D0AB-404E-BF37-CC155BD2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79A0F-17C8-4227-8794-88317565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62BE8-4984-42A2-B3FC-02835458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63D54-AA35-4821-9B43-FFF960B5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9B6C7-4391-484A-968C-08BC037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4BB-FBCD-4AC7-A881-CA92EC0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B5A10-1A76-44BC-B62B-33C6D46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1936E-5408-467C-B091-543D0DB9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7C6AF-10F5-4FAE-BA2B-B830D564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78F4-548D-4BB8-A246-D57E61D5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9A4F-5E1C-4D04-BAB3-CF2E60ED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3A6-4E9F-4DBA-8179-04C3D5C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86C5-6CB2-4973-A080-E4DFFE620FB4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D435-DD20-4818-BF91-382D87E44C4E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87F5-9485-4DE5-A213-B050DD1CF2F6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A39C-5988-4705-B4FD-DA702F1C794D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5FBF-64D0-4193-A56A-4FF42302B207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0F06-BDE1-4BA2-B064-06FA545BC2D2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388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2d05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c007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6a7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34BA-27C3-4860-8BC6-29F9A8A732D4}" type="slidenum">
              <a:rPr b="0" lang="ru-RU" sz="1000" spc="-1" strike="noStrike">
                <a:solidFill>
                  <a:srgbClr val="76a7b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706320" y="1663560"/>
            <a:ext cx="7871040" cy="39816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85520" y="-2142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Начальная общеобразовательная шк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О Звёз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Rectangle 2" descr=""/>
          <p:cNvPicPr/>
          <p:nvPr/>
        </p:nvPicPr>
        <p:blipFill>
          <a:blip r:embed="rId2"/>
          <a:stretch/>
        </p:blipFill>
        <p:spPr>
          <a:xfrm>
            <a:off x="1206360" y="5924520"/>
            <a:ext cx="6578640" cy="5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04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Технологический этап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0" y="571680"/>
          <a:ext cx="9144000" cy="6354720"/>
        </p:xfrm>
        <a:graphic>
          <a:graphicData uri="http://schemas.openxmlformats.org/drawingml/2006/table">
            <a:tbl>
              <a:tblPr/>
              <a:tblGrid>
                <a:gridCol w="3500280"/>
                <a:gridCol w="2071800"/>
                <a:gridCol w="1571760"/>
                <a:gridCol w="200016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У Н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й руководител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№2, 3, 4 (де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шкина А.В.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ова О.В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пова О.А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нецова С.Н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юкова Е.А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рова В.И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ави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бросов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технологических  к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безопасного игрового инвента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, украшение инвента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 книжки-малыш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октября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ление агитбригады на линейке и вручение инвен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октября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гр на перемене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-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амятки -алгори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Заключительный этап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928800"/>
          <a:ext cx="9144000" cy="4022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о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 реал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реализ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-март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У НО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й руководител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№ 5 (дети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аО.А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йченко Т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презент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а проекта на конкурс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Franklin Gothic Book"/>
              </a:rPr>
              <a:t>Этапы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8"/>
          <p:cNvSpPr/>
          <p:nvPr/>
        </p:nvSpPr>
        <p:spPr>
          <a:xfrm>
            <a:off x="357120" y="1857240"/>
            <a:ext cx="3643560" cy="928800"/>
          </a:xfrm>
          <a:prstGeom prst="ellipse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ьск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Овал 9"/>
          <p:cNvSpPr/>
          <p:nvPr/>
        </p:nvSpPr>
        <p:spPr>
          <a:xfrm>
            <a:off x="4572000" y="1643040"/>
            <a:ext cx="4286160" cy="1143000"/>
          </a:xfrm>
          <a:prstGeom prst="ellipse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 е х н о л о г и ч е с к и 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Овал 10"/>
          <p:cNvSpPr/>
          <p:nvPr/>
        </p:nvSpPr>
        <p:spPr>
          <a:xfrm>
            <a:off x="2786040" y="3929040"/>
            <a:ext cx="3500640" cy="1071720"/>
          </a:xfrm>
          <a:prstGeom prst="ellipse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лючитель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8" name="Прямая со стрелкой 12"/>
          <p:cNvCxnSpPr/>
          <p:nvPr/>
        </p:nvCxnSpPr>
        <p:spPr>
          <a:xfrm flipH="1">
            <a:off x="3214080" y="857160"/>
            <a:ext cx="929160" cy="929520"/>
          </a:xfrm>
          <a:prstGeom prst="straightConnector1">
            <a:avLst/>
          </a:prstGeom>
          <a:ln w="9360">
            <a:solidFill>
              <a:srgbClr val="ff0055"/>
            </a:solidFill>
            <a:miter/>
            <a:tailEnd len="med" type="arrow" w="med"/>
          </a:ln>
        </p:spPr>
      </p:cxnSp>
      <p:cxnSp>
        <p:nvCxnSpPr>
          <p:cNvPr id="339" name="Прямая со стрелкой 14"/>
          <p:cNvCxnSpPr/>
          <p:nvPr/>
        </p:nvCxnSpPr>
        <p:spPr>
          <a:xfrm>
            <a:off x="4713840" y="785520"/>
            <a:ext cx="572040" cy="857880"/>
          </a:xfrm>
          <a:prstGeom prst="straightConnector1">
            <a:avLst/>
          </a:prstGeom>
          <a:ln w="9360">
            <a:solidFill>
              <a:srgbClr val="ff0055"/>
            </a:solidFill>
            <a:miter/>
            <a:tailEnd len="med" type="arrow" w="med"/>
          </a:ln>
        </p:spPr>
      </p:cxnSp>
      <p:cxnSp>
        <p:nvCxnSpPr>
          <p:cNvPr id="340" name="Прямая со стрелкой 16"/>
          <p:cNvCxnSpPr/>
          <p:nvPr/>
        </p:nvCxnSpPr>
        <p:spPr>
          <a:xfrm>
            <a:off x="4357800" y="856800"/>
            <a:ext cx="72000" cy="2786760"/>
          </a:xfrm>
          <a:prstGeom prst="straightConnector1">
            <a:avLst/>
          </a:prstGeom>
          <a:ln w="9360">
            <a:solidFill>
              <a:srgbClr val="ff005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Franklin Gothic Book"/>
              </a:rPr>
              <a:t>Правила безопасной работы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2" name="Содержимое 6" descr="чн5е.jpg"/>
          <p:cNvPicPr/>
          <p:nvPr/>
        </p:nvPicPr>
        <p:blipFill>
          <a:blip r:embed="rId1"/>
          <a:stretch/>
        </p:blipFill>
        <p:spPr>
          <a:xfrm>
            <a:off x="714240" y="2041560"/>
            <a:ext cx="3225960" cy="419256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7" descr="пар.jpg"/>
          <p:cNvPicPr/>
          <p:nvPr/>
        </p:nvPicPr>
        <p:blipFill>
          <a:blip r:embed="rId2"/>
          <a:stretch/>
        </p:blipFill>
        <p:spPr>
          <a:xfrm>
            <a:off x="4894200" y="2000160"/>
            <a:ext cx="3321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Технологические карты</a:t>
            </a:r>
            <a:br>
              <a:rPr sz="5400"/>
            </a:br>
            <a:r>
              <a:rPr b="1" i="1" lang="ru-RU" sz="3200" spc="-1" strike="noStrike">
                <a:solidFill>
                  <a:srgbClr val="7030a0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5" name="Picture 69" descr="j0299763"/>
          <p:cNvPicPr/>
          <p:nvPr/>
        </p:nvPicPr>
        <p:blipFill>
          <a:blip r:embed="rId1"/>
          <a:stretch/>
        </p:blipFill>
        <p:spPr>
          <a:xfrm>
            <a:off x="5357880" y="1285920"/>
            <a:ext cx="2717640" cy="22366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31"/>
          <p:cNvSpPr/>
          <p:nvPr/>
        </p:nvSpPr>
        <p:spPr>
          <a:xfrm>
            <a:off x="-9360" y="629640"/>
            <a:ext cx="5038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обходимо сделать выкройк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0" y="1000080"/>
            <a:ext cx="4108320" cy="2143080"/>
            <a:chOff x="0" y="1000080"/>
            <a:chExt cx="4108320" cy="2143080"/>
          </a:xfrm>
        </p:grpSpPr>
        <p:sp>
          <p:nvSpPr>
            <p:cNvPr id="348" name="AutoShape 130"/>
            <p:cNvSpPr/>
            <p:nvPr/>
          </p:nvSpPr>
          <p:spPr>
            <a:xfrm>
              <a:off x="0" y="1000080"/>
              <a:ext cx="410832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Line 129"/>
            <p:cNvSpPr/>
            <p:nvPr/>
          </p:nvSpPr>
          <p:spPr>
            <a:xfrm>
              <a:off x="267840" y="2696760"/>
              <a:ext cx="36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Line 128"/>
            <p:cNvSpPr/>
            <p:nvPr/>
          </p:nvSpPr>
          <p:spPr>
            <a:xfrm>
              <a:off x="3646800" y="2696760"/>
              <a:ext cx="36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1" name="Group 72"/>
            <p:cNvGrpSpPr/>
            <p:nvPr/>
          </p:nvGrpSpPr>
          <p:grpSpPr>
            <a:xfrm>
              <a:off x="178560" y="1123920"/>
              <a:ext cx="3848040" cy="1929960"/>
              <a:chOff x="178560" y="1123920"/>
              <a:chExt cx="3848040" cy="1929960"/>
            </a:xfrm>
          </p:grpSpPr>
          <p:sp>
            <p:nvSpPr>
              <p:cNvPr id="352" name="Rectangle 127"/>
              <p:cNvSpPr/>
              <p:nvPr/>
            </p:nvSpPr>
            <p:spPr>
              <a:xfrm>
                <a:off x="267840" y="1128240"/>
                <a:ext cx="3375720" cy="1688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126"/>
              <p:cNvSpPr/>
              <p:nvPr/>
            </p:nvSpPr>
            <p:spPr>
              <a:xfrm>
                <a:off x="178560" y="1932480"/>
                <a:ext cx="357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Line 125"/>
              <p:cNvSpPr/>
              <p:nvPr/>
            </p:nvSpPr>
            <p:spPr>
              <a:xfrm flipV="1">
                <a:off x="3580200" y="2808000"/>
                <a:ext cx="4464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Line 124"/>
              <p:cNvSpPr/>
              <p:nvPr/>
            </p:nvSpPr>
            <p:spPr>
              <a:xfrm flipV="1">
                <a:off x="3572640" y="1126080"/>
                <a:ext cx="4464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Line 123"/>
              <p:cNvSpPr/>
              <p:nvPr/>
            </p:nvSpPr>
            <p:spPr>
              <a:xfrm>
                <a:off x="267840" y="3053880"/>
                <a:ext cx="33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Line 122"/>
              <p:cNvSpPr/>
              <p:nvPr/>
            </p:nvSpPr>
            <p:spPr>
              <a:xfrm flipV="1">
                <a:off x="3944880" y="1123920"/>
                <a:ext cx="360" cy="168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Text Box 121"/>
              <p:cNvSpPr/>
              <p:nvPr/>
            </p:nvSpPr>
            <p:spPr>
              <a:xfrm>
                <a:off x="1786320" y="2875320"/>
                <a:ext cx="3571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А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Text Box 120"/>
              <p:cNvSpPr/>
              <p:nvPr/>
            </p:nvSpPr>
            <p:spPr>
              <a:xfrm>
                <a:off x="3714120" y="1892880"/>
                <a:ext cx="2880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0" name="Group 113"/>
              <p:cNvGrpSpPr/>
              <p:nvPr/>
            </p:nvGrpSpPr>
            <p:grpSpPr>
              <a:xfrm>
                <a:off x="267480" y="1133640"/>
                <a:ext cx="536040" cy="1677240"/>
                <a:chOff x="267480" y="1133640"/>
                <a:chExt cx="536040" cy="1677240"/>
              </a:xfrm>
            </p:grpSpPr>
            <p:grpSp>
              <p:nvGrpSpPr>
                <p:cNvPr id="361" name="Group 117"/>
                <p:cNvGrpSpPr/>
                <p:nvPr/>
              </p:nvGrpSpPr>
              <p:grpSpPr>
                <a:xfrm>
                  <a:off x="267480" y="1133640"/>
                  <a:ext cx="282600" cy="1677240"/>
                  <a:chOff x="267480" y="1133640"/>
                  <a:chExt cx="282600" cy="1677240"/>
                </a:xfrm>
              </p:grpSpPr>
              <p:sp>
                <p:nvSpPr>
                  <p:cNvPr id="362" name="Arc 119"/>
                  <p:cNvSpPr/>
                  <p:nvPr/>
                </p:nvSpPr>
                <p:spPr>
                  <a:xfrm flipH="1">
                    <a:off x="26712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" name="Arc 118"/>
                  <p:cNvSpPr/>
                  <p:nvPr/>
                </p:nvSpPr>
                <p:spPr>
                  <a:xfrm flipH="1" flipV="1">
                    <a:off x="2682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4" name="Group 114"/>
                <p:cNvGrpSpPr/>
                <p:nvPr/>
              </p:nvGrpSpPr>
              <p:grpSpPr>
                <a:xfrm>
                  <a:off x="520920" y="1133640"/>
                  <a:ext cx="282600" cy="1677240"/>
                  <a:chOff x="520920" y="1133640"/>
                  <a:chExt cx="282600" cy="1677240"/>
                </a:xfrm>
              </p:grpSpPr>
              <p:sp>
                <p:nvSpPr>
                  <p:cNvPr id="365" name="Arc 116"/>
                  <p:cNvSpPr/>
                  <p:nvPr/>
                </p:nvSpPr>
                <p:spPr>
                  <a:xfrm>
                    <a:off x="52236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" name="Arc 115"/>
                  <p:cNvSpPr/>
                  <p:nvPr/>
                </p:nvSpPr>
                <p:spPr>
                  <a:xfrm flipV="1">
                    <a:off x="52092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67" name="Group 106"/>
              <p:cNvGrpSpPr/>
              <p:nvPr/>
            </p:nvGrpSpPr>
            <p:grpSpPr>
              <a:xfrm>
                <a:off x="828000" y="1133640"/>
                <a:ext cx="536040" cy="1677240"/>
                <a:chOff x="828000" y="1133640"/>
                <a:chExt cx="536040" cy="1677240"/>
              </a:xfrm>
            </p:grpSpPr>
            <p:grpSp>
              <p:nvGrpSpPr>
                <p:cNvPr id="368" name="Group 110"/>
                <p:cNvGrpSpPr/>
                <p:nvPr/>
              </p:nvGrpSpPr>
              <p:grpSpPr>
                <a:xfrm>
                  <a:off x="828000" y="1133640"/>
                  <a:ext cx="282600" cy="1677240"/>
                  <a:chOff x="828000" y="1133640"/>
                  <a:chExt cx="282600" cy="1677240"/>
                </a:xfrm>
              </p:grpSpPr>
              <p:sp>
                <p:nvSpPr>
                  <p:cNvPr id="369" name="Arc 112"/>
                  <p:cNvSpPr/>
                  <p:nvPr/>
                </p:nvSpPr>
                <p:spPr>
                  <a:xfrm flipH="1">
                    <a:off x="82764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0" name="Arc 111"/>
                  <p:cNvSpPr/>
                  <p:nvPr/>
                </p:nvSpPr>
                <p:spPr>
                  <a:xfrm flipH="1" flipV="1">
                    <a:off x="82908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1" name="Group 107"/>
                <p:cNvGrpSpPr/>
                <p:nvPr/>
              </p:nvGrpSpPr>
              <p:grpSpPr>
                <a:xfrm>
                  <a:off x="1081440" y="1133640"/>
                  <a:ext cx="282600" cy="1677240"/>
                  <a:chOff x="1081440" y="1133640"/>
                  <a:chExt cx="282600" cy="1677240"/>
                </a:xfrm>
              </p:grpSpPr>
              <p:sp>
                <p:nvSpPr>
                  <p:cNvPr id="372" name="Arc 109"/>
                  <p:cNvSpPr/>
                  <p:nvPr/>
                </p:nvSpPr>
                <p:spPr>
                  <a:xfrm>
                    <a:off x="108288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" name="Arc 108"/>
                  <p:cNvSpPr/>
                  <p:nvPr/>
                </p:nvSpPr>
                <p:spPr>
                  <a:xfrm flipV="1">
                    <a:off x="108144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74" name="Group 99"/>
              <p:cNvGrpSpPr/>
              <p:nvPr/>
            </p:nvGrpSpPr>
            <p:grpSpPr>
              <a:xfrm>
                <a:off x="1381320" y="1133640"/>
                <a:ext cx="536040" cy="1677240"/>
                <a:chOff x="1381320" y="1133640"/>
                <a:chExt cx="536040" cy="1677240"/>
              </a:xfrm>
            </p:grpSpPr>
            <p:grpSp>
              <p:nvGrpSpPr>
                <p:cNvPr id="375" name="Group 103"/>
                <p:cNvGrpSpPr/>
                <p:nvPr/>
              </p:nvGrpSpPr>
              <p:grpSpPr>
                <a:xfrm>
                  <a:off x="1381320" y="1133640"/>
                  <a:ext cx="282600" cy="1677240"/>
                  <a:chOff x="1381320" y="1133640"/>
                  <a:chExt cx="282600" cy="1677240"/>
                </a:xfrm>
              </p:grpSpPr>
              <p:sp>
                <p:nvSpPr>
                  <p:cNvPr id="376" name="Arc 105"/>
                  <p:cNvSpPr/>
                  <p:nvPr/>
                </p:nvSpPr>
                <p:spPr>
                  <a:xfrm flipH="1">
                    <a:off x="138096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7" name="Arc 104"/>
                  <p:cNvSpPr/>
                  <p:nvPr/>
                </p:nvSpPr>
                <p:spPr>
                  <a:xfrm flipH="1" flipV="1">
                    <a:off x="13824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8" name="Group 100"/>
                <p:cNvGrpSpPr/>
                <p:nvPr/>
              </p:nvGrpSpPr>
              <p:grpSpPr>
                <a:xfrm>
                  <a:off x="1634760" y="1133640"/>
                  <a:ext cx="282600" cy="1677240"/>
                  <a:chOff x="1634760" y="1133640"/>
                  <a:chExt cx="282600" cy="1677240"/>
                </a:xfrm>
              </p:grpSpPr>
              <p:sp>
                <p:nvSpPr>
                  <p:cNvPr id="379" name="Arc 102"/>
                  <p:cNvSpPr/>
                  <p:nvPr/>
                </p:nvSpPr>
                <p:spPr>
                  <a:xfrm>
                    <a:off x="163620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Arc 101"/>
                  <p:cNvSpPr/>
                  <p:nvPr/>
                </p:nvSpPr>
                <p:spPr>
                  <a:xfrm flipV="1">
                    <a:off x="163476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81" name="Group 92"/>
              <p:cNvGrpSpPr/>
              <p:nvPr/>
            </p:nvGrpSpPr>
            <p:grpSpPr>
              <a:xfrm>
                <a:off x="1944720" y="1133640"/>
                <a:ext cx="536040" cy="1677240"/>
                <a:chOff x="1944720" y="1133640"/>
                <a:chExt cx="536040" cy="1677240"/>
              </a:xfrm>
            </p:grpSpPr>
            <p:grpSp>
              <p:nvGrpSpPr>
                <p:cNvPr id="382" name="Group 96"/>
                <p:cNvGrpSpPr/>
                <p:nvPr/>
              </p:nvGrpSpPr>
              <p:grpSpPr>
                <a:xfrm>
                  <a:off x="1944720" y="1133640"/>
                  <a:ext cx="282600" cy="1677240"/>
                  <a:chOff x="1944720" y="1133640"/>
                  <a:chExt cx="282600" cy="1677240"/>
                </a:xfrm>
              </p:grpSpPr>
              <p:sp>
                <p:nvSpPr>
                  <p:cNvPr id="383" name="Arc 98"/>
                  <p:cNvSpPr/>
                  <p:nvPr/>
                </p:nvSpPr>
                <p:spPr>
                  <a:xfrm flipH="1">
                    <a:off x="194436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Arc 97"/>
                  <p:cNvSpPr/>
                  <p:nvPr/>
                </p:nvSpPr>
                <p:spPr>
                  <a:xfrm flipH="1" flipV="1">
                    <a:off x="19458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5" name="Group 93"/>
                <p:cNvGrpSpPr/>
                <p:nvPr/>
              </p:nvGrpSpPr>
              <p:grpSpPr>
                <a:xfrm>
                  <a:off x="2198160" y="1133640"/>
                  <a:ext cx="282600" cy="1677240"/>
                  <a:chOff x="2198160" y="1133640"/>
                  <a:chExt cx="282600" cy="1677240"/>
                </a:xfrm>
              </p:grpSpPr>
              <p:sp>
                <p:nvSpPr>
                  <p:cNvPr id="386" name="Arc 95"/>
                  <p:cNvSpPr/>
                  <p:nvPr/>
                </p:nvSpPr>
                <p:spPr>
                  <a:xfrm>
                    <a:off x="219960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Arc 94"/>
                  <p:cNvSpPr/>
                  <p:nvPr/>
                </p:nvSpPr>
                <p:spPr>
                  <a:xfrm flipV="1">
                    <a:off x="219816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88" name="Group 85"/>
              <p:cNvGrpSpPr/>
              <p:nvPr/>
            </p:nvGrpSpPr>
            <p:grpSpPr>
              <a:xfrm>
                <a:off x="2515320" y="1133640"/>
                <a:ext cx="536040" cy="1677240"/>
                <a:chOff x="2515320" y="1133640"/>
                <a:chExt cx="536040" cy="1677240"/>
              </a:xfrm>
            </p:grpSpPr>
            <p:grpSp>
              <p:nvGrpSpPr>
                <p:cNvPr id="389" name="Group 89"/>
                <p:cNvGrpSpPr/>
                <p:nvPr/>
              </p:nvGrpSpPr>
              <p:grpSpPr>
                <a:xfrm>
                  <a:off x="2515320" y="1133640"/>
                  <a:ext cx="282600" cy="1677240"/>
                  <a:chOff x="2515320" y="1133640"/>
                  <a:chExt cx="282600" cy="1677240"/>
                </a:xfrm>
              </p:grpSpPr>
              <p:sp>
                <p:nvSpPr>
                  <p:cNvPr id="390" name="Arc 91"/>
                  <p:cNvSpPr/>
                  <p:nvPr/>
                </p:nvSpPr>
                <p:spPr>
                  <a:xfrm flipH="1">
                    <a:off x="251496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1" name="Arc 90"/>
                  <p:cNvSpPr/>
                  <p:nvPr/>
                </p:nvSpPr>
                <p:spPr>
                  <a:xfrm flipH="1" flipV="1">
                    <a:off x="25164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2" name="Group 86"/>
                <p:cNvGrpSpPr/>
                <p:nvPr/>
              </p:nvGrpSpPr>
              <p:grpSpPr>
                <a:xfrm>
                  <a:off x="2768760" y="1133640"/>
                  <a:ext cx="282600" cy="1677240"/>
                  <a:chOff x="2768760" y="1133640"/>
                  <a:chExt cx="282600" cy="1677240"/>
                </a:xfrm>
              </p:grpSpPr>
              <p:sp>
                <p:nvSpPr>
                  <p:cNvPr id="393" name="Arc 88"/>
                  <p:cNvSpPr/>
                  <p:nvPr/>
                </p:nvSpPr>
                <p:spPr>
                  <a:xfrm>
                    <a:off x="277020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" name="Arc 87"/>
                  <p:cNvSpPr/>
                  <p:nvPr/>
                </p:nvSpPr>
                <p:spPr>
                  <a:xfrm flipV="1">
                    <a:off x="276876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95" name="Group 78"/>
              <p:cNvGrpSpPr/>
              <p:nvPr/>
            </p:nvGrpSpPr>
            <p:grpSpPr>
              <a:xfrm>
                <a:off x="3085920" y="1133640"/>
                <a:ext cx="536040" cy="1677240"/>
                <a:chOff x="3085920" y="1133640"/>
                <a:chExt cx="536040" cy="1677240"/>
              </a:xfrm>
            </p:grpSpPr>
            <p:grpSp>
              <p:nvGrpSpPr>
                <p:cNvPr id="396" name="Group 82"/>
                <p:cNvGrpSpPr/>
                <p:nvPr/>
              </p:nvGrpSpPr>
              <p:grpSpPr>
                <a:xfrm>
                  <a:off x="3085920" y="1133640"/>
                  <a:ext cx="282600" cy="1677240"/>
                  <a:chOff x="3085920" y="1133640"/>
                  <a:chExt cx="282600" cy="1677240"/>
                </a:xfrm>
              </p:grpSpPr>
              <p:sp>
                <p:nvSpPr>
                  <p:cNvPr id="397" name="Arc 84"/>
                  <p:cNvSpPr/>
                  <p:nvPr/>
                </p:nvSpPr>
                <p:spPr>
                  <a:xfrm flipH="1">
                    <a:off x="3085560" y="11336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8" name="Arc 83"/>
                  <p:cNvSpPr/>
                  <p:nvPr/>
                </p:nvSpPr>
                <p:spPr>
                  <a:xfrm flipH="1" flipV="1">
                    <a:off x="3087000" y="1967040"/>
                    <a:ext cx="281160" cy="843840"/>
                  </a:xfrm>
                  <a:custGeom>
                    <a:avLst/>
                    <a:gdLst>
                      <a:gd name="textAreaLeft" fmla="*/ -360 w 281160"/>
                      <a:gd name="textAreaRight" fmla="*/ 28116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9" name="Group 79"/>
                <p:cNvGrpSpPr/>
                <p:nvPr/>
              </p:nvGrpSpPr>
              <p:grpSpPr>
                <a:xfrm>
                  <a:off x="3339360" y="1133640"/>
                  <a:ext cx="282600" cy="1677240"/>
                  <a:chOff x="3339360" y="1133640"/>
                  <a:chExt cx="282600" cy="1677240"/>
                </a:xfrm>
              </p:grpSpPr>
              <p:sp>
                <p:nvSpPr>
                  <p:cNvPr id="400" name="Arc 81"/>
                  <p:cNvSpPr/>
                  <p:nvPr/>
                </p:nvSpPr>
                <p:spPr>
                  <a:xfrm>
                    <a:off x="3340800" y="11336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0 h 843840"/>
                      <a:gd name="textAreaBottom" fmla="*/ 84420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1" name="Arc 80"/>
                  <p:cNvSpPr/>
                  <p:nvPr/>
                </p:nvSpPr>
                <p:spPr>
                  <a:xfrm flipV="1">
                    <a:off x="3339360" y="1967040"/>
                    <a:ext cx="281160" cy="843840"/>
                  </a:xfrm>
                  <a:custGeom>
                    <a:avLst/>
                    <a:gdLst>
                      <a:gd name="textAreaLeft" fmla="*/ 0 w 281160"/>
                      <a:gd name="textAreaRight" fmla="*/ 281520 w 281160"/>
                      <a:gd name="textAreaTop" fmla="*/ 360 h 843840"/>
                      <a:gd name="textAreaBottom" fmla="*/ 844560 h 84384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402" name="Line 77"/>
              <p:cNvSpPr/>
              <p:nvPr/>
            </p:nvSpPr>
            <p:spPr>
              <a:xfrm>
                <a:off x="81360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Line 76"/>
              <p:cNvSpPr/>
              <p:nvPr/>
            </p:nvSpPr>
            <p:spPr>
              <a:xfrm>
                <a:off x="137196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Line 75"/>
              <p:cNvSpPr/>
              <p:nvPr/>
            </p:nvSpPr>
            <p:spPr>
              <a:xfrm>
                <a:off x="192996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" name="Line 74"/>
              <p:cNvSpPr/>
              <p:nvPr/>
            </p:nvSpPr>
            <p:spPr>
              <a:xfrm>
                <a:off x="249840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" name="Line 73"/>
              <p:cNvSpPr/>
              <p:nvPr/>
            </p:nvSpPr>
            <p:spPr>
              <a:xfrm>
                <a:off x="3071520" y="1123920"/>
                <a:ext cx="360" cy="168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07" name="Line 71"/>
            <p:cNvSpPr/>
            <p:nvPr/>
          </p:nvSpPr>
          <p:spPr>
            <a:xfrm>
              <a:off x="535680" y="1000080"/>
              <a:ext cx="0" cy="1875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8" name="Rectangle 134"/>
          <p:cNvSpPr/>
          <p:nvPr/>
        </p:nvSpPr>
        <p:spPr>
          <a:xfrm>
            <a:off x="-153360" y="3370680"/>
            <a:ext cx="89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лина окружности мяч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половина длины окружности мяча (В=А: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еренести выкройку на тка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шить мяч. Оставить небольшое отверстие для набив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бить мяч синтепоном или другим материал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шить отверст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красить мяч аппликацией или вышивк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яч готов! Осталось выбрать игр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8686800" cy="184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ranklin Gothic Book"/>
              </a:rPr>
              <a:t>Технологические карты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2880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.ВЗЯЛИ КОРОБКУ  ИЗ - ПОД  КОНФ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РАСЧЕРТИЛИ НА КЛЕТКИ. ВСЕГО КЛЕТОК 64 (8 *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РАСКРАСИЛИ КЛЕТКИ В КОНТРАСТНЫЕ ЦВЕТА, ЧЕРЕД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НАКЛЕИЛИ НА ПОЛЕ СКОТ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СОБРАЛИ КРЫШКИ  ИЗ - ПОД НАПИТКОВ, МАСЛА И С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6.ВЫБРАЛИ 24 КРЫШКИ (12 КРЫШЕК ОДНОГО ЦВЕТА И 12 КРЫШЕК ДРУГ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7" descr=""/>
          <p:cNvPicPr/>
          <p:nvPr/>
        </p:nvPicPr>
        <p:blipFill>
          <a:blip r:embed="rId1"/>
          <a:stretch/>
        </p:blipFill>
        <p:spPr>
          <a:xfrm>
            <a:off x="5214960" y="1643040"/>
            <a:ext cx="2857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8760" y="-357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«Вторая жизнь упаковки»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4" name="Содержимое 4" descr="images.jpg"/>
          <p:cNvPicPr/>
          <p:nvPr/>
        </p:nvPicPr>
        <p:blipFill>
          <a:blip r:embed="rId1"/>
          <a:stretch/>
        </p:blipFill>
        <p:spPr>
          <a:xfrm>
            <a:off x="0" y="857160"/>
            <a:ext cx="2610000" cy="17528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5" descr="hilazon.jpg"/>
          <p:cNvPicPr/>
          <p:nvPr/>
        </p:nvPicPr>
        <p:blipFill>
          <a:blip r:embed="rId2"/>
          <a:stretch/>
        </p:blipFill>
        <p:spPr>
          <a:xfrm>
            <a:off x="5649840" y="714240"/>
            <a:ext cx="3494160" cy="24670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8" descr="image002.jpg"/>
          <p:cNvPicPr/>
          <p:nvPr/>
        </p:nvPicPr>
        <p:blipFill>
          <a:blip r:embed="rId3"/>
          <a:stretch/>
        </p:blipFill>
        <p:spPr>
          <a:xfrm>
            <a:off x="4572000" y="3357720"/>
            <a:ext cx="2928960" cy="30463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0" descr="2.jpg"/>
          <p:cNvPicPr/>
          <p:nvPr/>
        </p:nvPicPr>
        <p:blipFill>
          <a:blip r:embed="rId4"/>
          <a:stretch/>
        </p:blipFill>
        <p:spPr>
          <a:xfrm>
            <a:off x="2928960" y="785880"/>
            <a:ext cx="2624040" cy="19526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6" descr="пластиковые крышки для бутылок ПЭТ.jpeg"/>
          <p:cNvPicPr/>
          <p:nvPr/>
        </p:nvPicPr>
        <p:blipFill>
          <a:blip r:embed="rId5"/>
          <a:stretch/>
        </p:blipFill>
        <p:spPr>
          <a:xfrm>
            <a:off x="900000" y="4005360"/>
            <a:ext cx="28101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9720" y="-357120"/>
            <a:ext cx="6870600" cy="141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Franklin Gothic Book"/>
              </a:rPr>
              <a:t>Работа над </a:t>
            </a:r>
            <a:r>
              <a:rPr b="1" i="1" lang="ru-RU" sz="4600" spc="-1" strike="noStrike">
                <a:solidFill>
                  <a:srgbClr val="0000ff"/>
                </a:solidFill>
                <a:latin typeface="Franklin Gothic Book"/>
              </a:rPr>
              <a:t>дизайном</a:t>
            </a:r>
            <a:r>
              <a:rPr b="1" lang="ru-RU" sz="46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0" name="Содержимое 6" descr="IMG_1384.jpg"/>
          <p:cNvPicPr/>
          <p:nvPr/>
        </p:nvPicPr>
        <p:blipFill>
          <a:blip r:embed="rId1"/>
          <a:srcRect l="0" t="0" r="15077" b="14548"/>
          <a:stretch/>
        </p:blipFill>
        <p:spPr>
          <a:xfrm rot="21284400">
            <a:off x="734760" y="2084400"/>
            <a:ext cx="3786120" cy="285732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11" descr="IMG_0142.jpg"/>
          <p:cNvPicPr/>
          <p:nvPr/>
        </p:nvPicPr>
        <p:blipFill>
          <a:blip r:embed="rId2"/>
          <a:srcRect l="43517" t="39726" r="20525" b="20548"/>
          <a:stretch/>
        </p:blipFill>
        <p:spPr>
          <a:xfrm rot="184800">
            <a:off x="4792680" y="929880"/>
            <a:ext cx="353520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12" descr="IMG_3298.jpg"/>
          <p:cNvPicPr/>
          <p:nvPr/>
        </p:nvPicPr>
        <p:blipFill>
          <a:blip r:embed="rId3"/>
          <a:stretch/>
        </p:blipFill>
        <p:spPr>
          <a:xfrm rot="842400">
            <a:off x="5500440" y="4142880"/>
            <a:ext cx="3357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Содержимое 6" descr="IMG_0884.jpg"/>
          <p:cNvPicPr/>
          <p:nvPr/>
        </p:nvPicPr>
        <p:blipFill>
          <a:blip r:embed="rId1"/>
          <a:srcRect l="4408" t="0" r="11766" b="0"/>
          <a:stretch/>
        </p:blipFill>
        <p:spPr>
          <a:xfrm>
            <a:off x="571680" y="357120"/>
            <a:ext cx="4071600" cy="364356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7" descr="IMG_0886.jpg"/>
          <p:cNvPicPr/>
          <p:nvPr/>
        </p:nvPicPr>
        <p:blipFill>
          <a:blip r:embed="rId2"/>
          <a:stretch/>
        </p:blipFill>
        <p:spPr>
          <a:xfrm>
            <a:off x="5357880" y="2214720"/>
            <a:ext cx="30844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ranklin Gothic Book"/>
              </a:rPr>
              <a:t>Ожидаемые результаты: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14200" y="1356840"/>
            <a:ext cx="8715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влечение как можно больше детей в игры на переменах, с использованием инвентаря, изготовленного своими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материала из книжки-малышки при организации игр ребятами  из других бл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памятки с алгоритмом изготовления шашек и мягких мячей ребятами из других кла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Franklin Gothic Book"/>
              </a:rPr>
              <a:t>Социальный проект</a:t>
            </a:r>
            <a:br>
              <a:rPr sz="4300"/>
            </a:br>
            <a:r>
              <a:rPr b="1" lang="ru-RU" sz="4800" spc="-1" strike="noStrike">
                <a:solidFill>
                  <a:srgbClr val="9c007f"/>
                </a:solidFill>
                <a:latin typeface="Franklin Gothic Book"/>
              </a:rPr>
              <a:t>«Мастерская игровых наук»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работчики прое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«Б»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пкина А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льтан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а родителей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Б» класс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ип прое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о-культур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е прое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роб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доминирующе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ктико-ориентирова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продолжи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реднеср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Ресурсы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500040" y="1143000"/>
          <a:ext cx="8258040" cy="5275440"/>
        </p:xfrm>
        <a:graphic>
          <a:graphicData uri="http://schemas.openxmlformats.org/drawingml/2006/table">
            <a:tbl>
              <a:tblPr/>
              <a:tblGrid>
                <a:gridCol w="4143240"/>
                <a:gridCol w="41148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ие ресур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4 «Б»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учащихся 4 «Б»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 начальной школы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ллектуально-творческие ресур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е ресур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детской литературы в домашней , школьной и поселковой библиоте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чь и советы родителей , педагогов дошко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ение в начальной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ционная сис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ля презента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ьный инвен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визиты с предыду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ка по трудовому обучению с         инструментами и принадлежностями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99"/>
                </a:solidFill>
                <a:latin typeface="Franklin Gothic Book"/>
              </a:rPr>
              <a:t>«Творческий калейдоскоп» </a:t>
            </a:r>
            <a:r>
              <a:rPr b="1" i="1" lang="ru-RU" sz="4400" spc="-1" strike="noStrike">
                <a:solidFill>
                  <a:srgbClr val="0000ff"/>
                </a:solidFill>
                <a:latin typeface="Franklin Gothic Book"/>
              </a:rPr>
              <a:t>советуе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спешите выбрасывать мусо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экспериментируйте! А вдруг он «заиграет» в ваших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ff388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гда и перемены станут веселей, и у вас появится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НОГО  НОВЫХ ДРУЗЕ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6870960" cy="103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Franklin Gothic Book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3" name="Содержимое 4" descr="rebenok.jpg"/>
          <p:cNvPicPr/>
          <p:nvPr/>
        </p:nvPicPr>
        <p:blipFill>
          <a:blip r:embed="rId1"/>
          <a:stretch/>
        </p:blipFill>
        <p:spPr>
          <a:xfrm>
            <a:off x="3214800" y="2428920"/>
            <a:ext cx="2962080" cy="30002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5" descr="32110s.jpg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6" descr="1271336566.JPG"/>
          <p:cNvPicPr/>
          <p:nvPr/>
        </p:nvPicPr>
        <p:blipFill>
          <a:blip r:embed="rId3"/>
          <a:stretch/>
        </p:blipFill>
        <p:spPr>
          <a:xfrm>
            <a:off x="0" y="-25560"/>
            <a:ext cx="2905200" cy="214956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7" descr="DSC00990.JPG"/>
          <p:cNvPicPr/>
          <p:nvPr/>
        </p:nvPicPr>
        <p:blipFill>
          <a:blip r:embed="rId4"/>
          <a:stretch/>
        </p:blipFill>
        <p:spPr>
          <a:xfrm>
            <a:off x="0" y="4500720"/>
            <a:ext cx="3030480" cy="2357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j0299763"/>
          <p:cNvPicPr/>
          <p:nvPr/>
        </p:nvPicPr>
        <p:blipFill>
          <a:blip r:embed="rId5"/>
          <a:stretch/>
        </p:blipFill>
        <p:spPr>
          <a:xfrm>
            <a:off x="3500280" y="214200"/>
            <a:ext cx="2289240" cy="18846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7" descr=""/>
          <p:cNvPicPr/>
          <p:nvPr/>
        </p:nvPicPr>
        <p:blipFill>
          <a:blip r:embed="rId6"/>
          <a:stretch/>
        </p:blipFill>
        <p:spPr>
          <a:xfrm>
            <a:off x="6286680" y="4267080"/>
            <a:ext cx="2857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6"/>
          <p:cNvSpPr/>
          <p:nvPr/>
        </p:nvSpPr>
        <p:spPr>
          <a:xfrm>
            <a:off x="4429080" y="1571760"/>
            <a:ext cx="3929040" cy="1071360"/>
          </a:xfrm>
          <a:prstGeom prst="rect">
            <a:avLst/>
          </a:prstGeom>
          <a:solidFill>
            <a:srgbClr val="ffafd1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500040" y="1714680"/>
            <a:ext cx="3643200" cy="1000080"/>
          </a:xfrm>
          <a:prstGeom prst="rect">
            <a:avLst/>
          </a:prstGeom>
          <a:solidFill>
            <a:srgbClr val="9effff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ranklin Gothic Book"/>
              </a:rPr>
              <a:t>Исследовательский этап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28760" y="192852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ребята вовлечены в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285800" y="164304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 предпочита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подвижные иг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игры с мяч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стольн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COMPLAIN"/>
          <p:cNvPicPr/>
          <p:nvPr/>
        </p:nvPicPr>
        <p:blipFill>
          <a:blip r:embed="rId1"/>
          <a:stretch/>
        </p:blipFill>
        <p:spPr>
          <a:xfrm>
            <a:off x="2571840" y="4214880"/>
            <a:ext cx="17222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Проблема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недостаточное количество игрового инвентаря не даёт возможность организовать разнообразные игры на перемене и вовлечь большее количество детей в эти игр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-48,-1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0,-48,-1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Цель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35000"/>
            <a:ext cx="575784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мочь в организации разнообразных и безопасных игр на перемене первоклассникам и второклассни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LOOKOUT"/>
          <p:cNvPicPr/>
          <p:nvPr/>
        </p:nvPicPr>
        <p:blipFill>
          <a:blip r:embed="rId1"/>
          <a:stretch/>
        </p:blipFill>
        <p:spPr>
          <a:xfrm>
            <a:off x="6505560" y="785880"/>
            <a:ext cx="24462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Задачи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9680" y="1785600"/>
            <a:ext cx="70009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узна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подробнее о настольных играх и различных безопасных играх с мячами в помещен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изучить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ческие карты изготовления мячей и шашек из бросового матери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ть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ыт ребят нашего класса с конкурса «Вторая жизнь упаковки»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изготови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шашки и мягкие мя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AMDOUBT"/>
          <p:cNvPicPr/>
          <p:nvPr/>
        </p:nvPicPr>
        <p:blipFill>
          <a:blip r:embed="rId1"/>
          <a:stretch/>
        </p:blipFill>
        <p:spPr>
          <a:xfrm>
            <a:off x="7572240" y="428760"/>
            <a:ext cx="1206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94376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ff"/>
                </a:solidFill>
                <a:latin typeface="Franklin Gothic Book"/>
              </a:rPr>
              <a:t>Задачи:</a:t>
            </a:r>
            <a:endParaRPr b="0" lang="en-US" sz="6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85480" y="1214280"/>
            <a:ext cx="70009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знакоми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ребят с безопасными играми с мячами и приёмами игры в шашки,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овлеч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иг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оздать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нижки-малышки «Игры с мячами» и памятки с алгоритмом изготовления шашек и мягких мячей из бросового матери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двести и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AMDOUBT"/>
          <p:cNvPicPr/>
          <p:nvPr/>
        </p:nvPicPr>
        <p:blipFill>
          <a:blip r:embed="rId1"/>
          <a:stretch/>
        </p:blipFill>
        <p:spPr>
          <a:xfrm>
            <a:off x="7572240" y="428760"/>
            <a:ext cx="1206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2960" y="-214560"/>
            <a:ext cx="794376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Franklin Gothic Book"/>
              </a:rPr>
              <a:t>Исследовательский этап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544680"/>
          <a:ext cx="9144000" cy="6313320"/>
        </p:xfrm>
        <a:graphic>
          <a:graphicData uri="http://schemas.openxmlformats.org/drawingml/2006/table">
            <a:tbl>
              <a:tblPr/>
              <a:tblGrid>
                <a:gridCol w="2643120"/>
                <a:gridCol w="1928880"/>
                <a:gridCol w="2286000"/>
                <a:gridCol w="228600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и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за организацией игр на перемен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реации на 1 – 3 этажах МОУ НОШ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блиотек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й руководител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№1 (де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шнякова Н.В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ин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9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ологический опрос первоклассников и второклассников (выборочно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ить какой безопасный инвентарь можно использовать при организации игр на перемен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6:25:10Z</dcterms:created>
  <dc:creator>Comp</dc:creator>
  <dc:description/>
  <dc:language>en-US</dc:language>
  <cp:lastModifiedBy>Олеся</cp:lastModifiedBy>
  <dcterms:modified xsi:type="dcterms:W3CDTF">2014-01-24T16:51:14Z</dcterms:modified>
  <cp:revision>80</cp:revision>
  <dc:subject/>
  <dc:title>Слайд 1</dc:title>
</cp:coreProperties>
</file>