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3E7-F954-4E0C-A680-523B8D50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4FC-D843-4933-B0D2-14D9E4D5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773-FCDC-4EAB-902D-62255F83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486-FB73-4C99-A66E-FD110AC6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4AEA-EF90-4BD7-9175-565EAA05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10F1-D4FC-4F90-B310-F044AA68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684D-629B-4BBA-9CDF-3EB32943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AC03-2B9C-4B45-B9F4-7183B771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411F-9804-4D09-8AD0-6131DA47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952E-3A5A-477E-972E-8BC2C150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CDB1-0EFC-4D1A-885E-EC4AD08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A65-AFA9-4D51-92CF-C84997B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E1D5-0E14-4FD9-AF29-AF05A01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D78-98BA-42CE-A559-05E4A3BD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F22-D158-4306-AF4E-260049DD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609F-C846-4BC1-A2F7-7AB80023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4C7C-EF33-47A8-B140-AEF8AAD0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3BB-FA59-42AC-AFC7-ED2686A2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8B9-1024-4322-AD01-787DE986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3E0-B91B-4443-A953-9CE91971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FAD-98FF-404B-8A1F-6E116BDB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EF0-8982-482B-AB1F-E080FEE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C79-A198-435F-A87F-E37EBA8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6B2-998E-4677-A608-8438D7D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B16F-A0EE-45E2-A076-85E73D98C0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7CDD-AE73-425D-AEC8-6FAF0FD333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772400" cy="36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равила техники безопасности при выполнении ручных работ!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. Что нужно сделать по окончании работы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посчитать количество иголок и булавок в игольнице. Их должно быть столько, сколько было в начале работ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убрать рабочее мест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. Опасности в работе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6000" y="2133720"/>
            <a:ext cx="78120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вреждение пальцев игл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                        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ли булавко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равма руки ножницами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равма глаз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. Что нужно сделать до начала работы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считать количество иголок и булавок в игольнице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оложить инструменты и приспособления в отведённое для них мест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. Что нужно делать во время работы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712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ледить за правильной посадкой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116000" y="2781360"/>
            <a:ext cx="3456000" cy="331164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219640" y="2781360"/>
            <a:ext cx="3529080" cy="331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8" descr="C:\Documents and Settings\User1\Рабочий стол\Урок\1.jpg"/>
          <p:cNvPicPr/>
          <p:nvPr/>
        </p:nvPicPr>
        <p:blipFill>
          <a:blip r:embed="rId1"/>
          <a:stretch/>
        </p:blipFill>
        <p:spPr>
          <a:xfrm>
            <a:off x="1357200" y="3071880"/>
            <a:ext cx="3011760" cy="2786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User1\Рабочий стол\Урок\2.jpg"/>
          <p:cNvPicPr/>
          <p:nvPr/>
        </p:nvPicPr>
        <p:blipFill>
          <a:blip r:embed="rId2"/>
          <a:stretch/>
        </p:blipFill>
        <p:spPr>
          <a:xfrm>
            <a:off x="5500800" y="3000240"/>
            <a:ext cx="300024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4"/>
          <p:cNvSpPr/>
          <p:nvPr/>
        </p:nvSpPr>
        <p:spPr>
          <a:xfrm>
            <a:off x="5219640" y="2708280"/>
            <a:ext cx="3673440" cy="331164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258920" y="2708280"/>
            <a:ext cx="3600360" cy="33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держать в чистоте и порядке рабочее место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4" name="Picture 7" descr="C:\Documents and Settings\User1\Рабочий стол\Урок\3.jpg"/>
          <p:cNvPicPr/>
          <p:nvPr/>
        </p:nvPicPr>
        <p:blipFill>
          <a:blip r:embed="rId1"/>
          <a:stretch/>
        </p:blipFill>
        <p:spPr>
          <a:xfrm>
            <a:off x="1500120" y="3000240"/>
            <a:ext cx="3071880" cy="273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Documents and Settings\User1\Рабочий стол\Урок\4.jpg"/>
          <p:cNvPicPr/>
          <p:nvPr/>
        </p:nvPicPr>
        <p:blipFill>
          <a:blip r:embed="rId2"/>
          <a:stretch/>
        </p:blipFill>
        <p:spPr>
          <a:xfrm>
            <a:off x="5429160" y="3000240"/>
            <a:ext cx="321480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калывать иглы и булавки только в игольницу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332000" y="2852640"/>
            <a:ext cx="3529080" cy="324036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292720" y="2852640"/>
            <a:ext cx="3456000" cy="323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9" descr="PICT007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92360" y="3068640"/>
            <a:ext cx="2879640" cy="2709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PICT0079"/>
          <p:cNvPicPr/>
          <p:nvPr/>
        </p:nvPicPr>
        <p:blipFill>
          <a:blip r:embed="rId2">
            <a:lum contrast="18000"/>
          </a:blip>
          <a:srcRect l="0" t="0" r="0" b="2094"/>
          <a:stretch/>
        </p:blipFill>
        <p:spPr>
          <a:xfrm>
            <a:off x="5580000" y="3076560"/>
            <a:ext cx="29527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девать напёрсток на средний палец правой руки, чтобы не уколоть его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059280" y="2708280"/>
            <a:ext cx="3600360" cy="352440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C:\Documents and Settings\User1\Рабочий стол\Урок\7.jpg"/>
          <p:cNvPicPr/>
          <p:nvPr/>
        </p:nvPicPr>
        <p:blipFill>
          <a:blip r:embed="rId1"/>
          <a:stretch/>
        </p:blipFill>
        <p:spPr>
          <a:xfrm>
            <a:off x="3357720" y="3000240"/>
            <a:ext cx="305424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9"/>
          <p:cNvSpPr/>
          <p:nvPr/>
        </p:nvSpPr>
        <p:spPr>
          <a:xfrm>
            <a:off x="5364000" y="2781360"/>
            <a:ext cx="3384720" cy="331308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класть ножницы справа с сомкнутыми лезвиями, направленными от себя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476360" y="2781360"/>
            <a:ext cx="3386160" cy="3308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C:\Documents and Settings\User1\Рабочий стол\Урок\8.jpg"/>
          <p:cNvPicPr/>
          <p:nvPr/>
        </p:nvPicPr>
        <p:blipFill>
          <a:blip r:embed="rId1"/>
          <a:stretch/>
        </p:blipFill>
        <p:spPr>
          <a:xfrm>
            <a:off x="1714680" y="3143160"/>
            <a:ext cx="29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Documents and Settings\User1\Рабочий стол\Урок\9.jpg"/>
          <p:cNvPicPr/>
          <p:nvPr/>
        </p:nvPicPr>
        <p:blipFill>
          <a:blip r:embed="rId2"/>
          <a:stretch/>
        </p:blipFill>
        <p:spPr>
          <a:xfrm>
            <a:off x="5643720" y="3071880"/>
            <a:ext cx="2928960" cy="27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1258920" y="2852640"/>
            <a:ext cx="3529080" cy="345780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292720" y="2852640"/>
            <a:ext cx="3456000" cy="345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ередавать ножницы только с сомкнутыми лезвиями и кольцами вперёд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2" name="Picture 7" descr="C:\Documents and Settings\User1\Рабочий стол\Урок\10.jpg"/>
          <p:cNvPicPr/>
          <p:nvPr/>
        </p:nvPicPr>
        <p:blipFill>
          <a:blip r:embed="rId1"/>
          <a:stretch/>
        </p:blipFill>
        <p:spPr>
          <a:xfrm>
            <a:off x="1500120" y="3214800"/>
            <a:ext cx="2959200" cy="2714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nts and Settings\User1\Рабочий стол\Урок\11.jpg"/>
          <p:cNvPicPr/>
          <p:nvPr/>
        </p:nvPicPr>
        <p:blipFill>
          <a:blip r:embed="rId2"/>
          <a:stretch/>
        </p:blipFill>
        <p:spPr>
          <a:xfrm>
            <a:off x="5500800" y="3214800"/>
            <a:ext cx="300024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ахманова Ольга</cp:lastModifiedBy>
  <dcterms:modified xsi:type="dcterms:W3CDTF">2008-01-28T14:04:49Z</dcterms:modified>
  <cp:revision>14</cp:revision>
  <dc:subject/>
  <dc:title>PowerPoint Presentation</dc:title>
</cp:coreProperties>
</file>