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2FB-2789-4DCF-9F74-E257B81A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924-E602-4FE1-93F1-D88FDEBE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E85-1A47-4FC4-A2F1-2EBFF905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AEE-1A3D-4048-A463-A5036817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A723-AED0-44CD-B0D9-2C183CC2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854A-590D-46BD-8766-08C4DEE6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A771-A765-4C1B-9333-A280AC40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2D55-D7B2-4845-9C54-B8DF5075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9075-C220-4FBE-99BE-F05464A7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9465-4603-424C-920D-D8C33C1E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F5EC-9B1E-44F0-81BA-825EDE7F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E3F-B3D9-4284-8BE6-ACCB1E12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7407-7799-4292-B74A-AF1CF376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CD6B-4294-479F-A8C9-58CCA6B7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3622-95E1-4135-A0FF-09D34AB2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3B55-4D6B-4074-A092-AD75AFE4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C2F1-8AC5-4EFD-B0C3-994CC1C2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65F-F532-4BE6-A596-1D3BCF5D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E15-23BD-4AEA-B2BF-EEA1C958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E9C-2923-4A65-91CB-D42C7B01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BDC-4C57-49B6-AA05-4004A234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078-ADBA-42B3-89EB-FD36F9D8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5EE-DCAF-47A3-835A-1886B7A3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C35-01F3-441D-8B0F-F0AE829F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8F37-721D-4375-BE49-E899BA25C2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3B81-7897-4E4E-A93E-D03088E3C58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772400" cy="367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34343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Правила техники безопасности при выполнении ручных работ!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34343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4. Что нужно сделать по окончании работы: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посчитать количество иголок и булавок в игольнице. Их должно быть столько, сколько было в начале работ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Verdana"/>
              </a:rPr>
              <a:t>убрать рабочее мест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34343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. Опасности в работе: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16000" y="2133720"/>
            <a:ext cx="78120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овреждение пальцев игло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                          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ли булавкой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травма руки ножницами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травма глаз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34343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. Что нужно сделать до начала работы: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считать количество иголок и булавок в игольнице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оложить инструменты и приспособления в отведённое для них место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34343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. Что нужно делать во время работы: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712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ледить за правильной посадкой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116000" y="2781360"/>
            <a:ext cx="3456000" cy="331164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5219640" y="2781360"/>
            <a:ext cx="3529080" cy="331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8" descr="C:\Documents and Settings\User1\Рабочий стол\Урок\1.jpg"/>
          <p:cNvPicPr/>
          <p:nvPr/>
        </p:nvPicPr>
        <p:blipFill>
          <a:blip r:embed="rId1"/>
          <a:stretch/>
        </p:blipFill>
        <p:spPr>
          <a:xfrm>
            <a:off x="1357200" y="3071880"/>
            <a:ext cx="3011760" cy="2786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Documents and Settings\User1\Рабочий стол\Урок\2.jpg"/>
          <p:cNvPicPr/>
          <p:nvPr/>
        </p:nvPicPr>
        <p:blipFill>
          <a:blip r:embed="rId2"/>
          <a:stretch/>
        </p:blipFill>
        <p:spPr>
          <a:xfrm>
            <a:off x="5500800" y="3000240"/>
            <a:ext cx="300024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4"/>
          <p:cNvSpPr/>
          <p:nvPr/>
        </p:nvSpPr>
        <p:spPr>
          <a:xfrm>
            <a:off x="5219640" y="2708280"/>
            <a:ext cx="3673440" cy="331164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258920" y="2708280"/>
            <a:ext cx="3600360" cy="331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держать в чистоте и порядке рабочее место;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4" name="Picture 7" descr="C:\Documents and Settings\User1\Рабочий стол\Урок\3.jpg"/>
          <p:cNvPicPr/>
          <p:nvPr/>
        </p:nvPicPr>
        <p:blipFill>
          <a:blip r:embed="rId1"/>
          <a:stretch/>
        </p:blipFill>
        <p:spPr>
          <a:xfrm>
            <a:off x="1500120" y="3000240"/>
            <a:ext cx="3071880" cy="273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C:\Documents and Settings\User1\Рабочий стол\Урок\4.jpg"/>
          <p:cNvPicPr/>
          <p:nvPr/>
        </p:nvPicPr>
        <p:blipFill>
          <a:blip r:embed="rId2"/>
          <a:stretch/>
        </p:blipFill>
        <p:spPr>
          <a:xfrm>
            <a:off x="5429160" y="3000240"/>
            <a:ext cx="321480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калывать иглы и булавки только в игольницу;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332000" y="2852640"/>
            <a:ext cx="3529080" cy="324036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5292720" y="2852640"/>
            <a:ext cx="3456000" cy="323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9" descr="PICT0077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92360" y="3068640"/>
            <a:ext cx="2879640" cy="2709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PICT0079"/>
          <p:cNvPicPr/>
          <p:nvPr/>
        </p:nvPicPr>
        <p:blipFill>
          <a:blip r:embed="rId2">
            <a:lum contrast="18000"/>
          </a:blip>
          <a:srcRect l="0" t="0" r="0" b="2094"/>
          <a:stretch/>
        </p:blipFill>
        <p:spPr>
          <a:xfrm>
            <a:off x="5580000" y="3076560"/>
            <a:ext cx="295272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надевать напёрсток на средний палец правой руки, чтобы не уколоть его;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059280" y="2708280"/>
            <a:ext cx="3600360" cy="352440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5" descr="C:\Documents and Settings\User1\Рабочий стол\Урок\7.jpg"/>
          <p:cNvPicPr/>
          <p:nvPr/>
        </p:nvPicPr>
        <p:blipFill>
          <a:blip r:embed="rId1"/>
          <a:stretch/>
        </p:blipFill>
        <p:spPr>
          <a:xfrm>
            <a:off x="3357720" y="3000240"/>
            <a:ext cx="305424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9"/>
          <p:cNvSpPr/>
          <p:nvPr/>
        </p:nvSpPr>
        <p:spPr>
          <a:xfrm>
            <a:off x="5364000" y="2781360"/>
            <a:ext cx="3384720" cy="331308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360" y="90756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класть ножницы справа с сомкнутыми лезвиями, направленными от себя;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476360" y="2781360"/>
            <a:ext cx="3386160" cy="3308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7" descr="C:\Documents and Settings\User1\Рабочий стол\Урок\8.jpg"/>
          <p:cNvPicPr/>
          <p:nvPr/>
        </p:nvPicPr>
        <p:blipFill>
          <a:blip r:embed="rId1"/>
          <a:stretch/>
        </p:blipFill>
        <p:spPr>
          <a:xfrm>
            <a:off x="1714680" y="3143160"/>
            <a:ext cx="2909880" cy="2571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C:\Documents and Settings\User1\Рабочий стол\Урок\9.jpg"/>
          <p:cNvPicPr/>
          <p:nvPr/>
        </p:nvPicPr>
        <p:blipFill>
          <a:blip r:embed="rId2"/>
          <a:stretch/>
        </p:blipFill>
        <p:spPr>
          <a:xfrm>
            <a:off x="5643720" y="3071880"/>
            <a:ext cx="2928960" cy="27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1258920" y="2852640"/>
            <a:ext cx="3529080" cy="3457800"/>
          </a:xfrm>
          <a:prstGeom prst="rect">
            <a:avLst/>
          </a:prstGeom>
          <a:solidFill>
            <a:srgbClr val="2ba1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292720" y="2852640"/>
            <a:ext cx="3456000" cy="345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00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ередавать ножницы только с сомкнутыми лезвиями и кольцами вперёд.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2" name="Picture 7" descr="C:\Documents and Settings\User1\Рабочий стол\Урок\10.jpg"/>
          <p:cNvPicPr/>
          <p:nvPr/>
        </p:nvPicPr>
        <p:blipFill>
          <a:blip r:embed="rId1"/>
          <a:stretch/>
        </p:blipFill>
        <p:spPr>
          <a:xfrm>
            <a:off x="1500120" y="3214800"/>
            <a:ext cx="2959200" cy="2714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Documents and Settings\User1\Рабочий стол\Урок\11.jpg"/>
          <p:cNvPicPr/>
          <p:nvPr/>
        </p:nvPicPr>
        <p:blipFill>
          <a:blip r:embed="rId2"/>
          <a:stretch/>
        </p:blipFill>
        <p:spPr>
          <a:xfrm>
            <a:off x="5500800" y="3214800"/>
            <a:ext cx="3000240" cy="27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ахманова Ольга</cp:lastModifiedBy>
  <dcterms:modified xsi:type="dcterms:W3CDTF">2008-01-28T14:04:49Z</dcterms:modified>
  <cp:revision>14</cp:revision>
  <dc:subject/>
  <dc:title>PowerPoint Presentation</dc:title>
</cp:coreProperties>
</file>