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D94-AF1D-49AF-8FB6-A2128655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536-BCF1-4677-80E9-588A3AF6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BCB-DC8D-4A5A-B6B7-7511D864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8A0-5DEF-438F-9E14-A0DFF9BA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48C-5B18-430E-8AC6-B08749D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155-3CF0-4A5B-8844-35FA07E4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73D-DA08-4053-BECA-6D69048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ABF-D19C-4692-A163-3F0CC48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908-9EA5-4FCF-B758-E4C7FB82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49B-1CB6-4950-998D-D092E4B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CCB-C4CE-4F2C-B0E4-19FBC62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1F1-4F27-489F-93B2-98E5129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5651-D4D2-4F08-8F34-47C917F6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е акустического резонан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34876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выполнил учащийся 11-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243000"/>
            <a:ext cx="16556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659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й вопр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399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физическое  явление положено в основу работы всех музыкальных инструмен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127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848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спериментальная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4321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каких колебаниях наблюдается акустический резонан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38448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848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след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3213000"/>
            <a:ext cx="403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ая связь существует между акустическим резонансом и звуковыми волн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848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след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9280" y="3213000"/>
            <a:ext cx="403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е явление явилось причиной разрушения самоле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06920" y="3606840"/>
            <a:ext cx="3925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 акустического резонанса наблюдается при вынужденных колеб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 акустического резонанса необходимо учитывать в промышленности, технике и в быту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33847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1:01:08Z</dcterms:created>
  <dc:creator>Информатика</dc:creator>
  <dc:description/>
  <dc:language>en-US</dc:language>
  <cp:lastModifiedBy>Информатика</cp:lastModifiedBy>
  <dcterms:modified xsi:type="dcterms:W3CDTF">2005-11-30T12:48:15Z</dcterms:modified>
  <cp:revision>11</cp:revision>
  <dc:subject/>
  <dc:title>Явление акустического резонанса</dc:title>
</cp:coreProperties>
</file>