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8A17-839E-4192-AF56-D4488480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30E8-975F-49E5-8DA6-BBCF54CA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5C0F-042C-4AB5-978A-32C32679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B8AB-16F4-47D1-9578-196B5463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1861-A64E-44DB-BDDD-297CF22B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738E-8427-4BB4-B803-9F56830D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54D2-134F-4AB2-958D-3F73B936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5377-ECC5-4BE9-ADD2-D0DD6773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B3B9-E9AC-4C11-A74B-DD7A5DD5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2846-EC64-4BFF-9C9B-896D233E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DC50-C644-4ACF-9010-8A7C76D2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2E1D-3E13-40A6-AFD3-07AC5BB4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600E-A688-4740-9757-0AFAE8D35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вление акустического резонан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34876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у выполнил учащийся 11-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93080" y="243000"/>
            <a:ext cx="165564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67280" y="4076640"/>
            <a:ext cx="26593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блемный вопро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32000" y="1988640"/>
            <a:ext cx="399240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ое физическое  явление положено в основу работы всех музыкальных инструмент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84720" y="3933720"/>
            <a:ext cx="21272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84872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кспериментальная ча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87280" y="2565000"/>
            <a:ext cx="43214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 каких колебаниях наблюдается акустический резонан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43280" y="3844800"/>
            <a:ext cx="381636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84872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сследов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39280" y="3213000"/>
            <a:ext cx="4032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ая связь существует между акустическим резонансом и звуковыми волн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932360" y="1844640"/>
            <a:ext cx="3809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84872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сследов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9280" y="3213000"/>
            <a:ext cx="4032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ое явление явилось причиной разрушения самолет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06920" y="3606840"/>
            <a:ext cx="392580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вление акустического резонанса наблюдается при вынужденных колеба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вление акустического резонанса необходимо учитывать в промышленности, технике и в быту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219640" y="3068640"/>
            <a:ext cx="338472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1:01:08Z</dcterms:created>
  <dc:creator>Информатика</dc:creator>
  <dc:description/>
  <dc:language>en-US</dc:language>
  <cp:lastModifiedBy>Информатика</cp:lastModifiedBy>
  <dcterms:modified xsi:type="dcterms:W3CDTF">2005-11-30T12:48:15Z</dcterms:modified>
  <cp:revision>11</cp:revision>
  <dc:subject/>
  <dc:title>Явление акустического резонанса</dc:title>
</cp:coreProperties>
</file>