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73F-8D99-4243-92AD-470EF70D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F8B-A3C2-4890-90E8-E8B0CFEB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2AF-C476-4395-A434-DACEFF59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D50-0FCA-4789-8CF3-A4325F53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392-8D8D-4DFF-99DB-D840BAAD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6B9-E5EF-41C0-A99F-66F1B6D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FAC-69B6-41C6-8FDB-6ADE5D32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4CD-52CA-48E2-89B0-0DAB5B5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FCF-4B18-45CC-B9F6-D420E37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4F1-D2BB-418F-8C5B-4C4510C8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132-178A-469A-B18A-DC89154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384-37E5-4485-AD85-D901CAF8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5C89-ECBE-427E-A226-AECA3C174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421000"/>
            <a:ext cx="662472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страл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79736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Географическое положение.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тория исследов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ложение относительно других матер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Австралия сильно удалена от других материков, ближе всего к ней Азия через острова Индонезии и Антарктид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сследование Австр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092320"/>
                <a:gridCol w="3394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исследова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356000" y="620280"/>
            <a:ext cx="446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уис Ваэса Торрес (Исп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http://t2.gstatic.com/images?q=tbn:z7RPML3eZGBYOM:http://kosmopark.com/images/stories/risynki/Avstraliya/Blaeu_Willem_Janszoon.jpg"/>
          <p:cNvPicPr/>
          <p:nvPr/>
        </p:nvPicPr>
        <p:blipFill>
          <a:blip r:embed="rId1"/>
          <a:stretch/>
        </p:blipFill>
        <p:spPr>
          <a:xfrm>
            <a:off x="250920" y="404640"/>
            <a:ext cx="4265640" cy="5472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59280" y="2060640"/>
            <a:ext cx="374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гнул Новую Гвинею с юга, впервые заметил обширную сушу. Но подойти к ней ближе капитан не отваж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292360" y="404640"/>
            <a:ext cx="3600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Абель Тасман (Голланд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689360" cy="5473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03640" y="1989000"/>
            <a:ext cx="396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ил плавание вокруг Австралии, в некоторых местах высаживался на берег. Им были открыты острова Тасмния и Новая Зела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42920" y="333360"/>
            <a:ext cx="403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жеймс К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Англ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ee59946d6bd48779e49377d5ac8"/>
          <p:cNvPicPr/>
          <p:nvPr/>
        </p:nvPicPr>
        <p:blipFill>
          <a:blip r:embed="rId2"/>
          <a:stretch/>
        </p:blipFill>
        <p:spPr>
          <a:xfrm>
            <a:off x="250920" y="333360"/>
            <a:ext cx="4279680" cy="489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0" y="2060640"/>
            <a:ext cx="43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л восточное побережье Австралии, провозгласил ее частью Британской имп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1280" y="2599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Эдуард Джон Эйр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Англ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108680" cy="5473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3280" y="213372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л крупнейшее озеро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643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берт Бёр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Ирланд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38760" cy="6048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76720" y="249228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к материк с юга на север (от залива Карпентария до города Мельбур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28 прочитать, записи в тетради 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На к\к отм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полуосрова: Арнемленд, Кейп-Йо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острова: Тимор и Тас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моря: Арафурское,Коралловое,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    Тасманово, Тимро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заливы: Большой Австралийский,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 Карпент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проливы: Торресов, Б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лан характеристики Г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ение относительно экватора, нулевого меридиана, полярных кругов, троп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йние точки материка и протяженность с севера на юг и с запада на восток в градусах и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ких климатических поясах располож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 океаны и моря омывают матер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ение относительно других матер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ожение материка относительно основных линий градусной се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Положение относительно экв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к полностью расположен в южном полуша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Положение материка относительно нулевого мериди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к расположен в восточ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Пересекается ли полярными кругами, троп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к пересекается южным тропиком почти посеред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483000">
            <a:off x="5867280" y="5516640"/>
            <a:ext cx="1657440" cy="360360"/>
          </a:xfrm>
          <a:prstGeom prst="flowChartTerminator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0"/>
            <a:ext cx="1150920" cy="40464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483000">
            <a:off x="5867280" y="5516640"/>
            <a:ext cx="1657440" cy="36036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483000">
            <a:off x="6804000" y="3499920"/>
            <a:ext cx="1370160" cy="28908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3080400">
            <a:off x="-180000" y="4293360"/>
            <a:ext cx="1657080" cy="360360"/>
          </a:xfrm>
          <a:prstGeom prst="flowChartTerminator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Определение географических координат крайних т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1773360"/>
          <a:ext cx="8713800" cy="4103640"/>
        </p:xfrm>
        <a:graphic>
          <a:graphicData uri="http://schemas.openxmlformats.org/drawingml/2006/table">
            <a:tbl>
              <a:tblPr/>
              <a:tblGrid>
                <a:gridCol w="663840"/>
                <a:gridCol w="2365200"/>
                <a:gridCol w="3692520"/>
                <a:gridCol w="1992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ложение на матер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 крайней 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оорди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ю.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ю.ш. 113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Йор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в.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46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Определение географических координат крайних т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9280" y="1773360"/>
          <a:ext cx="8713800" cy="4103640"/>
        </p:xfrm>
        <a:graphic>
          <a:graphicData uri="http://schemas.openxmlformats.org/drawingml/2006/table">
            <a:tbl>
              <a:tblPr/>
              <a:tblGrid>
                <a:gridCol w="663840"/>
                <a:gridCol w="2365200"/>
                <a:gridCol w="3692520"/>
                <a:gridCol w="1992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ложение на матер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азвание крайней 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оорди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Саут-Ист-Пой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ю.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Бай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Стип-Пой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ю.ш. 113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Йор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ю.ш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в.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46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е протяженности материка в градусах и к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K:\австра\austok_m.gif"/>
          <p:cNvPicPr/>
          <p:nvPr/>
        </p:nvPicPr>
        <p:blipFill>
          <a:blip r:embed="rId1"/>
          <a:stretch/>
        </p:blipFill>
        <p:spPr>
          <a:xfrm>
            <a:off x="3132000" y="2181240"/>
            <a:ext cx="5796000" cy="467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341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дани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ределить протяженность материка в градусах и км с севера на юг по 1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идиану и с запада на восток по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3284640"/>
            <a:ext cx="0" cy="1657080"/>
          </a:xfrm>
          <a:prstGeom prst="line">
            <a:avLst/>
          </a:prstGeom>
          <a:ln w="414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705200"/>
            <a:ext cx="3382920" cy="93960"/>
          </a:xfrm>
          <a:custGeom>
            <a:avLst/>
            <a:gdLst/>
            <a:ahLst/>
            <a:rect l="l" t="t" r="r" b="b"/>
            <a:pathLst>
              <a:path w="2131" h="59">
                <a:moveTo>
                  <a:pt x="0" y="58"/>
                </a:moveTo>
                <a:lnTo>
                  <a:pt x="1011" y="0"/>
                </a:lnTo>
                <a:lnTo>
                  <a:pt x="2131" y="59"/>
                </a:lnTo>
              </a:path>
            </a:pathLst>
          </a:custGeom>
          <a:noFill/>
          <a:ln w="414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270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ru-RU" sz="18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ю.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7560" y="5013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ю.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1920" y="46530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5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40640" y="46530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53</a:t>
            </a:r>
            <a:r>
              <a:rPr b="1" lang="ru-RU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3789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\199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4869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\3667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360" y="333360"/>
            <a:ext cx="8351640" cy="158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атические пояса Автрал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K:\австра\img00000081.gif"/>
          <p:cNvPicPr/>
          <p:nvPr/>
        </p:nvPicPr>
        <p:blipFill>
          <a:blip r:embed="rId2"/>
          <a:stretch/>
        </p:blipFill>
        <p:spPr>
          <a:xfrm>
            <a:off x="3807000" y="1125360"/>
            <a:ext cx="5337000" cy="5732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кеаны, омывающие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907920"/>
            <a:ext cx="439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ое и восточное побережья Австралии омывают мор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ихого океан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рафурско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раллово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асманов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иморское мор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адное и южное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ндийский океа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8:18:17Z</dcterms:created>
  <dc:creator>user</dc:creator>
  <dc:description/>
  <dc:language>en-US</dc:language>
  <cp:lastModifiedBy>user</cp:lastModifiedBy>
  <dcterms:modified xsi:type="dcterms:W3CDTF">2014-01-09T20:01:14Z</dcterms:modified>
  <cp:revision>2</cp:revision>
  <dc:subject/>
  <dc:title>Слайд 1</dc:title>
</cp:coreProperties>
</file>