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E0D-0A49-46C3-B28A-A62FF05B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B83-9002-4725-B59B-221FB4CD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45B-0DF7-4FB1-9241-C3714F2D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E07-4338-412B-88A8-EE62F314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B6B3-5C40-471A-BF31-7114743D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58A7-EDED-4900-96F0-5C25E8E3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33CF-EEAF-490E-82FA-95BE6454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F264-6AEE-468B-B9AB-51D85A1B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4E82-C6CB-4894-B5B4-5CEC1C72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D144-4A6B-446D-A9EB-0793577D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0CF4-1AD5-40C8-82A4-CCCF3B5E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6E0-BFAC-4ADF-9AA6-268E101D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3938-EE2E-4BE6-B5B9-F902F1F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227C-DE84-468E-A15A-7758669F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AE3C-8257-46E5-B6AE-4EB97D7A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A0B8-4C19-4C10-97E7-809AA638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B308-3039-4C72-9C87-D2FC0452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9C4-1A52-4B86-9314-64307861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A58-0E29-431E-9D12-03B1494C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E85-8E0F-47AF-B130-9C29D0CB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CB3-A460-4F23-A38B-B9E71720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9CB-11D7-4841-8016-E67A829F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70B-37C9-410A-897E-890AC3BE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0A2-1CCA-4CDA-A11A-0CB4BDC5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9682-3DA6-4F90-9236-07AE935B01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44EF-A0C5-4273-A30F-220EF57E0B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Garamond"/>
              </a:rPr>
              <a:t>Проект по благоустройству школьной территории «Чудо – клумба»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итель – Ситникова Е.А.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КОУ СОШ п.Фален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9440" y="28872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ылья, которые распустил павлин, сделаны из решётки, на которую прикреплены перья, вырезанные из пластиковых бутыл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DSCF2022"/>
          <p:cNvPicPr/>
          <p:nvPr/>
        </p:nvPicPr>
        <p:blipFill>
          <a:blip r:embed="rId1"/>
          <a:stretch/>
        </p:blipFill>
        <p:spPr>
          <a:xfrm>
            <a:off x="684360" y="3284640"/>
            <a:ext cx="4429080" cy="3321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SCF2011"/>
          <p:cNvPicPr/>
          <p:nvPr/>
        </p:nvPicPr>
        <p:blipFill>
          <a:blip r:embed="rId2"/>
          <a:stretch/>
        </p:blipFill>
        <p:spPr>
          <a:xfrm>
            <a:off x="5435640" y="3284640"/>
            <a:ext cx="3166920" cy="33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готовления шеи в ход пошли пластиковые канистры ёмкостью 5 и 3 литра, а также пластиковые бутылки, скреплённые между собой и прикрученные к горлови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DSCF2024"/>
          <p:cNvPicPr/>
          <p:nvPr/>
        </p:nvPicPr>
        <p:blipFill>
          <a:blip r:embed="rId1"/>
          <a:stretch/>
        </p:blipFill>
        <p:spPr>
          <a:xfrm>
            <a:off x="4572000" y="4149720"/>
            <a:ext cx="388764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DSCF2023"/>
          <p:cNvPicPr/>
          <p:nvPr/>
        </p:nvPicPr>
        <p:blipFill>
          <a:blip r:embed="rId2"/>
          <a:stretch/>
        </p:blipFill>
        <p:spPr>
          <a:xfrm>
            <a:off x="1116000" y="4149720"/>
            <a:ext cx="237492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макет шеи была надета пластиковая сетка с перьями, изготовленными из пластиковых бутыл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DSCF2024"/>
          <p:cNvPicPr/>
          <p:nvPr/>
        </p:nvPicPr>
        <p:blipFill>
          <a:blip r:embed="rId1"/>
          <a:stretch/>
        </p:blipFill>
        <p:spPr>
          <a:xfrm>
            <a:off x="1258920" y="3068640"/>
            <a:ext cx="6337440" cy="364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олова изготовлена тоже из старых пластиковых бутылок. Для придания определённого выражения и правдоподобия прикреплены «глаза», используемые для изготовления мягкой игруш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DSCF2026"/>
          <p:cNvPicPr/>
          <p:nvPr/>
        </p:nvPicPr>
        <p:blipFill>
          <a:blip r:embed="rId1"/>
          <a:stretch/>
        </p:blipFill>
        <p:spPr>
          <a:xfrm>
            <a:off x="3851280" y="4149720"/>
            <a:ext cx="4968720" cy="24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имательно рассмотрев фотографии павлина было принято решение покрасить созданный макет в цвет, близкий к естественной окраске птиц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DSC_1022_"/>
          <p:cNvPicPr/>
          <p:nvPr/>
        </p:nvPicPr>
        <p:blipFill>
          <a:blip r:embed="rId1"/>
          <a:stretch/>
        </p:blipFill>
        <p:spPr>
          <a:xfrm>
            <a:off x="2556000" y="3645000"/>
            <a:ext cx="4459320" cy="29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DSC_1023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роблем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коло старой школьной мастерской есть пустующая территория, которая постепенно стала превращаться в свал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DSC_1001"/>
          <p:cNvPicPr/>
          <p:nvPr/>
        </p:nvPicPr>
        <p:blipFill>
          <a:blip r:embed="rId1"/>
          <a:stretch/>
        </p:blipFill>
        <p:spPr>
          <a:xfrm>
            <a:off x="2627280" y="3284640"/>
            <a:ext cx="4789440" cy="320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Цель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агородить пустующий участок земли, создав на нём необычную композиц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DSCF2007"/>
          <p:cNvPicPr/>
          <p:nvPr/>
        </p:nvPicPr>
        <p:blipFill>
          <a:blip r:embed="rId1"/>
          <a:stretch/>
        </p:blipFill>
        <p:spPr>
          <a:xfrm>
            <a:off x="539640" y="3284640"/>
            <a:ext cx="3888000" cy="2643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SCF2013"/>
          <p:cNvPicPr/>
          <p:nvPr/>
        </p:nvPicPr>
        <p:blipFill>
          <a:blip r:embed="rId2"/>
          <a:stretch/>
        </p:blipFill>
        <p:spPr>
          <a:xfrm>
            <a:off x="4716360" y="3284640"/>
            <a:ext cx="3961080" cy="266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дачи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ахать пустующий участок, сделав его пригодным для посадки цв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ть клумбу, придав ей необычную форм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думать размещение цветов разных видов и сортов, разных оттенк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ланирование результат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ть клумбу в виде хвоста павлина и сделать самого павлина из подручного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6" descr="DSCF2016"/>
          <p:cNvPicPr/>
          <p:nvPr/>
        </p:nvPicPr>
        <p:blipFill>
          <a:blip r:embed="rId1"/>
          <a:stretch/>
        </p:blipFill>
        <p:spPr>
          <a:xfrm>
            <a:off x="468360" y="3284640"/>
            <a:ext cx="4043160" cy="25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SCF2014"/>
          <p:cNvPicPr/>
          <p:nvPr/>
        </p:nvPicPr>
        <p:blipFill>
          <a:blip r:embed="rId2"/>
          <a:stretch/>
        </p:blipFill>
        <p:spPr>
          <a:xfrm>
            <a:off x="4572000" y="3284640"/>
            <a:ext cx="410544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еализации проекта принимали участие учащиеся и педагоги МКОУ СОШ с УИОП п.Фален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DSCF2005"/>
          <p:cNvPicPr/>
          <p:nvPr/>
        </p:nvPicPr>
        <p:blipFill>
          <a:blip r:embed="rId1"/>
          <a:stretch/>
        </p:blipFill>
        <p:spPr>
          <a:xfrm>
            <a:off x="395280" y="3429000"/>
            <a:ext cx="2879640" cy="2892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SCF2004"/>
          <p:cNvPicPr/>
          <p:nvPr/>
        </p:nvPicPr>
        <p:blipFill>
          <a:blip r:embed="rId2"/>
          <a:stretch/>
        </p:blipFill>
        <p:spPr>
          <a:xfrm>
            <a:off x="2556000" y="3429000"/>
            <a:ext cx="1152360" cy="287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SCF2019"/>
          <p:cNvPicPr/>
          <p:nvPr/>
        </p:nvPicPr>
        <p:blipFill>
          <a:blip r:embed="rId3"/>
          <a:stretch/>
        </p:blipFill>
        <p:spPr>
          <a:xfrm>
            <a:off x="3924360" y="3429000"/>
            <a:ext cx="4176720" cy="28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начала была разбита клумба в виде перьев хвоста павл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DSCF2003"/>
          <p:cNvPicPr/>
          <p:nvPr/>
        </p:nvPicPr>
        <p:blipFill>
          <a:blip r:embed="rId1"/>
          <a:stretch/>
        </p:blipFill>
        <p:spPr>
          <a:xfrm>
            <a:off x="2484360" y="2565360"/>
            <a:ext cx="4024440" cy="41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 На каждое перо высажены цветы разных сортов и оттен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DSCF2003"/>
          <p:cNvPicPr/>
          <p:nvPr/>
        </p:nvPicPr>
        <p:blipFill>
          <a:blip r:embed="rId1"/>
          <a:stretch/>
        </p:blipFill>
        <p:spPr>
          <a:xfrm>
            <a:off x="971640" y="2708280"/>
            <a:ext cx="7200720" cy="33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9440" y="34560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ализация проек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 Изготовление павлин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уловище сделано из старой алюминиевой фляги, которую закопали в землю под углом, чтобы создать впечатление, что павлин распустил свой хвос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DSCF2003"/>
          <p:cNvPicPr/>
          <p:nvPr/>
        </p:nvPicPr>
        <p:blipFill>
          <a:blip r:embed="rId1"/>
          <a:stretch/>
        </p:blipFill>
        <p:spPr>
          <a:xfrm>
            <a:off x="3203640" y="4076640"/>
            <a:ext cx="5113440" cy="256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06:34:40Z</dcterms:created>
  <dc:creator>Администратор</dc:creator>
  <dc:description/>
  <dc:language>en-US</dc:language>
  <cp:lastModifiedBy>Kataeva-OYu</cp:lastModifiedBy>
  <dcterms:modified xsi:type="dcterms:W3CDTF">2014-01-24T10:18:05Z</dcterms:modified>
  <cp:revision>21</cp:revision>
  <dc:subject/>
  <dc:title>Чудо - клумба</dc:title>
</cp:coreProperties>
</file>