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0A06-5FBB-4A46-9C29-3F3B5CF8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A8A-1DA6-4EA0-BBA2-B0847C02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7A0-F755-43F8-A337-1B8B7496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6CA-4AA2-4E7D-814A-7E3282EA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E386-E4F4-4324-B559-893ACD09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06C8-AE01-4B37-9E81-56C1831A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D9AC-AAFC-4E90-8F4B-ADFA21EE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35BE-3BE6-4D66-993E-C5463F3C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D696-F6B5-4906-AECD-3C8F6CF0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28CF-2810-4723-9159-E2C66B88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0697-3C5A-4772-B03A-B29AC50D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64D-AE46-47B5-BE80-800D402F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D090-5870-41CD-B204-0BD6DACD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7641-EF50-40C8-A625-20640002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B23A-6769-45DC-B079-F7D97D9B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C4A3-C6D6-44CA-9441-650A7D18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CC83-F17D-41E0-9284-99A57AB0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146C-3E3D-43E3-A7B9-52BFD54C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BE93-FAA5-4893-9EF1-11C35148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576-A003-4701-B7E9-8A722330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D8E-0D04-4425-971A-C9F25525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A8A-C2E1-4F88-9949-617EE9ED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147-1C45-4F71-BFB5-078DC6C7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9752-6B7D-46F6-BED0-D6BFFD04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897E-AC8C-4CF6-92B3-361CE15CCE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8EEA-CEF8-42D7-998E-A50191A61F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9900"/>
                </a:solidFill>
                <a:latin typeface="Garamond"/>
              </a:rPr>
              <a:t>Проект по благоустройству школьной территории «Чудо – клумба»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57300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итель – Ситникова Е.А.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КОУ СОШ п.Фален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9440" y="288720"/>
            <a:ext cx="80773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ализация проек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ылья, которые распустил павлин, сделаны из решётки, на которую прикреплены перья, вырезанные из пластиковых бутыл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DSCF2022"/>
          <p:cNvPicPr/>
          <p:nvPr/>
        </p:nvPicPr>
        <p:blipFill>
          <a:blip r:embed="rId1"/>
          <a:stretch/>
        </p:blipFill>
        <p:spPr>
          <a:xfrm>
            <a:off x="684360" y="3284640"/>
            <a:ext cx="4429080" cy="3321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DSCF2011"/>
          <p:cNvPicPr/>
          <p:nvPr/>
        </p:nvPicPr>
        <p:blipFill>
          <a:blip r:embed="rId2"/>
          <a:stretch/>
        </p:blipFill>
        <p:spPr>
          <a:xfrm>
            <a:off x="5435640" y="3284640"/>
            <a:ext cx="3166920" cy="330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ализация проек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готовления шеи в ход пошли пластиковые канистры ёмкостью 5 и 3 литра, а также пластиковые бутылки, скреплённые между собой и прикрученные к горлови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DSCF2024"/>
          <p:cNvPicPr/>
          <p:nvPr/>
        </p:nvPicPr>
        <p:blipFill>
          <a:blip r:embed="rId1"/>
          <a:stretch/>
        </p:blipFill>
        <p:spPr>
          <a:xfrm>
            <a:off x="4572000" y="4149720"/>
            <a:ext cx="3887640" cy="23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DSCF2023"/>
          <p:cNvPicPr/>
          <p:nvPr/>
        </p:nvPicPr>
        <p:blipFill>
          <a:blip r:embed="rId2"/>
          <a:stretch/>
        </p:blipFill>
        <p:spPr>
          <a:xfrm>
            <a:off x="1116000" y="4149720"/>
            <a:ext cx="2374920" cy="23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ализация проек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макет шеи была надета пластиковая сетка с перьями, изготовленными из пластиковых бутыл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DSCF2024"/>
          <p:cNvPicPr/>
          <p:nvPr/>
        </p:nvPicPr>
        <p:blipFill>
          <a:blip r:embed="rId1"/>
          <a:stretch/>
        </p:blipFill>
        <p:spPr>
          <a:xfrm>
            <a:off x="1258920" y="3068640"/>
            <a:ext cx="6337440" cy="364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ализация проек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олова изготовлена тоже из старых пластиковых бутылок. Для придания определённого выражения и правдоподобия прикреплены «глаза», используемые для изготовления мягкой игруш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DSCF2026"/>
          <p:cNvPicPr/>
          <p:nvPr/>
        </p:nvPicPr>
        <p:blipFill>
          <a:blip r:embed="rId1"/>
          <a:stretch/>
        </p:blipFill>
        <p:spPr>
          <a:xfrm>
            <a:off x="3851280" y="4149720"/>
            <a:ext cx="4968720" cy="248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ализация проек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имательно рассмотрев фотографии павлина было принято решение покрасить созданный макет в цвет, близкий к естественной окраске птиц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DSC_1022_"/>
          <p:cNvPicPr/>
          <p:nvPr/>
        </p:nvPicPr>
        <p:blipFill>
          <a:blip r:embed="rId1"/>
          <a:stretch/>
        </p:blipFill>
        <p:spPr>
          <a:xfrm>
            <a:off x="2556000" y="3645000"/>
            <a:ext cx="4459320" cy="29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DSC_1023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Проблема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коло старой школьной мастерской есть пустующая территория, которая постепенно стала превращаться в свал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DSC_1001"/>
          <p:cNvPicPr/>
          <p:nvPr/>
        </p:nvPicPr>
        <p:blipFill>
          <a:blip r:embed="rId1"/>
          <a:stretch/>
        </p:blipFill>
        <p:spPr>
          <a:xfrm>
            <a:off x="2627280" y="3284640"/>
            <a:ext cx="4789440" cy="320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Цель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агородить пустующий участок земли, создав на нём необычную композиц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DSCF2007"/>
          <p:cNvPicPr/>
          <p:nvPr/>
        </p:nvPicPr>
        <p:blipFill>
          <a:blip r:embed="rId1"/>
          <a:stretch/>
        </p:blipFill>
        <p:spPr>
          <a:xfrm>
            <a:off x="539640" y="3284640"/>
            <a:ext cx="3888000" cy="2643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DSCF2013"/>
          <p:cNvPicPr/>
          <p:nvPr/>
        </p:nvPicPr>
        <p:blipFill>
          <a:blip r:embed="rId2"/>
          <a:stretch/>
        </p:blipFill>
        <p:spPr>
          <a:xfrm>
            <a:off x="4716360" y="3284640"/>
            <a:ext cx="3961080" cy="266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Задачи проек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ахать пустующий участок, сделав его пригодным для посадки цве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ть клумбу, придав ей необычную форм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думать размещение цветов разных видов и сортов, разных оттенк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Планирование результатов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ть клумбу в виде хвоста павлина и сделать самого павлина из подручного матери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6" descr="DSCF2016"/>
          <p:cNvPicPr/>
          <p:nvPr/>
        </p:nvPicPr>
        <p:blipFill>
          <a:blip r:embed="rId1"/>
          <a:stretch/>
        </p:blipFill>
        <p:spPr>
          <a:xfrm>
            <a:off x="468360" y="3284640"/>
            <a:ext cx="4043160" cy="25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DSCF2014"/>
          <p:cNvPicPr/>
          <p:nvPr/>
        </p:nvPicPr>
        <p:blipFill>
          <a:blip r:embed="rId2"/>
          <a:stretch/>
        </p:blipFill>
        <p:spPr>
          <a:xfrm>
            <a:off x="4572000" y="3284640"/>
            <a:ext cx="4105440" cy="251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ализация проек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реализации проекта принимали участие учащиеся и педагоги МКОУ СОШ с УИОП п.Фален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DSCF2005"/>
          <p:cNvPicPr/>
          <p:nvPr/>
        </p:nvPicPr>
        <p:blipFill>
          <a:blip r:embed="rId1"/>
          <a:stretch/>
        </p:blipFill>
        <p:spPr>
          <a:xfrm>
            <a:off x="395280" y="3429000"/>
            <a:ext cx="2879640" cy="2892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DSCF2004"/>
          <p:cNvPicPr/>
          <p:nvPr/>
        </p:nvPicPr>
        <p:blipFill>
          <a:blip r:embed="rId2"/>
          <a:stretch/>
        </p:blipFill>
        <p:spPr>
          <a:xfrm>
            <a:off x="2556000" y="3429000"/>
            <a:ext cx="1152360" cy="287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DSCF2019"/>
          <p:cNvPicPr/>
          <p:nvPr/>
        </p:nvPicPr>
        <p:blipFill>
          <a:blip r:embed="rId3"/>
          <a:stretch/>
        </p:blipFill>
        <p:spPr>
          <a:xfrm>
            <a:off x="3924360" y="3429000"/>
            <a:ext cx="4176720" cy="285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ализация проек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начала была разбита клумба в виде перьев хвоста павл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4" descr="DSCF2003"/>
          <p:cNvPicPr/>
          <p:nvPr/>
        </p:nvPicPr>
        <p:blipFill>
          <a:blip r:embed="rId1"/>
          <a:stretch/>
        </p:blipFill>
        <p:spPr>
          <a:xfrm>
            <a:off x="2484360" y="2565360"/>
            <a:ext cx="4024440" cy="41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ализация проек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 На каждое перо высажены цветы разных сортов и оттен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DSCF2003"/>
          <p:cNvPicPr/>
          <p:nvPr/>
        </p:nvPicPr>
        <p:blipFill>
          <a:blip r:embed="rId1"/>
          <a:stretch/>
        </p:blipFill>
        <p:spPr>
          <a:xfrm>
            <a:off x="971640" y="2708280"/>
            <a:ext cx="7200720" cy="331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9440" y="34560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ализация проек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 Изготовление павлин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уловище сделано из старой алюминиевой фляги, которую закопали в землю под углом, чтобы создать впечатление, что павлин распустил свой хвост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4" descr="DSCF2003"/>
          <p:cNvPicPr/>
          <p:nvPr/>
        </p:nvPicPr>
        <p:blipFill>
          <a:blip r:embed="rId1"/>
          <a:stretch/>
        </p:blipFill>
        <p:spPr>
          <a:xfrm>
            <a:off x="3203640" y="4076640"/>
            <a:ext cx="5113440" cy="256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6T06:34:40Z</dcterms:created>
  <dc:creator>Администратор</dc:creator>
  <dc:description/>
  <dc:language>en-US</dc:language>
  <cp:lastModifiedBy>Kataeva-OYu</cp:lastModifiedBy>
  <dcterms:modified xsi:type="dcterms:W3CDTF">2014-01-24T10:18:05Z</dcterms:modified>
  <cp:revision>21</cp:revision>
  <dc:subject/>
  <dc:title>Чудо - клумба</dc:title>
</cp:coreProperties>
</file>