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E19F18-6B0B-445A-8BD2-995542ECE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E788246-5AB0-47C7-87CE-DE280DCAD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E1E2CF7-D233-4608-A5D4-1BE02522F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0777F63-7923-49C2-B9B3-F0E7B6D03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CB4E0-5589-489A-8F10-3E0B05E2C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F2663-BD98-45A3-BA2D-60A54488B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DAB43-F948-4844-9436-7BA3D088A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6CF9E-2A26-4985-B435-B5C3AC338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7A50-1CF5-4687-B220-EDFF8F2B6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731C6-740E-41D8-8A6D-59780C7DB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F4DAF-3BC6-462E-83E2-1190F3B6F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FECA67-7F36-4CC1-BECB-A1867CDF8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9F554-CF57-4143-A83C-3ECE5FD42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528E-4FC5-46C7-AFCA-C2F384664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9ED38-43B8-4A1D-9244-2FAAF3270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60996-DD68-4E4F-B425-71750E050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1FC02-089A-4338-B8DB-6569D436B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7DF2DA-2270-4E40-BFB8-CC41F9048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936E6F-DB32-4710-AC58-B53B59DA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B5B8962-CC35-4E04-9133-8D715334C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55B127-0534-45CB-AA6B-7B20DC4B9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CF6880-35AD-4405-9D81-2DF442B4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2F600D-F997-4D68-8471-C977F318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A265DD3-471E-4C93-867A-7346AECED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8C39-844B-4592-AE89-30B4BFA7318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68A9-963F-4238-9709-C1A13802A69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Der Hurrikan «Katrina»</a:t>
            </a:r>
            <a:endParaRPr b="1" lang="en-US" sz="60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0_64a8b_40fa5068_XL"/>
          <p:cNvPicPr/>
          <p:nvPr/>
        </p:nvPicPr>
        <p:blipFill>
          <a:blip r:embed="rId1"/>
          <a:stretch/>
        </p:blipFill>
        <p:spPr>
          <a:xfrm>
            <a:off x="395280" y="476280"/>
            <a:ext cx="8453520" cy="59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stixiya_67"/>
          <p:cNvPicPr/>
          <p:nvPr/>
        </p:nvPicPr>
        <p:blipFill>
          <a:blip r:embed="rId1"/>
          <a:stretch/>
        </p:blipFill>
        <p:spPr>
          <a:xfrm>
            <a:off x="324000" y="476280"/>
            <a:ext cx="8424720" cy="585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Kriminalität</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15" name="PlaceHolder 2"/>
          <p:cNvSpPr>
            <a:spLocks noGrp="1"/>
          </p:cNvSpPr>
          <p:nvPr>
            <p:ph/>
          </p:nvPr>
        </p:nvSpPr>
        <p:spPr>
          <a:xfrm>
            <a:off x="468360" y="1241280"/>
            <a:ext cx="8229600" cy="561672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30. August-Senders CNN berichtete über die Masse der </a:t>
            </a:r>
            <a:r>
              <a:rPr b="0" lang="en-US" sz="2400" spc="-1" strike="noStrike">
                <a:solidFill>
                  <a:srgbClr val="ffffff"/>
                </a:solidFill>
                <a:latin typeface="Garamond"/>
              </a:rPr>
              <a:t>M</a:t>
            </a:r>
            <a:r>
              <a:rPr b="0" lang="ru-RU" sz="2400" spc="-1" strike="noStrike">
                <a:solidFill>
                  <a:srgbClr val="ffffff"/>
                </a:solidFill>
                <a:latin typeface="Garamond"/>
              </a:rPr>
              <a:t>arodierenden in der Stadt. Laut dem Fernsehsender «Hunderte und Hunderte von Menschen» im Bereich der Canal Street und an der Grenze «Französischen Viertel» der Krach der Glas-Shops, womit von Ihnen waren.</a:t>
            </a:r>
            <a:br>
              <a:rPr sz="2400"/>
            </a:br>
            <a:r>
              <a:rPr b="0" lang="ru-RU" sz="2400" spc="-1" strike="noStrike">
                <a:solidFill>
                  <a:srgbClr val="ffffff"/>
                </a:solidFill>
                <a:latin typeface="Garamond"/>
              </a:rPr>
              <a:t>1. September berichteten die Medien über den Beschuss aus dem städtischen Krankenhaus. Laut dem Arzt, Krankenhaus, mehrere Male wurde geschält. Das Schießen wurde in dem Moment, als wurde die Beladung der Patienten für den Transport, die zuvor wurden gefeuert Boote mit перевозимыми Kranken, von denen der eine auf den Kopf gestellt.</a:t>
            </a:r>
            <a:br>
              <a:rPr sz="2400"/>
            </a:br>
            <a:r>
              <a:rPr b="0" lang="ru-RU" sz="2400" spc="-1" strike="noStrike">
                <a:solidFill>
                  <a:srgbClr val="ffffff"/>
                </a:solidFill>
                <a:latin typeface="Garamond"/>
              </a:rPr>
              <a:t>1. September Vertreter der Federal Emergency Management agency der USA, sagte über die vorübergehende Beendigung der Rettung in Verbindung mit kriminellen посягательствами. Laut einem Sprecher der Küstenwache als Rettungsschwimmer vermeiden besuchen Bereiche, wo hörbar Schieß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Schaden</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Der wirtschaftliche Schaden belief sich auf $125 Milliarden (Schätzung, 2007)</a:t>
            </a:r>
            <a:br>
              <a:rPr sz="3200"/>
            </a:br>
            <a:r>
              <a:rPr b="0" lang="ru-RU" sz="3200" spc="-1" strike="noStrike">
                <a:solidFill>
                  <a:srgbClr val="ffffff"/>
                </a:solidFill>
                <a:latin typeface="Garamond"/>
              </a:rPr>
              <a:t>Auf die Wiederherstellung der betroffenen Gebieten der US-Kongress vereinzelt 110 Milliarden Dollar. Stand : August 2006 mehr als 100 Millionen Familien wohnten in den Trailern, die in Zusammenhang mit dem Verlust der Wohnung.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Aktionen der Behörden</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19" name="PlaceHolder 2"/>
          <p:cNvSpPr>
            <a:spLocks noGrp="1"/>
          </p:cNvSpPr>
          <p:nvPr>
            <p:ph/>
          </p:nvPr>
        </p:nvSpPr>
        <p:spPr>
          <a:xfrm>
            <a:off x="468360" y="981000"/>
            <a:ext cx="8229600" cy="56167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Am 8. September in Rettungsaktion im Katastrophengebiet an, 43 Tausende von Kämpfern der National Guard USA, 4 tausend Angestellte der Küstenwache und etwa 15 Millionen Soldaten der regulären Armee.</a:t>
            </a:r>
            <a:br>
              <a:rPr sz="2400"/>
            </a:br>
            <a:r>
              <a:rPr b="0" lang="ru-RU" sz="2400" spc="-1" strike="noStrike">
                <a:solidFill>
                  <a:srgbClr val="ffffff"/>
                </a:solidFill>
                <a:latin typeface="Garamond"/>
              </a:rPr>
              <a:t>Aktionen Vertretern der Regierungen kritisiert worden. Der Senator von Louisiana, Senator David Vitter legte die niedrigste Schätzung der Bush-Administration für die Bemühungen der Regierung, die Beseitigung der Folgen der Katastrophe. US-amerikanischer Filmemacher und Aktivist Michael Moore im September 2005 in einem offenen Brief beschuldigt der Führung des Landes in der Reduzierung der Kosten für Engineering-Truppen, die, seiner Meinung nach, führte zu schweren Folgen. Im Jahr 2006 rund 60 Prozent der US-Bürger, die laut Umfragen mit Pessimismus bewerteten die Fähigkeit der Behörden widerstehen natürlichen Katastroph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691920"/>
            <a:ext cx="8507160" cy="499716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Der Hurrikan «Katrina» - der verheerende Hurrikan in der Geschichte der USA. Es war ein Hurrikan der Kategorie 5 auf der Skala der Hurrikan-Саффира-Simpson, der sechste in der Kraft der Hurrikan der Atlantischen Becken für die ganze Geschichte. Ereignete sich Ende August 2005. Die schweren Schaden die Neuen EW Orleans in Louisiana, wo unter Wasser sich etwa 80 % der Fläche der Stadt. In Folge der Naturkatastrophe umgekommen 1836 Einwohner, der wirtschaftliche Schaden belief sich auf $125 Mrd.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katrina"/>
          <p:cNvPicPr/>
          <p:nvPr/>
        </p:nvPicPr>
        <p:blipFill>
          <a:blip r:embed="rId1"/>
          <a:stretch/>
        </p:blipFill>
        <p:spPr>
          <a:xfrm>
            <a:off x="0" y="404640"/>
            <a:ext cx="9144000" cy="612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Meteorologische Geschichte</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a:t>
            </a:r>
            <a:r>
              <a:rPr b="0" lang="ru-RU" sz="2800" spc="-1" strike="noStrike">
                <a:solidFill>
                  <a:srgbClr val="ffffff"/>
                </a:solidFill>
                <a:latin typeface="Garamond"/>
              </a:rPr>
              <a:t>urrikan begann sich zu Formen 23. August in der Gegend von den Bahamas. Bevor der Hurrikan erreichte der US-Küste, der ihm zugewiesen wurde die 5. Stufe der Gefahr der Hurrikan-Skala Саффира-Simpson. Etwa 12 Stunden vor der Sitzung der Küste Hurrikan schwächte bis Niveau der 4. Kategorie. Windgeschwindigkeit während der Hurrikan erreicht 280 km/h. 27. August 2005 der Hurrikan ging an der Küste von Florida in der Nähe von Miami und drehte sich in Richtung des Golfs von Mexik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Vorbereitung</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6" name="PlaceHolder 2"/>
          <p:cNvSpPr>
            <a:spLocks noGrp="1"/>
          </p:cNvSpPr>
          <p:nvPr>
            <p:ph/>
          </p:nvPr>
        </p:nvSpPr>
        <p:spPr>
          <a:xfrm>
            <a:off x="0" y="907560"/>
            <a:ext cx="9144000" cy="568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ru-RU" sz="2000" spc="-1" strike="noStrike">
                <a:solidFill>
                  <a:srgbClr val="ffffff"/>
                </a:solidFill>
                <a:latin typeface="Garamond"/>
              </a:rPr>
              <a:t>Bei der Förderung der Hurrikan auf den Golf von Mexiko die Evakuierung der Mitarbeiter mit öl-Plattformen. Mit Militärbasen in Mississippi und Florida wurden evakuiert Flugzeuge, die beiden Schiffe verlassen den Hafen.[4] US-Präsident George W. Bush angekündigt, Staaten Louisiana, Mississippi, Alabama und Florida Wohnbereich Katastrophe.</a:t>
            </a:r>
            <a:br>
              <a:rPr sz="2000"/>
            </a:br>
            <a:r>
              <a:rPr b="0" lang="ru-RU" sz="2000" spc="-1" strike="noStrike">
                <a:solidFill>
                  <a:srgbClr val="ffffff"/>
                </a:solidFill>
                <a:latin typeface="Garamond"/>
              </a:rPr>
              <a:t>Am Sonntag, 28. August 2005 der Bürgermeister von New Orleans angekündigt verbindlich zu evakuieren. Massen-Evakuierung der Menschen verursachte große Staus auf den Autobahnen. Die Stadt und Ihre Umgebung verlassen mehr als eine Million Menschen, die etwa 80 % der lokalen Bevölkerung. Vor den Geschäften und автозаправочными Stationen gefüttert lange Warteschlangen. Flüchtlinge versuchten, tanken, Wasser, Lebensmittel und Benzin.</a:t>
            </a:r>
            <a:br>
              <a:rPr sz="2000"/>
            </a:br>
            <a:r>
              <a:rPr b="0" lang="ru-RU" sz="2000" spc="-1" strike="noStrike">
                <a:solidFill>
                  <a:srgbClr val="ffffff"/>
                </a:solidFill>
                <a:latin typeface="Garamond"/>
              </a:rPr>
              <a:t>Jedoch sind nicht alle Bewohner waren in der Lage, zu evakuieren. Zehntausende von Städter lebten unterhalb der Armutsgrenze und haben Bargeld auf der Straße, Hotels. Öffentliche Verkehrsmittel aufgehört zu arbeiten, und die Stadt zu verlassen, ohne ein eigenes Auto war extrem schwierig. In New Orleans verlassen etwa 150 tausend Personen, vorwiegend Bewohner der ärmsten Regionen. 28. August die Stadtverwaltung vorgeschlagen, die noch in der Stadt als Zuflucht für innen-Stadion «Superdome»</a:t>
            </a:r>
            <a:r>
              <a:rPr b="0" lang="en-US" sz="2000" spc="-1" strike="noStrike">
                <a:solidFill>
                  <a:srgbClr val="ffffff"/>
                </a:solidFill>
                <a:latin typeface="Garamond"/>
              </a:rPr>
              <a:t> </a:t>
            </a:r>
            <a:r>
              <a:rPr b="0" lang="ru-RU" sz="2000" spc="-1" strike="noStrike">
                <a:solidFill>
                  <a:srgbClr val="ffffff"/>
                </a:solidFill>
                <a:latin typeface="Garamond"/>
              </a:rPr>
              <a:t>erreichen. Asyl in «Superdome» gesucht haben etwa 30 Millionen Mensche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katrina-superdomo"/>
          <p:cNvPicPr/>
          <p:nvPr/>
        </p:nvPicPr>
        <p:blipFill>
          <a:blip r:embed="rId1"/>
          <a:stretch/>
        </p:blipFill>
        <p:spPr>
          <a:xfrm>
            <a:off x="250920" y="692280"/>
            <a:ext cx="8642160" cy="540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a:t>
            </a:r>
            <a:r>
              <a:rPr b="0" lang="ru-RU" sz="4400" spc="-1" strike="noStrike">
                <a:solidFill>
                  <a:srgbClr val="e5e5ff"/>
                </a:solidFill>
                <a:latin typeface="Garamond"/>
              </a:rPr>
              <a:t>olgen</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Am Montag, den 29. August 2005 der Hurrikan «Katrina» erreicht Süd-Ost-Küste der USA in der Gegend Staaten Louisiana und Mississippi. In der Zone der Action-Hit-Bundesstaat Louisiana, der Süden und die Mitte Mississippi, South Alabama, West Georgia, Westen und Süden von Flori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9640" y="475920"/>
            <a:ext cx="8229600" cy="583236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Louisiana</a:t>
            </a:r>
            <a:br>
              <a:rPr sz="2800"/>
            </a:br>
            <a:r>
              <a:rPr b="0" lang="ru-RU" sz="2800" spc="-1" strike="noStrike">
                <a:solidFill>
                  <a:srgbClr val="ffffff"/>
                </a:solidFill>
                <a:latin typeface="Garamond"/>
              </a:rPr>
              <a:t>70% - Orleans liegt unter dem Meeresspiegel, die Stadt ist von drei Seiten von Wasser umgeben: Golf von Mexiko, der Mississippi. 29 August Damm, denen wurde durch New Orleans, waren прорванными in mehreren Orten. Begann die überflutung der Stadt und die Küste. Dach«, » beschädigt wurde der stärkste wind. Die Rettung von Menschen aus überfluteten Gebieten wurden mit Hilfe von Booten und Hubschraubern.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Mississippi</a:t>
            </a:r>
            <a:br>
              <a:rPr sz="2800"/>
            </a:br>
            <a:r>
              <a:rPr b="0" lang="ru-RU" sz="2800" spc="-1" strike="noStrike">
                <a:solidFill>
                  <a:srgbClr val="ffffff"/>
                </a:solidFill>
                <a:latin typeface="Garamond"/>
              </a:rPr>
              <a:t>In den Küstenregionen des Mississippi waren überflutet, kleine Siedlung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476280"/>
            <a:ext cx="8229600" cy="564984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Andere</a:t>
            </a:r>
            <a:br>
              <a:rPr sz="2400"/>
            </a:br>
            <a:r>
              <a:rPr b="0" lang="ru-RU" sz="2400" spc="-1" strike="noStrike">
                <a:solidFill>
                  <a:srgbClr val="ffffff"/>
                </a:solidFill>
                <a:latin typeface="Garamond"/>
              </a:rPr>
              <a:t>800 Millionen Menschen waren ohne Strom-und Telefonanschluss.</a:t>
            </a:r>
            <a:br>
              <a:rPr sz="2400"/>
            </a:br>
            <a:r>
              <a:rPr b="0" lang="ru-RU" sz="2400" spc="-1" strike="noStrike">
                <a:solidFill>
                  <a:srgbClr val="ffffff"/>
                </a:solidFill>
                <a:latin typeface="Garamond"/>
              </a:rPr>
              <a:t>Die offiziell bestätigte Zahl der Opfer von Betrug 1407 Mann, der späteren Angaben 1600, davon mehr als 720 - in New Orleans; darüber hinaus Dezember 2005 47 Personen werden vermisst . Während der Durchführung der Rettungsmaßnahmen (September 2005) waren Ausdruck Annahmen über die vielen tausenden oder Zehntausenden von opfern, aber Sie wurden nicht bestätigt.</a:t>
            </a:r>
            <a:br>
              <a:rPr sz="2400"/>
            </a:br>
            <a:r>
              <a:rPr b="0" lang="ru-RU" sz="2400" spc="-1" strike="noStrike">
                <a:solidFill>
                  <a:srgbClr val="ffffff"/>
                </a:solidFill>
                <a:latin typeface="Garamond"/>
              </a:rPr>
              <a:t>Laut einer Umfrage der amerikanischen Zeitschrift Newsweek, nur 38 % der Befragten haben die Absatzförderung von Bush und seiner Administration und wie Sie bewältigt mit den Auswirkungen der Elemente. Nach den Ergebnissen der Umfrage, die im September 2005 Pew Research Center Zustimmung der Bush-Betrug 40 Prozen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7T12:10:52Z</dcterms:created>
  <dc:creator>USER</dc:creator>
  <dc:description/>
  <dc:language>en-US</dc:language>
  <cp:lastModifiedBy>user</cp:lastModifiedBy>
  <dcterms:modified xsi:type="dcterms:W3CDTF">2013-02-20T02:27:04Z</dcterms:modified>
  <cp:revision>4</cp:revision>
  <dc:subject/>
  <dc:title>Der Hurrikan «Katrina»</dc:title>
</cp:coreProperties>
</file>