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740-428E-400D-A433-C86C3E26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21D-2A9B-4C22-87AA-B5CCBC78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9A6-33B9-4B95-A082-5C1E267F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3B9-080F-4FEA-9D96-53BB5435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7DA-3DB3-4902-801A-417CFBD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771-93F9-4015-92EA-EE22FC3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A35-1E45-4072-978B-AA6A343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328-0826-41D1-9C83-13DA6A9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B6E-2D1D-45C6-B9CE-F5B4F3C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F4C-E0AF-4A92-833B-E1A255C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26A-D892-457D-8DF9-EA6B66F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EAA-E537-49D8-A625-50A3A87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2352-6113-4EF6-B0B3-7BC2F14506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60727/60727_800x532__1.jpg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1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image" Target="../media/image78.jpeg"/><Relationship Id="rId13" Type="http://schemas.openxmlformats.org/officeDocument/2006/relationships/image" Target="../media/image79.jpe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51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4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jpeg"/><Relationship Id="rId6" Type="http://schemas.openxmlformats.org/officeDocument/2006/relationships/image" Target="../media/image104.jpeg"/><Relationship Id="rId7" Type="http://schemas.openxmlformats.org/officeDocument/2006/relationships/image" Target="../media/image10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?lr=47&amp;source=wiz" TargetMode="External"/><Relationship Id="rId2" Type="http://schemas.openxmlformats.org/officeDocument/2006/relationships/hyperlink" Target="http://images.yandex.ru/?lr=47&amp;source=wiz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57120" y="214200"/>
            <a:ext cx="807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дактические игры и задания на развитие лексико-грамматических категор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дошкольников с нарушением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что умеет делать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опед предлагает детям картинки с изображением различных профессий. Дети называют кто и что дел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9STFMCADRM46TCAB5XRGFCACMAZ7DCAYKPFAOCAR5UTIHCA3PBOXECA0NYIVZCA2HHO9ECA6LYN82CAMEGUEMCA3J7A8KCAL76B8DCAHQM0OMCA2W4JJOCAV9UMNUCABEE9T6CAWQLG1KCA2497PZ"/>
          <p:cNvPicPr/>
          <p:nvPr/>
        </p:nvPicPr>
        <p:blipFill>
          <a:blip r:embed="rId1"/>
          <a:stretch/>
        </p:blipFill>
        <p:spPr>
          <a:xfrm>
            <a:off x="539640" y="2565360"/>
            <a:ext cx="273708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KPKECA2Y23BPCAH598KLCARV0HIXCA38BH5ZCA6PL6CVCAPHNY4TCAKF9TTDCALG7TABCA5R1FJ6CA1B16EDCAVR5J04CAB1D3HSCAON48YRCAJGJBG7CA61Z9EYCAU4OKBECADHKNZWCAOHY9L2"/>
          <p:cNvPicPr/>
          <p:nvPr/>
        </p:nvPicPr>
        <p:blipFill>
          <a:blip r:embed="rId2"/>
          <a:stretch/>
        </p:blipFill>
        <p:spPr>
          <a:xfrm rot="345600">
            <a:off x="3276720" y="2637000"/>
            <a:ext cx="28098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L25LRCA3FC9ELCAW01W0MCAV23F4OCAUB5V0KCAAXXQTQCAQALJWQCA0RMHIECAN7VGZXCA9PVGUHCAYBO7DSCAXNH13ECAH6PDP0CA9780A0CAWOUKNCCA1V58A4CAEV9AH4CAKOBJQHCA8X1CEQ"/>
          <p:cNvPicPr/>
          <p:nvPr/>
        </p:nvPicPr>
        <p:blipFill>
          <a:blip r:embed="rId3"/>
          <a:stretch/>
        </p:blipFill>
        <p:spPr>
          <a:xfrm rot="1012800">
            <a:off x="5866920" y="2923920"/>
            <a:ext cx="26640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NV7JQCAJUYNEGCAQCQ5VICAX3V6JKCA037GCPCACKWCZOCAJC429CCA05WSV9CAQC30LSCA9T6SRICAVDE89LCAKNT2A8CAWWJVJQCATVH5URCAKJX7K4CAHU6ZNRCA5QYN4VCANZ2E8DCA4KAUYT"/>
          <p:cNvPicPr/>
          <p:nvPr/>
        </p:nvPicPr>
        <p:blipFill>
          <a:blip r:embed="rId1"/>
          <a:stretch/>
        </p:blipFill>
        <p:spPr>
          <a:xfrm>
            <a:off x="611280" y="981000"/>
            <a:ext cx="230508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OVNIRCASXTXN3CAK3TIPYCA0KZ67DCA9S8DXCCA8RUCEXCAOTVZNECAF8LI08CAJAVQQ0CAOB5JGDCAYS1PBYCAPCOMCWCA5OHK2SCAVYZ0NDCAG30J18CAF1KXCPCA2S4TLNCAB2Z77CCA7BYGCH"/>
          <p:cNvPicPr/>
          <p:nvPr/>
        </p:nvPicPr>
        <p:blipFill>
          <a:blip r:embed="rId2"/>
          <a:stretch/>
        </p:blipFill>
        <p:spPr>
          <a:xfrm>
            <a:off x="2340000" y="3141720"/>
            <a:ext cx="230508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T3ERNCA17TM6ECAU5W1CACA9VNN6SCA15NSX2CA4TTYZ8CAP6CMWZCA38AFZ1CAS9YCU5CANS2HZRCAA74059CA3DLOVSCAFJ0ML3CAN5LJEBCACDXTOTCAH4KJCMCANBP4ACCARTHBKSCAQ5NT8Q"/>
          <p:cNvPicPr/>
          <p:nvPr/>
        </p:nvPicPr>
        <p:blipFill>
          <a:blip r:embed="rId3"/>
          <a:stretch/>
        </p:blipFill>
        <p:spPr>
          <a:xfrm>
            <a:off x="6443640" y="981000"/>
            <a:ext cx="223848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T883OCAQUHAM9CAU1W1WACAO8T89XCAGPC7VVCAR50DPGCAPX9TPLCAEZDH0TCALCMOW2CADL62Z0CAVZJGHDCAWA8SUYCAKBC6JZCAI3D0VXCAMX18FXCAJF3JL3CAM3L1ZVCAKENPLTCA98XK81"/>
          <p:cNvPicPr/>
          <p:nvPr/>
        </p:nvPicPr>
        <p:blipFill>
          <a:blip r:embed="rId4"/>
          <a:stretch/>
        </p:blipFill>
        <p:spPr>
          <a:xfrm rot="20098800">
            <a:off x="5072040" y="3260520"/>
            <a:ext cx="237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адания и игровые упражнения по закреплению словообразования существительны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«Что для чего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CCR4ZCAX0PWHXCAZJ368PCA6P1NURCAZE16CLCA0O7PW1CANJWRYBCA4LWUATCASA7Z0BCA1SDSOOCA0MV2RECAOQL03ACACSFNGTCAIOA1RPCAE51DZNCAA520IZCAXB8XOQCA8RLYTNCABVPDQP"/>
          <p:cNvPicPr/>
          <p:nvPr/>
        </p:nvPicPr>
        <p:blipFill>
          <a:blip r:embed="rId1"/>
          <a:stretch/>
        </p:blipFill>
        <p:spPr>
          <a:xfrm>
            <a:off x="971640" y="1989000"/>
            <a:ext cx="2520720" cy="192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JWET9CAQ2979SCAOBVBLUCATIW4WOCAK2ZKC7CA57BD0DCA6GO0HJCACN6NIQCA9C4FLKCA39QXC8CA624OM3CAYPBTR8CATK5CQJCAPSJHDWCAL59USGCAVXOIOTCAL6P39BCA128U27CAC0FO9K"/>
          <p:cNvPicPr/>
          <p:nvPr/>
        </p:nvPicPr>
        <p:blipFill>
          <a:blip r:embed="rId2"/>
          <a:stretch/>
        </p:blipFill>
        <p:spPr>
          <a:xfrm>
            <a:off x="4788000" y="458136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KPJ4PCASFBWKKCABVD70BCA67GEHFCAD4KWI8CA714ETCCAY7Y32ZCA897EONCAMTT2F1CAXXEUNDCATAKIERCAVIK2S5CAKKF43DCA4MGDNKCANO3FT1CARF38IPCA3QS1IACASBN2S3CAVVTPTK"/>
          <p:cNvPicPr/>
          <p:nvPr/>
        </p:nvPicPr>
        <p:blipFill>
          <a:blip r:embed="rId3"/>
          <a:stretch/>
        </p:blipFill>
        <p:spPr>
          <a:xfrm>
            <a:off x="4788000" y="1989000"/>
            <a:ext cx="23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NEGGLCAQVJ4O6CA25PK2MCAGDMV2XCA7ASG3MCA8ZJ91MCAUV50NFCATITILYCARX5F8NCAYIORSQCAYOHU0ACAVWYF0GCA4R3VPQCAAKWQPOCA3T3C3MCAVJA2YLCAYPN9MOCAJTQMWSCADRHK1Y"/>
          <p:cNvPicPr/>
          <p:nvPr/>
        </p:nvPicPr>
        <p:blipFill>
          <a:blip r:embed="rId4"/>
          <a:stretch/>
        </p:blipFill>
        <p:spPr>
          <a:xfrm>
            <a:off x="971640" y="4581360"/>
            <a:ext cx="2520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3887TCAXZ9F5WCAJR9KV8CAKF74GPCA83FY2CCAGB7LG8CAOU9QY0CA1LDJMOCAGK45BACARCFKZWCA5YG274CAUCP2I4CAW1710GCAEFYX36CAX9RQB9CAUKVW3UCAYQUI8YCAQVJ5HJCAQ3TF1G"/>
          <p:cNvPicPr/>
          <p:nvPr/>
        </p:nvPicPr>
        <p:blipFill>
          <a:blip r:embed="rId1"/>
          <a:stretch/>
        </p:blipFill>
        <p:spPr>
          <a:xfrm>
            <a:off x="755640" y="76500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UY0LCAXEC9VTCAIFGOWRCARLOSSRCA997G1DCANW7ER3CAHB0FDJCAKY6Y5FCA31CKD9CAX62ZY2CA91STRLCAKSD9EECA4QHEMVCAA4VK8DCASBYMPZCAAOS044CAENQD8KCASI1MZPCAJ6XTCJ"/>
          <p:cNvPicPr/>
          <p:nvPr/>
        </p:nvPicPr>
        <p:blipFill>
          <a:blip r:embed="rId2"/>
          <a:stretch/>
        </p:blipFill>
        <p:spPr>
          <a:xfrm>
            <a:off x="755640" y="3284640"/>
            <a:ext cx="2233800" cy="205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KMAMCAKNPPWCCAIEVY5DCAMCS2PPCA8WU6JKCAM28XJMCA7GEYLZCANNWX9ICASJCF1TCA7N49E0CAVAZXSBCA3G2PUKCAY7XPRCCAVUERB4CAV7LULICAHALDT1CAOE8TXKCA9CV5ACCAUEX8Y4"/>
          <p:cNvPicPr/>
          <p:nvPr/>
        </p:nvPicPr>
        <p:blipFill>
          <a:blip r:embed="rId3"/>
          <a:stretch/>
        </p:blipFill>
        <p:spPr>
          <a:xfrm>
            <a:off x="4932360" y="76500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XJC2VCAEKFWK6CAE6G4D4CA4G8LDACA552VW4CAEPXNYKCAQ1H6WVCAW6IH9BCA3QB3BJCA9L0ZIUCAO1HTIRCANS72TNCA03YVWMCATCSO0GCA995KOGCATTMGQ8CANESCKGCAUQQ5PMCAL621IE"/>
          <p:cNvPicPr/>
          <p:nvPr/>
        </p:nvPicPr>
        <p:blipFill>
          <a:blip r:embed="rId4"/>
          <a:stretch/>
        </p:blipFill>
        <p:spPr>
          <a:xfrm>
            <a:off x="4859280" y="3284640"/>
            <a:ext cx="237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Задания и игровые упражнения по закреплению словообразования прилагательных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в лото «Что из чего сделано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6W0ICCAINRPXYCATG45SCCA3O0KE1CA4S6LQGCAO741DXCAJ71CCZCA5K5NXZCAU608AVCAOIDBGDCAN8GKGTCA0XLVB7CAQW2KQHCAUMOKILCAFZQ1VCCATBEZLVCAJZGQ5LCACBKWFCCAFAGJTI"/>
          <p:cNvPicPr/>
          <p:nvPr/>
        </p:nvPicPr>
        <p:blipFill>
          <a:blip r:embed="rId1"/>
          <a:stretch/>
        </p:blipFill>
        <p:spPr>
          <a:xfrm>
            <a:off x="1332000" y="2492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E24PGCAISJ211CAFRJI08CA8PSA4TCA9IXBUNCA4K3E2ICAG00BCZCAAB7QU7CABKPHB1CARNMUGBCAUO96YPCAGCM5H7CAKTZO6LCA3S376FCABYHNRECAIKSQDICAZ8J8RTCAJ3NZNYCA1W3XXZ"/>
          <p:cNvPicPr/>
          <p:nvPr/>
        </p:nvPicPr>
        <p:blipFill>
          <a:blip r:embed="rId2"/>
          <a:stretch/>
        </p:blipFill>
        <p:spPr>
          <a:xfrm>
            <a:off x="2987640" y="2492280"/>
            <a:ext cx="208908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WHY7UCA399YQACA2OGW1UCACYBW61CA613P0UCAB18C2JCA4J551ECAO2JIKKCAH1PQRRCALA2J9DCAA8UP0CCAYRYHLCCASV27VGCAC0QU0ICAI13QZJCA0KZA0CCA9G8R5FCAK2GM1FCAH680Z6"/>
          <p:cNvPicPr/>
          <p:nvPr/>
        </p:nvPicPr>
        <p:blipFill>
          <a:blip r:embed="rId3"/>
          <a:stretch/>
        </p:blipFill>
        <p:spPr>
          <a:xfrm>
            <a:off x="1332000" y="4292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TUELBCA10BJICCAWXZK3WCAN4NW4HCAW4F5I0CA3HR615CAE4OA0SCAW4DP5ECAMPKJMJCAXFYHS5CAXCG5E7CA2U17BICACZM3CTCA14D4YDCA9KP8EYCA76Q599CAITMIJZCAIL5WN9CALD6DN1"/>
          <p:cNvPicPr/>
          <p:nvPr/>
        </p:nvPicPr>
        <p:blipFill>
          <a:blip r:embed="rId4"/>
          <a:stretch/>
        </p:blipFill>
        <p:spPr>
          <a:xfrm>
            <a:off x="2987640" y="4221000"/>
            <a:ext cx="2089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29HYYCA6SAGT6CASSVOIXCA2BCABCCAUQ570PCA58ELBXCAX1Y558CA94EM9ACA20ZS1TCADBNCW3CADQB1S6CAIRHLN7CA0YHAPYCA0RVH1GCA4D2JP0CA6QW5U8CACFYUG9CAMGWYNACATK4LOX"/>
          <p:cNvPicPr/>
          <p:nvPr/>
        </p:nvPicPr>
        <p:blipFill>
          <a:blip r:embed="rId1"/>
          <a:stretch/>
        </p:blipFill>
        <p:spPr>
          <a:xfrm>
            <a:off x="684360" y="62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70YF2CA3GG8Z5CANZZ0X9CA9CC8DSCAJ922KNCAUB56TQCAKO8BGWCAELVOG5CAA3MJN9CA5STG34CA8J0NCQCAQXZM60CADMX6DMCAD1NTOMCA0DUTEECADCMU3BCAIG6MG1CAR4SJB0CAFVJSU7"/>
          <p:cNvPicPr/>
          <p:nvPr/>
        </p:nvPicPr>
        <p:blipFill>
          <a:blip r:embed="rId2"/>
          <a:stretch/>
        </p:blipFill>
        <p:spPr>
          <a:xfrm>
            <a:off x="2556000" y="62064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RBRYCAVBM17HCA9IVZK8CABWGORDCAG8ULFTCAP1ZMCRCA4M0GWUCAQ7AIRQCALFNXVACA1D528DCA5O65FSCARKE21MCAJB59KJCA1RA3SNCA6NQNLMCASTVWQ3CA2X5CIKCAUVWZ2PCAH0HJMP"/>
          <p:cNvPicPr/>
          <p:nvPr/>
        </p:nvPicPr>
        <p:blipFill>
          <a:blip r:embed="rId3"/>
          <a:stretch/>
        </p:blipFill>
        <p:spPr>
          <a:xfrm>
            <a:off x="684360" y="2492280"/>
            <a:ext cx="1854000" cy="201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XGO4GCA6RIDTJCADQDQKYCAXGU0OOCA9E20K0CA4Y31SVCAKSRPCHCAS4R5U5CAH6M425CAIUZ32ACA4CK3L4CAFERB7GCA80YS07CACF9G5GCAHCY2JCCARWYN2ICA5L652WCAX7AP0LCAFRWP31"/>
          <p:cNvPicPr/>
          <p:nvPr/>
        </p:nvPicPr>
        <p:blipFill>
          <a:blip r:embed="rId4"/>
          <a:stretch/>
        </p:blipFill>
        <p:spPr>
          <a:xfrm>
            <a:off x="2484360" y="2349360"/>
            <a:ext cx="19051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80880"/>
            <a:ext cx="7689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абота с родственными словами</a:t>
            </a:r>
            <a:br>
              <a:rPr sz="32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одобрать слова «родственники» ( «Зима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Picture 9" descr="Картинка 59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421000"/>
            <a:ext cx="6480360" cy="3887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826920" y="1628640"/>
            <a:ext cx="90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варительно проводится беседа по картине «Зима»,а зат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бираются слова-родственники к слову «Зим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ормирование словоизмен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ния и игровые упражнения по закреплению словоизменения существительных, глаголов и прилагатель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868400" y="2292480"/>
            <a:ext cx="41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«Кто больше подберет слов?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2868480"/>
            <a:ext cx="97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опед предлагает детям назвать как можно больше слов, отвечая на вопро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можно шить? Что можно связать? Что можно завязывать? Что можно надеть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можно обуть? Что можно надеть на голов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0FS4CAO1R6RTCAAVFC9ZCASCVXSOCA3RWHFOCA6WRQN9CA64K13GCAIIBQ6TCAQ11Z5XCAAB4L56CA4NVS1GCABL4MHZCA4QR190CAM5XFE5CAABEDL2CA3855EHCAVKDME1CA933DAQCAM1V6Y5"/>
          <p:cNvPicPr/>
          <p:nvPr/>
        </p:nvPicPr>
        <p:blipFill>
          <a:blip r:embed="rId1"/>
          <a:stretch/>
        </p:blipFill>
        <p:spPr>
          <a:xfrm rot="19999800">
            <a:off x="2843280" y="1268280"/>
            <a:ext cx="2093760" cy="2305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U1FURCA30N09LCAZU1LOHCAHBXSBLCAO9VJCOCAQ7ES0RCAF3B1CDCAVAZ098CAHHJ5ZICAU9K8DCCARTOJ5QCAU59XOECA55VKXUCA4WA9MZCAM3V6Z4CAV21HO5CAQVVOURCAYMMDN9CATPJM3Q"/>
          <p:cNvPicPr/>
          <p:nvPr/>
        </p:nvPicPr>
        <p:blipFill>
          <a:blip r:embed="rId2"/>
          <a:stretch/>
        </p:blipFill>
        <p:spPr>
          <a:xfrm>
            <a:off x="611280" y="2852640"/>
            <a:ext cx="1985760" cy="237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90"/>
          <p:cNvPicPr/>
          <p:nvPr/>
        </p:nvPicPr>
        <p:blipFill>
          <a:blip r:embed="rId3"/>
          <a:stretch/>
        </p:blipFill>
        <p:spPr>
          <a:xfrm rot="1653600">
            <a:off x="3132000" y="3860640"/>
            <a:ext cx="207828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MJ7CCAMQQ2I5CA1EH9K0CABWYU1ZCA6FIG5NCANWMB0XCAWG4L9ZCA04BVC3CACR6V01CA2ECAOMCAVQB35WCAYFF3R5CABAC0NQCAQHT80YCAQXYGA7CABV053ACA6K7OE1CA2H305ECA7P9YQ0"/>
          <p:cNvPicPr/>
          <p:nvPr/>
        </p:nvPicPr>
        <p:blipFill>
          <a:blip r:embed="rId4"/>
          <a:stretch/>
        </p:blipFill>
        <p:spPr>
          <a:xfrm>
            <a:off x="900000" y="476280"/>
            <a:ext cx="19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RPSTCA14UJJHCAYGLLPDCA468SK1CAD4HXZECAH49ZFXCAMMWNUACA1N0EBACA7IYENZCADS79KXCA53G1GGCABQ208TCA8O0VYUCAM5BI3LCARX38GBCA1ZKASPCAA8A0IECAJ54VHYCA9KZRWC"/>
          <p:cNvPicPr/>
          <p:nvPr/>
        </p:nvPicPr>
        <p:blipFill>
          <a:blip r:embed="rId5"/>
          <a:stretch/>
        </p:blipFill>
        <p:spPr>
          <a:xfrm rot="20808000">
            <a:off x="5148000" y="1483920"/>
            <a:ext cx="2093760" cy="229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0"/>
          <p:cNvPicPr/>
          <p:nvPr/>
        </p:nvPicPr>
        <p:blipFill>
          <a:blip r:embed="rId6"/>
          <a:stretch/>
        </p:blipFill>
        <p:spPr>
          <a:xfrm rot="20655600">
            <a:off x="6156360" y="3715920"/>
            <a:ext cx="2089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72"/>
          <p:cNvPicPr/>
          <p:nvPr/>
        </p:nvPicPr>
        <p:blipFill>
          <a:blip r:embed="rId1"/>
          <a:stretch/>
        </p:blipFill>
        <p:spPr>
          <a:xfrm rot="20615400">
            <a:off x="539280" y="764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7_122_big"/>
          <p:cNvPicPr/>
          <p:nvPr/>
        </p:nvPicPr>
        <p:blipFill>
          <a:blip r:embed="rId2"/>
          <a:stretch/>
        </p:blipFill>
        <p:spPr>
          <a:xfrm>
            <a:off x="3203640" y="333360"/>
            <a:ext cx="230508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87XN0CA552VC0CAQR3P52CAR3AG63CA8S04U5CAZRTN5MCA51A087CADK1H2PCAOGZOWGCAPHFPORCA8OH69BCAGPI14UCAHXZ2ZFCAAXO4YOCA0UIBQZCAQBJVJCCALIF3T4CAX7J07VCA87AVSH"/>
          <p:cNvPicPr/>
          <p:nvPr/>
        </p:nvPicPr>
        <p:blipFill>
          <a:blip r:embed="rId3"/>
          <a:stretch/>
        </p:blipFill>
        <p:spPr>
          <a:xfrm rot="20549400">
            <a:off x="324000" y="393336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NFAECAJYA4LZCACAVIRHCAWCAN08CAVG2GKWCAR18FVJCACJRRUCCAWZZGRTCAX65LX0CAXWNJB4CAW47EYJCAF080KQCA1355WGCAZQQFVBCAEBA4S0CA296A40CADTZHZPCAWY20CDCA2H4YUH"/>
          <p:cNvPicPr/>
          <p:nvPr/>
        </p:nvPicPr>
        <p:blipFill>
          <a:blip r:embed="rId4"/>
          <a:stretch/>
        </p:blipFill>
        <p:spPr>
          <a:xfrm rot="1149000">
            <a:off x="6443640" y="333000"/>
            <a:ext cx="194472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LC2CCAVOK0LCCAY87I60CANI9J06CADC9MQCCA24M52RCA5TH8F5CAJNGALPCA04X2RWCA7466DPCAA19W47CAP211H7CAMFD1P1CAVENSS2CA51O0VOCAUVG68OCAK62AE7CACBOBRJCA90AI4M"/>
          <p:cNvPicPr/>
          <p:nvPr/>
        </p:nvPicPr>
        <p:blipFill>
          <a:blip r:embed="rId5"/>
          <a:stretch/>
        </p:blipFill>
        <p:spPr>
          <a:xfrm rot="20588400">
            <a:off x="2268360" y="2852280"/>
            <a:ext cx="1973520" cy="254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POODECAJ5LTMYCAPAQVRRCAZMCBK6CA6CQPQPCA6GYPCKCA37HGS0CASJP3MLCAGSBB1KCAJ0KFB5CA4F609ZCADYQU0CCA26VOXBCA9MLSNACAWJ11JTCA880YP5CAECZI7GCAGHIGK9CATBJJJ3"/>
          <p:cNvPicPr/>
          <p:nvPr/>
        </p:nvPicPr>
        <p:blipFill>
          <a:blip r:embed="rId6"/>
          <a:stretch/>
        </p:blipFill>
        <p:spPr>
          <a:xfrm>
            <a:off x="4500720" y="3284640"/>
            <a:ext cx="1935000" cy="261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PSE6QCA5061QUCANS11K1CA074UOSCA89E61OCAU4BZ28CA533B65CAM2UHZ9CA1ZA27MCA1UUO54CA9GGBM8CAKJ7V1RCA0ER5UNCA2RON6ICAGTPFJXCAQ9PD16CA7ECUF8CA3W3351CAFS48OM"/>
          <p:cNvPicPr/>
          <p:nvPr/>
        </p:nvPicPr>
        <p:blipFill>
          <a:blip r:embed="rId7"/>
          <a:stretch/>
        </p:blipFill>
        <p:spPr>
          <a:xfrm rot="1661400">
            <a:off x="6474960" y="3724200"/>
            <a:ext cx="1943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9" descr="VBEXBCAB2ZH3ECACD0Y8ICANH8VPGCA10QR4XCA7C203VCAB7WYR8CA2WEAX4CAGS9VLFCAQ98IEGCAGGN9AACAQ307AICA9U2ZK0CAVET36OCARTOU1PCAL2UBESCAO58M8CCAF9EF6JCAL2TEEB"/>
          <p:cNvPicPr/>
          <p:nvPr/>
        </p:nvPicPr>
        <p:blipFill>
          <a:blip r:embed="rId1"/>
          <a:stretch/>
        </p:blipFill>
        <p:spPr>
          <a:xfrm>
            <a:off x="3857760" y="214308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NA26MCAC0MRLMCAEEG7M0CAGYOI0HCAR6QL17CAE5U7LTCA46VMVACAHBXDMUCAAE8GHECACKN7ZXCAUVF8C0CAUK0RPPCAJD5VWBCA83LV9JCA4VMKFECA8RXRB6CA3AIMUVCAZ0IX5DCA5LN484"/>
          <p:cNvPicPr/>
          <p:nvPr/>
        </p:nvPicPr>
        <p:blipFill>
          <a:blip r:embed="rId2"/>
          <a:stretch/>
        </p:blipFill>
        <p:spPr>
          <a:xfrm>
            <a:off x="2050920" y="4076640"/>
            <a:ext cx="172908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O3IG5CAVFZVCUCA4WFI7JCA6NIY31CACFYYRGCAKISTB8CALHVBYHCADG5OVXCA3P88ZXCASFCWTRCAZB9J1FCA8VWFIRCA35ARO4CA5CCG9GCAE6JUZCCAFS3KLFCAF7J6BXCAEFC2RZCA352Y7X"/>
          <p:cNvPicPr/>
          <p:nvPr/>
        </p:nvPicPr>
        <p:blipFill>
          <a:blip r:embed="rId3"/>
          <a:stretch/>
        </p:blipFill>
        <p:spPr>
          <a:xfrm>
            <a:off x="179280" y="2133720"/>
            <a:ext cx="1670040" cy="171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YYDOMCAEX9STLCA157HINCABF3OFVCAV1SYKICAJT3AR6CADVUBZDCASYZCM2CAN9LO9QCA24RDWQCA1ABQ8MCA6OH18PCA1T0BVLCABS2GS0CAIG1LI1CAL0JNI5CAQO48I1CAT5MT6RCADFR239"/>
          <p:cNvPicPr/>
          <p:nvPr/>
        </p:nvPicPr>
        <p:blipFill>
          <a:blip r:embed="rId4"/>
          <a:stretch/>
        </p:blipFill>
        <p:spPr>
          <a:xfrm rot="20308200">
            <a:off x="6038640" y="3782520"/>
            <a:ext cx="1871640" cy="172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NG3PNCAKSCRXDCAC0AB7BCAUU5EAACAQXAL67CA18M9P4CAY24R1TCAYRSBXCCAZ8ZU7NCAV72F59CAD0Y1MVCARTKQ76CA9RPX12CAKNXLMVCA9HPWN6CA5RRJU0CAA4CU06CART10OYCAKJPMUC"/>
          <p:cNvPicPr/>
          <p:nvPr/>
        </p:nvPicPr>
        <p:blipFill>
          <a:blip r:embed="rId5"/>
          <a:stretch/>
        </p:blipFill>
        <p:spPr>
          <a:xfrm>
            <a:off x="2050920" y="2133720"/>
            <a:ext cx="165600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D8XICAPWHRLQCAK6V0D7CA5AV8TCCARVOG4LCAIFKFM3CA3JBXJ6CAWGS82SCAY4PUZ0CAB03ATJCACON79PCADBPWF0CANCPN7HCADIJUIOCAU0T1L0CA33EBOJCAY5OHX9CASC3D6WCAYKV2C8"/>
          <p:cNvPicPr/>
          <p:nvPr/>
        </p:nvPicPr>
        <p:blipFill>
          <a:blip r:embed="rId6"/>
          <a:stretch/>
        </p:blipFill>
        <p:spPr>
          <a:xfrm>
            <a:off x="179280" y="4076640"/>
            <a:ext cx="172728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U06BBCA4QAX3NCAXRFEX2CALQ1YBQCAWL4V7ZCA13D40ECA2IWH12CAA9YI4DCAETMDB7CA5BVO6ACAVVS62NCAATPCNDCAW75KTPCAEDZZ1QCAMVF8C2CASAHVTBCAESGWCPCA4M672XCADMHVNG"/>
          <p:cNvPicPr/>
          <p:nvPr/>
        </p:nvPicPr>
        <p:blipFill>
          <a:blip r:embed="rId7"/>
          <a:stretch/>
        </p:blipFill>
        <p:spPr>
          <a:xfrm>
            <a:off x="3929040" y="4071960"/>
            <a:ext cx="1449360" cy="2143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2155680" y="71424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ификация предметов по картинк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ому что дадим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Picture 4" descr="FWA5ZCAZWJUNWCAYYM9ZDCA6W0FHQCAQEX9LTCASFD2AHCAIWGMEVCARCKL9WCAPYY4GSCANMNSJGCAT3MD0FCACQDE0ACA1GYCC6CAT02S1ECA92NMSRCA6JKFCICAF26ATFCA9YPHNOCA0GZKUF"/>
          <p:cNvPicPr/>
          <p:nvPr/>
        </p:nvPicPr>
        <p:blipFill>
          <a:blip r:embed="rId1"/>
          <a:stretch/>
        </p:blipFill>
        <p:spPr>
          <a:xfrm>
            <a:off x="243000" y="1125360"/>
            <a:ext cx="1834920" cy="208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L4SMACAPO404BCAF34OXZCA4DXKZ4CA5OBHQPCA9H7N1ECA0A0FQ9CARMFI3UCA38ALRBCADBNZUJCAU11PUFCABJYFUDCANE0OOYCA4S1R6QCASVWL8HCA769LZ9CA1ZVE08CAVQWSFZCAFGD930"/>
          <p:cNvPicPr/>
          <p:nvPr/>
        </p:nvPicPr>
        <p:blipFill>
          <a:blip r:embed="rId2"/>
          <a:stretch/>
        </p:blipFill>
        <p:spPr>
          <a:xfrm>
            <a:off x="2124000" y="1197000"/>
            <a:ext cx="164484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YDTVCAJ0NLEVCACB3KXCCA5RI8SBCA3UG9A3CA7FVQQ1CA6XN2ZOCAFOJVJACAAT9SSHCA6TBCJJCA1DV0CMCA3JY8G4CADLO9UUCAO8ZHRICAMY4GNJCARA43ZVCA9LBK9KCAPVT4P7CA9HE2D9"/>
          <p:cNvPicPr/>
          <p:nvPr/>
        </p:nvPicPr>
        <p:blipFill>
          <a:blip r:embed="rId3"/>
          <a:stretch/>
        </p:blipFill>
        <p:spPr>
          <a:xfrm>
            <a:off x="324000" y="4824360"/>
            <a:ext cx="1655640" cy="191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UNCD4CAKOTQMQCARP6H6WCAKP670DCAJ713QVCA7NUWOWCALL0NM1CAW1MCFSCAIT1XEICAT5K9IECALELW3WCA32E70XCA6V0W2RCAIED024CA678BX0CAZPTY7XCAYCZ2E3CA0RBPOBCAG2KSFT"/>
          <p:cNvPicPr/>
          <p:nvPr/>
        </p:nvPicPr>
        <p:blipFill>
          <a:blip r:embed="rId4"/>
          <a:stretch/>
        </p:blipFill>
        <p:spPr>
          <a:xfrm>
            <a:off x="250920" y="3068640"/>
            <a:ext cx="18270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?id=157678762-03"/>
          <p:cNvPicPr/>
          <p:nvPr/>
        </p:nvPicPr>
        <p:blipFill>
          <a:blip r:embed="rId5"/>
          <a:stretch/>
        </p:blipFill>
        <p:spPr>
          <a:xfrm>
            <a:off x="2124000" y="3141720"/>
            <a:ext cx="1738440" cy="18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i?id=128515092-07"/>
          <p:cNvPicPr/>
          <p:nvPr/>
        </p:nvPicPr>
        <p:blipFill>
          <a:blip r:embed="rId6"/>
          <a:stretch/>
        </p:blipFill>
        <p:spPr>
          <a:xfrm>
            <a:off x="2124000" y="4941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?id=11239455-11"/>
          <p:cNvPicPr/>
          <p:nvPr/>
        </p:nvPicPr>
        <p:blipFill>
          <a:blip r:embed="rId7"/>
          <a:stretch/>
        </p:blipFill>
        <p:spPr>
          <a:xfrm>
            <a:off x="4716360" y="148428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i?id=5000949-15"/>
          <p:cNvPicPr/>
          <p:nvPr/>
        </p:nvPicPr>
        <p:blipFill>
          <a:blip r:embed="rId8"/>
          <a:stretch/>
        </p:blipFill>
        <p:spPr>
          <a:xfrm>
            <a:off x="6443640" y="1197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i?id=40836427-14"/>
          <p:cNvPicPr/>
          <p:nvPr/>
        </p:nvPicPr>
        <p:blipFill>
          <a:blip r:embed="rId9"/>
          <a:stretch/>
        </p:blipFill>
        <p:spPr>
          <a:xfrm>
            <a:off x="6084720" y="2781360"/>
            <a:ext cx="1656000" cy="176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79055418-04"/>
          <p:cNvPicPr/>
          <p:nvPr/>
        </p:nvPicPr>
        <p:blipFill>
          <a:blip r:embed="rId10"/>
          <a:stretch/>
        </p:blipFill>
        <p:spPr>
          <a:xfrm>
            <a:off x="4500720" y="3068640"/>
            <a:ext cx="1622160" cy="172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4373231-09"/>
          <p:cNvPicPr/>
          <p:nvPr/>
        </p:nvPicPr>
        <p:blipFill>
          <a:blip r:embed="rId11"/>
          <a:stretch/>
        </p:blipFill>
        <p:spPr>
          <a:xfrm>
            <a:off x="7667640" y="2637000"/>
            <a:ext cx="1476360" cy="194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i?id=196900314-01"/>
          <p:cNvPicPr/>
          <p:nvPr/>
        </p:nvPicPr>
        <p:blipFill>
          <a:blip r:embed="rId12"/>
          <a:stretch/>
        </p:blipFill>
        <p:spPr>
          <a:xfrm rot="19938600">
            <a:off x="6846480" y="4635360"/>
            <a:ext cx="1879560" cy="150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i?id=99513837-13"/>
          <p:cNvPicPr/>
          <p:nvPr/>
        </p:nvPicPr>
        <p:blipFill>
          <a:blip r:embed="rId13"/>
          <a:stretch/>
        </p:blipFill>
        <p:spPr>
          <a:xfrm rot="20713200">
            <a:off x="5208120" y="4535280"/>
            <a:ext cx="1575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чем управляет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Picture 5" descr="i?id=76495259-07"/>
          <p:cNvPicPr/>
          <p:nvPr/>
        </p:nvPicPr>
        <p:blipFill>
          <a:blip r:embed="rId1"/>
          <a:stretch/>
        </p:blipFill>
        <p:spPr>
          <a:xfrm>
            <a:off x="539640" y="1916280"/>
            <a:ext cx="2305080" cy="25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?id=176836162-11"/>
          <p:cNvPicPr/>
          <p:nvPr/>
        </p:nvPicPr>
        <p:blipFill>
          <a:blip r:embed="rId2"/>
          <a:stretch/>
        </p:blipFill>
        <p:spPr>
          <a:xfrm>
            <a:off x="3348000" y="1916280"/>
            <a:ext cx="201600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?id=44645675-09"/>
          <p:cNvPicPr/>
          <p:nvPr/>
        </p:nvPicPr>
        <p:blipFill>
          <a:blip r:embed="rId3"/>
          <a:stretch/>
        </p:blipFill>
        <p:spPr>
          <a:xfrm>
            <a:off x="5867280" y="1916280"/>
            <a:ext cx="1944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i?id=187054765-03"/>
          <p:cNvPicPr/>
          <p:nvPr/>
        </p:nvPicPr>
        <p:blipFill>
          <a:blip r:embed="rId1"/>
          <a:stretch/>
        </p:blipFill>
        <p:spPr>
          <a:xfrm>
            <a:off x="684360" y="981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?id=17470810-04"/>
          <p:cNvPicPr/>
          <p:nvPr/>
        </p:nvPicPr>
        <p:blipFill>
          <a:blip r:embed="rId2"/>
          <a:stretch/>
        </p:blipFill>
        <p:spPr>
          <a:xfrm>
            <a:off x="3203640" y="981000"/>
            <a:ext cx="2303280" cy="216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?id=45241451-00"/>
          <p:cNvPicPr/>
          <p:nvPr/>
        </p:nvPicPr>
        <p:blipFill>
          <a:blip r:embed="rId3"/>
          <a:stretch/>
        </p:blipFill>
        <p:spPr>
          <a:xfrm>
            <a:off x="5940360" y="981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i?id=78388028-01"/>
          <p:cNvPicPr/>
          <p:nvPr/>
        </p:nvPicPr>
        <p:blipFill>
          <a:blip r:embed="rId4"/>
          <a:stretch/>
        </p:blipFill>
        <p:spPr>
          <a:xfrm>
            <a:off x="684360" y="364500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i?id=18704962-00"/>
          <p:cNvPicPr/>
          <p:nvPr/>
        </p:nvPicPr>
        <p:blipFill>
          <a:blip r:embed="rId5"/>
          <a:stretch/>
        </p:blipFill>
        <p:spPr>
          <a:xfrm>
            <a:off x="3203640" y="364500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i?id=693438-11"/>
          <p:cNvPicPr/>
          <p:nvPr/>
        </p:nvPicPr>
        <p:blipFill>
          <a:blip r:embed="rId6"/>
          <a:stretch/>
        </p:blipFill>
        <p:spPr>
          <a:xfrm>
            <a:off x="5867280" y="3645000"/>
            <a:ext cx="2233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Что с чем?»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4" descr="KDOPWCA3KEVYTCACRR2NDCA8J2BHBCAK12P6ACA30YNWECAQJ39U6CAQZN0Q2CA6RNH0UCASE8Z6XCA43AIE7CA97O888CANZVMLPCAQU4YFGCACQHTQHCA7BCLI5CAR4PKYVCAQET5O9CA22HVC6"/>
          <p:cNvPicPr/>
          <p:nvPr/>
        </p:nvPicPr>
        <p:blipFill>
          <a:blip r:embed="rId1"/>
          <a:stretch/>
        </p:blipFill>
        <p:spPr>
          <a:xfrm rot="20618400">
            <a:off x="795240" y="1487520"/>
            <a:ext cx="2303640" cy="23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VLCNKCAL5USN3CAGDVJU9CAEOAWHGCA8FWNVJCAGNGAJXCAPRWVR3CAE0FLI1CAMKX07YCAYM40GACAGIMYUOCA6Q1XCICAPWWKEECA09635MCATNRCMPCAP7EF84CAGB0POZCAG7BI7MCA6ZFW20"/>
          <p:cNvPicPr/>
          <p:nvPr/>
        </p:nvPicPr>
        <p:blipFill>
          <a:blip r:embed="rId2"/>
          <a:stretch/>
        </p:blipFill>
        <p:spPr>
          <a:xfrm>
            <a:off x="2843280" y="141300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?id=51615493-12"/>
          <p:cNvPicPr/>
          <p:nvPr/>
        </p:nvPicPr>
        <p:blipFill>
          <a:blip r:embed="rId3"/>
          <a:stretch/>
        </p:blipFill>
        <p:spPr>
          <a:xfrm rot="20233800">
            <a:off x="536040" y="3850920"/>
            <a:ext cx="2189160" cy="2451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?id=129379667-06"/>
          <p:cNvPicPr/>
          <p:nvPr/>
        </p:nvPicPr>
        <p:blipFill>
          <a:blip r:embed="rId4"/>
          <a:stretch/>
        </p:blipFill>
        <p:spPr>
          <a:xfrm rot="819000">
            <a:off x="4641840" y="1491840"/>
            <a:ext cx="216072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i?id=16654796-14"/>
          <p:cNvPicPr/>
          <p:nvPr/>
        </p:nvPicPr>
        <p:blipFill>
          <a:blip r:embed="rId5"/>
          <a:stretch/>
        </p:blipFill>
        <p:spPr>
          <a:xfrm rot="20812800">
            <a:off x="2771640" y="3644640"/>
            <a:ext cx="2303640" cy="237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i?id=167146477-08"/>
          <p:cNvPicPr/>
          <p:nvPr/>
        </p:nvPicPr>
        <p:blipFill>
          <a:blip r:embed="rId6"/>
          <a:stretch/>
        </p:blipFill>
        <p:spPr>
          <a:xfrm rot="20619000">
            <a:off x="5076360" y="3715920"/>
            <a:ext cx="2449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Что в чем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Picture 5" descr="i?id=47382707-01"/>
          <p:cNvPicPr/>
          <p:nvPr/>
        </p:nvPicPr>
        <p:blipFill>
          <a:blip r:embed="rId1"/>
          <a:stretch/>
        </p:blipFill>
        <p:spPr>
          <a:xfrm>
            <a:off x="324000" y="1628640"/>
            <a:ext cx="208728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E24PGCAISJ211CAFRJI08CA8PSA4TCA9IXBUNCA4K3E2ICAG00BCZCAAB7QU7CABKPHB1CARNMUGBCAUO96YPCAGCM5H7CAKTZO6LCA3S376FCABYHNRECAIKSQDICAZ8J8RTCAJ3NZNYCA1W3XXZ"/>
          <p:cNvPicPr/>
          <p:nvPr/>
        </p:nvPicPr>
        <p:blipFill>
          <a:blip r:embed="rId2"/>
          <a:stretch/>
        </p:blipFill>
        <p:spPr>
          <a:xfrm>
            <a:off x="2987640" y="1628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i?id=59353292-05"/>
          <p:cNvPicPr/>
          <p:nvPr/>
        </p:nvPicPr>
        <p:blipFill>
          <a:blip r:embed="rId3"/>
          <a:stretch/>
        </p:blipFill>
        <p:spPr>
          <a:xfrm>
            <a:off x="5580000" y="1628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i?id=116368678-07"/>
          <p:cNvPicPr/>
          <p:nvPr/>
        </p:nvPicPr>
        <p:blipFill>
          <a:blip r:embed="rId4"/>
          <a:stretch/>
        </p:blipFill>
        <p:spPr>
          <a:xfrm>
            <a:off x="324000" y="4221000"/>
            <a:ext cx="2087280" cy="223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3887TCAXZ9F5WCAJR9KV8CAKF74GPCA83FY2CCAGB7LG8CAOU9QY0CA1LDJMOCAGK45BACARCFKZWCA5YG274CAUCP2I4CAW1710GCAEFYX36CAX9RQB9CAUKVW3UCAYQUI8YCAQVJ5HJCAQ3TF1G"/>
          <p:cNvPicPr/>
          <p:nvPr/>
        </p:nvPicPr>
        <p:blipFill>
          <a:blip r:embed="rId5"/>
          <a:stretch/>
        </p:blipFill>
        <p:spPr>
          <a:xfrm>
            <a:off x="2987640" y="4221000"/>
            <a:ext cx="21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XGO4GCA6RIDTJCADQDQKYCAXGU0OOCA9E20K0CA4Y31SVCAKSRPCHCAS4R5U5CAH6M425CAIUZ32ACA4CK3L4CAFERB7GCA80YS07CACF9G5GCAHCY2JCCARWYN2ICA5L652WCAX7AP0LCAFRWP31"/>
          <p:cNvPicPr/>
          <p:nvPr/>
        </p:nvPicPr>
        <p:blipFill>
          <a:blip r:embed="rId6"/>
          <a:stretch/>
        </p:blipFill>
        <p:spPr>
          <a:xfrm>
            <a:off x="5580000" y="4221000"/>
            <a:ext cx="2160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«Игра в поезд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9" name="Picture 5" descr="i?id=146821794-02"/>
          <p:cNvPicPr/>
          <p:nvPr/>
        </p:nvPicPr>
        <p:blipFill>
          <a:blip r:embed="rId1"/>
          <a:stretch/>
        </p:blipFill>
        <p:spPr>
          <a:xfrm>
            <a:off x="971640" y="1484280"/>
            <a:ext cx="7559640" cy="315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198960" y="198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003640" y="19890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77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п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71680" y="5214960"/>
            <a:ext cx="78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ределите картинки по вагонам: с предлогом в, на, над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?id=595821-15"/>
          <p:cNvPicPr/>
          <p:nvPr/>
        </p:nvPicPr>
        <p:blipFill>
          <a:blip r:embed="rId1"/>
          <a:stretch/>
        </p:blipFill>
        <p:spPr>
          <a:xfrm>
            <a:off x="179280" y="549360"/>
            <a:ext cx="2521080" cy="208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i?id=192656-03"/>
          <p:cNvPicPr/>
          <p:nvPr/>
        </p:nvPicPr>
        <p:blipFill>
          <a:blip r:embed="rId2"/>
          <a:stretch/>
        </p:blipFill>
        <p:spPr>
          <a:xfrm>
            <a:off x="2916360" y="549360"/>
            <a:ext cx="2538360" cy="208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i?id=74119568-03"/>
          <p:cNvPicPr/>
          <p:nvPr/>
        </p:nvPicPr>
        <p:blipFill>
          <a:blip r:embed="rId3"/>
          <a:stretch/>
        </p:blipFill>
        <p:spPr>
          <a:xfrm>
            <a:off x="6012000" y="54936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i?id=1104252-08"/>
          <p:cNvPicPr/>
          <p:nvPr/>
        </p:nvPicPr>
        <p:blipFill>
          <a:blip r:embed="rId4"/>
          <a:stretch/>
        </p:blipFill>
        <p:spPr>
          <a:xfrm rot="20614200">
            <a:off x="755280" y="2421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i?id=102874708-03"/>
          <p:cNvPicPr/>
          <p:nvPr/>
        </p:nvPicPr>
        <p:blipFill>
          <a:blip r:embed="rId5"/>
          <a:stretch/>
        </p:blipFill>
        <p:spPr>
          <a:xfrm rot="20350200">
            <a:off x="1979280" y="407628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i?id=58662985-04"/>
          <p:cNvPicPr/>
          <p:nvPr/>
        </p:nvPicPr>
        <p:blipFill>
          <a:blip r:embed="rId6"/>
          <a:stretch/>
        </p:blipFill>
        <p:spPr>
          <a:xfrm rot="20827800">
            <a:off x="3995640" y="2923920"/>
            <a:ext cx="230364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i?id=121690877-10"/>
          <p:cNvPicPr/>
          <p:nvPr/>
        </p:nvPicPr>
        <p:blipFill>
          <a:blip r:embed="rId7"/>
          <a:stretch/>
        </p:blipFill>
        <p:spPr>
          <a:xfrm rot="20303400">
            <a:off x="6373440" y="3506400"/>
            <a:ext cx="23749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785880" y="1000080"/>
            <a:ext cx="7072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Источники иллюстрац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images.yandex.ru/?lr=47&amp;source=wi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adff"/>
                </a:solidFill>
                <a:latin typeface="Tahoma"/>
              </a:rPr>
              <a:t>Картинки из личного арх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1844640"/>
            <a:ext cx="697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ВНИМ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2480" y="691920"/>
            <a:ext cx="793116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Классификация предметов по картинкам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8" descr="7C6SFCAMP07GNCAN2X0VOCAIJ8DK2CA0X1USFCAU7EISNCAHXTSPHCAYU7Y3RCA30YC8ACAZQIV6YCAEC4Y42CAR3H7YJCAAWTBARCAHNNKR9CAV0TTH0CASSHCY1CA28NHCSCA4PKEVWCAV89NHL"/>
          <p:cNvPicPr/>
          <p:nvPr/>
        </p:nvPicPr>
        <p:blipFill>
          <a:blip r:embed="rId1"/>
          <a:stretch/>
        </p:blipFill>
        <p:spPr>
          <a:xfrm>
            <a:off x="755640" y="177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KZYOCAQFYE3CCAIZC29LCAX0WMZFCA11DNQZCAEJVEZ3CAX50MYPCA3T5P4PCA7HGJOBCA8I8SNUCA12MMNNCAYCU64KCA94GLN2CAE34E8ICAAVIRHACAS9NOMECA1FU635CA6J83B8CABRDGA1"/>
          <p:cNvPicPr/>
          <p:nvPr/>
        </p:nvPicPr>
        <p:blipFill>
          <a:blip r:embed="rId2"/>
          <a:stretch/>
        </p:blipFill>
        <p:spPr>
          <a:xfrm>
            <a:off x="826920" y="3789360"/>
            <a:ext cx="172908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YDIQ4CAP97B1GCARBD58BCARBJ0INCAM2UAVDCAMC3Q35CAP2MND1CAO33JQGCAACEISZCAL3N6IICA1PBEM3CAC61FGZCA2VKEVYCA9TWYICCADXYV7YCABCKSNQCAVGZF7XCAZZO91FCAPID3RA"/>
          <p:cNvPicPr/>
          <p:nvPr/>
        </p:nvPicPr>
        <p:blipFill>
          <a:blip r:embed="rId3"/>
          <a:stretch/>
        </p:blipFill>
        <p:spPr>
          <a:xfrm>
            <a:off x="3419640" y="2708280"/>
            <a:ext cx="14284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JHOT7CAEJP242CAUAXVPZCARBVI00CA5J7RYCCAOXA8VPCAXVBZYZCATBD53ZCAP55X7MCAWGQO9XCAM2SI82CAK6CUVKCAHG1J9ICAHELJ0ZCAX34BAICAIY2XE2CAVPZFZKCAZN5EH0CARNHRVI"/>
          <p:cNvPicPr/>
          <p:nvPr/>
        </p:nvPicPr>
        <p:blipFill>
          <a:blip r:embed="rId4"/>
          <a:stretch/>
        </p:blipFill>
        <p:spPr>
          <a:xfrm>
            <a:off x="3851280" y="5013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I9E5ZCA80E3F5CAT0CKL5CAL0O0K5CAN1SVZHCAQU455FCAWHU5Y7CAJR1Z3ZCAMCVUUUCAQTX9BOCAT8BYMSCA7DV0TYCADL7MMDCAXS586LCAHJASSICABN39N0CAFL1CUBCASP8A6GCA23T874"/>
          <p:cNvPicPr/>
          <p:nvPr/>
        </p:nvPicPr>
        <p:blipFill>
          <a:blip r:embed="rId5"/>
          <a:stretch/>
        </p:blipFill>
        <p:spPr>
          <a:xfrm rot="979200">
            <a:off x="6447960" y="4195440"/>
            <a:ext cx="1371600" cy="174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KSS97CA6VX3RICABL80O2CABNQGHTCAR9B2CUCA8MT2BBCA2UNSS3CAOKQRYICAW8OQXHCA5P3J4NCAZX8JLDCAF9CVWMCAULAXPBCA5FRH7ZCA6L4Y6XCATBSYZ2CATECY4NCA8CQP4WCAWQFPKK"/>
          <p:cNvPicPr/>
          <p:nvPr/>
        </p:nvPicPr>
        <p:blipFill>
          <a:blip r:embed="rId6"/>
          <a:stretch/>
        </p:blipFill>
        <p:spPr>
          <a:xfrm>
            <a:off x="7451640" y="1413000"/>
            <a:ext cx="148608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8NXJ9CA2OTPHDCASXU60CCAKOK0F8CAHXX70MCAIRXHVXCAZ6OMZTCAEJ3NI7CA3A4M53CAZMSH31CAC02ZXDCAFAP2IUCA8EWHRMCAZYQQ8PCAFYAH3HCAWJD65PCAVSNREUCAPIRDEUCAJLFFU4"/>
          <p:cNvPicPr/>
          <p:nvPr/>
        </p:nvPicPr>
        <p:blipFill>
          <a:blip r:embed="rId7"/>
          <a:stretch/>
        </p:blipFill>
        <p:spPr>
          <a:xfrm rot="19158600">
            <a:off x="5003640" y="1483920"/>
            <a:ext cx="1428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74739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лассификация предметов по картинкам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00FS4CAO1R6RTCAAVFC9ZCASCVXSOCA3RWHFOCA6WRQN9CA64K13GCAIIBQ6TCAQ11Z5XCAAB4L56CA4NVS1GCABL4MHZCA4QR190CAM5XFE5CAABEDL2CA3855EHCAVKDME1CA933DAQCAM1V6Y5"/>
          <p:cNvPicPr/>
          <p:nvPr/>
        </p:nvPicPr>
        <p:blipFill>
          <a:blip r:embed="rId1"/>
          <a:stretch/>
        </p:blipFill>
        <p:spPr>
          <a:xfrm rot="20723400">
            <a:off x="539280" y="2060640"/>
            <a:ext cx="173988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90"/>
          <p:cNvPicPr/>
          <p:nvPr/>
        </p:nvPicPr>
        <p:blipFill>
          <a:blip r:embed="rId2"/>
          <a:stretch/>
        </p:blipFill>
        <p:spPr>
          <a:xfrm>
            <a:off x="2340000" y="105264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RPSTCA14UJJHCAYGLLPDCA468SK1CAD4HXZECAH49ZFXCAMMWNUACA1N0EBACA7IYENZCADS79KXCA53G1GGCABQ208TCA8O0VYUCAM5BI3LCARX38GBCA1ZKASPCAA8A0IECAJ54VHYCA9KZRWC"/>
          <p:cNvPicPr/>
          <p:nvPr/>
        </p:nvPicPr>
        <p:blipFill>
          <a:blip r:embed="rId3"/>
          <a:stretch/>
        </p:blipFill>
        <p:spPr>
          <a:xfrm>
            <a:off x="684360" y="4149720"/>
            <a:ext cx="1623960" cy="243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667"/>
          <p:cNvPicPr/>
          <p:nvPr/>
        </p:nvPicPr>
        <p:blipFill>
          <a:blip r:embed="rId4"/>
          <a:stretch/>
        </p:blipFill>
        <p:spPr>
          <a:xfrm>
            <a:off x="2771640" y="4581360"/>
            <a:ext cx="1513080" cy="194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J7CCAMQQ2I5CA1EH9K0CABWYU1ZCA6FIG5NCANWMB0XCAWG4L9ZCA04BVC3CACR6V01CA2ECAOMCAVQB35WCAYFF3R5CABAC0NQCAQHT80YCAQXYGA7CABV053ACA6K7OE1CA2H305ECA7P9YQ0"/>
          <p:cNvPicPr/>
          <p:nvPr/>
        </p:nvPicPr>
        <p:blipFill>
          <a:blip r:embed="rId5"/>
          <a:stretch/>
        </p:blipFill>
        <p:spPr>
          <a:xfrm rot="1315800">
            <a:off x="3908520" y="2619360"/>
            <a:ext cx="166212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PEM6GCANPVQTUCAU8954JCAQ1XG7ECAFTCWZKCACLFA3RCAVYY1U2CAN9VY3KCAWWBPYLCAA1N1OMCA5GET1LCA5BLGKLCA6Z015ECAZHYWG9CAUBEXVGCAK65H29CAGJTIK5CA3XWZ3ICAWZCCR4"/>
          <p:cNvPicPr/>
          <p:nvPr/>
        </p:nvPicPr>
        <p:blipFill>
          <a:blip r:embed="rId6"/>
          <a:stretch/>
        </p:blipFill>
        <p:spPr>
          <a:xfrm>
            <a:off x="6516720" y="162864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27ODCAFUCG1RCAFUTKL8CAIL0UG5CA1DCE3ACAVB96KYCA6KM8RPCATKX18XCALQIW1KCAM4TWPFCA0G15CICA85E6VXCAIPY61QCAPQPGC6CAL3VO36CA1DBFV1CAZTDST0CA4LF32DCAQVRYVN"/>
          <p:cNvPicPr/>
          <p:nvPr/>
        </p:nvPicPr>
        <p:blipFill>
          <a:blip r:embed="rId7"/>
          <a:stretch/>
        </p:blipFill>
        <p:spPr>
          <a:xfrm>
            <a:off x="5076720" y="4581360"/>
            <a:ext cx="1582920" cy="18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U1FURCA30N09LCAZU1LOHCAHBXSBLCAO9VJCOCAQ7ES0RCAF3B1CDCAVAZ098CAHHJ5ZICAU9K8DCCARTOJ5QCAU59XOECA55VKXUCA4WA9MZCAM3V6Z4CAV21HO5CAQVVOURCAYMMDN9CATPJM3Q"/>
          <p:cNvPicPr/>
          <p:nvPr/>
        </p:nvPicPr>
        <p:blipFill>
          <a:blip r:embed="rId8"/>
          <a:stretch/>
        </p:blipFill>
        <p:spPr>
          <a:xfrm>
            <a:off x="6948360" y="400536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Дидактическая игра «Назови отличия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7" descr="ZB6MLCAFJMV4NCANG53QYCA387BYKCAN3OG1ACAP64Q3TCAQ70O0VCAZ1T4IPCAINXE96CAR5KP63CAZHCI01CA14KD2ICARPEA0CCAWGLYP7CALAC1Z1CAX0Y9VYCAQ9LVQ3CAVH1B8ICAE8Y9TZ"/>
          <p:cNvPicPr/>
          <p:nvPr/>
        </p:nvPicPr>
        <p:blipFill>
          <a:blip r:embed="rId1"/>
          <a:stretch/>
        </p:blipFill>
        <p:spPr>
          <a:xfrm rot="1448400">
            <a:off x="5735160" y="2263680"/>
            <a:ext cx="2448000" cy="331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WHWHKCAUD7QINCAC7M3KXCAPHGYWQCARPHKVNCA0KT818CA2VR47XCAEGNQQYCA7HB1O0CATL78B7CA5ER5E4CA6BKUIECAWQJV48CA4COLRKCAQWFQAICAGDFW3GCAVULP98CA0KVXW2CAGYFW9D"/>
          <p:cNvPicPr/>
          <p:nvPr/>
        </p:nvPicPr>
        <p:blipFill>
          <a:blip r:embed="rId2"/>
          <a:stretch/>
        </p:blipFill>
        <p:spPr>
          <a:xfrm rot="20473200">
            <a:off x="1186920" y="1988640"/>
            <a:ext cx="2379960" cy="3311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2375280" y="58197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В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556960" y="573408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ИТ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ZWJMCAU6YM14CANYQYETCAR7Q8FUCAZWKGU3CAYY2KK0CAUPNS33CA79944BCA6ULYZOCADUFKCXCAINPPLGCAHTXVO8CAGQQAXGCAT5GS7UCABDPWGSCAGF87KXCA1L4OGICA0H1Q06CA572L9H"/>
          <p:cNvPicPr/>
          <p:nvPr/>
        </p:nvPicPr>
        <p:blipFill>
          <a:blip r:embed="rId1"/>
          <a:stretch/>
        </p:blipFill>
        <p:spPr>
          <a:xfrm>
            <a:off x="1042920" y="1773360"/>
            <a:ext cx="3057480" cy="316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TB8J0CA6BKV4DCAED4GYQCA5QEEJNCAG2Y00PCAH1LKN2CAAKD39ZCATPFGIVCA599TRYCA13L2BVCA6LRYBRCA6RPGNPCA091L76CAX2MWXZCA9QJPVPCABZVMENCAI5L8AACAQ13RPJCA6T9RMJ"/>
          <p:cNvPicPr/>
          <p:nvPr/>
        </p:nvPicPr>
        <p:blipFill>
          <a:blip r:embed="rId2"/>
          <a:stretch/>
        </p:blipFill>
        <p:spPr>
          <a:xfrm>
            <a:off x="5651640" y="1628640"/>
            <a:ext cx="252072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39880" y="5157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Т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98120" y="51577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9OJYECAJZFGIYCALM5OR6CAAQQ8D0CALBDIL2CAU2Q81HCAD8J6XDCA0HP4MRCAYW5YDJCAW5C72TCA9V27PICA5B4G3YCA79FRDUCADLII62CAKZMT7ACAAK5M85CACKOA17CAU7P5PNCAH6KOG7"/>
          <p:cNvPicPr/>
          <p:nvPr/>
        </p:nvPicPr>
        <p:blipFill>
          <a:blip r:embed="rId1"/>
          <a:stretch/>
        </p:blipFill>
        <p:spPr>
          <a:xfrm>
            <a:off x="900000" y="198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ORLD9CA2MOX3ZCAHUC4L1CA1NP63ACABJ80STCA62SAZJCA0PCMC0CAF0M4CWCAGRDVVWCAI6VMMSCAGI4787CADZ047XCAPYAAFLCAJBO8PXCAIIAFLQCA5ZHZKGCAHRHTYOCAHTJESPCASH1LMW"/>
          <p:cNvPicPr/>
          <p:nvPr/>
        </p:nvPicPr>
        <p:blipFill>
          <a:blip r:embed="rId2"/>
          <a:stretch/>
        </p:blipFill>
        <p:spPr>
          <a:xfrm>
            <a:off x="4788000" y="1989000"/>
            <a:ext cx="3168720" cy="302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763640" y="530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760360" y="517212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РЕЛ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VBEXBCAB2ZH3ECACD0Y8ICANH8VPGCA10QR4XCA7C203VCAB7WYR8CA2WEAX4CAGS9VLFCAQ98IEGCAGGN9AACAQ307AICA9U2ZK0CAVET36OCARTOU1PCAL2UBESCAO58M8CCAF9EF6JCAL2TEEB"/>
          <p:cNvPicPr/>
          <p:nvPr/>
        </p:nvPicPr>
        <p:blipFill>
          <a:blip r:embed="rId1"/>
          <a:stretch/>
        </p:blipFill>
        <p:spPr>
          <a:xfrm>
            <a:off x="1187280" y="1557360"/>
            <a:ext cx="2448000" cy="30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NA26MCAC0MRLMCAEEG7M0CAGYOI0HCAR6QL17CAE5U7LTCA46VMVACAHBXDMUCAAE8GHECACKN7ZXCAUVF8C0CAUK0RPPCAJD5VWBCA83LV9JCA4VMKFECA8RXRB6CA3AIMUVCAZ0IX5DCA5LN484"/>
          <p:cNvPicPr/>
          <p:nvPr/>
        </p:nvPicPr>
        <p:blipFill>
          <a:blip r:embed="rId2"/>
          <a:stretch/>
        </p:blipFill>
        <p:spPr>
          <a:xfrm>
            <a:off x="5003640" y="155736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738440" y="479736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Б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56280" y="4869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У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как передвигается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опед показывает картинки, изображающие животных, дети определяют их и называют, как они передвига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9334282_199126_91eb565"/>
          <p:cNvPicPr/>
          <p:nvPr/>
        </p:nvPicPr>
        <p:blipFill>
          <a:blip r:embed="rId1"/>
          <a:stretch/>
        </p:blipFill>
        <p:spPr>
          <a:xfrm>
            <a:off x="468360" y="39099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87AV5CA44P4N5CA1Y7L76CAXE9K7FCA3GD30QCA5230ZMCAKORDXLCAOVN32ECAGF3WZ9CAUCN28XCA7UHUE5CAUTQ2Q3CAGOMJQJCAIC1KV0CALWWOSWCAES2EBRCAI4BGS5CAB3O3M8CA25TPPN"/>
          <p:cNvPicPr/>
          <p:nvPr/>
        </p:nvPicPr>
        <p:blipFill>
          <a:blip r:embed="rId2"/>
          <a:stretch/>
        </p:blipFill>
        <p:spPr>
          <a:xfrm>
            <a:off x="2771640" y="2997360"/>
            <a:ext cx="2305080" cy="214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GOK09CAAXT1WICAO45VZNCA7P3S2TCAL6OYQGCAWE4TX7CANUIJ4SCAH04XAHCAUYV03WCA7RH9I0CAS1161JCA95JMZFCAVGQ7PSCAW4PDQICAOS1RWKCA47EOQMCATDCU1YCA90Z2QFCAC0547D"/>
          <p:cNvPicPr/>
          <p:nvPr/>
        </p:nvPicPr>
        <p:blipFill>
          <a:blip r:embed="rId3"/>
          <a:stretch/>
        </p:blipFill>
        <p:spPr>
          <a:xfrm>
            <a:off x="4932360" y="2708280"/>
            <a:ext cx="2448000" cy="187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QZY6OCAT94K3TCAXQP2CMCARJW1TECA6U1BZ2CAOB285HCAWUGI0ZCAP8VQIDCAD2N4HWCA9BF7A9CA6W1CN3CAZCBPQDCAUF32I1CAVG902RCA3N9GFDCAJJGOATCA929R85CAJ7HFGSCAK4OCZL"/>
          <p:cNvPicPr/>
          <p:nvPr/>
        </p:nvPicPr>
        <p:blipFill>
          <a:blip r:embed="rId4"/>
          <a:stretch/>
        </p:blipFill>
        <p:spPr>
          <a:xfrm>
            <a:off x="3132000" y="4724280"/>
            <a:ext cx="2652840" cy="18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F089CA0Z5PD4CAE02YX0CA2WFT46CARMF4TLCAN5G2FOCA7897W0CAGZZH4PCALEH1P6CAOWI251CAFW24HYCAVGOETZCA1U70VPCA68I6MHCA48UHRXCAHHTBX7CAFB498QCAW63LQGCABKM41E"/>
          <p:cNvPicPr/>
          <p:nvPr/>
        </p:nvPicPr>
        <p:blipFill>
          <a:blip r:embed="rId5"/>
          <a:stretch/>
        </p:blipFill>
        <p:spPr>
          <a:xfrm rot="20179200">
            <a:off x="5722920" y="4307040"/>
            <a:ext cx="2016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00:05Z</dcterms:created>
  <dc:creator>Customer</dc:creator>
  <dc:description/>
  <dc:language>en-US</dc:language>
  <cp:lastModifiedBy>админ</cp:lastModifiedBy>
  <dcterms:modified xsi:type="dcterms:W3CDTF">2014-01-24T09:22:50Z</dcterms:modified>
  <cp:revision>23</cp:revision>
  <dc:subject/>
  <dc:title>Дидактические игры и задания на развитие лексики у дошкольников с нарушением речи</dc:title>
</cp:coreProperties>
</file>