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4.jpeg" ContentType="image/jpeg"/>
  <Override PartName="/ppt/media/image22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3672000"/>
            <a:ext cx="604836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95640" y="189000"/>
            <a:ext cx="6264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42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униципальное общеобразовательное учреждени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«Средняя образовательная школа №10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сероссийский конкурс презентаци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«ТопСлайд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ЕДИНИЦЫ ИЗМЕРЕНИЯ ДРЕВНЕЙ РУС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АТЕМАТИК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6 класс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Антонов Никита Алексееви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. Когалы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011го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684072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Локоть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60" y="2349360"/>
            <a:ext cx="3708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Значение древнерусского локтя 10,25-10,5 вершков  (в среднем приблизительно 46-47 см). Локоть широко применяли в торговле как особенно удобную меру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90880" y="549360"/>
            <a:ext cx="5146920" cy="6192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940360" y="1989000"/>
            <a:ext cx="1152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3500280"/>
            <a:ext cx="1152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04000" y="1989000"/>
            <a:ext cx="0" cy="15112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1628280"/>
            <a:ext cx="3384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Аршин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2708280"/>
            <a:ext cx="37450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Старинная русская мера длины, равная в современном исчислении 0,7112м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73120" y="2782800"/>
            <a:ext cx="3746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Одна из наиболее распространенных на Руси мер длины. Различных по назначению (и, соответственно, величине) саженей было больше девяти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1628640"/>
            <a:ext cx="33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Сажень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170028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Маховая сажень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2492280"/>
            <a:ext cx="2916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Расстояние между концами средних пальцев раскинутых в стороны рук-1,76м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421080" y="2492280"/>
            <a:ext cx="5472000" cy="4103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92360" y="4005360"/>
            <a:ext cx="0" cy="1008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20000" y="4005360"/>
            <a:ext cx="0" cy="1008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4724280"/>
            <a:ext cx="532764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907560"/>
            <a:ext cx="3600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Косая сажень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2421000"/>
            <a:ext cx="3313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Первоначально «косовая» – 2,48м. Самая длинная: расстояние от носка левой ноги до конца среднего пальца поднятой вверх правой руки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0" y="189000"/>
            <a:ext cx="4440240" cy="6481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076720" y="333360"/>
            <a:ext cx="865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20000" y="6381720"/>
            <a:ext cx="865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35640" y="333360"/>
            <a:ext cx="1944720" cy="6048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6121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Верста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8000" y="2636640"/>
            <a:ext cx="266544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Старорусская путевая мера (её раннее название – «поприще»)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863800" y="1806480"/>
            <a:ext cx="610092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280" y="1557000"/>
            <a:ext cx="69850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Межевая верста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4920" y="2491920"/>
            <a:ext cx="29527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Старорусская единица измерения, равная двум верстам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1000 сажен (2,16км) верста «путевая», равная 500 саженям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132000" y="2565360"/>
            <a:ext cx="57610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ahoma"/>
              </a:rPr>
              <a:t>Меры площад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1557000"/>
            <a:ext cx="6840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Копна 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0560" y="2349360"/>
            <a:ext cx="216036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Площадь луга, на которой можно накосить копну сена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773440" y="2351160"/>
            <a:ext cx="61196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6769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 </a:t>
            </a: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Десятина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50920" y="2420640"/>
            <a:ext cx="324144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Первоначально применяли 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«круглую» десятину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квадрат со стороной, равной десятой доли версты (50 сажен), откуда и происходит название «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десятина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505320" y="2492280"/>
            <a:ext cx="55306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1341360"/>
            <a:ext cx="62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«Соха» и «выть»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327672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Крупные меры земельных площадей, которые употребляли землемеры при составлении "сошного" письма для нужд финансовых и военно-учетных органов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348000" y="2265480"/>
            <a:ext cx="56516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55640" y="944640"/>
            <a:ext cx="76327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ahoma"/>
              </a:rPr>
              <a:t>Меры объема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6920" y="1413000"/>
            <a:ext cx="5905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  </a:t>
            </a: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Ведро 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3640" y="2491920"/>
            <a:ext cx="4103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В ведро входило 12 литров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Объем ведра был равен 134,297 кубических вершков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68760" y="1628640"/>
            <a:ext cx="45752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rcRect l="11612" t="0" r="21281" b="8715"/>
          <a:stretch/>
        </p:blipFill>
        <p:spPr>
          <a:xfrm>
            <a:off x="4356000" y="549360"/>
            <a:ext cx="4608720" cy="6141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1268280"/>
            <a:ext cx="561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     </a:t>
            </a: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Бочка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2276640"/>
            <a:ext cx="45720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Как мера жидкостей, применялась в основном в процессе торговли с иностранцами, которым запрещалось вести розничную торговлю вином на малые меры. Равнялась 40 ведрам (492л)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6920" y="1413000"/>
            <a:ext cx="5689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     </a:t>
            </a: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Бутылка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560" y="2420640"/>
            <a:ext cx="432108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Значение было твердо зафиксировано, т.е. бутылка составляла 3/40 ведра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301176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5545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Корчага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2565000"/>
            <a:ext cx="3887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Корчагами (12 кг) меряли мед и воск. Корчага - в старом деревенском быту, большой глиняный сосуд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284720" y="2317680"/>
            <a:ext cx="4674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7280" y="1413000"/>
            <a:ext cx="55454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Кружка 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560" y="2349000"/>
            <a:ext cx="3816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Сосуд в форме стакана с ручкой. Железная коробка  с отверстием в крышке для сбора денег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05400" y="1989000"/>
            <a:ext cx="44481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7280" y="1413000"/>
            <a:ext cx="61214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Чарка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2420640"/>
            <a:ext cx="295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Небольшой сосуд для питья вина (сотая часть ведра)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708360" y="1689120"/>
            <a:ext cx="50641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ahoma"/>
              </a:rPr>
              <a:t>Меры веса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Пуд</a:t>
            </a: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 – (от латинского pondus - вес, тяжесть) это не только мера веса, но и весоизмерительное устройство. Пуд равнялся 40 фунтам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Берковец</a:t>
            </a: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 — эта большая мера веса равная 10 пудам, употреблялась в оптовой торговле преимущественно для взвешивания воска, меда, поташа и т.д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Золотник</a:t>
            </a: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 — сравнение вычислений в различных системах мер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ahoma"/>
              </a:rPr>
              <a:t>Сравнение вычислений в различных системах мер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7056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mic"/>
              </a:rPr>
              <a:t>     </a:t>
            </a: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Проблема: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в школьных учебниках, литературных произведениях часто встречаются слова обозначающие единицы измерения в Древней Руси, но мы не знаем значения этих слов, поэтому не всегда правильно понимаем смысл прочитанного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836640"/>
            <a:ext cx="856908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Bookman Old Style"/>
              </a:rPr>
              <a:t>Найти вес чугунной линейки в 1 фут 2 дюйма длины, 2 дюйма ширины и 4 линии толщины, если удельный вес чугуна равен 7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3141720"/>
            <a:ext cx="86421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d4d4d"/>
                </a:solidFill>
                <a:latin typeface="Arial"/>
              </a:rPr>
              <a:t>  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Решение: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1) 1 фут 2 дюйма = 14 дюймам, 4 линии = 0,4 дюйма,</a:t>
            </a:r>
            <a:br>
              <a:rPr sz="2400"/>
            </a:b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2) Объем линейки 14*2*0,4=11,2 куб. дюйма 3) Вес воды того же объема: 3,84*11,2 = 43.008 золотника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(Для вычисления веса надо знать, что вес одного кубического дюйма воды равен 3,84 золотника),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4) Вес линейки 43,008*7=301,056 золотника </a:t>
            </a:r>
            <a:r>
              <a:rPr b="0" i="1" lang="en-US" sz="2400" spc="-1" strike="noStrike">
                <a:solidFill>
                  <a:srgbClr val="4d4d4d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3 фунта 13,056 золотника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Bookman Old Style"/>
              </a:rPr>
              <a:t>  </a:t>
            </a:r>
            <a:r>
              <a:rPr b="1" lang="en-US" sz="2800" spc="-1" strike="noStrike">
                <a:solidFill>
                  <a:srgbClr val="003399"/>
                </a:solidFill>
                <a:latin typeface="Bookman Old Style"/>
              </a:rPr>
              <a:t>Найти вес чугунной линейки длиной в 3 дециметра 5 сантиметров, шириной в 4 сантиметра и толщиной в 7 миллиметров; удельный вес чугуна 7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3429000"/>
            <a:ext cx="86421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   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Решение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1) 35*4*0,7 = 98 куб. сантиметрам.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Число 98 выражает вместе с тем в граммах вес (массу) воды того же объема, как линейка.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Вес линейки: 98*7=686 граммам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34544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Пословицы и поговорки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От горшка два вершка, а уже указчик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Полено к полену - сажень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Москва верстой далека, а сердцу рядом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юбовь верстами не меряется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Сто верст молодцу не крюк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От слова до дела - целая верст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Поутру с сажень, в полдень - пядень, а к вечеру через поле хватает (тень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Пять верст до небес и все лесом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Эка верста выросла (как Коломенская верста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За семь верст киселя хлебать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Ты от дела на недельку, а оно от тебя на саженьку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Видеть на сажень сквозь землю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6920" y="1341000"/>
            <a:ext cx="64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Заключение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920" y="2492280"/>
            <a:ext cx="8642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Рассмотрев и изучив единицы измерения Древней Руси и сравнив с использованием данных единиц и единиц метрической системы настоящего время, мы пришли к выводу, что существовавшие единицы измерения на Руси были неудобны в использовании, так как        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533520" indent="-533520" algn="just">
              <a:spcBef>
                <a:spcPts val="550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некоторые меры имели по несколько значений применения (золотник – мера веса и золотник – мера объема сыпучих тел); 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533520" indent="-533520" algn="just">
              <a:spcBef>
                <a:spcPts val="550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данные единицы измерения были неточными, так как одни и те же части тела у разных людей различны.  Отсюда, наверное, и произошла поговорка «Мерить на свой аршин»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560" y="1915920"/>
            <a:ext cx="84978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В современном русском языке старинные измерения и слова, их обозначающие, сохранились в основном в виде пословиц и поговорок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533520" indent="-533520" algn="just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«Пишет  аршинными буквами» (крупно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533520" indent="-533520" algn="just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«Коломенская верста» - шутливое название очень высокого человека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533520" indent="-533520" algn="just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В поэзии «Умом Россию не понять, аршином общим (казенным) -  не измерить» (Тютчев)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26920" y="1989000"/>
            <a:ext cx="777744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640" y="1557000"/>
            <a:ext cx="6913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Цель: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45720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систематизирование и создание краткого справочного пособия для школьников «Единицы измерения Древней Руси» в форме буклета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0" algn="ct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821120" y="692280"/>
            <a:ext cx="41497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Задачи: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496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Познакомиться с математическими определе-ниями мер длины, мерами площади, объёма, веса Древней Руси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33520" indent="-533520" algn="just">
              <a:spcBef>
                <a:spcPts val="700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Изучить применение изложенных в работе мер измерений в различных областях науки и искусства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736800" y="765000"/>
            <a:ext cx="5140440" cy="5797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5280" y="2133720"/>
            <a:ext cx="31892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ahoma"/>
              </a:rPr>
              <a:t>Меры длины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640" y="1557360"/>
            <a:ext cx="6696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Вершок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2565000"/>
            <a:ext cx="374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Наименование происходит от слова "верх" ("верх перста", т.е. пальца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Первоначально равнялся длине основной фаланги указательного пальца.(4,445 сантиметрам) 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248000" y="2421000"/>
            <a:ext cx="4788000" cy="3591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27640" y="5013360"/>
            <a:ext cx="0" cy="792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56360" y="5013360"/>
            <a:ext cx="0" cy="792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67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Bookman Old Style"/>
              </a:rPr>
              <a:t>Пядь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2492280"/>
            <a:ext cx="3384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Под пядью понималась мера длины, равная максимальному расстоянию по прямой между концами вытянутых  большого и указательного пальцев.(19 см)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635280" y="1343160"/>
            <a:ext cx="5326200" cy="270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35280" y="4076640"/>
            <a:ext cx="5351400" cy="2700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95640" y="2637000"/>
            <a:ext cx="0" cy="1223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820000" y="2408400"/>
            <a:ext cx="0" cy="1223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459640" y="5157720"/>
            <a:ext cx="0" cy="1224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68760" y="5157720"/>
            <a:ext cx="0" cy="1224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9:37:48Z</dcterms:created>
  <dc:creator>Учитель информатики</dc:creator>
  <dc:description/>
  <dc:language>en-US</dc:language>
  <cp:lastModifiedBy>Admin</cp:lastModifiedBy>
  <dcterms:modified xsi:type="dcterms:W3CDTF">2011-05-17T18:35:13Z</dcterms:modified>
  <cp:revision>25</cp:revision>
  <dc:subject/>
  <dc:title>Name of presentation</dc:title>
</cp:coreProperties>
</file>