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03D-9A8C-46E0-B8D7-D18D935B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A73-BDBC-4A9C-A55D-D93E29AA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1FB-36C2-4B86-AC30-C82A9A4A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4E3-30E0-4C36-858B-98C16493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B3E09-75E6-4595-B198-50C6AF12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9F80F-43F5-47DD-8B0F-17F910EE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9D1CE-2ECA-4CD5-A007-FD14C837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BA8F5-53F8-40C6-8CA9-D3B7C99B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2CC88-B291-421A-80EF-05D74DD0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DD3E3-F822-4457-ACAB-8319EF58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FC7EA-E826-4701-A68E-6261922A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A5B-E0E8-4BA3-B3FD-D8078D19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3728C-D577-41A9-9C8A-D4FE095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D6BE9-7F04-4BD7-9434-2E87643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315FC-C405-48EF-B509-F373AD1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3A617-9656-4DA1-BA1A-6FC811FF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41C6C-31BA-4724-8AB1-0768E6C9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3072-B8F4-424F-AAC7-9BA89C2A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A6DE-95EA-46A3-9D87-3B844F76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6350-3E07-43BC-85E1-83C65F62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84B1-E491-4BE7-AE85-70847CD1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EF0B4-AB15-426A-B7F4-CF5759D4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B65-6139-46E6-A747-7C1D7DE1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6B18-8F40-4D46-B085-D1BE575C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7081-87F7-46DE-BE62-19F1807D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67EA0-D383-4E1A-A319-58BE1D54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4C5F-C9B0-4A4B-95C1-B2EF795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5983-DFFF-4768-9DCF-7BFEAA54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13F9-E723-462B-B9CF-D864E250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D524A-A5D1-4D99-9A14-CF1F8EDE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5D52D-3B5F-421C-A6F0-9E4C680F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1DE82-09E5-48CE-8966-5F3B4EF5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87640-67F8-4CB2-819A-7C96FB4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FC1-1121-4ABC-AC75-C81EF834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A5195-5126-4C54-848F-0D868B5D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15A12-B276-4681-90F1-791F5C30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B24D0-C71B-43F2-87A2-B46AF9A7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60580D-2443-42BD-BC5D-E2137A2D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5C5ED-C7BE-424C-871E-1F09C0E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2905C-0880-497E-A7D2-3D56259B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0A5C7-7269-4AA8-AE2D-AB220582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E9A9A-9EF0-45C9-B6F1-45951258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6C214-F2B9-45FE-9BC6-9F9110BC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F9E-E8FF-473F-9699-A59ACE4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717-0229-46F7-A922-4752F9C9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EE6-AEBA-44C4-BA67-49CAFA2D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F21-32D3-49D3-8943-95C65A9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6FE-6F68-46FB-AADC-C93622D0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A4BE-C405-42AE-9425-48F8A6421AB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5939-46DB-403A-B2A8-A29ABCEF022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FC9A-2436-4B1F-A085-52F062936ED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9D18-D85D-454B-9203-A31845679B0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14288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Ф.И.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Тютчев родился 5 декабря 1803 года в родовой усадьбе Овстуг Орловской губерн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328760" y="1487520"/>
            <a:ext cx="5870520" cy="2036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Tut_big.jpg"/>
          <p:cNvPicPr/>
          <p:nvPr/>
        </p:nvPicPr>
        <p:blipFill>
          <a:blip r:embed="rId2"/>
          <a:srcRect l="3026" t="0" r="0" b="8646"/>
          <a:stretch/>
        </p:blipFill>
        <p:spPr>
          <a:xfrm>
            <a:off x="5364000" y="836640"/>
            <a:ext cx="2738520" cy="3524400"/>
          </a:xfrm>
          <a:prstGeom prst="rect">
            <a:avLst/>
          </a:prstGeom>
          <a:ln w="76320">
            <a:solidFill>
              <a:srgbClr val="a5b592"/>
            </a:solidFill>
            <a:miter/>
          </a:ln>
        </p:spPr>
      </p:pic>
    </p:spTree>
  </p:cSld>
  <p:transition spd="med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4" descr="tut4ev_1.jpg"/>
          <p:cNvPicPr/>
          <p:nvPr/>
        </p:nvPicPr>
        <p:blipFill>
          <a:blip r:embed="rId1"/>
          <a:stretch/>
        </p:blipFill>
        <p:spPr>
          <a:xfrm>
            <a:off x="885960" y="857160"/>
            <a:ext cx="3543120" cy="523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47960" y="928800"/>
            <a:ext cx="39956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Русский поэт, член-корреспондент петербургской Академии Наук (1857). Духовно-напряженная философская поэзия Тютчева передает трагическое ощущение космических противоречий бытия. символический параллелизм в стихах о жизни природы, космические мотивы. Любовная лирика (в т. ч. стихи "Денисьевского цикла"). В публицистических статьях тяготел к панславизм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4" descr="tut4ev_2.jpg"/>
          <p:cNvPicPr/>
          <p:nvPr/>
        </p:nvPicPr>
        <p:blipFill>
          <a:blip r:embed="rId1"/>
          <a:stretch/>
        </p:blipFill>
        <p:spPr>
          <a:xfrm>
            <a:off x="714240" y="415800"/>
            <a:ext cx="3786480" cy="5870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785880"/>
            <a:ext cx="4059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37 Тютчев был назначен первым секретарем Русской миссии в Турине, где пережил первую тяжелую утрату: умерла жена. В 1839 он вступил в новый брак. Служебный проступок Тютчева (самовольный отъезд в Швейцарию для венчания с Э. Дернберг) положил конец его дипломатической службе. 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7960" y="785880"/>
            <a:ext cx="40590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br>
              <a:rPr sz="1800"/>
            </a:b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-1212840"/>
            <a:ext cx="98136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4" descr="tutchev_0.jpeg"/>
          <p:cNvPicPr/>
          <p:nvPr/>
        </p:nvPicPr>
        <p:blipFill>
          <a:blip r:embed="rId2"/>
          <a:stretch/>
        </p:blipFill>
        <p:spPr>
          <a:xfrm>
            <a:off x="500040" y="500040"/>
            <a:ext cx="4322880" cy="5286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647960" y="285480"/>
            <a:ext cx="4059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onstantia"/>
              </a:rPr>
              <a:t>В 1854 вышел первый сборник стихотворений, в этом же году был напечатан цикл стихов о любви, посвященных Елене Денисьевой. "Беззаконные" в глазах света отношения немолодого поэта с ровесницей его дочери продолжались в течение четырнадцати лет и были очень драматичны (Тютчев был женат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4" descr="19_09.gif"/>
          <p:cNvPicPr/>
          <p:nvPr/>
        </p:nvPicPr>
        <p:blipFill>
          <a:blip r:embed="rId1"/>
          <a:stretch/>
        </p:blipFill>
        <p:spPr>
          <a:xfrm>
            <a:off x="642960" y="1000080"/>
            <a:ext cx="3897360" cy="4975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С 1864 Тютчев несет одну потерю за другой: умирает от чахотки Денисьева, через год — двое их детей, его мат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Последние годы жизни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a5b592"/>
            </a:solidFill>
            <a:miter/>
          </a:ln>
        </p:spPr>
      </p:pic>
      <p:sp>
        <p:nvSpPr>
          <p:cNvPr id="210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Times New Roman"/>
              </a:rPr>
              <a:t>Памятник поэту в Овстуг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95280" y="110268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Не рассуждай, не хлопоч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День пережит - и слава богу!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Содержимое 3" descr="IMG_1057.jpg"/>
          <p:cNvPicPr/>
          <p:nvPr/>
        </p:nvPicPr>
        <p:blipFill>
          <a:blip r:embed="rId1"/>
          <a:stretch/>
        </p:blipFill>
        <p:spPr>
          <a:xfrm>
            <a:off x="1143000" y="642960"/>
            <a:ext cx="7445520" cy="5583240"/>
          </a:xfrm>
          <a:prstGeom prst="rect">
            <a:avLst/>
          </a:prstGeom>
          <a:ln w="0">
            <a:noFill/>
          </a:ln>
        </p:spPr>
      </p:pic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255600" y="731880"/>
            <a:ext cx="8437680" cy="77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utfatt"/>
          <p:cNvPicPr/>
          <p:nvPr/>
        </p:nvPicPr>
        <p:blipFill>
          <a:blip r:embed="rId1"/>
          <a:stretch/>
        </p:blipFill>
        <p:spPr>
          <a:xfrm>
            <a:off x="5219640" y="3429000"/>
            <a:ext cx="2571840" cy="2986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74" name="Picture 3" descr="tutmott"/>
          <p:cNvPicPr/>
          <p:nvPr/>
        </p:nvPicPr>
        <p:blipFill>
          <a:blip r:embed="rId2"/>
          <a:stretch/>
        </p:blipFill>
        <p:spPr>
          <a:xfrm>
            <a:off x="1258920" y="1052640"/>
            <a:ext cx="2571840" cy="2836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75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71640" y="189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Arial"/>
              </a:rPr>
              <a:t>Родители Тютче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763640" y="4653000"/>
            <a:ext cx="41436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Прямоугольник 9"/>
          <p:cNvSpPr/>
          <p:nvPr/>
        </p:nvSpPr>
        <p:spPr>
          <a:xfrm>
            <a:off x="3286080" y="1015920"/>
            <a:ext cx="4888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219640" y="1844640"/>
            <a:ext cx="3267000" cy="408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0" name="Picture 5" descr="12"/>
          <p:cNvPicPr/>
          <p:nvPr/>
        </p:nvPicPr>
        <p:blipFill>
          <a:blip r:embed="rId2"/>
          <a:stretch/>
        </p:blipFill>
        <p:spPr>
          <a:xfrm>
            <a:off x="755640" y="1773360"/>
            <a:ext cx="3448080" cy="415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81" name="Rectangle 2" descr=""/>
          <p:cNvPicPr/>
          <p:nvPr/>
        </p:nvPicPr>
        <p:blipFill>
          <a:blip r:embed="rId3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730000" cy="17254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IMG_1062.jpg"/>
          <p:cNvPicPr/>
          <p:nvPr/>
        </p:nvPicPr>
        <p:blipFill>
          <a:blip r:embed="rId2"/>
          <a:stretch/>
        </p:blipFill>
        <p:spPr>
          <a:xfrm>
            <a:off x="1187280" y="1989000"/>
            <a:ext cx="6143760" cy="460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a5b592"/>
            </a:solidFill>
            <a:miter/>
          </a:ln>
        </p:spPr>
      </p:pic>
      <p:sp>
        <p:nvSpPr>
          <p:cNvPr id="185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1231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Федор Иванович Тютчев(1803-1873)</a:t>
            </a:r>
            <a:r>
              <a:rPr b="0" lang="en-US" sz="20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Constantia"/>
              </a:rPr>
              <a:t>получил домашнее образование. В 1818 году был принят в число студентов ,а в 1819 году был избран членом Общества любителей российской словесности. В 1821 году поступает на службу в Государственную коллегию иностранных дел, отправляется работать в Мюнхен, там женится Элеоноре Петерсон ,имеет от нее трех дочерей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Содержимое 4" descr="DSC_0416.JPG"/>
          <p:cNvPicPr/>
          <p:nvPr/>
        </p:nvPicPr>
        <p:blipFill>
          <a:blip r:embed="rId2"/>
          <a:stretch/>
        </p:blipFill>
        <p:spPr>
          <a:xfrm>
            <a:off x="5076720" y="1413000"/>
            <a:ext cx="2357640" cy="4941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eleonora"/>
          <p:cNvPicPr/>
          <p:nvPr/>
        </p:nvPicPr>
        <p:blipFill>
          <a:blip r:embed="rId1"/>
          <a:stretch/>
        </p:blipFill>
        <p:spPr>
          <a:xfrm>
            <a:off x="3381480" y="2228760"/>
            <a:ext cx="2381040" cy="3162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90" name="Rectangle 2" descr=""/>
          <p:cNvPicPr/>
          <p:nvPr/>
        </p:nvPicPr>
        <p:blipFill>
          <a:blip r:embed="rId2"/>
          <a:stretch/>
        </p:blipFill>
        <p:spPr>
          <a:xfrm>
            <a:off x="615960" y="549360"/>
            <a:ext cx="8528040" cy="1066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9337680" cy="938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3_4_03b"/>
          <p:cNvPicPr/>
          <p:nvPr/>
        </p:nvPicPr>
        <p:blipFill>
          <a:blip r:embed="rId2"/>
          <a:stretch/>
        </p:blipFill>
        <p:spPr>
          <a:xfrm>
            <a:off x="468360" y="1125360"/>
            <a:ext cx="3857400" cy="5402520"/>
          </a:xfrm>
          <a:prstGeom prst="rect">
            <a:avLst/>
          </a:prstGeom>
          <a:ln w="76320">
            <a:solidFill>
              <a:srgbClr val="a5b592"/>
            </a:solidFill>
            <a:miter/>
          </a:ln>
        </p:spPr>
      </p:pic>
      <p:sp>
        <p:nvSpPr>
          <p:cNvPr id="193" name="Text Box 5"/>
          <p:cNvSpPr/>
          <p:nvPr/>
        </p:nvSpPr>
        <p:spPr>
          <a:xfrm>
            <a:off x="4390920" y="2205000"/>
            <a:ext cx="475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Arial"/>
              </a:rPr>
              <a:t>Ф.И Тютчев женился 2 раз в 1839 г. на Эрнестине Дернбер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Arial"/>
              </a:rPr>
              <a:t>Эрнестина Тютчева(1810-1894)Ф.И.Тютчев, второй му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2" descr="foto6_s"/>
          <p:cNvPicPr/>
          <p:nvPr/>
        </p:nvPicPr>
        <p:blipFill>
          <a:blip r:embed="rId1"/>
          <a:stretch/>
        </p:blipFill>
        <p:spPr>
          <a:xfrm>
            <a:off x="428760" y="1785960"/>
            <a:ext cx="4143240" cy="435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5" name="Rectangle 15"/>
          <p:cNvSpPr/>
          <p:nvPr/>
        </p:nvSpPr>
        <p:spPr>
          <a:xfrm>
            <a:off x="250920" y="2764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Елена Александровна Денисьева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(1826-1864) – «последняя любовь поэт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285920" y="571680"/>
            <a:ext cx="727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 advTm="5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User</cp:lastModifiedBy>
  <dcterms:modified xsi:type="dcterms:W3CDTF">2013-12-25T12:05:24Z</dcterms:modified>
  <cp:revision>37</cp:revision>
  <dc:subject/>
  <dc:title>Слайд 1</dc:title>
</cp:coreProperties>
</file>