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024-D3D0-4E0F-9C0A-8243B514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362-059B-45EE-9133-50E315A6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C772-E697-46D5-8286-F9798C19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B12-3BBE-4F12-A222-2EFF677E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D4894-A08F-40A8-9320-1474D3F5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D6120-7FAF-4292-A71A-3C4C56BB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04BFA-11BD-4696-94D3-E93B09A6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66651-4855-4EFC-B3AB-BA19F209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1D951-59BC-40EC-A808-48CDE92F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F870A-D16A-4DF1-B0BE-44DD7892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2C21B-DD0C-4C0A-9B51-2C3114D9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C8D-BBC2-4194-A96E-19AD6830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8A58D-A78D-4247-BFA9-76F3FA9E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32847-5CA6-49CD-82D4-75FD9319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85DD5-8B21-41AB-B42C-7F6921E8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A37D4-1AFF-41E5-A64F-1BF5DF12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62487-BAC6-4E0E-BDE3-F9E87CCF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33DB1-D4B1-4D6F-9AC0-2D4BCB2A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77E13-E94A-4CB2-A737-7182D64B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07FBC-5C63-455A-B7DF-92C817E7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D40E-AE97-401A-9ED1-9F3BF39C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C2FB9-C320-419C-9E4A-BA40F2A6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24F-E7DD-4DCA-AEB2-9D4BA4AE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B5DCF-7874-4A29-A9B8-9E3506ED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9F471-1665-43A3-B722-55EEC1FA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7A765-23EC-4C5F-9DF5-36CB5CE2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4165D-24B6-459F-8226-C498E5EE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65742-07A4-4ADE-95FA-EC155412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A690D-90D6-45E0-BE27-E92DB919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B97C6-C188-49C3-83EE-5838AF41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A68919-4804-4113-9D74-64F99585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65F39-A8A9-49A6-B474-DB60FAAA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6CF2F7-16EA-4D0B-BC20-0C093F7D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4E3-824B-4F54-B031-912B0338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4745FC-7836-43C6-8861-3C899674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8E6928-F240-4352-9B1E-F333398A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4DB934-40CA-443B-838D-96E34FE9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A73AB5-0574-4813-9C48-13330148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6CFC17-0593-496B-ACE1-029960C1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A59861-35E4-4471-B410-8C32C425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409ADB-956B-413C-8003-E86CB74E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CE6576-1225-4F64-B08A-695CC0EA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7D5866-F355-4CC7-BA27-A81EAB59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205-C17A-4F79-BBD6-318C53D9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ECE-058E-4F9A-8AE7-52920C50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6974-7736-4001-BDEC-AD0E717D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5AE-2C66-4BCE-A57B-E9320EB4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F6E-E226-4320-8056-B3E4D385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DF2F-4B88-4C61-959F-835D45DC788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B626-4199-4F33-BA71-C82EE617048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82E0-F43C-4ADA-9489-E942E9A4004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1F2A-DE64-42DE-94B5-2710AF0DC53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414288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nstantia"/>
              </a:rPr>
              <a:t>Ф.И.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onstantia"/>
              </a:rPr>
              <a:t>Тютчев родился 5 декабря 1803 года в родовой усадьбе Овстуг Орловской губерни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1328760" y="1487520"/>
            <a:ext cx="5870520" cy="20368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Tut_big.jpg"/>
          <p:cNvPicPr/>
          <p:nvPr/>
        </p:nvPicPr>
        <p:blipFill>
          <a:blip r:embed="rId2"/>
          <a:srcRect l="3026" t="0" r="0" b="8646"/>
          <a:stretch/>
        </p:blipFill>
        <p:spPr>
          <a:xfrm>
            <a:off x="5364000" y="836640"/>
            <a:ext cx="2738520" cy="3524400"/>
          </a:xfrm>
          <a:prstGeom prst="rect">
            <a:avLst/>
          </a:prstGeom>
          <a:ln w="76320">
            <a:solidFill>
              <a:srgbClr val="a5b592"/>
            </a:solidFill>
            <a:miter/>
          </a:ln>
        </p:spPr>
      </p:pic>
    </p:spTree>
  </p:cSld>
  <p:transition spd="med" advTm="5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Содержимое 4" descr="tut4ev_1.jpg"/>
          <p:cNvPicPr/>
          <p:nvPr/>
        </p:nvPicPr>
        <p:blipFill>
          <a:blip r:embed="rId1"/>
          <a:stretch/>
        </p:blipFill>
        <p:spPr>
          <a:xfrm>
            <a:off x="885960" y="857160"/>
            <a:ext cx="3543120" cy="5238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647960" y="928800"/>
            <a:ext cx="39956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Constantia"/>
              </a:rPr>
              <a:t>Русский поэт, член-корреспондент петербургской Академии Наук (1857). Духовно-напряженная философская поэзия Тютчева передает трагическое ощущение космических противоречий бытия. символический параллелизм в стихах о жизни природы, космические мотивы. Любовная лирика (в т. ч. стихи "Денисьевского цикла"). В публицистических статьях тяготел к панславизм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Содержимое 4" descr="tut4ev_2.jpg"/>
          <p:cNvPicPr/>
          <p:nvPr/>
        </p:nvPicPr>
        <p:blipFill>
          <a:blip r:embed="rId1"/>
          <a:stretch/>
        </p:blipFill>
        <p:spPr>
          <a:xfrm>
            <a:off x="714240" y="415800"/>
            <a:ext cx="3786480" cy="58708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785880"/>
            <a:ext cx="405936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В 1837 Тютчев был назначен первым секретарем Русской миссии в Турине, где пережил первую тяжелую утрату: умерла жена. В 1839 он вступил в новый брак. Служебный проступок Тютчева (самовольный отъезд в Швейцарию для венчания с Э. Дернберг) положил конец его дипломатической службе. 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7960" y="785880"/>
            <a:ext cx="40590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В 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br>
              <a:rPr sz="1800"/>
            </a:b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5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50720" y="-1212840"/>
            <a:ext cx="98136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4" descr="tutchev_0.jpeg"/>
          <p:cNvPicPr/>
          <p:nvPr/>
        </p:nvPicPr>
        <p:blipFill>
          <a:blip r:embed="rId2"/>
          <a:stretch/>
        </p:blipFill>
        <p:spPr>
          <a:xfrm>
            <a:off x="500040" y="500040"/>
            <a:ext cx="4322880" cy="52862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647960" y="285480"/>
            <a:ext cx="40590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В 1854 вышел первый сборник стихотворений, в этом же году был напечатан цикл стихов о любви, посвященных Елене Денисьевой. "Беззаконные" в глазах света отношения немолодого поэта с ровесницей его дочери продолжались в течение четырнадцати лет и были очень драматичны (Тютчев был женат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5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4" descr="19_09.gif"/>
          <p:cNvPicPr/>
          <p:nvPr/>
        </p:nvPicPr>
        <p:blipFill>
          <a:blip r:embed="rId1"/>
          <a:stretch/>
        </p:blipFill>
        <p:spPr>
          <a:xfrm>
            <a:off x="642960" y="1000080"/>
            <a:ext cx="3897360" cy="4975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</a:rPr>
              <a:t>С 1864 Тютчев несет одну потерю за другой: умирает от чахотки Денисьева, через год — двое их детей, его мат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</a:rPr>
              <a:t>Последние годы жизни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5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180px-Ovstug3"/>
          <p:cNvPicPr/>
          <p:nvPr/>
        </p:nvPicPr>
        <p:blipFill>
          <a:blip r:embed="rId1"/>
          <a:srcRect l="0" t="0" r="0" b="15367"/>
          <a:stretch/>
        </p:blipFill>
        <p:spPr>
          <a:xfrm>
            <a:off x="5148360" y="549360"/>
            <a:ext cx="3457440" cy="4392360"/>
          </a:xfrm>
          <a:prstGeom prst="rect">
            <a:avLst/>
          </a:prstGeom>
          <a:ln w="76320">
            <a:solidFill>
              <a:srgbClr val="a5b592"/>
            </a:solidFill>
            <a:miter/>
          </a:ln>
        </p:spPr>
      </p:pic>
      <p:sp>
        <p:nvSpPr>
          <p:cNvPr id="210" name="Rectangle 7"/>
          <p:cNvSpPr/>
          <p:nvPr/>
        </p:nvSpPr>
        <p:spPr>
          <a:xfrm>
            <a:off x="4716360" y="5084640"/>
            <a:ext cx="39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Памятник поэту в Овстуг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95280" y="1102680"/>
            <a:ext cx="460836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Не рассуждай, не хлопочи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Безумство ищет, глупость суди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Дневные раны сном леч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А завтра быть чему, то буд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Живя, умей все пережит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Печаль, и радость, и тревог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Чего желать? О чем тужи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День пережит - и слава богу!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Содержимое 3" descr="IMG_1057.jpg"/>
          <p:cNvPicPr/>
          <p:nvPr/>
        </p:nvPicPr>
        <p:blipFill>
          <a:blip r:embed="rId1"/>
          <a:stretch/>
        </p:blipFill>
        <p:spPr>
          <a:xfrm>
            <a:off x="1143000" y="642960"/>
            <a:ext cx="7445520" cy="5583240"/>
          </a:xfrm>
          <a:prstGeom prst="rect">
            <a:avLst/>
          </a:prstGeom>
          <a:ln w="0">
            <a:noFill/>
          </a:ln>
        </p:spPr>
      </p:pic>
      <p:pic>
        <p:nvPicPr>
          <p:cNvPr id="213" name="Заголовок 1" descr=""/>
          <p:cNvPicPr/>
          <p:nvPr/>
        </p:nvPicPr>
        <p:blipFill>
          <a:blip r:embed="rId2"/>
          <a:stretch/>
        </p:blipFill>
        <p:spPr>
          <a:xfrm>
            <a:off x="255600" y="731880"/>
            <a:ext cx="8437680" cy="772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utfatt"/>
          <p:cNvPicPr/>
          <p:nvPr/>
        </p:nvPicPr>
        <p:blipFill>
          <a:blip r:embed="rId1"/>
          <a:stretch/>
        </p:blipFill>
        <p:spPr>
          <a:xfrm>
            <a:off x="5219640" y="3429000"/>
            <a:ext cx="2571840" cy="2986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74" name="Picture 3" descr="tutmott"/>
          <p:cNvPicPr/>
          <p:nvPr/>
        </p:nvPicPr>
        <p:blipFill>
          <a:blip r:embed="rId2"/>
          <a:stretch/>
        </p:blipFill>
        <p:spPr>
          <a:xfrm>
            <a:off x="1258920" y="1052640"/>
            <a:ext cx="2571840" cy="2836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75" name="Text Box 6"/>
          <p:cNvSpPr/>
          <p:nvPr/>
        </p:nvSpPr>
        <p:spPr>
          <a:xfrm>
            <a:off x="468360" y="404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971640" y="189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Родители Тютче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763640" y="4653000"/>
            <a:ext cx="4143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И. Н. Тютчев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отец поэ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Book Antiqua"/>
              </a:rPr>
              <a:t>1768-184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Прямоугольник 9"/>
          <p:cNvSpPr/>
          <p:nvPr/>
        </p:nvSpPr>
        <p:spPr>
          <a:xfrm>
            <a:off x="3286080" y="1015920"/>
            <a:ext cx="48880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Е. А. Тютчев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мать поэ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Book Antiqua"/>
              </a:rPr>
              <a:t>1776-186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219640" y="1844640"/>
            <a:ext cx="3267000" cy="408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80" name="Picture 5" descr="12"/>
          <p:cNvPicPr/>
          <p:nvPr/>
        </p:nvPicPr>
        <p:blipFill>
          <a:blip r:embed="rId2"/>
          <a:stretch/>
        </p:blipFill>
        <p:spPr>
          <a:xfrm>
            <a:off x="755640" y="1773360"/>
            <a:ext cx="3448080" cy="4159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81" name="Rectangle 2" descr=""/>
          <p:cNvPicPr/>
          <p:nvPr/>
        </p:nvPicPr>
        <p:blipFill>
          <a:blip r:embed="rId3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ctangle 2" descr=""/>
          <p:cNvPicPr/>
          <p:nvPr/>
        </p:nvPicPr>
        <p:blipFill>
          <a:blip r:embed="rId1"/>
          <a:stretch/>
        </p:blipFill>
        <p:spPr>
          <a:xfrm>
            <a:off x="176040" y="189000"/>
            <a:ext cx="8730000" cy="17254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5" descr="IMG_1062.jpg"/>
          <p:cNvPicPr/>
          <p:nvPr/>
        </p:nvPicPr>
        <p:blipFill>
          <a:blip r:embed="rId2"/>
          <a:stretch/>
        </p:blipFill>
        <p:spPr>
          <a:xfrm>
            <a:off x="1187280" y="1989000"/>
            <a:ext cx="6143760" cy="4608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1191614"/>
          <p:cNvPicPr/>
          <p:nvPr/>
        </p:nvPicPr>
        <p:blipFill>
          <a:blip r:embed="rId1"/>
          <a:stretch/>
        </p:blipFill>
        <p:spPr>
          <a:xfrm>
            <a:off x="1116000" y="549360"/>
            <a:ext cx="6912000" cy="4924440"/>
          </a:xfrm>
          <a:prstGeom prst="rect">
            <a:avLst/>
          </a:prstGeom>
          <a:ln w="76320">
            <a:solidFill>
              <a:srgbClr val="a5b592"/>
            </a:solidFill>
            <a:miter/>
          </a:ln>
        </p:spPr>
      </p:pic>
      <p:sp>
        <p:nvSpPr>
          <p:cNvPr id="185" name="Text Box 6"/>
          <p:cNvSpPr/>
          <p:nvPr/>
        </p:nvSpPr>
        <p:spPr>
          <a:xfrm>
            <a:off x="468360" y="56833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ahoma"/>
              </a:rPr>
              <a:t>Усадьба была разрушена в 1914г., восстановлена в 1986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1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</a:rPr>
              <a:t>Федор Иванович Тютчев(1803-1873)</a:t>
            </a:r>
            <a:r>
              <a:rPr b="0" lang="en-US" sz="2000" spc="-1" strike="noStrike">
                <a:solidFill>
                  <a:srgbClr val="0d0d0d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Constantia"/>
              </a:rPr>
              <a:t>получил домашнее образование. В 1818 году был принят в число студентов ,а в 1819 году был избран членом Общества любителей российской словесности. В 1821 году поступает на службу в Государственную коллегию иностранных дел, отправляется работать в Мюнхен, там женится Элеоноре Петерсон ,имеет от нее трех дочерей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Содержимое 4" descr="DSC_0416.JPG"/>
          <p:cNvPicPr/>
          <p:nvPr/>
        </p:nvPicPr>
        <p:blipFill>
          <a:blip r:embed="rId2"/>
          <a:stretch/>
        </p:blipFill>
        <p:spPr>
          <a:xfrm>
            <a:off x="5076720" y="1413000"/>
            <a:ext cx="2357640" cy="4941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eleonora"/>
          <p:cNvPicPr/>
          <p:nvPr/>
        </p:nvPicPr>
        <p:blipFill>
          <a:blip r:embed="rId1"/>
          <a:stretch/>
        </p:blipFill>
        <p:spPr>
          <a:xfrm>
            <a:off x="3381480" y="2228760"/>
            <a:ext cx="2381040" cy="3162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90" name="Rectangle 2" descr=""/>
          <p:cNvPicPr/>
          <p:nvPr/>
        </p:nvPicPr>
        <p:blipFill>
          <a:blip r:embed="rId2"/>
          <a:stretch/>
        </p:blipFill>
        <p:spPr>
          <a:xfrm>
            <a:off x="615960" y="549360"/>
            <a:ext cx="8528040" cy="1066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396720" y="0"/>
            <a:ext cx="9337680" cy="938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3_4_03b"/>
          <p:cNvPicPr/>
          <p:nvPr/>
        </p:nvPicPr>
        <p:blipFill>
          <a:blip r:embed="rId2"/>
          <a:stretch/>
        </p:blipFill>
        <p:spPr>
          <a:xfrm>
            <a:off x="468360" y="1125360"/>
            <a:ext cx="3857400" cy="5402520"/>
          </a:xfrm>
          <a:prstGeom prst="rect">
            <a:avLst/>
          </a:prstGeom>
          <a:ln w="76320">
            <a:solidFill>
              <a:srgbClr val="a5b592"/>
            </a:solidFill>
            <a:miter/>
          </a:ln>
        </p:spPr>
      </p:pic>
      <p:sp>
        <p:nvSpPr>
          <p:cNvPr id="193" name="Text Box 5"/>
          <p:cNvSpPr/>
          <p:nvPr/>
        </p:nvSpPr>
        <p:spPr>
          <a:xfrm>
            <a:off x="4390920" y="2205000"/>
            <a:ext cx="4753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Arial"/>
              </a:rPr>
              <a:t>Ф.И Тютчев женился 2 раз в 1839 г. на Эрнестине Дернберг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Arial"/>
              </a:rPr>
              <a:t>Эрнестина Тютчева(1810-1894)Ф.И.Тютчев, второй муж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2" descr="foto6_s"/>
          <p:cNvPicPr/>
          <p:nvPr/>
        </p:nvPicPr>
        <p:blipFill>
          <a:blip r:embed="rId1"/>
          <a:stretch/>
        </p:blipFill>
        <p:spPr>
          <a:xfrm>
            <a:off x="428760" y="1785960"/>
            <a:ext cx="4143240" cy="435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95" name="Rectangle 15"/>
          <p:cNvSpPr/>
          <p:nvPr/>
        </p:nvSpPr>
        <p:spPr>
          <a:xfrm>
            <a:off x="250920" y="27648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Елена Александровна Денисьева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(1826-1864) – «последняя любовь поэт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1285920" y="571680"/>
            <a:ext cx="7272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12" descr="deniseva_0"/>
          <p:cNvPicPr/>
          <p:nvPr/>
        </p:nvPicPr>
        <p:blipFill>
          <a:blip r:embed="rId2">
            <a:grayscl/>
          </a:blip>
          <a:stretch/>
        </p:blipFill>
        <p:spPr>
          <a:xfrm>
            <a:off x="5003640" y="1700280"/>
            <a:ext cx="3238560" cy="4092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 advTm="5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1:20:24Z</dcterms:created>
  <dc:creator>user</dc:creator>
  <dc:description/>
  <dc:language>en-US</dc:language>
  <cp:lastModifiedBy>User</cp:lastModifiedBy>
  <dcterms:modified xsi:type="dcterms:W3CDTF">2013-12-25T12:05:24Z</dcterms:modified>
  <cp:revision>37</cp:revision>
  <dc:subject/>
  <dc:title>Слайд 1</dc:title>
</cp:coreProperties>
</file>