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7FC-9068-41AB-B649-A0D1C0F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13E-01D1-4B3E-AC36-BCE8FC41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89A-A3F3-44BC-9486-35239270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44C-DA5A-4FF8-A4E7-D4BC5E5D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5A0-0D81-4B15-99A4-C0B19F4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5DF-99E1-49EF-A446-011A57D4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7D4-8491-4FD2-896F-67E9429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BFB-FD43-49D9-8F27-4C0BF9B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DE4-D4A0-44D1-BE72-BF535C2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C65-2035-42E4-9922-626D4FB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513-B883-406B-A3E7-FA9A7C0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BD4-AE35-40EA-96BE-72B4532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3B4-280A-4F77-9E40-01EE7829E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сследовательский подход в экологическом воспитании учащих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кскурсии на Суру в район Симкинского лес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йкина Л.А.-учитель биологии 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 Комсомольская СОШ №1»»  Чамзинского района Республики Морд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вращение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у сур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у суры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видового состава ихтиофауны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рыба"/>
          <p:cNvPicPr/>
          <p:nvPr/>
        </p:nvPicPr>
        <p:blipFill>
          <a:blip r:embed="rId1"/>
          <a:stretch/>
        </p:blipFill>
        <p:spPr>
          <a:xfrm>
            <a:off x="0" y="1673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колонии береговых лас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ны следы жизнедеятельности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ласточкины гнезда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тка экспериментальных площа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звен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методики описания фитоценозов сосняка-зеленомош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в сосновом лесу"/>
          <p:cNvPicPr/>
          <p:nvPr/>
        </p:nvPicPr>
        <p:blipFill>
          <a:blip r:embed="rId1"/>
          <a:stretch/>
        </p:blipFill>
        <p:spPr>
          <a:xfrm>
            <a:off x="0" y="260280"/>
            <a:ext cx="468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ыполн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дены итоги 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остановка в лесу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я в широколист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популяций папоротника-страус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у папоротников"/>
          <p:cNvPicPr/>
          <p:nvPr/>
        </p:nvPicPr>
        <p:blipFill>
          <a:blip r:embed="rId1"/>
          <a:stretch/>
        </p:blipFill>
        <p:spPr>
          <a:xfrm>
            <a:off x="-18108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у папоротников"/>
          <p:cNvPicPr/>
          <p:nvPr/>
        </p:nvPicPr>
        <p:blipFill>
          <a:blip r:embed="rId2"/>
          <a:stretch/>
        </p:blipFill>
        <p:spPr>
          <a:xfrm>
            <a:off x="-18108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ященная поляна»-памятник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у дуба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упле дуба на «Священной полян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в дупле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какой вышины, вот какой ширин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бхват дуба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следы жизнедеятельности бобров на озере Долго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леды бобров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и экскурс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учить биоразнообразие природных ландшафтов Присур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вать практические умения и навыки учащихся в освоении простейших методик исследования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спитать бережное отношение к родной природе,  экологическое созна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я палаточного горо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хтиологические экскурсии на С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нитологические экскур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и в сосняк-зеленомош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и в широколиственный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я на Бобровое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ановка палаточного городка на берегу С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палаточный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к здорово, что все мы здесь сегодня собрались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у костра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ход на озеро Трост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одуван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, новый поворо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Без имени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время розлива Суры на берег выброшено огромное дер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на дереве у суры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рские просто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два дерева у сур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44:08Z</dcterms:created>
  <dc:creator>user</dc:creator>
  <dc:description/>
  <dc:language>en-US</dc:language>
  <cp:lastModifiedBy>Home</cp:lastModifiedBy>
  <dcterms:modified xsi:type="dcterms:W3CDTF">2014-01-21T15:25:25Z</dcterms:modified>
  <cp:revision>23</cp:revision>
  <dc:subject/>
  <dc:title>Исследовательская деятельность учащихся по биологии.</dc:title>
</cp:coreProperties>
</file>