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623-4B51-43B0-90A4-2C2A9CC1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6BD-C85A-486F-86BA-04A95670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2A4-5C71-476C-87C5-924ACDFD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975-ABE9-49C1-879D-2C4C1EC9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4674-C723-4E30-A252-51374A0E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3CF-1AC7-4524-9AFA-4AFBE1EF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FFFA-04D9-4695-AE3F-D7CF060F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5B1A-09F2-4842-A26F-A67431F8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2FA-5F02-45DD-8834-DD1A133F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BF58-F96F-4246-8B22-6DFC02E0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87B-26FD-42A0-9318-1E79CFC6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466-EE54-4516-902C-7EAD218D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7BFF-BBC0-41F8-9E07-E0C4A734C5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8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сследовательский подход в экологическом воспитании учащих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Экскурсии на Суру в район Симкинского лесни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йкина Л.А.-учитель биологии и хи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 Комсомольская СОШ №1»»  Чамзинского района Республики Мордо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вращение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у суры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у суры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учение видового состава ихтиофауны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рыба"/>
          <p:cNvPicPr/>
          <p:nvPr/>
        </p:nvPicPr>
        <p:blipFill>
          <a:blip r:embed="rId1"/>
          <a:stretch/>
        </p:blipFill>
        <p:spPr>
          <a:xfrm>
            <a:off x="0" y="167328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наружены колонии береговых ласт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ены следы жизнедеятельности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ласточкины гнезда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1600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тка экспериментальных площад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в звень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ение методики описания фитоценозов сосняка-зеленомош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в сосновом лесу"/>
          <p:cNvPicPr/>
          <p:nvPr/>
        </p:nvPicPr>
        <p:blipFill>
          <a:blip r:embed="rId1"/>
          <a:stretch/>
        </p:blipFill>
        <p:spPr>
          <a:xfrm>
            <a:off x="0" y="260280"/>
            <a:ext cx="4680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выполн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едены итоги  экскур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остановка в лесу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курсия в широколиств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популяций папоротника-страус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у папоротников"/>
          <p:cNvPicPr/>
          <p:nvPr/>
        </p:nvPicPr>
        <p:blipFill>
          <a:blip r:embed="rId1"/>
          <a:stretch/>
        </p:blipFill>
        <p:spPr>
          <a:xfrm>
            <a:off x="-18108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у папоротников"/>
          <p:cNvPicPr/>
          <p:nvPr/>
        </p:nvPicPr>
        <p:blipFill>
          <a:blip r:embed="rId2"/>
          <a:stretch/>
        </p:blipFill>
        <p:spPr>
          <a:xfrm>
            <a:off x="-18108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259920"/>
            <a:ext cx="740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ященная поляна»-памятник прир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у дуба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упле дуба на «Священной полян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в дупле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 какой вышины, вот какой ширин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обхват дуба"/>
          <p:cNvPicPr/>
          <p:nvPr/>
        </p:nvPicPr>
        <p:blipFill>
          <a:blip r:embed="rId1"/>
          <a:stretch/>
        </p:blipFill>
        <p:spPr>
          <a:xfrm>
            <a:off x="539640" y="1557360"/>
            <a:ext cx="8136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наружены следы жизнедеятельности бобров на озере Долго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следы бобров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Цели экскурси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зучить биоразнообразие природных ландшафтов Присур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звивать практические умения и навыки учащихся в освоении простейших методик исследования;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спитать бережное отношение к родной природе,  экологическое сознание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лан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рганизация палаточного горо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хтиологические экскурсии на Су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рнитологические экскур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Экскурсии в сосняк-зеленомош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Экскурсии в широколиственный л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Экскурсия на Бобровое озе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тановка палаточного городка на берегу Су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палаточный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Как здорово, что все мы здесь сегодня собрались!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у костра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ход на озеро Тростно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одуван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т, новый поворо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Без имени-1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 время розлива Суры на берег выброшено огромное дере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на дереве у суры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рские просто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два дерева у суры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09:44:08Z</dcterms:created>
  <dc:creator>user</dc:creator>
  <dc:description/>
  <dc:language>en-US</dc:language>
  <cp:lastModifiedBy>Home</cp:lastModifiedBy>
  <dcterms:modified xsi:type="dcterms:W3CDTF">2014-01-21T15:25:25Z</dcterms:modified>
  <cp:revision>23</cp:revision>
  <dc:subject/>
  <dc:title>Исследовательская деятельность учащихся по биологии.</dc:title>
</cp:coreProperties>
</file>