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E92-CC3D-4ACB-89E7-87A38F7F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F67D-B62B-439D-82EB-4DF0DBA0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6D6-B669-4054-A932-0E7B74B8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9A3-F3FB-4E74-A943-EF5BFEBA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71CB-AD51-4627-8A84-519F2190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BFA-3D42-484B-BF1C-4E0ED838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1209-97CF-4586-B973-A2A9B1B5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EC96-8E50-4335-8EB4-E5AD888D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0CC-CCB9-459E-8F30-8A9A9DF6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7CD1-8E1C-4999-B16E-EDE981CD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23E-72DC-4D89-AF91-73A8AE77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9365-64D2-4F88-BAF6-2B069F4B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D52C-862A-4351-B186-018E61913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ымковский петуш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0920" y="6480"/>
            <a:ext cx="504216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38320" y="19080"/>
            <a:ext cx="50673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14640" y="19080"/>
            <a:ext cx="49147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06640" y="19080"/>
            <a:ext cx="51307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25720" y="12600"/>
            <a:ext cx="50925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24040" y="852480"/>
            <a:ext cx="38959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6480"/>
            <a:ext cx="504216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10T03:35:23Z</dcterms:modified>
  <cp:revision>14</cp:revision>
  <dc:subject/>
  <dc:title>Слайд 1</dc:title>
</cp:coreProperties>
</file>