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DA9-3934-4776-9B11-12B06971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C7B-C358-4629-A6B7-521C8FDA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7DB-1B00-468F-9A31-8AF0A0F3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438-9A14-4200-B9E4-9AE51285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5CB-8CCF-45EC-984E-6E6C4DBC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0FE-A941-48E4-BEAB-C0220947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8AB-AD33-4B06-A502-73C4060E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731-0989-49D6-AD3C-56DDDA68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162-B7A1-40E5-BC41-0BFA1267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A6D-81ED-4C39-AAA7-5B7260B3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956-D68C-49D0-82EE-64F69549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516-A6FD-4A2F-A401-58B764F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56DC-13D9-4BA4-B021-DF039510E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ий петуш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6480"/>
            <a:ext cx="5042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14640" y="19080"/>
            <a:ext cx="4914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19080"/>
            <a:ext cx="5130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25720" y="12600"/>
            <a:ext cx="50925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4040" y="852480"/>
            <a:ext cx="38959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6480"/>
            <a:ext cx="5042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35:23Z</dcterms:modified>
  <cp:revision>14</cp:revision>
  <dc:subject/>
  <dc:title>Слайд 1</dc:title>
</cp:coreProperties>
</file>