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DBF0-FAAA-4CD1-86C9-7E325AB3AA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91FE-FA4D-4F15-A70C-A52977B835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ABD-55F7-4EE2-8C05-16872463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444-E3AD-4AD1-A532-CA3F2E39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80B-CFBF-46DD-AB70-C0930E2D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F87-5C17-46F5-9E7A-974C5BC8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455C-9231-45A3-9067-9BE8076A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2BE8-6020-49D5-ADE0-513187BA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71CB-D677-4CB2-8790-8529E9CC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AA9A-2ED1-44FE-8FA7-EA64D729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6251-93A9-4A9B-9321-A3B20F91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74AD-315D-4E80-A26B-69024CC5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1FCD-458E-4218-BB08-98B9BAF0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A63-4803-438E-9062-117739B9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2A5B-415A-4A8A-B0EB-EEFB1183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2617-CEF7-4E9B-ADA9-956706BE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B68F-96D9-4D55-8BEF-22D04C60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D5CF-87E9-452E-B790-9849F19F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6925-99AB-4260-B830-EFF3762B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87ED2-CBC1-492B-81D5-4AE4273D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F518-6F98-4C67-B7BB-226F1256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5700-84F3-4313-B46D-A13AF540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90440-2C68-42A6-9F75-764D5CBB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79199-C1F7-4BC3-8191-102A9738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EA9-193A-41F1-B2A5-2A03B8AE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B3EE3-E17F-4B09-A63C-7F4BEDD2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4D8E-A631-4ED7-8F78-491F1C13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DB5A-81B1-41C1-B297-A94CA14D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6B199-67D4-4ECB-923C-9221041B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DEFF7-3ADD-4266-A660-A47712EC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71F9D-9411-401E-980D-07B9A6E3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DE05F-7AB2-4924-9FFA-FC170CF5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88379-3914-4D47-A74D-198E3A59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1AEB7-801C-4591-808D-C1A1BE7B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C04FF-2FB3-4384-83B4-BC8B2756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A78-5D90-4549-931F-AA4D3C10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C296A-55E1-4F30-83F2-BFF61E81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87397-9B1E-49AF-A174-0D68F320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6764C-685F-401C-A47A-BA40559B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81CE6-7736-48E3-BE6C-3FBFF110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03317-50A9-4F06-B342-0EAB250F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361A5-6F6D-4B65-8163-EA4D9970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39AE4-D150-4617-8C01-CF25E2DF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A0EDB-3987-4EA5-857D-C483682B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8C3DC-3D32-4E8D-B756-3BA59A8A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CF12D-4719-46F3-B1C7-923D89E7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3DC-38F6-45F9-88AE-C6DF2C95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BD7F9-1E2A-44A8-90CE-B8A12919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A84F7-C8DF-440A-9FDC-AFA0E8C2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4990C-83E5-4544-849E-6ECFAF83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D1413-11D1-4641-8FA7-57167501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3A6A3-B2DE-44F5-A930-88B7E57C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96AFB-A555-4FE5-AE4F-BE2E823A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45596-B27E-4E58-BEEA-A3412851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40640-4B72-455A-92B2-466950C4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E661D-FB8E-4956-B1E1-D6D21E24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6B8AA-AB7B-444F-8B10-6298007B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5AA8-794A-4FE3-86AD-8E1E4B43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67B12-13BC-4624-B87D-51B0808D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E2C85-D8B3-4994-8C15-16AD9682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AAEC1-1EC0-4D7B-8C07-835B590D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A6DFC-B79F-44FB-B02E-01AC1CCA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E2794-1C12-4D2B-A2E2-934E8C1F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3484F-ECA6-4ADE-96D0-944AAF77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2C8F6-CB24-443B-9DF5-AC5B16FF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A31BF-E7BB-4A3F-AE18-EF25484D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868A1-2307-43A3-9CB1-2C5D014C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2420F-E5E3-4A7E-A852-4AE9E94F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EA5-B53A-45BA-A268-69EE012D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6ACF0-CF7F-46F6-8FE1-7719CEF2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B33CE-9C19-4EED-90EA-EFE28264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ACD51-9489-47DF-A54D-889E1FE5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9E4DB-3BA5-4CD7-BBF4-2CA6144F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4A2D1-F952-4FEF-B7D6-A71F2A46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3ED7D-250B-49A5-ADD6-B787E525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8311A-37ED-40C5-B760-A7DE4882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4CE14-1C67-4914-979A-4612742C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CB196-4857-4104-ABFD-89C4BED1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407AC-92B6-4835-964C-FD1047C2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E28-EB16-420B-B1D2-5F943F0A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43E13-038F-490F-ABA8-C5C75269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FFD6E-9B5C-440C-9EF1-48DAC169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69E32-D89C-4472-BECF-693B25A5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592E4-04E2-4919-92CE-CFC9E123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36D2B-66EB-4D88-8229-01586883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879-CF34-490B-9ABB-12B87AB3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F636-E920-43CA-BE10-F1737960132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188A-CB7E-4FAC-B8ED-5A15485D19F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3155-1E20-41C8-A873-46AC6A6D2D9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AD84-8219-41D9-9700-6FDAAFF56E4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72B0-6717-4BA6-8FD9-7BAD67D0973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ADD6-6C5A-4090-ABB1-D503F5F2E67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E3B5-C9E5-4CA2-A063-1F13CBCCCF4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428640" y="4643280"/>
            <a:ext cx="5073480" cy="1198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Verdana"/>
              </a:rPr>
              <a:t>Ермолаева Светлана Анатольев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Verdana"/>
              </a:rPr>
              <a:t>МБОУ СОШ №1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Verdana"/>
              </a:rPr>
              <a:t>Г.Узловая Тульская об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Verdana"/>
              </a:rPr>
              <a:t>201</a:t>
            </a:r>
            <a:r>
              <a:rPr b="1" lang="en-US" sz="1600" spc="-1" strike="noStrike">
                <a:solidFill>
                  <a:srgbClr val="262626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Прямоугольник 10" descr=""/>
          <p:cNvPicPr/>
          <p:nvPr/>
        </p:nvPicPr>
        <p:blipFill>
          <a:blip r:embed="rId1"/>
          <a:stretch/>
        </p:blipFill>
        <p:spPr>
          <a:xfrm>
            <a:off x="536400" y="695160"/>
            <a:ext cx="8180640" cy="1146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07f09"/>
                </a:solidFill>
                <a:latin typeface="Verdana"/>
              </a:rPr>
              <a:t>Назовите виды изомерии</a:t>
            </a: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98" name="Picture 3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336160" cy="4807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ределите изомер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2" descr="C:\Documents and Settings\Admin\Мои документы\Мои рисунки\2008-09-11\Image0003.BMP"/>
          <p:cNvPicPr/>
          <p:nvPr/>
        </p:nvPicPr>
        <p:blipFill>
          <a:blip r:embed="rId2"/>
          <a:srcRect l="1922" t="6635" r="2175" b="0"/>
          <a:stretch/>
        </p:blipFill>
        <p:spPr>
          <a:xfrm>
            <a:off x="428760" y="428760"/>
            <a:ext cx="837252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еория строения и  изомер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вление изомерии было открыто в 1823г. Либихом и Вёлер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иановая кисл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-O-C  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емучая кисл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-O-N  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Прямая соединительная линия 9"/>
          <p:cNvSpPr/>
          <p:nvPr/>
        </p:nvSpPr>
        <p:spPr>
          <a:xfrm>
            <a:off x="2143080" y="2571840"/>
            <a:ext cx="21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Прямая соединительная линия 11"/>
          <p:cNvSpPr/>
          <p:nvPr/>
        </p:nvSpPr>
        <p:spPr>
          <a:xfrm>
            <a:off x="2143080" y="2643120"/>
            <a:ext cx="21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Прямая соединительная линия 12"/>
          <p:cNvSpPr/>
          <p:nvPr/>
        </p:nvSpPr>
        <p:spPr>
          <a:xfrm>
            <a:off x="2143080" y="2714760"/>
            <a:ext cx="21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Прямая соединительная линия 13"/>
          <p:cNvSpPr/>
          <p:nvPr/>
        </p:nvSpPr>
        <p:spPr>
          <a:xfrm>
            <a:off x="2143080" y="4000680"/>
            <a:ext cx="21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Прямая соединительная линия 14"/>
          <p:cNvSpPr/>
          <p:nvPr/>
        </p:nvSpPr>
        <p:spPr>
          <a:xfrm>
            <a:off x="2143080" y="4071960"/>
            <a:ext cx="21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Прямая соединительная линия 15"/>
          <p:cNvSpPr/>
          <p:nvPr/>
        </p:nvSpPr>
        <p:spPr>
          <a:xfrm>
            <a:off x="2143080" y="4143240"/>
            <a:ext cx="21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Organization Chart 7"/>
          <p:cNvGrpSpPr/>
          <p:nvPr/>
        </p:nvGrpSpPr>
        <p:grpSpPr>
          <a:xfrm>
            <a:off x="357120" y="357120"/>
            <a:ext cx="8532000" cy="5647680"/>
            <a:chOff x="357120" y="357120"/>
            <a:chExt cx="8532000" cy="5647680"/>
          </a:xfrm>
        </p:grpSpPr>
        <p:cxnSp>
          <p:nvCxnSpPr>
            <p:cNvPr id="328" name="_s1028"/>
            <p:cNvCxnSpPr>
              <a:stCxn id="329" idx="1"/>
            </p:cNvCxnSpPr>
            <p:nvPr/>
          </p:nvCxnSpPr>
          <p:spPr>
            <a:xfrm rot="10800000">
              <a:off x="6368400" y="3886560"/>
              <a:ext cx="692640" cy="1604880"/>
            </a:xfrm>
            <a:prstGeom prst="bentConnector2">
              <a:avLst/>
            </a:prstGeom>
            <a:ln w="31680">
              <a:solidFill>
                <a:srgbClr val="ffff00"/>
              </a:solidFill>
              <a:miter/>
              <a:headEnd len="lg" type="stealth" w="lg"/>
            </a:ln>
          </p:spPr>
        </p:cxnSp>
        <p:cxnSp>
          <p:nvCxnSpPr>
            <p:cNvPr id="330" name="_s1029"/>
            <p:cNvCxnSpPr/>
            <p:nvPr/>
          </p:nvCxnSpPr>
          <p:spPr>
            <a:xfrm flipV="1" rot="16200000">
              <a:off x="6153480" y="3163680"/>
              <a:ext cx="1080720" cy="650160"/>
            </a:xfrm>
            <a:prstGeom prst="bentConnector3">
              <a:avLst>
                <a:gd name="adj1" fmla="val -433"/>
              </a:avLst>
            </a:prstGeom>
            <a:ln w="31680">
              <a:solidFill>
                <a:srgbClr val="ffff00"/>
              </a:solidFill>
              <a:miter/>
              <a:headEnd len="lg" type="stealth" w="lg"/>
            </a:ln>
          </p:spPr>
        </p:cxnSp>
        <p:cxnSp>
          <p:nvCxnSpPr>
            <p:cNvPr id="331" name="_s1030"/>
            <p:cNvCxnSpPr>
              <a:endCxn id="332" idx="3"/>
            </p:cNvCxnSpPr>
            <p:nvPr/>
          </p:nvCxnSpPr>
          <p:spPr>
            <a:xfrm flipV="1" rot="16200000">
              <a:off x="3994560" y="2733480"/>
              <a:ext cx="970920" cy="324360"/>
            </a:xfrm>
            <a:prstGeom prst="bentConnector2">
              <a:avLst/>
            </a:prstGeom>
            <a:ln w="31680">
              <a:solidFill>
                <a:srgbClr val="ffff00"/>
              </a:solidFill>
              <a:miter/>
              <a:headEnd len="lg" type="stealth" w="lg"/>
            </a:ln>
          </p:spPr>
        </p:cxnSp>
        <p:cxnSp>
          <p:nvCxnSpPr>
            <p:cNvPr id="333" name="_s1031"/>
            <p:cNvCxnSpPr>
              <a:stCxn id="334" idx="0"/>
            </p:cNvCxnSpPr>
            <p:nvPr/>
          </p:nvCxnSpPr>
          <p:spPr>
            <a:xfrm flipH="1" flipV="1" rot="5400000">
              <a:off x="1898640" y="3639240"/>
              <a:ext cx="1801080" cy="419400"/>
            </a:xfrm>
            <a:prstGeom prst="bentConnector3">
              <a:avLst>
                <a:gd name="adj1" fmla="val 61275"/>
              </a:avLst>
            </a:prstGeom>
            <a:ln w="31680">
              <a:solidFill>
                <a:srgbClr val="ffff00"/>
              </a:solidFill>
              <a:miter/>
              <a:headEnd len="lg" type="stealth" w="lg"/>
            </a:ln>
          </p:spPr>
        </p:cxnSp>
        <p:cxnSp>
          <p:nvCxnSpPr>
            <p:cNvPr id="335" name="_s1032"/>
            <p:cNvCxnSpPr>
              <a:stCxn id="336" idx="0"/>
              <a:endCxn id="332" idx="1"/>
            </p:cNvCxnSpPr>
            <p:nvPr/>
          </p:nvCxnSpPr>
          <p:spPr>
            <a:xfrm flipH="1" flipV="1" rot="5400000">
              <a:off x="1366560" y="2314440"/>
              <a:ext cx="1027440" cy="1219320"/>
            </a:xfrm>
            <a:prstGeom prst="bentConnector2">
              <a:avLst/>
            </a:prstGeom>
            <a:ln w="31680">
              <a:solidFill>
                <a:srgbClr val="ffff00"/>
              </a:solidFill>
              <a:miter/>
              <a:headEnd len="lg" type="stealth" w="lg"/>
            </a:ln>
          </p:spPr>
        </p:cxnSp>
        <p:cxnSp>
          <p:nvCxnSpPr>
            <p:cNvPr id="337" name="_s1033"/>
            <p:cNvCxnSpPr>
              <a:stCxn id="338" idx="0"/>
              <a:endCxn id="339" idx="2"/>
            </p:cNvCxnSpPr>
            <p:nvPr/>
          </p:nvCxnSpPr>
          <p:spPr>
            <a:xfrm flipV="1" rot="16200000">
              <a:off x="5750280" y="713160"/>
              <a:ext cx="514080" cy="1854360"/>
            </a:xfrm>
            <a:prstGeom prst="bentConnector3">
              <a:avLst>
                <a:gd name="adj1" fmla="val 47302"/>
              </a:avLst>
            </a:prstGeom>
            <a:ln w="31680">
              <a:solidFill>
                <a:srgbClr val="ffff00"/>
              </a:solidFill>
              <a:miter/>
              <a:headEnd len="lg" type="stealth" w="lg"/>
            </a:ln>
          </p:spPr>
        </p:cxnSp>
        <p:cxnSp>
          <p:nvCxnSpPr>
            <p:cNvPr id="340" name="_s1034"/>
            <p:cNvCxnSpPr/>
            <p:nvPr/>
          </p:nvCxnSpPr>
          <p:spPr>
            <a:xfrm flipH="1" flipV="1" rot="5400000">
              <a:off x="3999600" y="782640"/>
              <a:ext cx="510840" cy="1676520"/>
            </a:xfrm>
            <a:prstGeom prst="bentConnector3">
              <a:avLst>
                <a:gd name="adj1" fmla="val 45133"/>
              </a:avLst>
            </a:prstGeom>
            <a:ln w="31680">
              <a:solidFill>
                <a:srgbClr val="ffff00"/>
              </a:solidFill>
              <a:miter/>
              <a:headEnd len="lg" type="stealth" w="lg"/>
            </a:ln>
          </p:spPr>
        </p:cxnSp>
        <p:sp>
          <p:nvSpPr>
            <p:cNvPr id="339" name="_s1035"/>
            <p:cNvSpPr/>
            <p:nvPr/>
          </p:nvSpPr>
          <p:spPr>
            <a:xfrm>
              <a:off x="4166280" y="357120"/>
              <a:ext cx="1828080" cy="102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73c04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Виды изомерии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2" name="_s1036"/>
            <p:cNvSpPr/>
            <p:nvPr/>
          </p:nvSpPr>
          <p:spPr>
            <a:xfrm>
              <a:off x="2490120" y="1897200"/>
              <a:ext cx="1828080" cy="102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73c04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Структурная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8" name="_s1037"/>
            <p:cNvSpPr/>
            <p:nvPr/>
          </p:nvSpPr>
          <p:spPr>
            <a:xfrm>
              <a:off x="5842080" y="1897200"/>
              <a:ext cx="2183760" cy="102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73c04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Пространственная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6" name="_s1038"/>
            <p:cNvSpPr/>
            <p:nvPr/>
          </p:nvSpPr>
          <p:spPr>
            <a:xfrm>
              <a:off x="357120" y="3437640"/>
              <a:ext cx="1828080" cy="102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73c04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Углеродного 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скелета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4" name="_s1039"/>
            <p:cNvSpPr/>
            <p:nvPr/>
          </p:nvSpPr>
          <p:spPr>
            <a:xfrm>
              <a:off x="1402560" y="4749840"/>
              <a:ext cx="2372040" cy="102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73c04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Положения 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(ФГ или 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кратной связи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1" name="_s1040"/>
            <p:cNvSpPr/>
            <p:nvPr/>
          </p:nvSpPr>
          <p:spPr>
            <a:xfrm>
              <a:off x="3489120" y="3381120"/>
              <a:ext cx="1825920" cy="102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73c04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Межклассовая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7018920" y="3452040"/>
              <a:ext cx="1828080" cy="102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73c04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Геометрическая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9" name="_s1042"/>
            <p:cNvSpPr/>
            <p:nvPr/>
          </p:nvSpPr>
          <p:spPr>
            <a:xfrm>
              <a:off x="7061040" y="4978080"/>
              <a:ext cx="1828080" cy="102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73c04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Оптическая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труктурная изомерия.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зомерия углеродного скелет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Бута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Н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СН</a:t>
            </a: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-СН</a:t>
            </a: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СН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06344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91440" bIns="4680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зобута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Н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-СН–СН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СН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Н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rcRect l="10910" t="9695" r="10947" b="10360"/>
          <a:stretch/>
        </p:blipFill>
        <p:spPr>
          <a:xfrm>
            <a:off x="714240" y="2286000"/>
            <a:ext cx="3444840" cy="2643120"/>
          </a:xfrm>
          <a:prstGeom prst="rect">
            <a:avLst/>
          </a:prstGeom>
          <a:ln w="9360">
            <a:solidFill>
              <a:srgbClr val="f07f09"/>
            </a:solidFill>
            <a:miter/>
          </a:ln>
        </p:spPr>
      </p:pic>
      <p:sp>
        <p:nvSpPr>
          <p:cNvPr id="347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2"/>
          <a:srcRect l="12800" t="10672" r="13586" b="10380"/>
          <a:stretch/>
        </p:blipFill>
        <p:spPr>
          <a:xfrm>
            <a:off x="4929120" y="2286000"/>
            <a:ext cx="3286080" cy="26431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349" name="Прямая соединительная линия 11"/>
          <p:cNvSpPr/>
          <p:nvPr/>
        </p:nvSpPr>
        <p:spPr>
          <a:xfrm>
            <a:off x="5572080" y="107172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труктурная изомерия.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зомерия положения кратной связ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61320" cy="4495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С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–СН=СН–С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С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=СН–С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–С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4373640" y="2487600"/>
          <a:ext cx="4002120" cy="266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3640" y="2487600"/>
                    <a:ext cx="400212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83f04"/>
                </a:solidFill>
                <a:latin typeface="Verdana"/>
              </a:rPr>
              <a:t>С</a:t>
            </a:r>
            <a:r>
              <a:rPr b="1" lang="ru-RU" sz="2200" spc="-1" strike="noStrike">
                <a:solidFill>
                  <a:srgbClr val="783f04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783f04"/>
                </a:solidFill>
                <a:latin typeface="Verdana"/>
              </a:rPr>
              <a:t>Н</a:t>
            </a:r>
            <a:r>
              <a:rPr b="1" lang="ru-RU" sz="2200" spc="-1" strike="noStrike">
                <a:solidFill>
                  <a:srgbClr val="783f04"/>
                </a:solidFill>
                <a:latin typeface="Verdana"/>
              </a:rPr>
              <a:t>6</a:t>
            </a:r>
            <a:r>
              <a:rPr b="1" lang="ru-RU" sz="3200" spc="-1" strike="noStrike">
                <a:solidFill>
                  <a:srgbClr val="783f04"/>
                </a:solidFill>
                <a:latin typeface="Verdana"/>
              </a:rPr>
              <a:t>О</a:t>
            </a:r>
            <a:br>
              <a:rPr sz="3200"/>
            </a:br>
            <a:r>
              <a:rPr b="0" lang="ru-RU" sz="3200" spc="-1" strike="noStrike">
                <a:solidFill>
                  <a:srgbClr val="783f04"/>
                </a:solidFill>
                <a:latin typeface="Verdana"/>
              </a:rPr>
              <a:t>СН</a:t>
            </a:r>
            <a:r>
              <a:rPr b="0" lang="ru-RU" sz="2200" spc="-1" strike="noStrike">
                <a:solidFill>
                  <a:srgbClr val="783f04"/>
                </a:solidFill>
                <a:latin typeface="Verdana"/>
              </a:rPr>
              <a:t>3</a:t>
            </a:r>
            <a:r>
              <a:rPr b="0" lang="ru-RU" sz="3200" spc="-1" strike="noStrike">
                <a:solidFill>
                  <a:srgbClr val="783f04"/>
                </a:solidFill>
                <a:latin typeface="Verdana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3200" spc="-1" strike="noStrike">
                <a:solidFill>
                  <a:srgbClr val="783f04"/>
                </a:solidFill>
                <a:latin typeface="Verdana"/>
              </a:rPr>
              <a:t>-СН</a:t>
            </a:r>
            <a:r>
              <a:rPr b="0" lang="ru-RU" sz="2200" spc="-1" strike="noStrike">
                <a:solidFill>
                  <a:srgbClr val="783f04"/>
                </a:solidFill>
                <a:latin typeface="Verdana"/>
              </a:rPr>
              <a:t>3</a:t>
            </a:r>
            <a:r>
              <a:rPr b="0" lang="ru-RU" sz="32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8d3e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783f04"/>
                </a:solidFill>
                <a:latin typeface="Verdana"/>
              </a:rPr>
              <a:t>СН</a:t>
            </a:r>
            <a:r>
              <a:rPr b="0" lang="ru-RU" sz="2200" spc="-1" strike="noStrike">
                <a:solidFill>
                  <a:srgbClr val="783f04"/>
                </a:solidFill>
                <a:latin typeface="Verdana"/>
              </a:rPr>
              <a:t>3</a:t>
            </a:r>
            <a:r>
              <a:rPr b="0" lang="ru-RU" sz="3200" spc="-1" strike="noStrike">
                <a:solidFill>
                  <a:srgbClr val="783f04"/>
                </a:solidFill>
                <a:latin typeface="Verdana"/>
              </a:rPr>
              <a:t>-СН</a:t>
            </a:r>
            <a:r>
              <a:rPr b="0" lang="ru-RU" sz="2200" spc="-1" strike="noStrike">
                <a:solidFill>
                  <a:srgbClr val="783f04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783f04"/>
                </a:solidFill>
                <a:latin typeface="Verdana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0" lang="ru-RU" sz="3200" spc="-1" strike="noStrike">
                <a:solidFill>
                  <a:srgbClr val="783f04"/>
                </a:solidFill>
                <a:latin typeface="Verdana"/>
              </a:rPr>
              <a:t>Н</a:t>
            </a:r>
            <a:br>
              <a:rPr sz="3200"/>
            </a:br>
            <a:r>
              <a:rPr b="0" lang="ru-RU" sz="3200" spc="-1" strike="noStrike">
                <a:solidFill>
                  <a:srgbClr val="783f04"/>
                </a:solidFill>
                <a:latin typeface="Verdana"/>
              </a:rPr>
              <a:t>простой эфир                      спирт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8244000" y="2492280"/>
            <a:ext cx="504720" cy="505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7308720" y="2349360"/>
            <a:ext cx="649440" cy="6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Oval 6"/>
          <p:cNvSpPr/>
          <p:nvPr/>
        </p:nvSpPr>
        <p:spPr>
          <a:xfrm>
            <a:off x="6012000" y="3573360"/>
            <a:ext cx="720720" cy="7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Oval 7"/>
          <p:cNvSpPr/>
          <p:nvPr/>
        </p:nvSpPr>
        <p:spPr>
          <a:xfrm>
            <a:off x="8101080" y="3716280"/>
            <a:ext cx="504720" cy="504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Oval 8"/>
          <p:cNvSpPr/>
          <p:nvPr/>
        </p:nvSpPr>
        <p:spPr>
          <a:xfrm>
            <a:off x="7596360" y="4653000"/>
            <a:ext cx="504720" cy="504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Oval 9"/>
          <p:cNvSpPr/>
          <p:nvPr/>
        </p:nvSpPr>
        <p:spPr>
          <a:xfrm>
            <a:off x="5580000" y="4581360"/>
            <a:ext cx="504720" cy="505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5076720" y="3645000"/>
            <a:ext cx="505080" cy="504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Oval 11"/>
          <p:cNvSpPr/>
          <p:nvPr/>
        </p:nvSpPr>
        <p:spPr>
          <a:xfrm>
            <a:off x="5724360" y="2492280"/>
            <a:ext cx="505080" cy="505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Oval 12"/>
          <p:cNvSpPr/>
          <p:nvPr/>
        </p:nvSpPr>
        <p:spPr>
          <a:xfrm>
            <a:off x="755640" y="2349360"/>
            <a:ext cx="504720" cy="505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Oval 13"/>
          <p:cNvSpPr/>
          <p:nvPr/>
        </p:nvSpPr>
        <p:spPr>
          <a:xfrm>
            <a:off x="468360" y="3933720"/>
            <a:ext cx="504720" cy="505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Oval 14"/>
          <p:cNvSpPr/>
          <p:nvPr/>
        </p:nvSpPr>
        <p:spPr>
          <a:xfrm>
            <a:off x="1547640" y="4653000"/>
            <a:ext cx="505080" cy="504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Oval 15"/>
          <p:cNvSpPr/>
          <p:nvPr/>
        </p:nvSpPr>
        <p:spPr>
          <a:xfrm>
            <a:off x="2340000" y="4653000"/>
            <a:ext cx="504720" cy="504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Oval 16"/>
          <p:cNvSpPr/>
          <p:nvPr/>
        </p:nvSpPr>
        <p:spPr>
          <a:xfrm>
            <a:off x="3492360" y="4005360"/>
            <a:ext cx="505080" cy="504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8" name="Oval 17"/>
          <p:cNvSpPr/>
          <p:nvPr/>
        </p:nvSpPr>
        <p:spPr>
          <a:xfrm>
            <a:off x="3276720" y="2349360"/>
            <a:ext cx="504720" cy="505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Oval 18"/>
          <p:cNvSpPr/>
          <p:nvPr/>
        </p:nvSpPr>
        <p:spPr>
          <a:xfrm>
            <a:off x="7020000" y="3573360"/>
            <a:ext cx="720720" cy="7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Oval 20"/>
          <p:cNvSpPr/>
          <p:nvPr/>
        </p:nvSpPr>
        <p:spPr>
          <a:xfrm>
            <a:off x="1187280" y="3500280"/>
            <a:ext cx="720720" cy="7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Line 22"/>
          <p:cNvSpPr/>
          <p:nvPr/>
        </p:nvSpPr>
        <p:spPr>
          <a:xfrm flipH="1">
            <a:off x="1763640" y="3213000"/>
            <a:ext cx="287280" cy="36036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Line 24"/>
          <p:cNvSpPr/>
          <p:nvPr/>
        </p:nvSpPr>
        <p:spPr>
          <a:xfrm>
            <a:off x="2484360" y="3213000"/>
            <a:ext cx="287280" cy="36036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Line 25"/>
          <p:cNvSpPr/>
          <p:nvPr/>
        </p:nvSpPr>
        <p:spPr>
          <a:xfrm>
            <a:off x="1692360" y="4221000"/>
            <a:ext cx="71280" cy="43200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4" name="Line 26"/>
          <p:cNvSpPr/>
          <p:nvPr/>
        </p:nvSpPr>
        <p:spPr>
          <a:xfrm flipH="1">
            <a:off x="971280" y="4005360"/>
            <a:ext cx="215640" cy="14436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Line 27"/>
          <p:cNvSpPr/>
          <p:nvPr/>
        </p:nvSpPr>
        <p:spPr>
          <a:xfrm flipH="1" flipV="1">
            <a:off x="1116000" y="2852280"/>
            <a:ext cx="287280" cy="64764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Line 28"/>
          <p:cNvSpPr/>
          <p:nvPr/>
        </p:nvSpPr>
        <p:spPr>
          <a:xfrm flipV="1">
            <a:off x="3132000" y="2852640"/>
            <a:ext cx="360360" cy="72072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9"/>
          <p:cNvSpPr/>
          <p:nvPr/>
        </p:nvSpPr>
        <p:spPr>
          <a:xfrm flipH="1">
            <a:off x="2700360" y="4221000"/>
            <a:ext cx="216000" cy="43200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Line 30"/>
          <p:cNvSpPr/>
          <p:nvPr/>
        </p:nvSpPr>
        <p:spPr>
          <a:xfrm>
            <a:off x="3276720" y="4005360"/>
            <a:ext cx="215640" cy="14436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Line 31"/>
          <p:cNvSpPr/>
          <p:nvPr/>
        </p:nvSpPr>
        <p:spPr>
          <a:xfrm>
            <a:off x="7956720" y="2708280"/>
            <a:ext cx="287280" cy="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Line 32"/>
          <p:cNvSpPr/>
          <p:nvPr/>
        </p:nvSpPr>
        <p:spPr>
          <a:xfrm flipH="1">
            <a:off x="7451640" y="2997360"/>
            <a:ext cx="144720" cy="57600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Line 33"/>
          <p:cNvSpPr/>
          <p:nvPr/>
        </p:nvSpPr>
        <p:spPr>
          <a:xfrm>
            <a:off x="7740720" y="3933720"/>
            <a:ext cx="360360" cy="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2" name="Line 34"/>
          <p:cNvSpPr/>
          <p:nvPr/>
        </p:nvSpPr>
        <p:spPr>
          <a:xfrm>
            <a:off x="7524720" y="4292640"/>
            <a:ext cx="216000" cy="36036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Line 35"/>
          <p:cNvSpPr/>
          <p:nvPr/>
        </p:nvSpPr>
        <p:spPr>
          <a:xfrm flipH="1">
            <a:off x="6732720" y="3933720"/>
            <a:ext cx="287280" cy="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Line 36"/>
          <p:cNvSpPr/>
          <p:nvPr/>
        </p:nvSpPr>
        <p:spPr>
          <a:xfrm flipH="1">
            <a:off x="5940360" y="4221000"/>
            <a:ext cx="216000" cy="36036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Line 37"/>
          <p:cNvSpPr/>
          <p:nvPr/>
        </p:nvSpPr>
        <p:spPr>
          <a:xfrm>
            <a:off x="5580000" y="3933720"/>
            <a:ext cx="432000" cy="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Line 38"/>
          <p:cNvSpPr/>
          <p:nvPr/>
        </p:nvSpPr>
        <p:spPr>
          <a:xfrm>
            <a:off x="6084720" y="2997360"/>
            <a:ext cx="216000" cy="576000"/>
          </a:xfrm>
          <a:prstGeom prst="line">
            <a:avLst/>
          </a:prstGeom>
          <a:ln w="507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Oval 21"/>
          <p:cNvSpPr/>
          <p:nvPr/>
        </p:nvSpPr>
        <p:spPr>
          <a:xfrm>
            <a:off x="1928880" y="2643120"/>
            <a:ext cx="64908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Oval 19"/>
          <p:cNvSpPr/>
          <p:nvPr/>
        </p:nvSpPr>
        <p:spPr>
          <a:xfrm>
            <a:off x="2627280" y="3500280"/>
            <a:ext cx="720720" cy="7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Заголовок 5"/>
          <p:cNvSpPr/>
          <p:nvPr/>
        </p:nvSpPr>
        <p:spPr>
          <a:xfrm>
            <a:off x="503280" y="5143680"/>
            <a:ext cx="8183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8d3e"/>
                </a:solidFill>
                <a:latin typeface="Verdana"/>
              </a:rPr>
              <a:t>Структурная изомерия.</a:t>
            </a:r>
            <a:br>
              <a:rPr sz="3500"/>
            </a:br>
            <a:r>
              <a:rPr b="1" lang="ru-RU" sz="3500" spc="-1" strike="noStrike">
                <a:solidFill>
                  <a:srgbClr val="ff8d3e"/>
                </a:solidFill>
                <a:latin typeface="Verdana"/>
              </a:rPr>
              <a:t>Межклассовая изомерия</a:t>
            </a:r>
            <a:endParaRPr b="0" lang="en-US" sz="3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split dir="in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2920" y="46429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Геометрическая изомерия.</a:t>
            </a:r>
            <a:br>
              <a:rPr sz="3600"/>
            </a:b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Пространственная изомер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785880" y="642960"/>
            <a:ext cx="7572240" cy="2843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857240" y="4071600"/>
            <a:ext cx="53388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Verdana"/>
              </a:rPr>
              <a:t>зеркало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rcRect l="0" t="0" r="0" b="23406"/>
          <a:stretch/>
        </p:blipFill>
        <p:spPr>
          <a:xfrm>
            <a:off x="1143000" y="0"/>
            <a:ext cx="6769080" cy="39387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2"/>
          <p:cNvSpPr/>
          <p:nvPr/>
        </p:nvSpPr>
        <p:spPr>
          <a:xfrm>
            <a:off x="285840" y="4857840"/>
            <a:ext cx="88581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Геометрическая изомерия.</a:t>
            </a:r>
            <a:br>
              <a:rPr sz="3600"/>
            </a:b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Оптическая изомерия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3" descr=""/>
          <p:cNvPicPr/>
          <p:nvPr/>
        </p:nvPicPr>
        <p:blipFill>
          <a:blip r:embed="rId1"/>
          <a:srcRect l="0" t="13738" r="0" b="0"/>
          <a:stretch/>
        </p:blipFill>
        <p:spPr>
          <a:xfrm>
            <a:off x="428760" y="1000080"/>
            <a:ext cx="8318520" cy="44848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0:09:48Z</dcterms:created>
  <dc:creator>Solontson V. Nokolay</dc:creator>
  <dc:description/>
  <dc:language>en-US</dc:language>
  <cp:lastModifiedBy>1</cp:lastModifiedBy>
  <dcterms:modified xsi:type="dcterms:W3CDTF">2013-12-13T17:05:21Z</dcterms:modified>
  <cp:revision>13</cp:revision>
  <dc:subject/>
  <dc:title>Тема: ИЗОМЕРИЯ. ИЗОМЕРЫ.</dc:title>
</cp:coreProperties>
</file>