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3752-1696-4C84-9138-949738E6A6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B7A4-B296-46BC-B268-F4B500647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A7C-41B8-4593-9592-8B1346AA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894-31F7-46B2-8916-75C9EE2F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A10-B16E-4F30-9FDE-187B8C72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149-02B3-43D6-9329-7A33FC77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2BD4-8748-4FF8-A47E-D9071C0A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7258-5D04-4BB0-9A43-3A5E2481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E2B8-1668-47ED-AB23-F25056D7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9CAF-A283-40D1-9E90-AD10EB50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4D6E-DA96-44E3-A3C8-8A545EA0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5BC0-E969-41F5-B245-BE77C1DE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C67F-7726-4817-BE21-AF490D6C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974-37F5-4BB8-A743-B0904BF9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6E49-3AD9-49A7-B1C7-75E8B5B4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44A0-15D6-4777-BB4E-5AD9253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8D70-CC01-4B39-B37A-09180A3C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EF55-A162-4FD6-B5E8-7E90A315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C70D-341C-4339-A510-84F9307A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845B-BA60-4059-B71F-9B2B263D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B733-C6EB-4EAA-BEFB-854715C4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1581-62E2-4AF8-A930-B8ACF0EE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B9D0-1246-4413-AE73-C905F56A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D2F5B-5E2F-4B74-9CD8-603BEF1A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5D5-5DB2-4434-B505-F67BC270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F98F-E85F-421A-8204-1305F080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0EDA8-8B20-46FF-BFF9-15C46740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8993-ED74-4721-BD69-3046567E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DF85-EC39-447A-85E7-4463B5F3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0D6C-7B3E-4106-B258-8C7F64E4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B149-14D1-40DF-895C-FB869E08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89DA-0ED2-491F-B7E9-30CBA412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883C9-28DF-4793-9FB2-03020410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05F72-8587-4898-A166-82D0E856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5653-5C36-45B3-A3B3-5F6C986D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77C-1B9C-4040-A0C2-7CC9542B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EA62-6E1E-46FA-8599-8963CF71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F699-EE2C-4732-B6AA-20A89202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94AA-103D-4D1C-89FC-C1FDB0C5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F2DC3-D48E-435D-A763-C89F75CE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15DB3-F435-4A6F-9B42-EE3F4736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2EEBF-9B1D-4FE2-8F71-F0E66BAB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53811-282A-4E10-AF51-0013FB74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F838A-9284-4D28-BCAA-F465A820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DDC4-5B2E-494F-9668-E6D7A235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D471D-A143-42F6-9370-3C5D2390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934-1EC9-4931-A112-F077C3A0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BAF2C-43C2-4A1B-ABB7-4D97CC28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70BC2-845C-4C28-9DBD-883FE3B4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ABD5-A55E-4F4F-9680-A042D0B9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8C61D-9AC8-44F9-926F-6E0ECADC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DC669-5ED1-45FA-8E8B-1FBF7A66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ACEE5-22BA-4C7A-9ADD-CB4D7DE5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6AC3-3984-4BBC-A573-9C1524EF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B7931-1151-4D8F-A19D-624C7B11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5780A-4740-45C0-AFC8-C2467A0C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CCF97-C424-44D5-AE26-9DEE4A31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530-F4D2-44C6-B2F1-19B6092B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56066-D6D2-45CE-BC5B-02BA3C43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AED0C-381F-4AFA-A410-79971D6B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9680-591F-4942-9AE0-1A26039E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6B31A-ECD3-4317-8F5C-C7183437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31D3B-3312-4757-A38A-FA1D13A5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392E-9192-4043-BE28-35E459B6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ED07C-D891-4257-9A04-C65A5086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77CC6-763C-4DB9-85BB-179A95CA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4974D-BDD8-49A8-A687-DB683F63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07A41-D65D-4B51-8727-2215CBD9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4D8-BD63-4CEC-9F85-EB14ADA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73856-87F6-48D7-B83D-4B62F55F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00A1D-7903-451F-BFFC-9861D7A5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047B-44DC-4E72-A603-A3E7411C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8D65-C18D-4CEB-BBBF-C982D7E2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AC46C-0B67-4830-BC69-4915654E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3770C-57C3-42A6-B359-82ADDD9A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0510B-62F0-4D81-A8AF-2B076826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4D9B4-C8B9-4E54-8BB1-117BD811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05821-5A55-4F37-8AAD-E4478517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23AA1-A3E0-48D0-81BA-94DCA47B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CD8-0366-4938-A37B-E5C511AB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CD6B1-5D75-487C-A5F7-7A85E922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A2013-D875-4260-BC9C-73F77898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4AAD3-EBA3-4FE6-8EBD-EC1A2633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1FFE5-D6AA-42A2-86D5-2318F5D7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FC69A-8FD2-4C75-A901-23B2044E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A72-414E-47AE-A077-AF562C5A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962D-D6D3-454D-B467-ABFC8A2D7B2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C42D-797D-44F3-AA16-AA388D3D632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EF84-0FFF-4C3E-9115-918FDF30ABA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542C-4FC6-4B91-B4F5-8721FFAA9AE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B383-E204-43CF-809D-193F75A1B45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BF7E-4C01-490F-AEBA-D8F610F50A1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448D-48FD-4E40-A996-F8663A841C7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428640" y="4643280"/>
            <a:ext cx="5073480" cy="119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Verdana"/>
              </a:rPr>
              <a:t>Ермолаева Светлана Анатолье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Verdana"/>
              </a:rPr>
              <a:t>МБОУ СОШ №1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Verdana"/>
              </a:rPr>
              <a:t>Г.Узловая Тульская об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Verdana"/>
              </a:rPr>
              <a:t>201</a:t>
            </a:r>
            <a:r>
              <a:rPr b="1" lang="en-US" sz="1600" spc="-1" strike="noStrike">
                <a:solidFill>
                  <a:srgbClr val="262626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Прямоугольник 10" descr=""/>
          <p:cNvPicPr/>
          <p:nvPr/>
        </p:nvPicPr>
        <p:blipFill>
          <a:blip r:embed="rId1"/>
          <a:stretch/>
        </p:blipFill>
        <p:spPr>
          <a:xfrm>
            <a:off x="536400" y="695160"/>
            <a:ext cx="8180640" cy="1146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07f09"/>
                </a:solidFill>
                <a:latin typeface="Verdana"/>
              </a:rPr>
              <a:t>Назовите виды изомерии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336160" cy="480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ределите изомер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2" descr="C:\Documents and Settings\Admin\Мои документы\Мои рисунки\2008-09-11\Image0003.BMP"/>
          <p:cNvPicPr/>
          <p:nvPr/>
        </p:nvPicPr>
        <p:blipFill>
          <a:blip r:embed="rId2"/>
          <a:srcRect l="1922" t="6635" r="2175" b="0"/>
          <a:stretch/>
        </p:blipFill>
        <p:spPr>
          <a:xfrm>
            <a:off x="428760" y="428760"/>
            <a:ext cx="837252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еория строения и  изомер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ение изомерии было открыто в 1823г. Либихом и Вёлер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иановая кисл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-O-C  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емучая кисл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-O-N  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Прямая соединительная линия 9"/>
          <p:cNvSpPr/>
          <p:nvPr/>
        </p:nvSpPr>
        <p:spPr>
          <a:xfrm>
            <a:off x="2143080" y="257184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Прямая соединительная линия 11"/>
          <p:cNvSpPr/>
          <p:nvPr/>
        </p:nvSpPr>
        <p:spPr>
          <a:xfrm>
            <a:off x="2143080" y="264312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Прямая соединительная линия 12"/>
          <p:cNvSpPr/>
          <p:nvPr/>
        </p:nvSpPr>
        <p:spPr>
          <a:xfrm>
            <a:off x="2143080" y="271476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Прямая соединительная линия 13"/>
          <p:cNvSpPr/>
          <p:nvPr/>
        </p:nvSpPr>
        <p:spPr>
          <a:xfrm>
            <a:off x="2143080" y="400068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Прямая соединительная линия 14"/>
          <p:cNvSpPr/>
          <p:nvPr/>
        </p:nvSpPr>
        <p:spPr>
          <a:xfrm>
            <a:off x="2143080" y="407196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Прямая соединительная линия 15"/>
          <p:cNvSpPr/>
          <p:nvPr/>
        </p:nvSpPr>
        <p:spPr>
          <a:xfrm>
            <a:off x="2143080" y="414324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Organization Chart 7"/>
          <p:cNvGrpSpPr/>
          <p:nvPr/>
        </p:nvGrpSpPr>
        <p:grpSpPr>
          <a:xfrm>
            <a:off x="357120" y="357120"/>
            <a:ext cx="8532000" cy="5647680"/>
            <a:chOff x="357120" y="357120"/>
            <a:chExt cx="8532000" cy="5647680"/>
          </a:xfrm>
        </p:grpSpPr>
        <p:cxnSp>
          <p:nvCxnSpPr>
            <p:cNvPr id="328" name="_s1028"/>
            <p:cNvCxnSpPr>
              <a:stCxn id="329" idx="1"/>
            </p:cNvCxnSpPr>
            <p:nvPr/>
          </p:nvCxnSpPr>
          <p:spPr>
            <a:xfrm rot="10800000">
              <a:off x="6368400" y="3886560"/>
              <a:ext cx="692640" cy="1604880"/>
            </a:xfrm>
            <a:prstGeom prst="bentConnector2">
              <a:avLst/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30" name="_s1029"/>
            <p:cNvCxnSpPr/>
            <p:nvPr/>
          </p:nvCxnSpPr>
          <p:spPr>
            <a:xfrm flipV="1" rot="16200000">
              <a:off x="6153480" y="3163680"/>
              <a:ext cx="1080720" cy="650160"/>
            </a:xfrm>
            <a:prstGeom prst="bentConnector3">
              <a:avLst>
                <a:gd name="adj1" fmla="val -433"/>
              </a:avLst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31" name="_s1030"/>
            <p:cNvCxnSpPr>
              <a:endCxn id="332" idx="3"/>
            </p:cNvCxnSpPr>
            <p:nvPr/>
          </p:nvCxnSpPr>
          <p:spPr>
            <a:xfrm flipV="1" rot="16200000">
              <a:off x="3994560" y="2733480"/>
              <a:ext cx="970920" cy="324360"/>
            </a:xfrm>
            <a:prstGeom prst="bentConnector2">
              <a:avLst/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33" name="_s1031"/>
            <p:cNvCxnSpPr>
              <a:stCxn id="334" idx="0"/>
            </p:cNvCxnSpPr>
            <p:nvPr/>
          </p:nvCxnSpPr>
          <p:spPr>
            <a:xfrm flipH="1" flipV="1" rot="5400000">
              <a:off x="1898640" y="3639240"/>
              <a:ext cx="1801080" cy="419400"/>
            </a:xfrm>
            <a:prstGeom prst="bentConnector3">
              <a:avLst>
                <a:gd name="adj1" fmla="val 61275"/>
              </a:avLst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35" name="_s1032"/>
            <p:cNvCxnSpPr>
              <a:stCxn id="336" idx="0"/>
              <a:endCxn id="332" idx="1"/>
            </p:cNvCxnSpPr>
            <p:nvPr/>
          </p:nvCxnSpPr>
          <p:spPr>
            <a:xfrm flipH="1" flipV="1" rot="5400000">
              <a:off x="1366560" y="2314440"/>
              <a:ext cx="1027440" cy="1219320"/>
            </a:xfrm>
            <a:prstGeom prst="bentConnector2">
              <a:avLst/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37" name="_s1033"/>
            <p:cNvCxnSpPr>
              <a:stCxn id="338" idx="0"/>
              <a:endCxn id="339" idx="2"/>
            </p:cNvCxnSpPr>
            <p:nvPr/>
          </p:nvCxnSpPr>
          <p:spPr>
            <a:xfrm flipV="1" rot="16200000">
              <a:off x="5750280" y="713160"/>
              <a:ext cx="514080" cy="1854360"/>
            </a:xfrm>
            <a:prstGeom prst="bentConnector3">
              <a:avLst>
                <a:gd name="adj1" fmla="val 47302"/>
              </a:avLst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40" name="_s1034"/>
            <p:cNvCxnSpPr/>
            <p:nvPr/>
          </p:nvCxnSpPr>
          <p:spPr>
            <a:xfrm flipH="1" flipV="1" rot="5400000">
              <a:off x="3999600" y="782640"/>
              <a:ext cx="510840" cy="1676520"/>
            </a:xfrm>
            <a:prstGeom prst="bentConnector3">
              <a:avLst>
                <a:gd name="adj1" fmla="val 45133"/>
              </a:avLst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sp>
          <p:nvSpPr>
            <p:cNvPr id="339" name="_s1035"/>
            <p:cNvSpPr/>
            <p:nvPr/>
          </p:nvSpPr>
          <p:spPr>
            <a:xfrm>
              <a:off x="4166280" y="357120"/>
              <a:ext cx="182808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Виды изомерии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2" name="_s1036"/>
            <p:cNvSpPr/>
            <p:nvPr/>
          </p:nvSpPr>
          <p:spPr>
            <a:xfrm>
              <a:off x="2490120" y="1897200"/>
              <a:ext cx="182808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Структурная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8" name="_s1037"/>
            <p:cNvSpPr/>
            <p:nvPr/>
          </p:nvSpPr>
          <p:spPr>
            <a:xfrm>
              <a:off x="5842080" y="1897200"/>
              <a:ext cx="218376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Пространственная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6" name="_s1038"/>
            <p:cNvSpPr/>
            <p:nvPr/>
          </p:nvSpPr>
          <p:spPr>
            <a:xfrm>
              <a:off x="357120" y="3437640"/>
              <a:ext cx="182808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Углеродного 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скелета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4" name="_s1039"/>
            <p:cNvSpPr/>
            <p:nvPr/>
          </p:nvSpPr>
          <p:spPr>
            <a:xfrm>
              <a:off x="1402560" y="4749840"/>
              <a:ext cx="237204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Положения 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(ФГ или 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кратной связи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1" name="_s1040"/>
            <p:cNvSpPr/>
            <p:nvPr/>
          </p:nvSpPr>
          <p:spPr>
            <a:xfrm>
              <a:off x="3489120" y="3381120"/>
              <a:ext cx="182592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Межклассовая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7018920" y="3452040"/>
              <a:ext cx="182808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Геометрическая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9" name="_s1042"/>
            <p:cNvSpPr/>
            <p:nvPr/>
          </p:nvSpPr>
          <p:spPr>
            <a:xfrm>
              <a:off x="7061040" y="4978080"/>
              <a:ext cx="182808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Оптическая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труктурная изомерия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зомерия углеродного скелет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Бута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СН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-СН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06344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зобута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-СН–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rcRect l="10910" t="9695" r="10947" b="10360"/>
          <a:stretch/>
        </p:blipFill>
        <p:spPr>
          <a:xfrm>
            <a:off x="714240" y="2286000"/>
            <a:ext cx="3444840" cy="2643120"/>
          </a:xfrm>
          <a:prstGeom prst="rect">
            <a:avLst/>
          </a:prstGeom>
          <a:ln w="9360">
            <a:solidFill>
              <a:srgbClr val="f07f09"/>
            </a:solidFill>
            <a:miter/>
          </a:ln>
        </p:spPr>
      </p:pic>
      <p:sp>
        <p:nvSpPr>
          <p:cNvPr id="347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2"/>
          <a:srcRect l="12800" t="10672" r="13586" b="10380"/>
          <a:stretch/>
        </p:blipFill>
        <p:spPr>
          <a:xfrm>
            <a:off x="4929120" y="2286000"/>
            <a:ext cx="3286080" cy="26431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349" name="Прямая соединительная линия 11"/>
          <p:cNvSpPr/>
          <p:nvPr/>
        </p:nvSpPr>
        <p:spPr>
          <a:xfrm>
            <a:off x="5572080" y="107172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труктурная изомерия.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зомерия положения кратной связ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61320" cy="4495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–СН=СН–С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=СН–С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–С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4373640" y="2487600"/>
          <a:ext cx="4002120" cy="266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3640" y="2487600"/>
                    <a:ext cx="400212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3f04"/>
                </a:solidFill>
                <a:latin typeface="Verdana"/>
              </a:rPr>
              <a:t>С</a:t>
            </a:r>
            <a:r>
              <a:rPr b="1" lang="ru-RU" sz="2200" spc="-1" strike="noStrike">
                <a:solidFill>
                  <a:srgbClr val="783f04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783f04"/>
                </a:solidFill>
                <a:latin typeface="Verdana"/>
              </a:rPr>
              <a:t>Н</a:t>
            </a:r>
            <a:r>
              <a:rPr b="1" lang="ru-RU" sz="2200" spc="-1" strike="noStrike">
                <a:solidFill>
                  <a:srgbClr val="783f04"/>
                </a:solidFill>
                <a:latin typeface="Verdana"/>
              </a:rPr>
              <a:t>6</a:t>
            </a:r>
            <a:r>
              <a:rPr b="1" lang="ru-RU" sz="3200" spc="-1" strike="noStrike">
                <a:solidFill>
                  <a:srgbClr val="783f04"/>
                </a:solidFill>
                <a:latin typeface="Verdana"/>
              </a:rPr>
              <a:t>О</a:t>
            </a:r>
            <a:br>
              <a:rPr sz="3200"/>
            </a:b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СН</a:t>
            </a:r>
            <a:r>
              <a:rPr b="0" lang="ru-RU" sz="2200" spc="-1" strike="noStrike">
                <a:solidFill>
                  <a:srgbClr val="783f04"/>
                </a:solidFill>
                <a:latin typeface="Verdana"/>
              </a:rPr>
              <a:t>3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-СН</a:t>
            </a:r>
            <a:r>
              <a:rPr b="0" lang="ru-RU" sz="2200" spc="-1" strike="noStrike">
                <a:solidFill>
                  <a:srgbClr val="783f04"/>
                </a:solidFill>
                <a:latin typeface="Verdana"/>
              </a:rPr>
              <a:t>3</a:t>
            </a:r>
            <a:r>
              <a:rPr b="0" lang="ru-RU" sz="32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8d3e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СН</a:t>
            </a:r>
            <a:r>
              <a:rPr b="0" lang="ru-RU" sz="2200" spc="-1" strike="noStrike">
                <a:solidFill>
                  <a:srgbClr val="783f04"/>
                </a:solidFill>
                <a:latin typeface="Verdana"/>
              </a:rPr>
              <a:t>3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-СН</a:t>
            </a:r>
            <a:r>
              <a:rPr b="0" lang="ru-RU" sz="2200" spc="-1" strike="noStrike">
                <a:solidFill>
                  <a:srgbClr val="783f04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Н</a:t>
            </a:r>
            <a:br>
              <a:rPr sz="3200"/>
            </a:b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простой эфир                      спирт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8244000" y="2492280"/>
            <a:ext cx="50472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7308720" y="2349360"/>
            <a:ext cx="6494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6012000" y="3573360"/>
            <a:ext cx="720720" cy="7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8101080" y="3716280"/>
            <a:ext cx="50472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Oval 8"/>
          <p:cNvSpPr/>
          <p:nvPr/>
        </p:nvSpPr>
        <p:spPr>
          <a:xfrm>
            <a:off x="7596360" y="4653000"/>
            <a:ext cx="50472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5580000" y="4581360"/>
            <a:ext cx="50472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5076720" y="3645000"/>
            <a:ext cx="50508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Oval 11"/>
          <p:cNvSpPr/>
          <p:nvPr/>
        </p:nvSpPr>
        <p:spPr>
          <a:xfrm>
            <a:off x="5724360" y="2492280"/>
            <a:ext cx="50508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Oval 12"/>
          <p:cNvSpPr/>
          <p:nvPr/>
        </p:nvSpPr>
        <p:spPr>
          <a:xfrm>
            <a:off x="755640" y="2349360"/>
            <a:ext cx="50472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Oval 13"/>
          <p:cNvSpPr/>
          <p:nvPr/>
        </p:nvSpPr>
        <p:spPr>
          <a:xfrm>
            <a:off x="468360" y="3933720"/>
            <a:ext cx="50472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Oval 14"/>
          <p:cNvSpPr/>
          <p:nvPr/>
        </p:nvSpPr>
        <p:spPr>
          <a:xfrm>
            <a:off x="1547640" y="4653000"/>
            <a:ext cx="50508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Oval 15"/>
          <p:cNvSpPr/>
          <p:nvPr/>
        </p:nvSpPr>
        <p:spPr>
          <a:xfrm>
            <a:off x="2340000" y="4653000"/>
            <a:ext cx="50472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Oval 16"/>
          <p:cNvSpPr/>
          <p:nvPr/>
        </p:nvSpPr>
        <p:spPr>
          <a:xfrm>
            <a:off x="3492360" y="4005360"/>
            <a:ext cx="50508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Oval 17"/>
          <p:cNvSpPr/>
          <p:nvPr/>
        </p:nvSpPr>
        <p:spPr>
          <a:xfrm>
            <a:off x="3276720" y="2349360"/>
            <a:ext cx="50472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Oval 18"/>
          <p:cNvSpPr/>
          <p:nvPr/>
        </p:nvSpPr>
        <p:spPr>
          <a:xfrm>
            <a:off x="7020000" y="3573360"/>
            <a:ext cx="720720" cy="7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1187280" y="3500280"/>
            <a:ext cx="720720" cy="7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Line 22"/>
          <p:cNvSpPr/>
          <p:nvPr/>
        </p:nvSpPr>
        <p:spPr>
          <a:xfrm flipH="1">
            <a:off x="1763640" y="3213000"/>
            <a:ext cx="287280" cy="360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Line 24"/>
          <p:cNvSpPr/>
          <p:nvPr/>
        </p:nvSpPr>
        <p:spPr>
          <a:xfrm>
            <a:off x="2484360" y="3213000"/>
            <a:ext cx="287280" cy="360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Line 25"/>
          <p:cNvSpPr/>
          <p:nvPr/>
        </p:nvSpPr>
        <p:spPr>
          <a:xfrm>
            <a:off x="1692360" y="4221000"/>
            <a:ext cx="71280" cy="43200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Line 26"/>
          <p:cNvSpPr/>
          <p:nvPr/>
        </p:nvSpPr>
        <p:spPr>
          <a:xfrm flipH="1">
            <a:off x="971280" y="4005360"/>
            <a:ext cx="215640" cy="144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Line 27"/>
          <p:cNvSpPr/>
          <p:nvPr/>
        </p:nvSpPr>
        <p:spPr>
          <a:xfrm flipH="1" flipV="1">
            <a:off x="1116000" y="2852280"/>
            <a:ext cx="287280" cy="64764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Line 28"/>
          <p:cNvSpPr/>
          <p:nvPr/>
        </p:nvSpPr>
        <p:spPr>
          <a:xfrm flipV="1">
            <a:off x="3132000" y="2852640"/>
            <a:ext cx="360360" cy="72072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9"/>
          <p:cNvSpPr/>
          <p:nvPr/>
        </p:nvSpPr>
        <p:spPr>
          <a:xfrm flipH="1">
            <a:off x="2700360" y="4221000"/>
            <a:ext cx="216000" cy="43200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Line 30"/>
          <p:cNvSpPr/>
          <p:nvPr/>
        </p:nvSpPr>
        <p:spPr>
          <a:xfrm>
            <a:off x="3276720" y="4005360"/>
            <a:ext cx="215640" cy="144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Line 31"/>
          <p:cNvSpPr/>
          <p:nvPr/>
        </p:nvSpPr>
        <p:spPr>
          <a:xfrm>
            <a:off x="7956720" y="2708280"/>
            <a:ext cx="287280" cy="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Line 32"/>
          <p:cNvSpPr/>
          <p:nvPr/>
        </p:nvSpPr>
        <p:spPr>
          <a:xfrm flipH="1">
            <a:off x="7451640" y="2997360"/>
            <a:ext cx="144720" cy="57600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Line 33"/>
          <p:cNvSpPr/>
          <p:nvPr/>
        </p:nvSpPr>
        <p:spPr>
          <a:xfrm>
            <a:off x="7740720" y="3933720"/>
            <a:ext cx="360360" cy="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Line 34"/>
          <p:cNvSpPr/>
          <p:nvPr/>
        </p:nvSpPr>
        <p:spPr>
          <a:xfrm>
            <a:off x="7524720" y="4292640"/>
            <a:ext cx="216000" cy="360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Line 35"/>
          <p:cNvSpPr/>
          <p:nvPr/>
        </p:nvSpPr>
        <p:spPr>
          <a:xfrm flipH="1">
            <a:off x="6732720" y="3933720"/>
            <a:ext cx="287280" cy="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Line 36"/>
          <p:cNvSpPr/>
          <p:nvPr/>
        </p:nvSpPr>
        <p:spPr>
          <a:xfrm flipH="1">
            <a:off x="5940360" y="4221000"/>
            <a:ext cx="216000" cy="360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Line 37"/>
          <p:cNvSpPr/>
          <p:nvPr/>
        </p:nvSpPr>
        <p:spPr>
          <a:xfrm>
            <a:off x="5580000" y="3933720"/>
            <a:ext cx="432000" cy="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Line 38"/>
          <p:cNvSpPr/>
          <p:nvPr/>
        </p:nvSpPr>
        <p:spPr>
          <a:xfrm>
            <a:off x="6084720" y="2997360"/>
            <a:ext cx="216000" cy="57600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Oval 21"/>
          <p:cNvSpPr/>
          <p:nvPr/>
        </p:nvSpPr>
        <p:spPr>
          <a:xfrm>
            <a:off x="1928880" y="2643120"/>
            <a:ext cx="64908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Oval 19"/>
          <p:cNvSpPr/>
          <p:nvPr/>
        </p:nvSpPr>
        <p:spPr>
          <a:xfrm>
            <a:off x="2627280" y="3500280"/>
            <a:ext cx="720720" cy="7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Заголовок 5"/>
          <p:cNvSpPr/>
          <p:nvPr/>
        </p:nvSpPr>
        <p:spPr>
          <a:xfrm>
            <a:off x="503280" y="5143680"/>
            <a:ext cx="8183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Verdana"/>
              </a:rPr>
              <a:t>Структурная изомерия.</a:t>
            </a:r>
            <a:br>
              <a:rPr sz="3500"/>
            </a:br>
            <a:r>
              <a:rPr b="1" lang="ru-RU" sz="3500" spc="-1" strike="noStrike">
                <a:solidFill>
                  <a:srgbClr val="ff8d3e"/>
                </a:solidFill>
                <a:latin typeface="Verdana"/>
              </a:rPr>
              <a:t>Межклассовая изомерия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2920" y="46429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Геометрическая изомерия.</a:t>
            </a:r>
            <a:br>
              <a:rPr sz="3600"/>
            </a:b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Пространственная изомер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785880" y="642960"/>
            <a:ext cx="7572240" cy="2843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57240" y="4071600"/>
            <a:ext cx="53388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зеркал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rcRect l="0" t="0" r="0" b="23406"/>
          <a:stretch/>
        </p:blipFill>
        <p:spPr>
          <a:xfrm>
            <a:off x="1143000" y="0"/>
            <a:ext cx="6769080" cy="39387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2"/>
          <p:cNvSpPr/>
          <p:nvPr/>
        </p:nvSpPr>
        <p:spPr>
          <a:xfrm>
            <a:off x="285840" y="4857840"/>
            <a:ext cx="88581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Геометрическая изомерия.</a:t>
            </a:r>
            <a:br>
              <a:rPr sz="3600"/>
            </a:b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Оптическая изомерия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3" descr=""/>
          <p:cNvPicPr/>
          <p:nvPr/>
        </p:nvPicPr>
        <p:blipFill>
          <a:blip r:embed="rId1"/>
          <a:srcRect l="0" t="13738" r="0" b="0"/>
          <a:stretch/>
        </p:blipFill>
        <p:spPr>
          <a:xfrm>
            <a:off x="428760" y="1000080"/>
            <a:ext cx="8318520" cy="44848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0:09:48Z</dcterms:created>
  <dc:creator>Solontson V. Nokolay</dc:creator>
  <dc:description/>
  <dc:language>en-US</dc:language>
  <cp:lastModifiedBy>1</cp:lastModifiedBy>
  <dcterms:modified xsi:type="dcterms:W3CDTF">2013-12-13T17:05:21Z</dcterms:modified>
  <cp:revision>13</cp:revision>
  <dc:subject/>
  <dc:title>Тема: ИЗОМЕРИЯ. ИЗОМЕРЫ.</dc:title>
</cp:coreProperties>
</file>