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0.gif" ContentType="image/gi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15.jpeg" ContentType="image/jpeg"/>
  <Override PartName="/ppt/media/image3.wmf" ContentType="image/x-wmf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C7C-A416-4879-B9E4-6EE7C1CD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7D6-C30D-42CB-B589-57D71B5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123-10C5-4DCA-A004-AFAA292E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A1C-5796-4502-9A99-53FDBFDC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9FF4-731B-435B-BDBE-687010F1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0F0-DD0D-4028-84BD-A0D7AC4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723E-0117-4C3A-B2B5-E9C8DFDB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65A3-EA01-4395-9A2E-3C0684F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BC99-3A33-40FC-AE3E-5A425FB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CE43-B71A-4484-BE0C-13F0868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251-1C89-41B1-AAA7-DD1F661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552-7931-48BC-83AC-19B45FD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FED-5A11-4F18-8A9A-1273E24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8BD-C9F5-415A-A6E3-FF38AE3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B4A-C34D-4C14-9C6C-24CF442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8475-7865-43FA-83A0-DF6EDE24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7A25-3EA6-4959-B54A-D9D8C804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1C0-98EC-466E-AC6A-F0EF4FF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F7D-5222-41A4-B63F-B45611A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D87-CA6C-4A48-907F-EDB52FB6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461-01CC-4F50-A8F1-150BFB6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7FC-B031-4868-B85D-1F731B6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BBC-33E6-47CD-9810-80E7EB3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246-BF86-49A6-BFF6-9084A45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4860-D033-4200-8833-D718D3F43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9E94-E468-4C50-B298-CDF8BCAAF2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028"/>
          <p:cNvSpPr txBox="1"/>
          <p:nvPr/>
        </p:nvSpPr>
        <p:spPr>
          <a:xfrm>
            <a:off x="0" y="189000"/>
            <a:ext cx="78487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195640" y="128448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Организация занятий с детьми в компьютерных игровых комплекса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219640" y="438444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полнила   студент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вого кур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очного отд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правления  подготов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Педагогическое образование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филя «Дошкольное образование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ванова Ольга Ивано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G:\собрания\28jpg.gif"/>
          <p:cNvPicPr/>
          <p:nvPr/>
        </p:nvPicPr>
        <p:blipFill>
          <a:blip r:embed="rId1"/>
          <a:stretch/>
        </p:blipFill>
        <p:spPr>
          <a:xfrm>
            <a:off x="324000" y="3573360"/>
            <a:ext cx="381636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4500720" y="6021360"/>
            <a:ext cx="647640" cy="144360"/>
          </a:xfrm>
          <a:custGeom>
            <a:avLst/>
            <a:gdLst>
              <a:gd name="textAreaLeft" fmla="*/ 9360 w 647640"/>
              <a:gd name="textAreaRight" fmla="*/ 638280 w 647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6716" h="21600">
                <a:moveTo>
                  <a:pt x="0" y="0"/>
                </a:moveTo>
                <a:lnTo>
                  <a:pt x="96716" y="0"/>
                </a:lnTo>
                <a:lnTo>
                  <a:pt x="96716" y="21600"/>
                </a:lnTo>
                <a:lnTo>
                  <a:pt x="0" y="21600"/>
                </a:lnTo>
                <a:close/>
              </a:path>
              <a:path fill="lightenLess" w="96716" h="21600">
                <a:moveTo>
                  <a:pt x="0" y="0"/>
                </a:moveTo>
                <a:lnTo>
                  <a:pt x="96716" y="0"/>
                </a:lnTo>
                <a:lnTo>
                  <a:pt x="95316" y="1400"/>
                </a:lnTo>
                <a:lnTo>
                  <a:pt x="1400" y="1400"/>
                </a:lnTo>
                <a:close/>
              </a:path>
              <a:path fill="darken" w="96716" h="21600">
                <a:moveTo>
                  <a:pt x="96716" y="0"/>
                </a:moveTo>
                <a:lnTo>
                  <a:pt x="96716" y="21600"/>
                </a:lnTo>
                <a:lnTo>
                  <a:pt x="95316" y="20200"/>
                </a:lnTo>
                <a:lnTo>
                  <a:pt x="95316" y="1400"/>
                </a:lnTo>
                <a:close/>
              </a:path>
              <a:path fill="darkenLess" w="96716" h="21600">
                <a:moveTo>
                  <a:pt x="96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316" y="20200"/>
                </a:lnTo>
                <a:close/>
              </a:path>
              <a:path fill="lighten" w="96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716" h="21600">
                <a:moveTo>
                  <a:pt x="51857" y="10800"/>
                </a:moveTo>
                <a:lnTo>
                  <a:pt x="41352" y="17806"/>
                </a:lnTo>
                <a:lnTo>
                  <a:pt x="41352" y="3794"/>
                </a:lnTo>
                <a:close/>
              </a:path>
              <a:path fill="darken" w="96716" h="21600">
                <a:moveTo>
                  <a:pt x="53702" y="3794"/>
                </a:moveTo>
                <a:lnTo>
                  <a:pt x="53702" y="17806"/>
                </a:lnTo>
                <a:lnTo>
                  <a:pt x="55365" y="17806"/>
                </a:lnTo>
                <a:lnTo>
                  <a:pt x="55365" y="379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333000"/>
            <a:ext cx="8748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нятия в КИК проводятся по подгруппам 4–8 человек, 1–2 раза в неделю, в первой половине дня. После каждого занятия обязательное проветривание помещения. Занятия строятся на игровых методах и приемах, позволяющих детям в интересной, доступной форме получить знания, решить поставленные педагогом задачи. При этом компьютер является мощным средством повышения эффективности обучения, значительно расширяя возможности предъявления образовательной и развивающей информации. Применение цвета, графики, звука, современных средств видеотехники позволяет моделировать различные ситуации и сред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занятия в КИК включены игры, направленные на развитие основных психических процессов: восприятия, внимания, памяти, логического мышления, речи. Развивается координация движений и мелкая мотори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5" descr="P1010002"/>
          <p:cNvPicPr/>
          <p:nvPr/>
        </p:nvPicPr>
        <p:blipFill>
          <a:blip r:embed="rId1"/>
          <a:stretch/>
        </p:blipFill>
        <p:spPr>
          <a:xfrm>
            <a:off x="2771640" y="4365720"/>
            <a:ext cx="3600720" cy="221292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нятия детей с компьютером включают четыре взаимосвязанных компонента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ктивное познание детьми окружающего мира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оэтапное усвоение все усложняющихся игровых способов и средств решения игровых задач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зменение предметно–знаковой среды на экране монитора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ктивизирующее общение ребенка со взрослыми и другими деть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2734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хника безопасности при работе с компьютером для дете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8" descr="img065.jpg"/>
          <p:cNvPicPr/>
          <p:nvPr/>
        </p:nvPicPr>
        <p:blipFill>
          <a:blip r:embed="rId1"/>
          <a:stretch/>
        </p:blipFill>
        <p:spPr>
          <a:xfrm>
            <a:off x="611280" y="1916280"/>
            <a:ext cx="237636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9"/>
          <p:cNvSpPr/>
          <p:nvPr/>
        </p:nvSpPr>
        <p:spPr>
          <a:xfrm>
            <a:off x="3419640" y="1989000"/>
            <a:ext cx="5184720" cy="7038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КИК должна быть чистота. Это нужно для нормальной работы компьюте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10" descr="img065.jpg"/>
          <p:cNvPicPr/>
          <p:nvPr/>
        </p:nvPicPr>
        <p:blipFill>
          <a:blip r:embed="rId2"/>
          <a:stretch/>
        </p:blipFill>
        <p:spPr>
          <a:xfrm>
            <a:off x="684360" y="3357720"/>
            <a:ext cx="2303280" cy="11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Прямоугольник 11"/>
          <p:cNvSpPr/>
          <p:nvPr/>
        </p:nvSpPr>
        <p:spPr>
          <a:xfrm>
            <a:off x="3419640" y="3357720"/>
            <a:ext cx="518472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льзя приносить в КИК продукты питания, крошки от еды и жидкость могут попасть в клавиатуру и испортить её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12" descr="img065.jpg"/>
          <p:cNvPicPr/>
          <p:nvPr/>
        </p:nvPicPr>
        <p:blipFill>
          <a:blip r:embed="rId3"/>
          <a:stretch/>
        </p:blipFill>
        <p:spPr>
          <a:xfrm>
            <a:off x="684360" y="4941720"/>
            <a:ext cx="2303280" cy="13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Прямоугольник 13"/>
          <p:cNvSpPr/>
          <p:nvPr/>
        </p:nvSpPr>
        <p:spPr>
          <a:xfrm>
            <a:off x="3492360" y="4941720"/>
            <a:ext cx="504036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блюдайте дисциплину в кабинете информатики. Ваша шалость может привести к поломке компьюте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380360" y="6237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32346" y="3837"/>
                </a:moveTo>
                <a:lnTo>
                  <a:pt x="34922" y="6448"/>
                </a:lnTo>
                <a:lnTo>
                  <a:pt x="34922" y="4707"/>
                </a:lnTo>
                <a:lnTo>
                  <a:pt x="36698" y="4707"/>
                </a:lnTo>
                <a:lnTo>
                  <a:pt x="36698" y="8224"/>
                </a:lnTo>
                <a:lnTo>
                  <a:pt x="39309" y="10800"/>
                </a:lnTo>
                <a:lnTo>
                  <a:pt x="37655" y="10800"/>
                </a:lnTo>
                <a:lnTo>
                  <a:pt x="37655" y="17989"/>
                </a:lnTo>
                <a:lnTo>
                  <a:pt x="27037" y="17989"/>
                </a:lnTo>
                <a:lnTo>
                  <a:pt x="27037" y="10800"/>
                </a:lnTo>
                <a:lnTo>
                  <a:pt x="25383" y="10800"/>
                </a:lnTo>
                <a:close/>
              </a:path>
              <a:path fill="darkenLess" w="64692" h="21600">
                <a:moveTo>
                  <a:pt x="34922" y="6448"/>
                </a:moveTo>
                <a:lnTo>
                  <a:pt x="34922" y="4707"/>
                </a:lnTo>
                <a:lnTo>
                  <a:pt x="36698" y="4707"/>
                </a:lnTo>
                <a:lnTo>
                  <a:pt x="36698" y="8224"/>
                </a:lnTo>
                <a:close/>
              </a:path>
              <a:path fill="darkenLess" w="64692" h="21600">
                <a:moveTo>
                  <a:pt x="31423" y="14299"/>
                </a:moveTo>
                <a:lnTo>
                  <a:pt x="33269" y="14299"/>
                </a:lnTo>
                <a:lnTo>
                  <a:pt x="33269" y="17989"/>
                </a:lnTo>
                <a:lnTo>
                  <a:pt x="37655" y="17989"/>
                </a:lnTo>
                <a:lnTo>
                  <a:pt x="37655" y="10800"/>
                </a:lnTo>
                <a:lnTo>
                  <a:pt x="27037" y="10800"/>
                </a:lnTo>
                <a:lnTo>
                  <a:pt x="27037" y="17989"/>
                </a:lnTo>
                <a:lnTo>
                  <a:pt x="3142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10800"/>
                </a:moveTo>
                <a:lnTo>
                  <a:pt x="28660" y="3794"/>
                </a:lnTo>
                <a:lnTo>
                  <a:pt x="2866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7" descr="img065.jpg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143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Прямоугольник 8"/>
          <p:cNvSpPr/>
          <p:nvPr/>
        </p:nvSpPr>
        <p:spPr>
          <a:xfrm>
            <a:off x="3348000" y="549360"/>
            <a:ext cx="554508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ли ваши пальцы грязные – испачканные и сальные, то такими же станут клавиши клавиа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9" descr="img065.jpg"/>
          <p:cNvPicPr/>
          <p:nvPr/>
        </p:nvPicPr>
        <p:blipFill>
          <a:blip r:embed="rId2"/>
          <a:stretch/>
        </p:blipFill>
        <p:spPr>
          <a:xfrm>
            <a:off x="755640" y="2565360"/>
            <a:ext cx="23763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Прямоугольник 10"/>
          <p:cNvSpPr/>
          <p:nvPr/>
        </p:nvSpPr>
        <p:spPr>
          <a:xfrm>
            <a:off x="3419640" y="2565360"/>
            <a:ext cx="5400360" cy="9169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е трогайте провода подключенные к компьютеру. Это опасно для жизни и может привести к серьёзной поломке компьюте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11" descr="img065.jpg"/>
          <p:cNvPicPr/>
          <p:nvPr/>
        </p:nvPicPr>
        <p:blipFill>
          <a:blip r:embed="rId3"/>
          <a:stretch/>
        </p:blipFill>
        <p:spPr>
          <a:xfrm>
            <a:off x="684360" y="4581360"/>
            <a:ext cx="244764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Прямоугольник 12"/>
          <p:cNvSpPr/>
          <p:nvPr/>
        </p:nvSpPr>
        <p:spPr>
          <a:xfrm>
            <a:off x="3419640" y="4581360"/>
            <a:ext cx="5329080" cy="11912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жимая клавиши на компьютере, не прилагайте больших усилий. Помните, что, сильно ударяя по клавишам, вы быстро выведете клавиатуру из стро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ажно отметить, что на занятиях нужно строго соблюдать Санитарно-эпидемиологические нормы: учитывать требования к технике, освещению, продолжительности занятий; проводить  профилактические упражнения для глаз и физкультминутки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C:\Сессия  ЧГПУ\image038.jpg"/>
          <p:cNvPicPr/>
          <p:nvPr/>
        </p:nvPicPr>
        <p:blipFill>
          <a:blip r:embed="rId1"/>
          <a:stretch/>
        </p:blipFill>
        <p:spPr>
          <a:xfrm>
            <a:off x="3059280" y="2349360"/>
            <a:ext cx="372420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333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льзя забывать о том, что все хорошо в меру. Добрые компьютерные игры, столь полезные для дет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И компьютер для них будет только друго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G:\собрания\8f63368f6d1b.jpg"/>
          <p:cNvPicPr/>
          <p:nvPr/>
        </p:nvPicPr>
        <p:blipFill>
          <a:blip r:embed="rId1"/>
          <a:stretch/>
        </p:blipFill>
        <p:spPr>
          <a:xfrm>
            <a:off x="2556000" y="3860640"/>
            <a:ext cx="4392360" cy="2664000"/>
          </a:xfrm>
          <a:prstGeom prst="rect">
            <a:avLst/>
          </a:prstGeom>
          <a:ln w="54000">
            <a:solidFill>
              <a:srgbClr val="00ffff"/>
            </a:solidFill>
            <a:miter/>
          </a:ln>
        </p:spPr>
      </p:pic>
      <p:sp>
        <p:nvSpPr>
          <p:cNvPr id="148" name=""/>
          <p:cNvSpPr txBox="1"/>
          <p:nvPr/>
        </p:nvSpPr>
        <p:spPr>
          <a:xfrm>
            <a:off x="2771640" y="333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ключение: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school083.gif"/>
          <p:cNvPicPr/>
          <p:nvPr/>
        </p:nvPicPr>
        <p:blipFill>
          <a:blip r:embed="rId1"/>
          <a:stretch/>
        </p:blipFill>
        <p:spPr>
          <a:xfrm>
            <a:off x="3132000" y="2492280"/>
            <a:ext cx="33339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6" descr="Рисунок242.gif"/>
          <p:cNvPicPr/>
          <p:nvPr/>
        </p:nvPicPr>
        <p:blipFill>
          <a:blip r:embed="rId2"/>
          <a:stretch/>
        </p:blipFill>
        <p:spPr>
          <a:xfrm>
            <a:off x="7093080" y="620640"/>
            <a:ext cx="186660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1" name="Рисунок 7" descr="Рисунок200.gif"/>
          <p:cNvPicPr/>
          <p:nvPr/>
        </p:nvPicPr>
        <p:blipFill>
          <a:blip r:embed="rId3"/>
          <a:stretch/>
        </p:blipFill>
        <p:spPr>
          <a:xfrm>
            <a:off x="826920" y="4941720"/>
            <a:ext cx="1209960" cy="110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4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00"/>
                </a:solidFill>
                <a:latin typeface="Monotype Corsiva"/>
              </a:rPr>
              <a:t>Желаю успехов в учёбе!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66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Picture 4" descr="hh00779_"/>
          <p:cNvPicPr/>
          <p:nvPr/>
        </p:nvPicPr>
        <p:blipFill>
          <a:blip r:embed="rId1"/>
          <a:stretch/>
        </p:blipFill>
        <p:spPr>
          <a:xfrm>
            <a:off x="2057400" y="304920"/>
            <a:ext cx="168768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Используемые источники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6948360" y="630864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837"/>
                </a:moveTo>
                <a:lnTo>
                  <a:pt x="27716" y="6448"/>
                </a:lnTo>
                <a:lnTo>
                  <a:pt x="27716" y="4707"/>
                </a:lnTo>
                <a:lnTo>
                  <a:pt x="29492" y="4707"/>
                </a:lnTo>
                <a:lnTo>
                  <a:pt x="29492" y="8224"/>
                </a:lnTo>
                <a:lnTo>
                  <a:pt x="32103" y="10800"/>
                </a:lnTo>
                <a:lnTo>
                  <a:pt x="30449" y="10800"/>
                </a:lnTo>
                <a:lnTo>
                  <a:pt x="30449" y="17989"/>
                </a:lnTo>
                <a:lnTo>
                  <a:pt x="19831" y="17989"/>
                </a:lnTo>
                <a:lnTo>
                  <a:pt x="19831" y="10800"/>
                </a:lnTo>
                <a:lnTo>
                  <a:pt x="18177" y="10800"/>
                </a:lnTo>
                <a:close/>
              </a:path>
              <a:path fill="darkenLess" w="50280" h="21600">
                <a:moveTo>
                  <a:pt x="27716" y="6448"/>
                </a:moveTo>
                <a:lnTo>
                  <a:pt x="27716" y="4707"/>
                </a:lnTo>
                <a:lnTo>
                  <a:pt x="29492" y="4707"/>
                </a:lnTo>
                <a:lnTo>
                  <a:pt x="29492" y="8224"/>
                </a:lnTo>
                <a:close/>
              </a:path>
              <a:path fill="darkenLess" w="50280" h="21600">
                <a:moveTo>
                  <a:pt x="24218" y="14299"/>
                </a:moveTo>
                <a:lnTo>
                  <a:pt x="26063" y="14299"/>
                </a:lnTo>
                <a:lnTo>
                  <a:pt x="26063" y="17989"/>
                </a:lnTo>
                <a:lnTo>
                  <a:pt x="30449" y="17989"/>
                </a:lnTo>
                <a:lnTo>
                  <a:pt x="30449" y="10800"/>
                </a:lnTo>
                <a:lnTo>
                  <a:pt x="19831" y="10800"/>
                </a:lnTo>
                <a:lnTo>
                  <a:pt x="19831" y="17989"/>
                </a:lnTo>
                <a:lnTo>
                  <a:pt x="2421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 и современный мир – 3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 – друг – 4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представляет собой КИК? – 5-8 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ное обучение дошкольников  - 9,10,11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хника безопасности при работе с компьютером для детей – 12-14 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лючение: - 15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3794"/>
                </a:moveTo>
                <a:lnTo>
                  <a:pt x="39353" y="10800"/>
                </a:lnTo>
                <a:lnTo>
                  <a:pt x="2534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87640" y="62064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: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Рисунок 6" descr="Рисунок242.gif"/>
          <p:cNvPicPr/>
          <p:nvPr/>
        </p:nvPicPr>
        <p:blipFill>
          <a:blip r:embed="rId1"/>
          <a:stretch/>
        </p:blipFill>
        <p:spPr>
          <a:xfrm>
            <a:off x="7093080" y="620640"/>
            <a:ext cx="186660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Рисунок 6" descr="Рисунок242.gif"/>
          <p:cNvPicPr/>
          <p:nvPr/>
        </p:nvPicPr>
        <p:blipFill>
          <a:blip r:embed="rId2"/>
          <a:stretch/>
        </p:blipFill>
        <p:spPr>
          <a:xfrm>
            <a:off x="468360" y="4941720"/>
            <a:ext cx="186696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029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1050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6" descr="bs00089_"/>
          <p:cNvPicPr/>
          <p:nvPr/>
        </p:nvPicPr>
        <p:blipFill>
          <a:blip r:embed="rId1"/>
          <a:stretch/>
        </p:blipFill>
        <p:spPr>
          <a:xfrm>
            <a:off x="539640" y="69228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9"/>
          <p:cNvSpPr/>
          <p:nvPr/>
        </p:nvSpPr>
        <p:spPr>
          <a:xfrm>
            <a:off x="2268360" y="333360"/>
            <a:ext cx="63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представить современный обучающий процесс и досуг ребенка без этой чудо – машины. Компьютер может быть как объектом изучения, так и средством обучения, т.е. возможно несколько направлений в организации обучения компьютерной деятельности де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ение основ информатик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компьютера при обучении письму, счету и т.п.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ение интерфейса компьютерно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учение моторным навыкам работы с мышью и клавиатуро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различных психических функций (мышления, памяти и т.д.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физиологическая коррекц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84360" y="189000"/>
            <a:ext cx="575964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пьютер и современный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2420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 интенсивно завоевывает все новые позиции не только в школьном, но и в дошкольном образ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помощник в учебе, работе и отдых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егчает поиск и получение необходимой и своевременной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ает в общении между люд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пьютер – друг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2" descr="C:\Сессия  ЧГПУ\Интернет_ресурсы.jpg"/>
          <p:cNvPicPr/>
          <p:nvPr/>
        </p:nvPicPr>
        <p:blipFill>
          <a:blip r:embed="rId1"/>
          <a:stretch/>
        </p:blipFill>
        <p:spPr>
          <a:xfrm>
            <a:off x="250920" y="260280"/>
            <a:ext cx="2449440" cy="18734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28" h="21600">
                <a:moveTo>
                  <a:pt x="22758" y="3794"/>
                </a:moveTo>
                <a:lnTo>
                  <a:pt x="36771" y="10800"/>
                </a:lnTo>
                <a:lnTo>
                  <a:pt x="2275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сегодняшний день КИК (компьютерно -  игровой комплекс) представляет собой многофункциональный набор компонентов, образующих «компьютерную предметно-развивающую среду».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омпьютерный зал, где установлена техника. 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Для организации рабочих мест 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использована специальная мебель.  </a:t>
            </a:r>
            <a:br>
              <a:rPr sz="24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Рисунок 9" descr="P1000982"/>
          <p:cNvPicPr/>
          <p:nvPr/>
        </p:nvPicPr>
        <p:blipFill>
          <a:blip r:embed="rId1"/>
          <a:stretch/>
        </p:blipFill>
        <p:spPr>
          <a:xfrm>
            <a:off x="1332000" y="2060640"/>
            <a:ext cx="6624720" cy="3240000"/>
          </a:xfrm>
          <a:prstGeom prst="rect">
            <a:avLst/>
          </a:prstGeom>
          <a:ln w="8892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574560" cy="287640"/>
          </a:xfrm>
          <a:custGeom>
            <a:avLst/>
            <a:gdLst>
              <a:gd name="textAreaLeft" fmla="*/ 18360 w 574560"/>
              <a:gd name="textAreaRight" fmla="*/ 556200 w 574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3794"/>
                </a:moveTo>
                <a:lnTo>
                  <a:pt x="28566" y="10800"/>
                </a:lnTo>
                <a:lnTo>
                  <a:pt x="145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00360" y="115920"/>
            <a:ext cx="388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представляет собой КИК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гровой зал,  где размещены комплекты развивающих и обучающих игр, обеспечивающих всестороннее познавательное, речевое и художественно-эстетическое развитие ребенка, наборы мягких игровых предметных модулей, настольно-печатные и народные игры и игру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5" descr="DSC00884"/>
          <p:cNvPicPr/>
          <p:nvPr/>
        </p:nvPicPr>
        <p:blipFill>
          <a:blip r:embed="rId1"/>
          <a:stretch/>
        </p:blipFill>
        <p:spPr>
          <a:xfrm>
            <a:off x="1403280" y="2492280"/>
            <a:ext cx="6697800" cy="371340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голок психологической разгрузки (релаксации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Picture 2" descr="C:\Сессия  ЧГПУ\КИК\Комната релаксации 1.jpg"/>
          <p:cNvPicPr/>
          <p:nvPr/>
        </p:nvPicPr>
        <p:blipFill>
          <a:blip r:embed="rId1"/>
          <a:stretch/>
        </p:blipFill>
        <p:spPr>
          <a:xfrm>
            <a:off x="1547640" y="2349360"/>
            <a:ext cx="6409080" cy="3600720"/>
          </a:xfrm>
          <a:prstGeom prst="rect">
            <a:avLst/>
          </a:prstGeom>
          <a:ln w="50760">
            <a:solidFill>
              <a:srgbClr val="00ffff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9928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ортивная зона, где созданы все условия для двигательной активности детей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Содержимое 5" descr="DSC00858"/>
          <p:cNvPicPr/>
          <p:nvPr/>
        </p:nvPicPr>
        <p:blipFill>
          <a:blip r:embed="rId1"/>
          <a:stretch/>
        </p:blipFill>
        <p:spPr>
          <a:xfrm>
            <a:off x="1042920" y="2349360"/>
            <a:ext cx="7201080" cy="360072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Компьютерное обучение дошкольник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62828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чинать компьютерное обучение дошкольников следует с подбора обучающих и развивающих программ и продумывания организационных форм работы с детьми и их применения, разработки методик, использующих возможности компьютера в обучен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ногие авторы выделяют четыре типа обучающих програм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тренировочные и контролирующ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едназначены для закрепления умений и навыков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ставническ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едлагают детям теоретический материал для изучения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митационные и моделироснованы на графически иллюстрированных возможностях, с одной стороны, и вычислительных – с другой, и позволяют осуществлять компьютерный эксперимент; ую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азвивающие игры предоставляют в распоряжение ребенка некоторую воображаемую среду, существующий только в компьютере мир, набор определенных возможностей и средств их реализ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8:20:08Z</dcterms:created>
  <dc:creator>Valentina</dc:creator>
  <dc:description/>
  <dc:language>en-US</dc:language>
  <cp:lastModifiedBy>Admin</cp:lastModifiedBy>
  <dcterms:modified xsi:type="dcterms:W3CDTF">2013-12-10T20:20:08Z</dcterms:modified>
  <cp:revision>40</cp:revision>
  <dc:subject/>
  <dc:title>Первое знакомство с компьютером</dc:title>
</cp:coreProperties>
</file>