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20.gif" ContentType="image/gif"/>
  <Override PartName="/ppt/media/image19.png" ContentType="image/png"/>
  <Override PartName="/ppt/media/image1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15.jpeg" ContentType="image/jpeg"/>
  <Override PartName="/ppt/media/image3.wmf" ContentType="image/x-wmf"/>
  <Override PartName="/ppt/media/image2.gif" ContentType="image/gif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DF9-BF37-4621-9758-6F774895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715B-4810-40A2-BD1C-D38F6529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C6A-692D-47E0-97B8-9A7C1A51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9C5-9361-4D26-95B6-86B85208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1507-E451-4BBA-BC4E-A90CF1A7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4052-3ED9-4A26-8770-F27DCD01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2212-7152-442C-95BF-E16EC4C1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F0B3-8FF7-4C52-A38F-F56F1352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CF92-5094-4042-A71D-F6311502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44DF-4562-4999-A814-4A741CD6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181E-28DC-4EDF-AD98-7C37ACE6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872-6AA1-4FC2-A495-6D7CD1C9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117B-281B-483B-8172-75C27547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DCA6-2C0A-4213-BE99-FDC5A7BB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9A90-6DDE-471A-BA8A-DD3CFF2A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B304-228A-445B-B3C8-30D9F278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A243-4916-4F6D-9A99-E435AD15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68E-B9D3-4EB8-AD65-53F92C09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11D9-CC24-45EB-BB66-DD1561C7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B18-A630-4197-8836-860F51DF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927-C231-473A-9142-811BEA5B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8EE-6D08-4657-8111-B2D267ED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D3F-80D3-4A41-B5F9-A4A430C9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DA5-5947-47FA-A68C-B1266FD2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F6A7-D4A1-470C-8008-2BDCF2869A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196A-D47F-405A-B284-C97B3BB81C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1028"/>
          <p:cNvSpPr txBox="1"/>
          <p:nvPr/>
        </p:nvSpPr>
        <p:spPr>
          <a:xfrm>
            <a:off x="0" y="189000"/>
            <a:ext cx="784872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2195640" y="1284480"/>
            <a:ext cx="51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Организация занятий с детьми в компьютерных игровых комплекса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5219640" y="4384440"/>
            <a:ext cx="37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ыполнила   студент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первого курс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очного отдел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правления  подготов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«Педагогическое образование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филя «Дошкольное образование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ванова Ольга Ивано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" descr="G:\собрания\28jpg.gif"/>
          <p:cNvPicPr/>
          <p:nvPr/>
        </p:nvPicPr>
        <p:blipFill>
          <a:blip r:embed="rId1"/>
          <a:stretch/>
        </p:blipFill>
        <p:spPr>
          <a:xfrm>
            <a:off x="324000" y="3573360"/>
            <a:ext cx="3816360" cy="302436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lastslide"/>
          </p:cNvPr>
          <p:cNvSpPr/>
          <p:nvPr/>
        </p:nvSpPr>
        <p:spPr>
          <a:xfrm>
            <a:off x="4500720" y="6021360"/>
            <a:ext cx="647640" cy="144360"/>
          </a:xfrm>
          <a:custGeom>
            <a:avLst/>
            <a:gdLst>
              <a:gd name="textAreaLeft" fmla="*/ 9360 w 647640"/>
              <a:gd name="textAreaRight" fmla="*/ 638280 w 64764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96716" h="21600">
                <a:moveTo>
                  <a:pt x="0" y="0"/>
                </a:moveTo>
                <a:lnTo>
                  <a:pt x="96716" y="0"/>
                </a:lnTo>
                <a:lnTo>
                  <a:pt x="96716" y="21600"/>
                </a:lnTo>
                <a:lnTo>
                  <a:pt x="0" y="21600"/>
                </a:lnTo>
                <a:close/>
              </a:path>
              <a:path fill="lightenLess" w="96716" h="21600">
                <a:moveTo>
                  <a:pt x="0" y="0"/>
                </a:moveTo>
                <a:lnTo>
                  <a:pt x="96716" y="0"/>
                </a:lnTo>
                <a:lnTo>
                  <a:pt x="95316" y="1400"/>
                </a:lnTo>
                <a:lnTo>
                  <a:pt x="1400" y="1400"/>
                </a:lnTo>
                <a:close/>
              </a:path>
              <a:path fill="darken" w="96716" h="21600">
                <a:moveTo>
                  <a:pt x="96716" y="0"/>
                </a:moveTo>
                <a:lnTo>
                  <a:pt x="96716" y="21600"/>
                </a:lnTo>
                <a:lnTo>
                  <a:pt x="95316" y="20200"/>
                </a:lnTo>
                <a:lnTo>
                  <a:pt x="95316" y="1400"/>
                </a:lnTo>
                <a:close/>
              </a:path>
              <a:path fill="darkenLess" w="96716" h="21600">
                <a:moveTo>
                  <a:pt x="96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316" y="20200"/>
                </a:lnTo>
                <a:close/>
              </a:path>
              <a:path fill="lighten" w="96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6716" h="21600">
                <a:moveTo>
                  <a:pt x="51857" y="10800"/>
                </a:moveTo>
                <a:lnTo>
                  <a:pt x="41352" y="17806"/>
                </a:lnTo>
                <a:lnTo>
                  <a:pt x="41352" y="3794"/>
                </a:lnTo>
                <a:close/>
              </a:path>
              <a:path fill="darken" w="96716" h="21600">
                <a:moveTo>
                  <a:pt x="53702" y="3794"/>
                </a:moveTo>
                <a:lnTo>
                  <a:pt x="53702" y="17806"/>
                </a:lnTo>
                <a:lnTo>
                  <a:pt x="55365" y="17806"/>
                </a:lnTo>
                <a:lnTo>
                  <a:pt x="55365" y="3794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0" y="333000"/>
            <a:ext cx="874872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Занятия в КИК проводятся по подгруппам 4–8 человек, 1–2 раза в неделю, в первой половине дня. После каждого занятия обязательное проветривание помещения. Занятия строятся на игровых методах и приемах, позволяющих детям в интересной, доступной форме получить знания, решить поставленные педагогом задачи. При этом компьютер является мощным средством повышения эффективности обучения, значительно расширяя возможности предъявления образовательной и развивающей информации. Применение цвета, графики, звука, современных средств видеотехники позволяет моделировать различные ситуации и среды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занятия в КИК включены игры, направленные на развитие основных психических процессов: восприятия, внимания, памяти, логического мышления, речи. Развивается координация движений и мелкая моторик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Рисунок 5" descr="P1010002"/>
          <p:cNvPicPr/>
          <p:nvPr/>
        </p:nvPicPr>
        <p:blipFill>
          <a:blip r:embed="rId1"/>
          <a:stretch/>
        </p:blipFill>
        <p:spPr>
          <a:xfrm>
            <a:off x="2771640" y="4365720"/>
            <a:ext cx="3600720" cy="2212920"/>
          </a:xfrm>
          <a:prstGeom prst="rect">
            <a:avLst/>
          </a:prstGeom>
          <a:ln w="50760">
            <a:solidFill>
              <a:srgbClr val="00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нятия детей с компьютером включают четыре взаимосвязанных компонента: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ктивное познание детьми окружающего мира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оэтапное усвоение все усложняющихся игровых способов и средств решения игровых задач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изменение предметно–знаковой среды на экране монитора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ктивизирующее общение ребенка со взрослыми и другими детьм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Рисунок 5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2273400" cy="23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Техника безопасности при работе с компьютером для детей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5146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Рисунок 8" descr="img065.jpg"/>
          <p:cNvPicPr/>
          <p:nvPr/>
        </p:nvPicPr>
        <p:blipFill>
          <a:blip r:embed="rId1"/>
          <a:stretch/>
        </p:blipFill>
        <p:spPr>
          <a:xfrm>
            <a:off x="611280" y="1916280"/>
            <a:ext cx="2376360" cy="115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Прямоугольник 9"/>
          <p:cNvSpPr/>
          <p:nvPr/>
        </p:nvSpPr>
        <p:spPr>
          <a:xfrm>
            <a:off x="3419640" y="1989000"/>
            <a:ext cx="5184720" cy="70380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КИК должна быть чистота. Это нужно для нормальной работы компьютер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Рисунок 10" descr="img065.jpg"/>
          <p:cNvPicPr/>
          <p:nvPr/>
        </p:nvPicPr>
        <p:blipFill>
          <a:blip r:embed="rId2"/>
          <a:stretch/>
        </p:blipFill>
        <p:spPr>
          <a:xfrm>
            <a:off x="684360" y="3357720"/>
            <a:ext cx="2303280" cy="115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Прямоугольник 11"/>
          <p:cNvSpPr/>
          <p:nvPr/>
        </p:nvSpPr>
        <p:spPr>
          <a:xfrm>
            <a:off x="3419640" y="3357720"/>
            <a:ext cx="5184720" cy="100872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ельзя приносить в КИК продукты питания, крошки от еды и жидкость могут попасть в клавиатуру и испортить её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Рисунок 12" descr="img065.jpg"/>
          <p:cNvPicPr/>
          <p:nvPr/>
        </p:nvPicPr>
        <p:blipFill>
          <a:blip r:embed="rId3"/>
          <a:stretch/>
        </p:blipFill>
        <p:spPr>
          <a:xfrm>
            <a:off x="684360" y="4941720"/>
            <a:ext cx="2303280" cy="13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3" name="Прямоугольник 13"/>
          <p:cNvSpPr/>
          <p:nvPr/>
        </p:nvSpPr>
        <p:spPr>
          <a:xfrm>
            <a:off x="3492360" y="4941720"/>
            <a:ext cx="5040360" cy="100872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облюдайте дисциплину в кабинете информатики. Ваша шалость может привести к поломке компьюте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380360" y="623736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92" h="21600">
                <a:moveTo>
                  <a:pt x="32346" y="3837"/>
                </a:moveTo>
                <a:lnTo>
                  <a:pt x="34922" y="6448"/>
                </a:lnTo>
                <a:lnTo>
                  <a:pt x="34922" y="4707"/>
                </a:lnTo>
                <a:lnTo>
                  <a:pt x="36698" y="4707"/>
                </a:lnTo>
                <a:lnTo>
                  <a:pt x="36698" y="8224"/>
                </a:lnTo>
                <a:lnTo>
                  <a:pt x="39309" y="10800"/>
                </a:lnTo>
                <a:lnTo>
                  <a:pt x="37655" y="10800"/>
                </a:lnTo>
                <a:lnTo>
                  <a:pt x="37655" y="17989"/>
                </a:lnTo>
                <a:lnTo>
                  <a:pt x="27037" y="17989"/>
                </a:lnTo>
                <a:lnTo>
                  <a:pt x="27037" y="10800"/>
                </a:lnTo>
                <a:lnTo>
                  <a:pt x="25383" y="10800"/>
                </a:lnTo>
                <a:close/>
              </a:path>
              <a:path fill="darkenLess" w="64692" h="21600">
                <a:moveTo>
                  <a:pt x="34922" y="6448"/>
                </a:moveTo>
                <a:lnTo>
                  <a:pt x="34922" y="4707"/>
                </a:lnTo>
                <a:lnTo>
                  <a:pt x="36698" y="4707"/>
                </a:lnTo>
                <a:lnTo>
                  <a:pt x="36698" y="8224"/>
                </a:lnTo>
                <a:close/>
              </a:path>
              <a:path fill="darkenLess" w="64692" h="21600">
                <a:moveTo>
                  <a:pt x="31423" y="14299"/>
                </a:moveTo>
                <a:lnTo>
                  <a:pt x="33269" y="14299"/>
                </a:lnTo>
                <a:lnTo>
                  <a:pt x="33269" y="17989"/>
                </a:lnTo>
                <a:lnTo>
                  <a:pt x="37655" y="17989"/>
                </a:lnTo>
                <a:lnTo>
                  <a:pt x="37655" y="10800"/>
                </a:lnTo>
                <a:lnTo>
                  <a:pt x="27037" y="10800"/>
                </a:lnTo>
                <a:lnTo>
                  <a:pt x="27037" y="17989"/>
                </a:lnTo>
                <a:lnTo>
                  <a:pt x="31423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10800"/>
                </a:moveTo>
                <a:lnTo>
                  <a:pt x="28660" y="3794"/>
                </a:lnTo>
                <a:lnTo>
                  <a:pt x="2866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3794"/>
                </a:moveTo>
                <a:lnTo>
                  <a:pt x="25012" y="10800"/>
                </a:lnTo>
                <a:lnTo>
                  <a:pt x="1100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одержимое 7" descr="img065.jpg"/>
          <p:cNvPicPr/>
          <p:nvPr/>
        </p:nvPicPr>
        <p:blipFill>
          <a:blip r:embed="rId1"/>
          <a:stretch/>
        </p:blipFill>
        <p:spPr>
          <a:xfrm>
            <a:off x="755640" y="549360"/>
            <a:ext cx="2376360" cy="143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Прямоугольник 8"/>
          <p:cNvSpPr/>
          <p:nvPr/>
        </p:nvSpPr>
        <p:spPr>
          <a:xfrm>
            <a:off x="3348000" y="549360"/>
            <a:ext cx="5545080" cy="100872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сли ваши пальцы грязные – испачканные и сальные, то такими же станут клавиши клавиатур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Рисунок 9" descr="img065.jpg"/>
          <p:cNvPicPr/>
          <p:nvPr/>
        </p:nvPicPr>
        <p:blipFill>
          <a:blip r:embed="rId2"/>
          <a:stretch/>
        </p:blipFill>
        <p:spPr>
          <a:xfrm>
            <a:off x="755640" y="2565360"/>
            <a:ext cx="237636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0" name="Прямоугольник 10"/>
          <p:cNvSpPr/>
          <p:nvPr/>
        </p:nvSpPr>
        <p:spPr>
          <a:xfrm>
            <a:off x="3419640" y="2565360"/>
            <a:ext cx="5400360" cy="91692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Не трогайте провода подключенные к компьютеру. Это опасно для жизни и может привести к серьёзной поломке компьютер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Рисунок 11" descr="img065.jpg"/>
          <p:cNvPicPr/>
          <p:nvPr/>
        </p:nvPicPr>
        <p:blipFill>
          <a:blip r:embed="rId3"/>
          <a:stretch/>
        </p:blipFill>
        <p:spPr>
          <a:xfrm>
            <a:off x="684360" y="4581360"/>
            <a:ext cx="2447640" cy="14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Прямоугольник 12"/>
          <p:cNvSpPr/>
          <p:nvPr/>
        </p:nvSpPr>
        <p:spPr>
          <a:xfrm>
            <a:off x="3419640" y="4581360"/>
            <a:ext cx="5329080" cy="119124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Нажимая клавиши на компьютере, не прилагайте больших усилий. Помните, что, сильно ударяя по клавишам, вы быстро выведете клавиатуру из стро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524720" y="6093000"/>
            <a:ext cx="576360" cy="288720"/>
          </a:xfrm>
          <a:custGeom>
            <a:avLst/>
            <a:gdLst>
              <a:gd name="textAreaLeft" fmla="*/ 18720 w 576360"/>
              <a:gd name="textAreaRight" fmla="*/ 557640 w 576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40428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ажно отметить, что на занятиях нужно строго соблюдать Санитарно-эпидемиологические нормы: учитывать требования к технике, освещению, продолжительности занятий; проводить  профилактические упражнения для глаз и физкультминутки.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" descr="C:\Сессия  ЧГПУ\image038.jpg"/>
          <p:cNvPicPr/>
          <p:nvPr/>
        </p:nvPicPr>
        <p:blipFill>
          <a:blip r:embed="rId1"/>
          <a:stretch/>
        </p:blipFill>
        <p:spPr>
          <a:xfrm>
            <a:off x="3059280" y="2349360"/>
            <a:ext cx="3724200" cy="38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33300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ельзя забывать о том, что все хорошо в меру. Добрые компьютерные игры, столь полезные для детей, могут стать и вредными для них. Слишком длительное нахождение перед компьютером может привести к ухудшению зрения, а также к психологической зависимости от виртуального мира. Но те, кто не пренебрегает правилом золотой середины во всем, таких проблем никогда не испытает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И компьютер для них будет только другом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2" descr="G:\собрания\8f63368f6d1b.jpg"/>
          <p:cNvPicPr/>
          <p:nvPr/>
        </p:nvPicPr>
        <p:blipFill>
          <a:blip r:embed="rId1"/>
          <a:stretch/>
        </p:blipFill>
        <p:spPr>
          <a:xfrm>
            <a:off x="2556000" y="3860640"/>
            <a:ext cx="4392360" cy="2664000"/>
          </a:xfrm>
          <a:prstGeom prst="rect">
            <a:avLst/>
          </a:prstGeom>
          <a:ln w="54000">
            <a:solidFill>
              <a:srgbClr val="00ffff"/>
            </a:solidFill>
            <a:miter/>
          </a:ln>
        </p:spPr>
      </p:pic>
      <p:sp>
        <p:nvSpPr>
          <p:cNvPr id="148" name=""/>
          <p:cNvSpPr txBox="1"/>
          <p:nvPr/>
        </p:nvSpPr>
        <p:spPr>
          <a:xfrm>
            <a:off x="2771640" y="333360"/>
            <a:ext cx="352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ключение: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school083.gif"/>
          <p:cNvPicPr/>
          <p:nvPr/>
        </p:nvPicPr>
        <p:blipFill>
          <a:blip r:embed="rId1"/>
          <a:stretch/>
        </p:blipFill>
        <p:spPr>
          <a:xfrm>
            <a:off x="3132000" y="2492280"/>
            <a:ext cx="333396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Рисунок 6" descr="Рисунок242.gif"/>
          <p:cNvPicPr/>
          <p:nvPr/>
        </p:nvPicPr>
        <p:blipFill>
          <a:blip r:embed="rId2"/>
          <a:stretch/>
        </p:blipFill>
        <p:spPr>
          <a:xfrm>
            <a:off x="7093080" y="620640"/>
            <a:ext cx="1866600" cy="12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1" name="Рисунок 7" descr="Рисунок200.gif"/>
          <p:cNvPicPr/>
          <p:nvPr/>
        </p:nvPicPr>
        <p:blipFill>
          <a:blip r:embed="rId3"/>
          <a:stretch/>
        </p:blipFill>
        <p:spPr>
          <a:xfrm>
            <a:off x="826920" y="4941720"/>
            <a:ext cx="1209960" cy="1106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4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ff00"/>
                </a:solidFill>
                <a:latin typeface="Monotype Corsiva"/>
              </a:rPr>
              <a:t>Желаю успехов в учёбе!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cc66"/>
                </a:solidFill>
                <a:latin typeface="Arial"/>
              </a:rPr>
              <a:t>КОНЕЦ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4" name="Picture 4" descr="hh00779_"/>
          <p:cNvPicPr/>
          <p:nvPr/>
        </p:nvPicPr>
        <p:blipFill>
          <a:blip r:embed="rId1"/>
          <a:stretch/>
        </p:blipFill>
        <p:spPr>
          <a:xfrm>
            <a:off x="2057400" y="304920"/>
            <a:ext cx="1687680" cy="26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Используемые источники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6948360" y="6308640"/>
            <a:ext cx="503280" cy="216000"/>
          </a:xfrm>
          <a:custGeom>
            <a:avLst/>
            <a:gdLst>
              <a:gd name="textAreaLeft" fmla="*/ 13680 w 503280"/>
              <a:gd name="textAreaRight" fmla="*/ 489600 w 503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80" h="21600">
                <a:moveTo>
                  <a:pt x="0" y="0"/>
                </a:moveTo>
                <a:lnTo>
                  <a:pt x="50280" y="0"/>
                </a:lnTo>
                <a:lnTo>
                  <a:pt x="50280" y="21600"/>
                </a:lnTo>
                <a:lnTo>
                  <a:pt x="0" y="21600"/>
                </a:lnTo>
                <a:close/>
              </a:path>
              <a:path fill="lightenLess" w="50280" h="21600">
                <a:moveTo>
                  <a:pt x="0" y="0"/>
                </a:moveTo>
                <a:lnTo>
                  <a:pt x="50280" y="0"/>
                </a:lnTo>
                <a:lnTo>
                  <a:pt x="48880" y="1400"/>
                </a:lnTo>
                <a:lnTo>
                  <a:pt x="1400" y="1400"/>
                </a:lnTo>
                <a:close/>
              </a:path>
              <a:path fill="darken" w="50280" h="21600">
                <a:moveTo>
                  <a:pt x="50280" y="0"/>
                </a:moveTo>
                <a:lnTo>
                  <a:pt x="50280" y="21600"/>
                </a:lnTo>
                <a:lnTo>
                  <a:pt x="48880" y="20200"/>
                </a:lnTo>
                <a:lnTo>
                  <a:pt x="48880" y="1400"/>
                </a:lnTo>
                <a:close/>
              </a:path>
              <a:path fill="darkenLess" w="50280" h="21600">
                <a:moveTo>
                  <a:pt x="50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80" y="20200"/>
                </a:lnTo>
                <a:close/>
              </a:path>
              <a:path fill="lighten" w="50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80" h="21600">
                <a:moveTo>
                  <a:pt x="25140" y="3837"/>
                </a:moveTo>
                <a:lnTo>
                  <a:pt x="27716" y="6448"/>
                </a:lnTo>
                <a:lnTo>
                  <a:pt x="27716" y="4707"/>
                </a:lnTo>
                <a:lnTo>
                  <a:pt x="29492" y="4707"/>
                </a:lnTo>
                <a:lnTo>
                  <a:pt x="29492" y="8224"/>
                </a:lnTo>
                <a:lnTo>
                  <a:pt x="32103" y="10800"/>
                </a:lnTo>
                <a:lnTo>
                  <a:pt x="30449" y="10800"/>
                </a:lnTo>
                <a:lnTo>
                  <a:pt x="30449" y="17989"/>
                </a:lnTo>
                <a:lnTo>
                  <a:pt x="19831" y="17989"/>
                </a:lnTo>
                <a:lnTo>
                  <a:pt x="19831" y="10800"/>
                </a:lnTo>
                <a:lnTo>
                  <a:pt x="18177" y="10800"/>
                </a:lnTo>
                <a:close/>
              </a:path>
              <a:path fill="darkenLess" w="50280" h="21600">
                <a:moveTo>
                  <a:pt x="27716" y="6448"/>
                </a:moveTo>
                <a:lnTo>
                  <a:pt x="27716" y="4707"/>
                </a:lnTo>
                <a:lnTo>
                  <a:pt x="29492" y="4707"/>
                </a:lnTo>
                <a:lnTo>
                  <a:pt x="29492" y="8224"/>
                </a:lnTo>
                <a:close/>
              </a:path>
              <a:path fill="darkenLess" w="50280" h="21600">
                <a:moveTo>
                  <a:pt x="24218" y="14299"/>
                </a:moveTo>
                <a:lnTo>
                  <a:pt x="26063" y="14299"/>
                </a:lnTo>
                <a:lnTo>
                  <a:pt x="26063" y="17989"/>
                </a:lnTo>
                <a:lnTo>
                  <a:pt x="30449" y="17989"/>
                </a:lnTo>
                <a:lnTo>
                  <a:pt x="30449" y="10800"/>
                </a:lnTo>
                <a:lnTo>
                  <a:pt x="19831" y="10800"/>
                </a:lnTo>
                <a:lnTo>
                  <a:pt x="19831" y="17989"/>
                </a:lnTo>
                <a:lnTo>
                  <a:pt x="24218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мпьютер и современный мир – 3 слай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мпьютер – друг – 4 слай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 представляет собой КИК? – 5-8 слайд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мпьютерное обучение дошкольников  - 9,10,11слайд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хника безопасности при работе с компьютером для детей – 12-14 слайд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ключение: - 15 слай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7164360" y="6021360"/>
            <a:ext cx="647640" cy="21600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92" h="21600">
                <a:moveTo>
                  <a:pt x="25340" y="3794"/>
                </a:moveTo>
                <a:lnTo>
                  <a:pt x="39353" y="10800"/>
                </a:lnTo>
                <a:lnTo>
                  <a:pt x="2534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987640" y="620640"/>
            <a:ext cx="36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держание: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Рисунок 6" descr="Рисунок242.gif"/>
          <p:cNvPicPr/>
          <p:nvPr/>
        </p:nvPicPr>
        <p:blipFill>
          <a:blip r:embed="rId1"/>
          <a:stretch/>
        </p:blipFill>
        <p:spPr>
          <a:xfrm>
            <a:off x="7093080" y="620640"/>
            <a:ext cx="1866600" cy="12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Рисунок 6" descr="Рисунок242.gif"/>
          <p:cNvPicPr/>
          <p:nvPr/>
        </p:nvPicPr>
        <p:blipFill>
          <a:blip r:embed="rId2"/>
          <a:stretch/>
        </p:blipFill>
        <p:spPr>
          <a:xfrm>
            <a:off x="468360" y="4941720"/>
            <a:ext cx="1866960" cy="12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0290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31050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36" descr="bs00089_"/>
          <p:cNvPicPr/>
          <p:nvPr/>
        </p:nvPicPr>
        <p:blipFill>
          <a:blip r:embed="rId1"/>
          <a:stretch/>
        </p:blipFill>
        <p:spPr>
          <a:xfrm>
            <a:off x="539640" y="692280"/>
            <a:ext cx="1584360" cy="15127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9"/>
          <p:cNvSpPr/>
          <p:nvPr/>
        </p:nvSpPr>
        <p:spPr>
          <a:xfrm>
            <a:off x="2268360" y="333360"/>
            <a:ext cx="633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но представить современный обучающий процесс и досуг ребенка без этой чудо – машины. Компьютер может быть как объектом изучения, так и средством обучения, т.е. возможно несколько направлений в организации обучения компьютерной деятельности дете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ение основ информатик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ование компьютера при обучении письму, счету и т.п.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воение интерфейса компьютерной сред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учение моторным навыкам работы с мышью и клавиатурой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тие различных психических функций (мышления, памяти и т.д.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сихофизиологическая коррекц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7885080" y="602136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484360" y="189000"/>
            <a:ext cx="575964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мпьютер и современный ми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5800" y="242064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ьютер интенсивно завоевывает все новые позиции не только в школьном, но и в дошкольном образова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авный помощник в учебе, работе и отдых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легчает поиск и получение необходимой и своевременной информ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могает в общении между людь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мпьютер – друг 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6" name="Picture 2" descr="C:\Сессия  ЧГПУ\Интернет_ресурсы.jpg"/>
          <p:cNvPicPr/>
          <p:nvPr/>
        </p:nvPicPr>
        <p:blipFill>
          <a:blip r:embed="rId1"/>
          <a:stretch/>
        </p:blipFill>
        <p:spPr>
          <a:xfrm>
            <a:off x="250920" y="260280"/>
            <a:ext cx="2449440" cy="187344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7812000" y="5950080"/>
            <a:ext cx="792360" cy="287280"/>
          </a:xfrm>
          <a:custGeom>
            <a:avLst/>
            <a:gdLst>
              <a:gd name="textAreaLeft" fmla="*/ 18360 w 792360"/>
              <a:gd name="textAreaRight" fmla="*/ 774000 w 792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28" h="21600">
                <a:moveTo>
                  <a:pt x="0" y="0"/>
                </a:moveTo>
                <a:lnTo>
                  <a:pt x="59528" y="0"/>
                </a:lnTo>
                <a:lnTo>
                  <a:pt x="59528" y="21600"/>
                </a:lnTo>
                <a:lnTo>
                  <a:pt x="0" y="21600"/>
                </a:lnTo>
                <a:close/>
              </a:path>
              <a:path fill="lightenLess" w="59528" h="21600">
                <a:moveTo>
                  <a:pt x="0" y="0"/>
                </a:moveTo>
                <a:lnTo>
                  <a:pt x="59528" y="0"/>
                </a:lnTo>
                <a:lnTo>
                  <a:pt x="58128" y="1400"/>
                </a:lnTo>
                <a:lnTo>
                  <a:pt x="1400" y="1400"/>
                </a:lnTo>
                <a:close/>
              </a:path>
              <a:path fill="darken" w="59528" h="21600">
                <a:moveTo>
                  <a:pt x="59528" y="0"/>
                </a:moveTo>
                <a:lnTo>
                  <a:pt x="59528" y="21600"/>
                </a:lnTo>
                <a:lnTo>
                  <a:pt x="58128" y="20200"/>
                </a:lnTo>
                <a:lnTo>
                  <a:pt x="58128" y="1400"/>
                </a:lnTo>
                <a:close/>
              </a:path>
              <a:path fill="darkenLess" w="59528" h="21600">
                <a:moveTo>
                  <a:pt x="59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28" y="20200"/>
                </a:lnTo>
                <a:close/>
              </a:path>
              <a:path fill="lighten" w="59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28" h="21600">
                <a:moveTo>
                  <a:pt x="22758" y="3794"/>
                </a:moveTo>
                <a:lnTo>
                  <a:pt x="36771" y="10800"/>
                </a:lnTo>
                <a:lnTo>
                  <a:pt x="22758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 сегодняшний день КИК (компьютерно -  игровой комплекс) представляет собой многофункциональный набор компонентов, образующих «компьютерную предметно-развивающую среду».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Компьютерный зал, где установлена техника. </a:t>
            </a: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Для организации рабочих мест </a:t>
            </a: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использована специальная мебель.  </a:t>
            </a:r>
            <a:br>
              <a:rPr sz="24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Рисунок 9" descr="P1000982"/>
          <p:cNvPicPr/>
          <p:nvPr/>
        </p:nvPicPr>
        <p:blipFill>
          <a:blip r:embed="rId1"/>
          <a:stretch/>
        </p:blipFill>
        <p:spPr>
          <a:xfrm>
            <a:off x="1332000" y="2060640"/>
            <a:ext cx="6624720" cy="3240000"/>
          </a:xfrm>
          <a:prstGeom prst="rect">
            <a:avLst/>
          </a:prstGeom>
          <a:ln w="88920">
            <a:solidFill>
              <a:srgbClr val="00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574560" cy="287640"/>
          </a:xfrm>
          <a:custGeom>
            <a:avLst/>
            <a:gdLst>
              <a:gd name="textAreaLeft" fmla="*/ 18360 w 574560"/>
              <a:gd name="textAreaRight" fmla="*/ 556200 w 5745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3119" h="21600">
                <a:moveTo>
                  <a:pt x="0" y="0"/>
                </a:moveTo>
                <a:lnTo>
                  <a:pt x="43119" y="0"/>
                </a:lnTo>
                <a:lnTo>
                  <a:pt x="43119" y="21600"/>
                </a:lnTo>
                <a:lnTo>
                  <a:pt x="0" y="21600"/>
                </a:lnTo>
                <a:close/>
              </a:path>
              <a:path fill="lightenLess" w="43119" h="21600">
                <a:moveTo>
                  <a:pt x="0" y="0"/>
                </a:moveTo>
                <a:lnTo>
                  <a:pt x="43119" y="0"/>
                </a:lnTo>
                <a:lnTo>
                  <a:pt x="41719" y="1400"/>
                </a:lnTo>
                <a:lnTo>
                  <a:pt x="1400" y="1400"/>
                </a:lnTo>
                <a:close/>
              </a:path>
              <a:path fill="darken" w="43119" h="21600">
                <a:moveTo>
                  <a:pt x="43119" y="0"/>
                </a:moveTo>
                <a:lnTo>
                  <a:pt x="43119" y="21600"/>
                </a:lnTo>
                <a:lnTo>
                  <a:pt x="41719" y="20200"/>
                </a:lnTo>
                <a:lnTo>
                  <a:pt x="41719" y="1400"/>
                </a:lnTo>
                <a:close/>
              </a:path>
              <a:path fill="darkenLess" w="43119" h="21600">
                <a:moveTo>
                  <a:pt x="43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9" y="20200"/>
                </a:lnTo>
                <a:close/>
              </a:path>
              <a:path fill="lighten" w="43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9" h="21600">
                <a:moveTo>
                  <a:pt x="14553" y="3794"/>
                </a:moveTo>
                <a:lnTo>
                  <a:pt x="28566" y="10800"/>
                </a:lnTo>
                <a:lnTo>
                  <a:pt x="14553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00360" y="115920"/>
            <a:ext cx="388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представляет собой КИК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Игровой зал,  где размещены комплекты развивающих и обучающих игр, обеспечивающих всестороннее познавательное, речевое и художественно-эстетическое развитие ребенка, наборы мягких игровых предметных модулей, настольно-печатные и народные игры и игруш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Рисунок 5" descr="DSC00884"/>
          <p:cNvPicPr/>
          <p:nvPr/>
        </p:nvPicPr>
        <p:blipFill>
          <a:blip r:embed="rId1"/>
          <a:stretch/>
        </p:blipFill>
        <p:spPr>
          <a:xfrm>
            <a:off x="1403280" y="2492280"/>
            <a:ext cx="6697800" cy="3713400"/>
          </a:xfrm>
          <a:prstGeom prst="rect">
            <a:avLst/>
          </a:prstGeom>
          <a:ln w="50760">
            <a:solidFill>
              <a:srgbClr val="00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Уголок психологической разгрузки (релаксации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5" name="Picture 2" descr="C:\Сессия  ЧГПУ\КИК\Комната релаксации 1.jpg"/>
          <p:cNvPicPr/>
          <p:nvPr/>
        </p:nvPicPr>
        <p:blipFill>
          <a:blip r:embed="rId1"/>
          <a:stretch/>
        </p:blipFill>
        <p:spPr>
          <a:xfrm>
            <a:off x="1547640" y="2349360"/>
            <a:ext cx="6409080" cy="3600720"/>
          </a:xfrm>
          <a:prstGeom prst="rect">
            <a:avLst/>
          </a:prstGeom>
          <a:ln w="50760">
            <a:solidFill>
              <a:srgbClr val="00ffff"/>
            </a:solidFill>
            <a:miter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719928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портивная зона, где созданы все условия для двигательной активности детей.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Содержимое 5" descr="DSC00858"/>
          <p:cNvPicPr/>
          <p:nvPr/>
        </p:nvPicPr>
        <p:blipFill>
          <a:blip r:embed="rId1"/>
          <a:stretch/>
        </p:blipFill>
        <p:spPr>
          <a:xfrm>
            <a:off x="1042920" y="2349360"/>
            <a:ext cx="7201080" cy="3600720"/>
          </a:xfrm>
          <a:prstGeom prst="rect">
            <a:avLst/>
          </a:prstGeom>
          <a:ln w="50760">
            <a:solidFill>
              <a:srgbClr val="00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Компьютерное обучение дошкольников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440" y="1628280"/>
            <a:ext cx="8062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Начинать компьютерное обучение дошкольников следует с подбора обучающих и развивающих программ и продумывания организационных форм работы с детьми и их применения, разработки методик, использующих возможности компьютера в обучен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ногие авторы выделяют четыре типа обучающих программ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тренировочные и контролирующи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редназначены для закрепления умений и навыков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наставнически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редлагают детям теоретический материал для изучения.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имитационные и моделироснованы на графически иллюстрированных возможностях, с одной стороны, и вычислительных – с другой, и позволяют осуществлять компьютерный эксперимент; ующ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развивающие игры предоставляют в распоряжение ребенка некоторую воображаемую среду, существующий только в компьютере мир, набор определенных возможностей и средств их реализ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18:20:08Z</dcterms:created>
  <dc:creator>Valentina</dc:creator>
  <dc:description/>
  <dc:language>en-US</dc:language>
  <cp:lastModifiedBy>Admin</cp:lastModifiedBy>
  <dcterms:modified xsi:type="dcterms:W3CDTF">2013-12-10T20:20:08Z</dcterms:modified>
  <cp:revision>40</cp:revision>
  <dc:subject/>
  <dc:title>Первое знакомство с компьютером</dc:title>
</cp:coreProperties>
</file>