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E8B-781E-4032-9E36-156ABBAE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3FB-2BE8-4204-829E-40477D59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F24-D440-4EE7-9ACE-68E89C8A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3A5-9475-429B-ABE8-A9011EDB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AC6AD-08BC-480B-95F4-A96284C2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65C0D-C333-44BB-844F-51BF37F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8E96B-E6D4-4AF8-B9D0-354A588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6D79-ADD1-4BB8-9AAE-911F378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0735F-DFA4-4510-B645-00A5BD53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466BC-B612-453F-9F81-BA1D3191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E6B11-195A-451C-8DD9-DA9EDF8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C28-C1AB-4282-B3FD-791EAE3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788E-A4CA-4ACB-AE79-1B6E713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4E26-78E8-4F1B-B608-46FE3C0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FACCC-8FC2-4972-9B2D-2CCEE030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F42A4-00CE-4D90-AD77-C7A873C9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FD9FE-7247-4467-8960-C2990EB3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108-7FCB-44F3-8576-8B3E631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431-CBEA-4738-8526-48BEADE0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080-6A13-467F-8EBF-F724495A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F17-E0DB-48D8-864E-79D51FB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75C-E2BA-4D9C-88EB-119BC70F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6BA-7199-47E5-825A-7182599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27C-EB1F-4CFE-A0A0-1BCD4049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4EB1-AE0B-481D-9D73-0F158B929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741-B5CE-401E-ABC9-E3AB33484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Явление механического  резонанс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чему нельзя солдатам строем идти в ногу по мост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4005360"/>
            <a:ext cx="410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боту выполнили учащиеся 11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6352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 исслед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какую роль играет резонанс в жизни челове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видами резонан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отреть использование явления резонанс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7194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дение эксперимен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ематически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ятник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дение эксперимент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тырехтактный двигатель          Механический резонан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84720" y="319572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62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ение резонанса наблюдается при вынужденных колеба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ение резонанса играет огромную роль в жизни челове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429264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зика какая ёмкость слова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зика для нас не просто зву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зика основа и опо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ех без исключения на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1520" y="3664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0:22:05Z</dcterms:created>
  <dc:creator>Информатика</dc:creator>
  <dc:description/>
  <dc:language>en-US</dc:language>
  <cp:lastModifiedBy>Информатика</cp:lastModifiedBy>
  <dcterms:modified xsi:type="dcterms:W3CDTF">2005-11-26T10:34:27Z</dcterms:modified>
  <cp:revision>8</cp:revision>
  <dc:subject/>
  <dc:title>Человек и явление резонанса </dc:title>
</cp:coreProperties>
</file>