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369-14E8-4BD7-ADEA-F893BA85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B06-6AE4-4474-9D59-9042C703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675-700C-46E5-BC59-A68A6CAC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79E-0C9E-440E-9DC9-BB52C02F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40936-F06C-4775-A5F8-FF9E04BA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06FDD-DE4C-4610-9DC6-97D79B4E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DAD28-576F-4D4D-88AE-D3FABF48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78005-BBE2-47C0-B808-A314C091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95D95-AA01-434D-B2C1-C9CDCDA1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7E443-E9C4-4ECA-B779-3D83AD82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A148C-4F4E-4DA4-8B20-F4753CBC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B7D-EA4C-41ED-9D79-691F1719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BDE88-138A-4CEC-AA2D-1FD7F340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898F9-976A-43E6-8795-F584D21F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CC91A-EEE1-4BAF-A9FF-EE0E6A34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1DFC0-3676-4D2E-A151-8F144AD9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449FE-CD0D-411B-BAC3-18F0BD3B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06E-6CBD-436F-B956-A9B18226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FB0-FA66-48D7-AA6D-94ECC6F8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869-231C-453F-9ADB-82184E1A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E4E-5EFA-4850-ADA1-AA422AD5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1B2-96F2-40C9-BAD0-18690118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D24B-BD8F-410C-BA1F-0288CFF4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38F-0734-4BE5-9EBD-C73D3AA0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D205-24D8-4CAC-AD40-A2FA2E4FB5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3DAA-9000-4091-A3B2-2DEA37A54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Явление механического  резонанса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чему нельзя солдатам строем идти в ногу по мосту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000" y="4005360"/>
            <a:ext cx="410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боту выполнили учащиеся 11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6352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ь исследов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ть, какую роль играет резонанс в жизни челове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38894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ться с видами резонан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смотреть использование явления резонанс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27194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ведение эксперимен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тематически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ятник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348000" y="256536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ведение эксперимен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тырехтактный двигатель          Механический резонан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284720" y="319572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762200"/>
            <a:ext cx="82296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вление резонанса наблюдается при вынужденных колебан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вление резонанса играет огромную роль в жизни челове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429264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изика какая ёмкость слова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изика для нас не просто зву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изика основа и опо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сех без исключения на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71520" y="3664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0:22:05Z</dcterms:created>
  <dc:creator>Информатика</dc:creator>
  <dc:description/>
  <dc:language>en-US</dc:language>
  <cp:lastModifiedBy>Информатика</cp:lastModifiedBy>
  <dcterms:modified xsi:type="dcterms:W3CDTF">2005-11-26T10:34:27Z</dcterms:modified>
  <cp:revision>8</cp:revision>
  <dc:subject/>
  <dc:title>Человек и явление резонанса </dc:title>
</cp:coreProperties>
</file>