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wmf" ContentType="image/x-wmf"/>
  <Override PartName="/ppt/media/image12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E53A-0DB8-4780-869B-D6E0F0CD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E183-32F2-4F97-9BF8-E5E68407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5CAD-D0F9-48C2-9DD7-8476C508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D045-77F4-4249-9690-B092FB96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9E98-E81F-4602-8E4F-9AEB99A9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ADA0-B02D-460B-B986-4A1495D5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0DC5-F1E3-4108-A2EC-FBD2C9CC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15C7-888A-49D3-8D7A-C019A240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8B67-F573-4CDA-9F41-41891E78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427A-A3D1-4D8B-803E-AE42A9BC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7F24-D5AC-4E86-86F3-089AC479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CB8-E051-4318-BFDB-DB411C97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FA0E-266C-45D6-B65F-282B9E6D14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5.jpeg"/><Relationship Id="rId1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 Использование метода проектов в урочной и  внеурочной             деятельност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//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 опыта работы Маркиной Е.Н., учителя русского языка и литературы МБОУ СОШ №8 г. Рузаевки Республики Мордов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96252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сурс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1676520"/>
            <a:ext cx="6629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1294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1068480"/>
            <a:ext cx="685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do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da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54390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bg-prestige.narod.ru/proek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www.CoolReferat.com/%D0%A2%D0%B2%D0%BE%D1%80%D1%87...E%D1%81%D1%82%D0%B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klimanova.su/index.php?option=com_content&amp;view=article&amp;id=49&amp;Itemid=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nnb170178.ucoz.ru/blog/istorija_vozniknovenija_i_r...roektov/2010-03-22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rud.exdat.com/docs/index-636090.html?page=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исок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олат Е.С.Новые педагогические и информационные технологии в системе образования/ Москва, Академия, 2002-С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Селевко Г.К.Современные образовательные технологии/ Москва,1998 – С.16 3.Вахрушева Л.М. Применение проективного метода на уроках русского языка [Текст]/ 3.Л.М.Вахрушева //Русский язык. – 2007. - №14. – С. 35-3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057400" y="1905120"/>
            <a:ext cx="5943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, что дети могут сделать вместе сегодня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тра каждый из них сможет сделать самостоятельно.                                                             Л.С. Выготский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969156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же в школе дети должны получ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зможность раскрыть свои способн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риентироваться в высокотехнологич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нкурентном мир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ая образовательная иници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аша новая школ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18200" y="609480"/>
            <a:ext cx="2870280" cy="3810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380880"/>
            <a:ext cx="51055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проект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в буквальном переводе с латинского – «брошенный вперёд»)  в словаре иностранных слов толкуется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ект – замысел, пла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аботанный план сооружения, механизма; предварительный текст какого – либо докум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тод прое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 педагогическая   технология,  ориентированная  не на интеграцию фактических  знаний, а на их  применение  и  приобретение   новых. Он является одним из наиболее распространенных видов исследовательского труда школьников сегод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95560" y="4724280"/>
            <a:ext cx="5248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 проектов  был разработан в 20–е годы прошлого века американским философом и педагогом Джоном  Дью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59 – 19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меры проектов разных ви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6486480" cy="5321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этапы работы над проектом по методике Е.С.Пол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лгоритм подготовки к запуску учебного проекта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жно представить в виде сх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8153640" cy="3867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76520" y="304920"/>
            <a:ext cx="5867280" cy="5568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этапы работы над проектом по методике Е.С.Пол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600200" y="1820880"/>
            <a:ext cx="6400800" cy="5037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057400" y="1371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ма: “Жизнь и творчество А.С.Пушкина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2"/>
          <a:stretch/>
        </p:blipFill>
        <p:spPr>
          <a:xfrm>
            <a:off x="685800" y="2209680"/>
            <a:ext cx="8177040" cy="3611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1349640" cy="1981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209680" y="838080"/>
            <a:ext cx="160020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934320" y="685800"/>
            <a:ext cx="1546200" cy="2133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209680" y="2666880"/>
            <a:ext cx="1490760" cy="2210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3886200" y="685800"/>
            <a:ext cx="1467000" cy="2133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858000" y="4267080"/>
            <a:ext cx="1631880" cy="2438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5486400" y="2743200"/>
            <a:ext cx="146520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3962520" y="1828800"/>
            <a:ext cx="160020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5562720" y="4343400"/>
            <a:ext cx="150480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3886200" y="3200400"/>
            <a:ext cx="1525680" cy="2057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838080" y="2590920"/>
            <a:ext cx="158616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3"/>
          <a:stretch/>
        </p:blipFill>
        <p:spPr>
          <a:xfrm>
            <a:off x="838080" y="4724280"/>
            <a:ext cx="1560600" cy="2133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4"/>
          <a:stretch/>
        </p:blipFill>
        <p:spPr>
          <a:xfrm>
            <a:off x="4038480" y="4648320"/>
            <a:ext cx="1389240" cy="2057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5"/>
          <a:stretch/>
        </p:blipFill>
        <p:spPr>
          <a:xfrm>
            <a:off x="5486400" y="914400"/>
            <a:ext cx="1465200" cy="2057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6"/>
          <a:stretch/>
        </p:blipFill>
        <p:spPr>
          <a:xfrm>
            <a:off x="2286000" y="4800600"/>
            <a:ext cx="1465200" cy="2057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7"/>
          <a:stretch/>
        </p:blipFill>
        <p:spPr>
          <a:xfrm>
            <a:off x="6934320" y="2819520"/>
            <a:ext cx="135720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1-23T18:38:49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