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12E-D835-4F2E-B8AE-66B02139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29B-D465-44C0-BDB4-7084407B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A83-BDCA-4C1F-B944-33E124AE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F4B-1541-4E14-A1AB-BF53A96A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C79-C57F-4C0C-AA5A-C32329F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8D1-D2D3-4596-BBF1-F4A2913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076-B1F1-42C3-B350-DF8E2FF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DDD-728E-4864-BCAA-135DF1FD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D90-82A5-4B62-BCF2-93576FD3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575-95FC-4E01-B1E6-EFE65B9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091-23BA-41F4-9D6C-B9C591B5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416-30AF-4652-942A-5239B97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95C-CF45-4501-892D-7C83BEF3F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Использование метода проектов в урочной и  внеурочной            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//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опыта работы Маркиной Е.Н., учителя русского языка и литературы МБОУ СОШ №8 г. Рузаевки Республики Мордов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9625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6765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94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06848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o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d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54390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bg-prestige.narod.ru/proek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www.CoolReferat.com/%D0%A2%D0%B2%D0%BE%D1%80%D1%87...E%D1%81%D1%82%D0%B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klimanova.su/index.php?option=com_content&amp;view=article&amp;id=49&amp;Itemid=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nnb170178.ucoz.ru/blog/istorija_vozniknovenija_i_r...roektov/2010-03-22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rud.exdat.com/docs/index-636090.html?page=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олат Е.С.Новые педагогические и информационные технологии в системе образования/ Москва, Академия, 2002-С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елевко Г.К.Современные образовательные технологии/ Москва,1998 – С.16 3.Вахрушева Л.М. Применение проективного метода на уроках русского языка [Текст]/ 3.Л.М.Вахрушева //Русский язык. – 2007. - №14. – С. 35-3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057400" y="1905120"/>
            <a:ext cx="5943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, что дети могут сделать вместе сегодня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 каждый из них сможет сделать самостоятельно.                                                             Л.С. Выготский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969156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же в школе дети должны получ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можность раскрыть свои спосо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риентироваться в высокотехнологич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курентном ми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образовательная иници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ша новая школ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8200" y="609480"/>
            <a:ext cx="287028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380880"/>
            <a:ext cx="510552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оект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 буквальном переводе с латинского – «брошенный вперёд»)  в словаре иностранных слов толк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 – замысел, пл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нный план сооружения, механизма; предварительный текст какого – либ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 прое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педагогическая   технология,  ориентированная  не на интеграцию фактических  знаний, а на их  применение  и  приобретение   новых. Он является одним из наиболее распространенных видов исследовательского труда школьников сего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95560" y="4724280"/>
            <a:ext cx="5248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проектов  был разработан в 20–е годы прошлого века американским философом и педагогом Джоном  Дью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59 – 19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меры проектов разных в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486480" cy="5321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этапы работы над проектом по методике Е.С.По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горитм подготовки к запуску учебного проекта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представить в виде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815364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76520" y="304920"/>
            <a:ext cx="5867280" cy="556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этапы работы над проектом по методике Е.С.По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00200" y="1820880"/>
            <a:ext cx="6400800" cy="5037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7400" y="1371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: “Жизнь и творчество А.С.Пушкина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8177040" cy="3611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134964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8380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934320" y="685800"/>
            <a:ext cx="154620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09680" y="2666880"/>
            <a:ext cx="1490760" cy="221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86200" y="685800"/>
            <a:ext cx="146700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58000" y="4267080"/>
            <a:ext cx="1631880" cy="243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486400" y="2743200"/>
            <a:ext cx="146520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962520" y="18288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562720" y="4343400"/>
            <a:ext cx="150480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886200" y="3200400"/>
            <a:ext cx="152568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838080" y="2590920"/>
            <a:ext cx="15861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838080" y="4724280"/>
            <a:ext cx="1560600" cy="2133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4038480" y="4648320"/>
            <a:ext cx="138924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5486400" y="914400"/>
            <a:ext cx="146520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2286000" y="4800600"/>
            <a:ext cx="14652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6934320" y="2819520"/>
            <a:ext cx="135720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23T18:38:4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