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1958D6-AC6C-4A86-9828-5AF3993D89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45EA21-E513-4DA9-81C6-D97639632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7EA37E-8024-448F-97D7-4EA1738E6D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B64C32-5AB1-4C14-A080-6CEAC40759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CA24D9-C3AB-451F-96C1-48CC641BFD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25A047-AE70-4D8F-A08F-7BC043999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C5FB21-74EC-4949-A36D-51CE4E0653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BD7E2D-4C3E-4FE0-A564-571A2AF0D6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DDD8CD-CA29-4821-9666-9A0B592F57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09312-4A7B-45B4-A2B5-1FED04DE26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D5EDD-0F7E-4D21-A45A-977FA31F17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3431B-E1FA-4478-892C-2704555339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BBE10-FA31-4607-893F-B5B19A24C2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rne Musik</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osowa Olesja,10  Klass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394920" y="188640"/>
            <a:ext cx="4032360" cy="3600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Musik spielt eine sehr wichtige Rolle in unserem täglichen Leben. Wir werden überall davon begleitet: im Fernsehen und Funkt, zu Hause und sogar bei Schule. Wenn wir am Abend ins Café, in den Klub oder zur Disko gehen, werden wir überall von Musik getroffen. In solcher Stellen gibt es viel Musik, weil sie den Geist der Besucher hebt und die Atmosphäre bequemer und fröhlicher macht. </a:t>
            </a:r>
            <a:endParaRPr b="0" lang="en-US" sz="2000" spc="-1" strike="noStrike">
              <a:solidFill>
                <a:srgbClr val="000000"/>
              </a:solidFill>
              <a:latin typeface="Arial"/>
            </a:endParaRPr>
          </a:p>
        </p:txBody>
      </p:sp>
      <p:pic>
        <p:nvPicPr>
          <p:cNvPr id="44" name="" descr=""/>
          <p:cNvPicPr/>
          <p:nvPr/>
        </p:nvPicPr>
        <p:blipFill>
          <a:blip r:embed="rId1"/>
          <a:stretch/>
        </p:blipFill>
        <p:spPr>
          <a:xfrm>
            <a:off x="324000" y="3860640"/>
            <a:ext cx="5256000" cy="2887920"/>
          </a:xfrm>
          <a:prstGeom prst="rect">
            <a:avLst/>
          </a:prstGeom>
          <a:ln w="0">
            <a:noFill/>
          </a:ln>
        </p:spPr>
      </p:pic>
      <p:pic>
        <p:nvPicPr>
          <p:cNvPr id="45" name="" descr=""/>
          <p:cNvPicPr/>
          <p:nvPr/>
        </p:nvPicPr>
        <p:blipFill>
          <a:blip r:embed="rId2"/>
          <a:stretch/>
        </p:blipFill>
        <p:spPr>
          <a:xfrm>
            <a:off x="4572000" y="404640"/>
            <a:ext cx="4427640" cy="3311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107640" y="188640"/>
            <a:ext cx="4608360" cy="3671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Was mich betrifft, so höre ich Musik mit Vergnügen. Musik hilft mir immer. Wenn ich mich langweile oder eine schlechte Stimmung habe, höre ich immer Musik, sie hebt meinen Geist. Wenn ich eine ausgezeichnete Stimmung habe, schalte ich Musik an, höre mir etwas Heiteres an fühle mich auf der Spitze von Seligkeit. </a:t>
            </a:r>
            <a:endParaRPr b="0" lang="en-US" sz="2400" spc="-1" strike="noStrike">
              <a:solidFill>
                <a:srgbClr val="000000"/>
              </a:solidFill>
              <a:latin typeface="Arial"/>
            </a:endParaRPr>
          </a:p>
        </p:txBody>
      </p:sp>
      <p:pic>
        <p:nvPicPr>
          <p:cNvPr id="47" name="" descr=""/>
          <p:cNvPicPr/>
          <p:nvPr/>
        </p:nvPicPr>
        <p:blipFill>
          <a:blip r:embed="rId1"/>
          <a:stretch/>
        </p:blipFill>
        <p:spPr>
          <a:xfrm>
            <a:off x="3564000" y="3500280"/>
            <a:ext cx="5398920" cy="3165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3635280" y="189000"/>
            <a:ext cx="5508720" cy="4292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Ich habe viele Kassetten und CDs mit der Musik verschiedener von Klassikern um zu Rock. Von Musik mag ich alles, was gut klingt, aber moderne Musik habe ich am liebsten, weil ich ein moderner Mann bin, und ich versuche zusammen mit der Zeit zu gehen. </a:t>
            </a:r>
            <a:endParaRPr b="0" lang="en-US" sz="2400" spc="-1" strike="noStrike">
              <a:solidFill>
                <a:srgbClr val="000000"/>
              </a:solidFill>
              <a:latin typeface="Arial"/>
            </a:endParaRPr>
          </a:p>
        </p:txBody>
      </p:sp>
      <p:pic>
        <p:nvPicPr>
          <p:cNvPr id="49" name="" descr=""/>
          <p:cNvPicPr/>
          <p:nvPr/>
        </p:nvPicPr>
        <p:blipFill>
          <a:blip r:embed="rId1"/>
          <a:stretch/>
        </p:blipFill>
        <p:spPr>
          <a:xfrm>
            <a:off x="1042920" y="3213000"/>
            <a:ext cx="5905440" cy="3459240"/>
          </a:xfrm>
          <a:prstGeom prst="rect">
            <a:avLst/>
          </a:prstGeom>
          <a:ln w="0">
            <a:noFill/>
          </a:ln>
        </p:spPr>
      </p:pic>
      <p:pic>
        <p:nvPicPr>
          <p:cNvPr id="50" name="" descr=""/>
          <p:cNvPicPr/>
          <p:nvPr/>
        </p:nvPicPr>
        <p:blipFill>
          <a:blip r:embed="rId2"/>
          <a:stretch/>
        </p:blipFill>
        <p:spPr>
          <a:xfrm>
            <a:off x="108000" y="115920"/>
            <a:ext cx="3672000" cy="2552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sik Festival</a:t>
            </a:r>
            <a:endParaRPr b="0" lang="en-US" sz="4400" spc="-1" strike="noStrike">
              <a:solidFill>
                <a:srgbClr val="000000"/>
              </a:solidFill>
              <a:latin typeface="Arial"/>
            </a:endParaRPr>
          </a:p>
        </p:txBody>
      </p:sp>
      <p:pic>
        <p:nvPicPr>
          <p:cNvPr id="52" name="" descr=""/>
          <p:cNvPicPr/>
          <p:nvPr/>
        </p:nvPicPr>
        <p:blipFill>
          <a:blip r:embed="rId1"/>
          <a:stretch/>
        </p:blipFill>
        <p:spPr>
          <a:xfrm>
            <a:off x="539640" y="1197000"/>
            <a:ext cx="8282160" cy="5508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108000" y="115920"/>
            <a:ext cx="9036000" cy="31687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Aus der modernen Musik gefällt mir die amerikanische Gruppe " The Offspring " am meisten, weil sie aktiv und dynamisch ist. Mir gefallen auch die Texte der Lieder dieser Gruppe, obwohl sie manchmal traurig, manchmal ironisch sind, aber nie langweilig. Es wird dort über Probleme der Jugend gesprochen, die eine moderne Gesellschaft beunruhigt. Ich träume manchmal vom Besuch eines Konzertes dieser Gruppe. </a:t>
            </a:r>
            <a:endParaRPr b="0" lang="en-US" sz="2800" spc="-1" strike="noStrike">
              <a:solidFill>
                <a:srgbClr val="000000"/>
              </a:solidFill>
              <a:latin typeface="Arial"/>
            </a:endParaRPr>
          </a:p>
        </p:txBody>
      </p:sp>
      <p:pic>
        <p:nvPicPr>
          <p:cNvPr id="54" name="" descr=""/>
          <p:cNvPicPr/>
          <p:nvPr/>
        </p:nvPicPr>
        <p:blipFill>
          <a:blip r:embed="rId1"/>
          <a:stretch/>
        </p:blipFill>
        <p:spPr>
          <a:xfrm>
            <a:off x="1476360" y="3357720"/>
            <a:ext cx="6191280" cy="3311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684360" y="981000"/>
            <a:ext cx="4086000" cy="5618160"/>
          </a:xfrm>
          <a:prstGeom prst="rect">
            <a:avLst/>
          </a:prstGeom>
          <a:ln w="0">
            <a:noFill/>
          </a:ln>
        </p:spPr>
      </p:pic>
      <p:sp>
        <p:nvSpPr>
          <p:cNvPr id="56" name=""/>
          <p:cNvSpPr/>
          <p:nvPr/>
        </p:nvSpPr>
        <p:spPr>
          <a:xfrm>
            <a:off x="6227640" y="333360"/>
            <a:ext cx="212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za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178920" y="115920"/>
            <a:ext cx="8713800" cy="6337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Aus den Klassikern gefallt mir Mozart am meisten. Ich bewundere das Talent dieses großen Musikers und Komponisten. Er setzt Musik zusammen, die Geige und Klavier gespielt wird, als er noch 5 Jahre alt war, wenn andere Kinder nicht fähig noch zu lesen waren. Im Laufe von 34 Jahren seines Lebens schrieb er 18 Opern, 50 Symphonien, 30 Konzerte für Klavier, viele Sonaten und Lieder. Mir gefallt drei berühmtesten Mozarts Symphonien. Die Symphonie № 39 zeigt das Leben des Menschen mit seinem Schwierigkeiten und Vergnügen. Die Symphonie № 40 zeigt das Meer, Lyrik und Poesie menschlicher Seele, und die Symphonie № 41 (Der Jupiter) zeigt die ganze Welt, das ganze Universum mit seinen Kontrasten und Widersproche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2997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Danke!</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21T06:47:05Z</dcterms:created>
  <dc:creator>Виктор</dc:creator>
  <dc:description/>
  <dc:language>en-US</dc:language>
  <cp:lastModifiedBy>Admin</cp:lastModifiedBy>
  <dcterms:modified xsi:type="dcterms:W3CDTF">2012-05-25T01:10:05Z</dcterms:modified>
  <cp:revision>3</cp:revision>
  <dc:subject/>
  <dc:title>Moderne Musik</dc:title>
</cp:coreProperties>
</file>