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voltage.wav" ContentType="audio/x-wav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4A7-08C4-485F-8004-7B752DAE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38C-4FAB-44C4-91E1-0FDC91E3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ABB-B4B9-487A-A4BC-9BF9CF47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053-E4FD-4C9B-A666-E7FC09B6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2E35-63D5-4374-8F82-7B97EF14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3895-A139-4166-9679-6B566DF5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EDD5-FB08-4532-A665-52616B96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183A-2A22-4656-9B67-6999B723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FB65-EF26-4C4A-9D62-2E4ADA7F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F5F4-B77E-4635-B410-3B4FA5A5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65BD-228D-44F6-8772-545CD4B6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8DA-AC93-46E9-AE86-050B7959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C390-D532-44C6-B5A8-7713DC63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14DC-9C64-46B3-B8B2-413645EC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C8A6-A195-4712-BB6A-CDD3D216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4B8C-51BE-4BA4-AFF3-459E3B0A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BA96-4A6F-4507-9F9E-07B8DA6E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4CB6-61E1-4B05-854B-0B302B5D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159-122B-46C9-816A-66428BB0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9A7-5198-4B21-8A3D-6668EB3C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43A-E9D1-4ED4-91B5-F7924D2D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B5B-5C0A-4982-9F1A-0C7AA37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B05-78CC-4E64-929E-9B345597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6B5-5D5B-493E-A52A-3189872F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orbel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1a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0A51-A816-44EC-B9D5-53806DB332D4}" type="slidenum">
              <a:rPr b="0" lang="ru-RU" sz="1200" spc="-1" strike="noStrike">
                <a:solidFill>
                  <a:srgbClr val="4b251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orbel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1a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45D0-4182-43F1-9CAD-43586B42D595}" type="slidenum">
              <a:rPr b="0" lang="ru-RU" sz="1200" spc="-1" strike="noStrike">
                <a:solidFill>
                  <a:srgbClr val="4b251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4"/>
          <p:cNvSpPr/>
          <p:nvPr/>
        </p:nvSpPr>
        <p:spPr>
          <a:xfrm>
            <a:off x="971640" y="336600"/>
            <a:ext cx="727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64305"/>
                </a:solidFill>
                <a:latin typeface="Book Antiqua"/>
              </a:rPr>
              <a:t>Народный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64305"/>
                </a:solidFill>
                <a:latin typeface="Book Antiqua"/>
              </a:rPr>
              <a:t>праздничный костюм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Урок изобразительного искусства, 5 клас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Автор: </a:t>
            </a:r>
            <a:r>
              <a:rPr b="1" i="1" lang="ru-RU" sz="1800" spc="-1" strike="noStrike">
                <a:solidFill>
                  <a:srgbClr val="35436a"/>
                </a:solidFill>
                <a:latin typeface="Arial"/>
              </a:rPr>
              <a:t>Смагина</a:t>
            </a: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35436a"/>
                </a:solidFill>
                <a:latin typeface="Arial"/>
              </a:rPr>
              <a:t>Лариса</a:t>
            </a: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35436a"/>
                </a:solidFill>
                <a:latin typeface="Arial"/>
              </a:rPr>
              <a:t>Владимиров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Учитель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МОУ «СОШ с углубленным изучением отдельных предметов № </a:t>
            </a:r>
            <a:r>
              <a:rPr b="1" i="1" lang="ru-RU" sz="1800" spc="-1" strike="noStrike">
                <a:solidFill>
                  <a:srgbClr val="35436a"/>
                </a:solidFill>
                <a:latin typeface="Arial"/>
              </a:rPr>
              <a:t>24</a:t>
            </a: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36a"/>
                </a:solidFill>
                <a:latin typeface="Corbe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6084720" y="1341360"/>
            <a:ext cx="2573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В русском народном костюме сохранились старинные головные уборы и сам обычай для замужней женщины прятать волосы, а для девушки — оставлять их непокрытыми. Этим обусловлена форма женского головного убора в виде закрытой шапочки и девичьего — в виде обруча или повязк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7" name="Picture 2" descr="C:\Users\Лариса\Desktop\народная одежда\karely1.jpg"/>
          <p:cNvPicPr/>
          <p:nvPr/>
        </p:nvPicPr>
        <p:blipFill>
          <a:blip r:embed="rId1"/>
          <a:stretch/>
        </p:blipFill>
        <p:spPr>
          <a:xfrm>
            <a:off x="250920" y="1413000"/>
            <a:ext cx="5473440" cy="5006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лариса\диск 22.05.2011\рус нац костюм\картинки сканр\CIMG149d7.jpg"/>
          <p:cNvPicPr/>
          <p:nvPr/>
        </p:nvPicPr>
        <p:blipFill>
          <a:blip r:embed="rId1"/>
          <a:stretch/>
        </p:blipFill>
        <p:spPr>
          <a:xfrm>
            <a:off x="179280" y="1197000"/>
            <a:ext cx="2521080" cy="501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лариса\диск 22.05.2011\рус нац костюм\картинки сканр\CIMG1497.jpg"/>
          <p:cNvPicPr/>
          <p:nvPr/>
        </p:nvPicPr>
        <p:blipFill>
          <a:blip r:embed="rId2"/>
          <a:stretch/>
        </p:blipFill>
        <p:spPr>
          <a:xfrm>
            <a:off x="6588000" y="1268280"/>
            <a:ext cx="2376720" cy="49086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2916360" y="1341360"/>
            <a:ext cx="331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654c"/>
                </a:solidFill>
                <a:latin typeface="Corbel"/>
              </a:rPr>
              <a:t>Верхней одеждой служили зипун или кафтан из домотканого сукна, запахивающийся на левую сторону, с застежкой на крючки или пуговиц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c0654c"/>
                </a:solidFill>
                <a:latin typeface="Corbel"/>
              </a:rPr>
              <a:t>зимой — овчинные нагольные шуб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3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024000" cy="460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1052640"/>
            <a:ext cx="56163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654c"/>
                </a:solidFill>
                <a:latin typeface="Corbel"/>
              </a:rPr>
              <a:t>Традиционные узоры и орнаменты</a:t>
            </a:r>
            <a:endParaRPr b="0" lang="en-US" sz="3600" spc="-1" strike="noStrike">
              <a:solidFill>
                <a:srgbClr val="4f271c"/>
              </a:solidFill>
              <a:latin typeface="Corbe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3095640" cy="4578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5940360" y="1916280"/>
            <a:ext cx="2592360" cy="45100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64087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654c"/>
                </a:solidFill>
                <a:latin typeface="Corbel"/>
              </a:rPr>
              <a:t>Для орнаментации домашних тканей использовались узорное ткачество, вышивка, набойка </a:t>
            </a:r>
            <a:br>
              <a:rPr sz="1600"/>
            </a:br>
            <a:endParaRPr b="0" lang="en-US" sz="2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8920" y="1412640"/>
            <a:ext cx="381636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Изображались узоры из стилизованных растений, цветов, вето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Наиболее распространенные элементы орнаментов: треугольники, ромбы, косые кресты, восьмиугольные звезды, розетки, елочки, кустики, прямоугольники с точками, стилизованные фигуры женщины, птицы, коня, олен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Гамма цветов многокрасочн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7" name="Picture 3" descr="D:\лариса\диск 22.05.2011\рус нац костюм\картинки сканр\CIMG1494.jpg"/>
          <p:cNvPicPr/>
          <p:nvPr/>
        </p:nvPicPr>
        <p:blipFill>
          <a:blip r:embed="rId1"/>
          <a:stretch/>
        </p:blipFill>
        <p:spPr>
          <a:xfrm>
            <a:off x="4427640" y="1341360"/>
            <a:ext cx="3960720" cy="53276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voltag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-828720" y="76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654c"/>
                </a:solidFill>
                <a:latin typeface="Corbel"/>
              </a:rPr>
              <a:t>Свадебный костю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9" name="Picture 3" descr="C:\Users\Лариса\Desktop\народная одежда\3_large.jpg"/>
          <p:cNvPicPr/>
          <p:nvPr/>
        </p:nvPicPr>
        <p:blipFill>
          <a:blip r:embed="rId1"/>
          <a:stretch/>
        </p:blipFill>
        <p:spPr>
          <a:xfrm rot="580200">
            <a:off x="5843160" y="972720"/>
            <a:ext cx="2841840" cy="4227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Лариса\Desktop\народная одежда\debdda9cd23396062d9ce09a65840a3c.jpg"/>
          <p:cNvPicPr/>
          <p:nvPr/>
        </p:nvPicPr>
        <p:blipFill>
          <a:blip r:embed="rId2"/>
          <a:stretch/>
        </p:blipFill>
        <p:spPr>
          <a:xfrm rot="21066000">
            <a:off x="555120" y="1400040"/>
            <a:ext cx="5627880" cy="4518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6"/>
          <p:cNvSpPr/>
          <p:nvPr/>
        </p:nvSpPr>
        <p:spPr>
          <a:xfrm>
            <a:off x="1933200" y="5950080"/>
            <a:ext cx="78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654c"/>
                </a:solidFill>
                <a:latin typeface="Corbel"/>
              </a:rPr>
              <a:t>самый нарядный и торжественн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3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311040" y="669960"/>
            <a:ext cx="8570880" cy="1182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Лариса\Desktop\народная одежда\2450.jpg"/>
          <p:cNvPicPr/>
          <p:nvPr/>
        </p:nvPicPr>
        <p:blipFill>
          <a:blip r:embed="rId2"/>
          <a:stretch/>
        </p:blipFill>
        <p:spPr>
          <a:xfrm>
            <a:off x="3132000" y="1989000"/>
            <a:ext cx="2779920" cy="3808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Лариса\Desktop\народная одежда\134895l.jpg"/>
          <p:cNvPicPr/>
          <p:nvPr/>
        </p:nvPicPr>
        <p:blipFill>
          <a:blip r:embed="rId3"/>
          <a:stretch/>
        </p:blipFill>
        <p:spPr>
          <a:xfrm rot="21279600">
            <a:off x="290520" y="2028600"/>
            <a:ext cx="2608200" cy="4046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Лариса\Desktop\народная одежда\4f9e87e670f7t.jpg"/>
          <p:cNvPicPr/>
          <p:nvPr/>
        </p:nvPicPr>
        <p:blipFill>
          <a:blip r:embed="rId4"/>
          <a:stretch/>
        </p:blipFill>
        <p:spPr>
          <a:xfrm rot="492600">
            <a:off x="6012000" y="2034720"/>
            <a:ext cx="2663640" cy="4194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24000" y="903960"/>
            <a:ext cx="8569080" cy="34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4000" spc="-1" strike="noStrike">
                <a:solidFill>
                  <a:srgbClr val="c0654c"/>
                </a:solidFill>
                <a:latin typeface="Arial"/>
                <a:ea typeface="Times New Roman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 Ефимова Л. В., Белогорская Р. М. Русская вышивка и кружево.- М., 1985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Хэрольд Р. Костюмы народов мира.- М.: ЭКСМО- Пресс, 200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Работнова И. П. Русская народная одежда.- М.: Изд-во «Легкая индустрия», 196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Лебедева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. Русский народный костюм// Юный художник.- 1983.- №1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festival.1september.ru/articles/511618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1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755640" y="126828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У русской национальной одежды — многовековая истор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Общий ее характер, сложившийся в быту многих поколений, соответствовал внешнему облику, образу жизни, географическому положению и характеру труда наро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1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3"/>
          <p:cNvSpPr/>
          <p:nvPr/>
        </p:nvSpPr>
        <p:spPr>
          <a:xfrm>
            <a:off x="755640" y="692280"/>
            <a:ext cx="7931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Содержимое 4"/>
          <p:cNvSpPr/>
          <p:nvPr/>
        </p:nvSpPr>
        <p:spPr>
          <a:xfrm>
            <a:off x="468360" y="1125360"/>
            <a:ext cx="4535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654c"/>
                </a:solidFill>
                <a:latin typeface="Corbel"/>
              </a:rPr>
              <a:t>   </a:t>
            </a:r>
            <a:r>
              <a:rPr b="0" lang="en-US" sz="2800" spc="-1" strike="noStrike">
                <a:solidFill>
                  <a:srgbClr val="c0654c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c0654c"/>
                </a:solidFill>
                <a:latin typeface="Corbel"/>
              </a:rPr>
              <a:t>Костюм крестьянина Киевской Руси состоял из портов и рубах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32d2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Рубаху выкраивали из отдельных деталей, которые сшивали. Швы украшали декоративным красным кантом. Рубахи носили с узким поясом или цветим шнуром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32d2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Порты шились суженные снизу до щиколотки. Завязывались на талии шнурком – гашником. Поверх носили верхние шелковые или суконные штан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9" name="Picture 2" descr="D:\лариса\диск 22.05.2011\рус нац костюм\картинки сканр\CIMG149x8.jpg"/>
          <p:cNvPicPr/>
          <p:nvPr/>
        </p:nvPicPr>
        <p:blipFill>
          <a:blip r:embed="rId1"/>
          <a:stretch/>
        </p:blipFill>
        <p:spPr>
          <a:xfrm>
            <a:off x="5219640" y="836640"/>
            <a:ext cx="3456000" cy="57610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684360" y="9079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654c"/>
                </a:solidFill>
                <a:latin typeface="Corbel"/>
              </a:rPr>
              <a:t>Северорусский сарафанный комплекс составляли: рубаха, сарафан, пояс, душегрея, кокошник, украшения, обув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1" name="Picture 2" descr="D:\лариса\диск 22.05.2011\рус нац костюм\картинки сканр\CIMG1491.jpg"/>
          <p:cNvPicPr/>
          <p:nvPr/>
        </p:nvPicPr>
        <p:blipFill>
          <a:blip r:embed="rId1"/>
          <a:stretch/>
        </p:blipFill>
        <p:spPr>
          <a:xfrm>
            <a:off x="1908000" y="1628640"/>
            <a:ext cx="5400720" cy="5040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611280" y="836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654c"/>
                </a:solidFill>
                <a:latin typeface="Corbel"/>
              </a:rPr>
              <a:t>В южнорусский поневный комплекс входили: богато вышитая рубаха, клетчатая понева, пояс, передник, "навершник" — наплечная одежда типа укороченной рубахи, другие детали и украшения, головной убор "сорока", обув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3" name="Picture 2" descr="D:\лариса\диск 22.05.2011\рус нац костюм\картинки сканр\CIMG1496f.jpg"/>
          <p:cNvPicPr/>
          <p:nvPr/>
        </p:nvPicPr>
        <p:blipFill>
          <a:blip r:embed="rId1"/>
          <a:stretch/>
        </p:blipFill>
        <p:spPr>
          <a:xfrm>
            <a:off x="1692360" y="1773360"/>
            <a:ext cx="5904000" cy="4824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D:\лариса\диск 22.05.2011\рус нац костюм\картинки сканр\xxc.jpg"/>
          <p:cNvPicPr/>
          <p:nvPr/>
        </p:nvPicPr>
        <p:blipFill>
          <a:blip r:embed="rId1"/>
          <a:stretch/>
        </p:blipFill>
        <p:spPr>
          <a:xfrm rot="664200">
            <a:off x="2768760" y="1192320"/>
            <a:ext cx="5684760" cy="50212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468360" y="1125360"/>
            <a:ext cx="287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654c"/>
                </a:solidFill>
                <a:latin typeface="Corbel"/>
              </a:rPr>
              <a:t>В праздничный наряд входили душегрей – епанеч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c0654c"/>
                </a:solidFill>
                <a:latin typeface="Corbel"/>
              </a:rPr>
              <a:t>или коротены – коротенькие кофточки на лямочках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654c"/>
                </a:solidFill>
                <a:latin typeface="Corbel"/>
              </a:rPr>
              <a:t>похожие на сарафанч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2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013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654c"/>
                </a:solidFill>
                <a:latin typeface="Corbel"/>
              </a:rPr>
              <a:t>Рубаха </a:t>
            </a: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- основа женского</a:t>
            </a:r>
            <a:br>
              <a:rPr sz="3200"/>
            </a:b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 народного костюма</a:t>
            </a:r>
            <a:r>
              <a:rPr b="0" lang="en-US" sz="900" spc="-1" strike="noStrike">
                <a:solidFill>
                  <a:srgbClr val="35436a"/>
                </a:solidFill>
                <a:latin typeface="Corbel"/>
              </a:rPr>
              <a:t>..</a:t>
            </a:r>
            <a:endParaRPr b="0" lang="en-US" sz="900" spc="-1" strike="noStrike">
              <a:solidFill>
                <a:srgbClr val="4f271c"/>
              </a:solidFill>
              <a:latin typeface="Corbel"/>
            </a:endParaRPr>
          </a:p>
        </p:txBody>
      </p:sp>
      <p:pic>
        <p:nvPicPr>
          <p:cNvPr id="107" name="Picture 2" descr="D:\лариса\диск 22.05.2011\рус нац костюм\картинки сканр\CIMG1495.jpg"/>
          <p:cNvPicPr/>
          <p:nvPr/>
        </p:nvPicPr>
        <p:blipFill>
          <a:blip r:embed="rId1"/>
          <a:stretch/>
        </p:blipFill>
        <p:spPr>
          <a:xfrm>
            <a:off x="5148360" y="765000"/>
            <a:ext cx="3024000" cy="590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26920" y="2276640"/>
            <a:ext cx="41767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Шилась из белого льняного или конопляного полотна. Украшалась вышивкой, которая оберегала женщину от дурного глаз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Сарафан одевался поверх рубахи, украшался спереди узорной полосой, тесьмой, серебряным кружевом, узорными пуговиц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лариса\диск 22.05.2011\рус нац костюм\картинки сканр\CIMG1493ч.jpg"/>
          <p:cNvPicPr/>
          <p:nvPr/>
        </p:nvPicPr>
        <p:blipFill>
          <a:blip r:embed="rId1"/>
          <a:stretch/>
        </p:blipFill>
        <p:spPr>
          <a:xfrm>
            <a:off x="2916360" y="765000"/>
            <a:ext cx="3240000" cy="5877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250920" y="981000"/>
            <a:ext cx="230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654c"/>
                </a:solidFill>
                <a:latin typeface="Corbel"/>
              </a:rPr>
              <a:t>Отличительная черта русского национального костюма — большое разнообразие головных убор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" name="Picture 2" descr="C:\Users\Лариса\Desktop\народная одежда\1c1fda7a2548.jpg"/>
          <p:cNvPicPr/>
          <p:nvPr/>
        </p:nvPicPr>
        <p:blipFill>
          <a:blip r:embed="rId2"/>
          <a:stretch/>
        </p:blipFill>
        <p:spPr>
          <a:xfrm rot="21080400">
            <a:off x="350640" y="4076280"/>
            <a:ext cx="2101680" cy="244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Лариса\Desktop\народная одежда\2640d572bf73.jpg"/>
          <p:cNvPicPr/>
          <p:nvPr/>
        </p:nvPicPr>
        <p:blipFill>
          <a:blip r:embed="rId3"/>
          <a:stretch/>
        </p:blipFill>
        <p:spPr>
          <a:xfrm rot="450000">
            <a:off x="6427440" y="2991960"/>
            <a:ext cx="2325600" cy="28400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Лариса\Desktop\народная одежда\a37366d292.jpg"/>
          <p:cNvPicPr/>
          <p:nvPr/>
        </p:nvPicPr>
        <p:blipFill>
          <a:blip r:embed="rId1"/>
          <a:stretch/>
        </p:blipFill>
        <p:spPr>
          <a:xfrm>
            <a:off x="250920" y="907920"/>
            <a:ext cx="2960640" cy="4434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Users\Лариса\Desktop\народная одежда\7 ayytzruf_preview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41720" cy="4433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Лариса\Desktop\народная одежда\f284e29fda04.jpg"/>
          <p:cNvPicPr/>
          <p:nvPr/>
        </p:nvPicPr>
        <p:blipFill>
          <a:blip r:embed="rId3"/>
          <a:stretch/>
        </p:blipFill>
        <p:spPr>
          <a:xfrm>
            <a:off x="3419640" y="2852640"/>
            <a:ext cx="2160360" cy="22766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4-01-22T12:25:12Z</dcterms:modified>
  <cp:revision>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856206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