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F9F-C503-4321-8F57-2630B66F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DEC-347D-4BFF-8526-2468431D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C69-93DB-4877-9170-0B7CF3A2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B3F-ADDE-42B0-A3C1-9C5A517E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6EAD-61C6-44A0-B7F4-9D27EAD0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4B3A-BE16-4979-985B-394A398B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DD6F-C5D4-4AB9-9ABB-807BFADD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2A50-134E-4FB1-ACA2-CB519C34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B7CD-25C1-4CAD-84EC-67CF04CD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D75-67F3-48AD-8C76-50C57526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4D09-43E0-42BF-ABC5-82008C4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8DE-B232-4683-AD57-9EDC12E8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DFEE-275F-4E28-8D38-450770D6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4168-1544-4225-8A0E-470105D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3F4B-E5B7-4D37-9FA5-C1EE7EF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3FE4-FACF-4BD2-8925-0559F6BF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9AA9-3711-4DD3-BB89-8D8816D7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184-7AD8-4A6A-B4E7-6A602BFC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93B-869F-412D-8A5E-C266C6CD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275-471A-4C91-8896-010D3A65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8DA-13B7-4795-8375-845A64D2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EF6-3757-4204-93E5-0E5F93B6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451-CBE4-425F-9F1C-612E4616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3BE-C984-448F-AC94-EDB4ACD1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0267-3F86-4DF4-9A2E-B9569487C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48EA-85A4-47D1-87D2-B568EBB25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763120" cy="657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8380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елески, озера да пашни,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се приветливо радует взор.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ет простора милее и краше,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ем Барабинский милый простор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9480" y="6094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Березы грусть и  звонкий шум дождя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354348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Все это малой Родиной зоветс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Без этого на свете жить нельз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9880" y="609480"/>
            <a:ext cx="834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И где взять мне слова такие,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Чтоб край родимый описат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83360" y="3962520"/>
            <a:ext cx="3860640" cy="289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382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352680" y="3048120"/>
            <a:ext cx="579132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15238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гонь рябины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5880" y="2927520"/>
            <a:ext cx="372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олото осины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8080" y="838080"/>
            <a:ext cx="89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артлана и Чанов морскую глад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6800" y="2133720"/>
            <a:ext cx="86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скаты грома, песни перепелки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5743440" cy="3371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6497640" cy="453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715000" y="4267080"/>
            <a:ext cx="3429000" cy="2438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3429000" cy="2741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43000" y="533520"/>
            <a:ext cx="570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Дым из печи, простор родных степей</a:t>
            </a:r>
            <a:r>
              <a:rPr b="1" lang="en-US" sz="1800" spc="-1" strike="noStrike">
                <a:solidFill>
                  <a:srgbClr val="feec94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271440"/>
            <a:ext cx="830556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7621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Сиянье радуги, сирени запах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90720" y="2538360"/>
            <a:ext cx="7848360" cy="4319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838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Герань в окне и белизну снег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2422440"/>
            <a:ext cx="5257800" cy="4216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490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42640" y="2895480"/>
            <a:ext cx="762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гармони плач надрывны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6858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Крик журавле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04920" y="417204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4T08:20:5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