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01B-9B47-4DF2-B113-F32308C9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DBB-4BEE-4C67-8454-28DABFF0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C80-3826-48EF-AA74-C9EC538F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95A-7DEE-4CB5-99C3-D9AD5828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6BA1-7CD7-4D72-AA73-D275E26E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A2B9-8128-4C03-9292-761774FF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DB06-0FE7-4D36-8628-D20A3E55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E380-19C1-4130-8081-97067E0D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D1A6-6B3A-4A77-B667-66A11346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2ED8-587B-4347-BB89-A81A959B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AD56-DFCD-4009-A239-697E61A1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280-D103-41C2-8916-D8AB12A6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F34D-A6DD-4609-8EBD-C914ECB5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E2FE-E2B0-44BA-8771-4B41B40F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CB91-1B50-4A03-BBB6-55917FA6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CBE4-7094-4279-A217-836C52AD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C283-005C-4B38-A999-B1F36182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664-1D6E-4169-BA32-9E8E301A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1A7-3CAC-4A1E-86EF-DF5A213A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E3C-7536-41F8-AA83-6CEF75CE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45B-9036-447C-9E8B-9502656E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772-FDBE-4BD8-B354-2117C526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EF7-4D9F-4D1E-A7F7-ABABF29B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6B65-76D7-418F-98D9-596B3A0D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2F1B-54D9-4FB9-8DD8-64B3C6ACE6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7A37-274E-462C-A765-32831AC07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33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763120" cy="6570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2120" y="83808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релески, озера да пашни,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се приветливо радует взор.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ет простора милее и краше,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Чем Барабинский милый простор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553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9480" y="6094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Березы грусть и  звонкий шум дождя 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0" y="354348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Все это малой Родиной зовется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Без этого на свете жить нельзя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343400" y="325764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024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9880" y="609480"/>
            <a:ext cx="834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И где взять мне слова такие,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Чтоб край родимый описат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83360" y="3962520"/>
            <a:ext cx="3860640" cy="2895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9400" cy="3827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352680" y="3048120"/>
            <a:ext cx="5791320" cy="3809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152388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гонь рябины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55880" y="2927520"/>
            <a:ext cx="372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олото осины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410080" y="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11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8080" y="838080"/>
            <a:ext cx="89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артлана и Чанов морскую глад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553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6800" y="2133720"/>
            <a:ext cx="86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скаты грома, песни перепелки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5743440" cy="33717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6497640" cy="4530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715000" y="4267080"/>
            <a:ext cx="3429000" cy="2438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80880" y="228600"/>
            <a:ext cx="3429000" cy="2741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143000" y="533520"/>
            <a:ext cx="570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Дым из печи, простор родных степей</a:t>
            </a:r>
            <a:r>
              <a:rPr b="1" lang="en-US" sz="1800" spc="-1" strike="noStrike">
                <a:solidFill>
                  <a:srgbClr val="feec94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271440"/>
            <a:ext cx="8305560" cy="4572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9480" y="7621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Сиянье радуги, сирени запах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90720" y="2538360"/>
            <a:ext cx="7848360" cy="4319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838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Герань в окне и белизну снег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80880" y="2422440"/>
            <a:ext cx="5257800" cy="4216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4908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42640" y="2895480"/>
            <a:ext cx="762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гармони плач надрывный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6858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Крик журавлей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3714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04920" y="417204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24T08:20:5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