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A1D-042E-41A8-86E3-B53A4898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117-A1B9-4338-9B88-9957241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673-A7D5-4303-B1DA-E3D16984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F89-F78D-48F7-AE07-DA622CEF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25D3-8FFF-4250-A808-98443218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7A72-9045-4886-B15E-C74CF831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1CE0-85D6-484B-9880-ACE25908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C953-8C03-4C1E-8D51-402D201D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A1D-8765-4F2A-8631-4E524582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449F-CC74-4E27-BAB2-3456BBD8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4ECC-48B6-4592-ADD2-C72324A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1DB-F4DA-4133-B0CF-6B26509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6B0D-E22C-4277-A1F2-2034ADEA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20EC-62E0-4750-B985-1685756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5BD0-2ECF-40BA-B9DE-6959183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D465-05E5-45D7-B449-7E04817E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73B-D1D4-4239-9D3F-17804446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A58-DF01-4513-99FA-81ED746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FA3-25EB-48B3-86BF-6B75975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168-729E-46C4-AAA8-52859170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E2D-D1C0-4DB6-AAE7-4E7A114E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1CC-62EC-490D-8A38-C68676A1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B04-E149-430A-B97F-DCD914F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1E6-23CB-4D53-8517-62346ED4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2D60-580F-42B0-A9E1-3C0B3205BF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9FC-3695-465C-B784-8778503E4C4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Rounded MT Bold"/>
              </a:rPr>
              <a:t>My Schoolba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50920" y="4220640"/>
            <a:ext cx="4968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ation ma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ranova T.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824200" y="576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00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627200"/>
            <a:ext cx="5045040" cy="4970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 Rounded MT Bold"/>
              </a:rPr>
              <a:t>This is my …….. It is …………(big,  small, nice, yellow..) I have many school things in it. This is my……….(blue ruler). These are my……(red and pink books). I like my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 Rounded MT Bold"/>
              </a:rPr>
              <a:t>schoolbag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808000" cy="324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83400" y="3068640"/>
            <a:ext cx="2833560" cy="338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03640" y="333360"/>
            <a:ext cx="59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is is 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t is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t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n my…….. I have got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1781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his is my…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hese are my…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143760" cy="5853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 rot="1894800">
            <a:off x="0" y="476280"/>
            <a:ext cx="3059280" cy="271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 rot="1001400">
            <a:off x="5778000" y="482760"/>
            <a:ext cx="3211560" cy="717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 rot="17412600">
            <a:off x="7058160" y="2310840"/>
            <a:ext cx="2232000" cy="158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116000" y="4697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 rot="20564400">
            <a:off x="0" y="4292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 rot="20589600">
            <a:off x="-396360" y="3500280"/>
            <a:ext cx="2030400" cy="217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 rot="16678800">
            <a:off x="6985440" y="4724640"/>
            <a:ext cx="1994040" cy="1728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5364000" y="5299200"/>
            <a:ext cx="2160720" cy="15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0:58:38Z</dcterms:created>
  <dc:creator>User</dc:creator>
  <dc:description/>
  <dc:language>en-US</dc:language>
  <cp:lastModifiedBy>User</cp:lastModifiedBy>
  <dcterms:modified xsi:type="dcterms:W3CDTF">2014-01-21T15:10:10Z</dcterms:modified>
  <cp:revision>4</cp:revision>
  <dc:subject/>
  <dc:title>My Schoolbag</dc:title>
</cp:coreProperties>
</file>