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8B66-AFEB-4109-AE0F-721FF5A7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EDEA-9E1B-4FFD-BA77-EA88430E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535A-0121-4447-A0CF-F52FC82A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BBD-0EDE-45F5-B2B6-C1034C66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B6D1-4C7A-41C0-97C9-251E5A43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810A-A7F3-42AB-8B59-49C21759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647D-AE26-4638-90A8-C42E9475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FFBC-FE35-4CA5-A76F-F471DC16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5F44-5F78-4866-953F-CE2FFF4F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23C7-12C9-4769-8AAE-8AAA61EA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C780-360D-4C44-AA03-8ECFA670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954F-7F46-4F6F-B8C7-2C87DCA3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7D98-D9F4-4586-8443-21A7C27B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C0D0-D05A-4614-826F-8CD980C9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30DB-ACB6-46D9-9ECA-D45633FD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D5C0-CABB-464C-AB58-7275103C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5887-1103-4EA2-BAE7-4A3C5A77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6413-B1F9-4F6D-906A-B8E6A81C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A31D-BDD4-40C3-96D1-B698D352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9083-6E68-4F7C-8EF5-87B18F57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07D1-5E22-42CE-83EF-0E20ACD9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F002-F580-4A20-8CA6-CE527929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B4F8-EF46-4E22-BA26-4E6537E3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7E20-7968-4AA0-AD29-A989F076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397E-B7C0-4270-982A-E6C02977ED7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50F9-CD51-4179-9B01-FC183384C02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 Rounded MT Bold"/>
              </a:rPr>
              <a:t>My Schoolbag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50920" y="4220640"/>
            <a:ext cx="4968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ation mad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uranova T.B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2824200" y="576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2521080" cy="2808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219640" y="2133720"/>
            <a:ext cx="36003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indefinite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0" dur="indefinite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" dur="indefinite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050920" y="1627200"/>
            <a:ext cx="5045040" cy="49705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 Rounded MT Bold"/>
              </a:rPr>
              <a:t>This is my …….. It is …………(big,  small, nice, yellow..) I have many school things in it. This is my……….(blue ruler). These are my……(red and pink books). I like my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 Rounded MT Bold"/>
              </a:rPr>
              <a:t>schoolbag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2808000" cy="3240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783400" y="3068640"/>
            <a:ext cx="2833560" cy="3384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03640" y="333360"/>
            <a:ext cx="594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This is …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It is…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It is 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In my…….. I have got 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178160"/>
            <a:ext cx="56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This is my…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These are my…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143760" cy="58532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 rot="1894800">
            <a:off x="0" y="476280"/>
            <a:ext cx="3059280" cy="2717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 rot="1001400">
            <a:off x="5778000" y="482760"/>
            <a:ext cx="3211560" cy="717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 rot="17412600">
            <a:off x="7058160" y="2310840"/>
            <a:ext cx="2232000" cy="1587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1116000" y="469728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 rot="20564400">
            <a:off x="0" y="429264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 rot="20589600">
            <a:off x="-396360" y="3500280"/>
            <a:ext cx="2030400" cy="2178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 rot="16678800">
            <a:off x="6985440" y="4724640"/>
            <a:ext cx="1994040" cy="1728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5364000" y="5299200"/>
            <a:ext cx="2160720" cy="15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00:58:38Z</dcterms:created>
  <dc:creator>User</dc:creator>
  <dc:description/>
  <dc:language>en-US</dc:language>
  <cp:lastModifiedBy>User</cp:lastModifiedBy>
  <dcterms:modified xsi:type="dcterms:W3CDTF">2014-01-21T15:10:10Z</dcterms:modified>
  <cp:revision>4</cp:revision>
  <dc:subject/>
  <dc:title>My Schoolbag</dc:title>
</cp:coreProperties>
</file>