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968-0B88-4ABC-9954-35CE76FA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F38-77A9-433A-A690-93B4688A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FC1-844C-46AF-AA20-BA6F0829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60DF-B8AD-4F03-826E-6D3A9BC3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52C-0D8E-450F-ACC2-C260671B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F4A-A65A-459C-AD54-3D214CB4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E54-8860-42B6-9EC6-096AD456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623-9F17-4992-91F7-C78058A7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B6F7-C338-47D3-B864-0069579D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BFC-1081-47AA-ABBE-A412E05F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07E-5DE6-4603-A475-55AC441B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0DC-F2C4-4C1C-9526-8FADAF5D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303B-8006-4BD4-9B3B-BEA6EFE2C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stergid.ru/image/upload/2011-08-07/330026694634_1270391362_01.jpg" TargetMode="External"/><Relationship Id="rId3" Type="http://schemas.openxmlformats.org/officeDocument/2006/relationships/hyperlink" Target="http://mistergid.ru/image/upload/2011-08-07/330026694634_1270391373_02.jpg" TargetMode="External"/><Relationship Id="rId4" Type="http://schemas.openxmlformats.org/officeDocument/2006/relationships/hyperlink" Target="http://mistergid.ru/image/upload/2011-08-07/330026694634_1270391440_03.jpg" TargetMode="External"/><Relationship Id="rId5" Type="http://schemas.openxmlformats.org/officeDocument/2006/relationships/hyperlink" Target="http://mistergid.ru/image/upload/2011-08-07/330026694634_1270391371_04.jpg" TargetMode="External"/><Relationship Id="rId6" Type="http://schemas.openxmlformats.org/officeDocument/2006/relationships/hyperlink" Target="http://mistergid.ru/image/upload/2011-08-07/330026694634_1270391418_06.jpg" TargetMode="External"/><Relationship Id="rId7" Type="http://schemas.openxmlformats.org/officeDocument/2006/relationships/hyperlink" Target="http://mistergid.ru/image/upload/2011-08-07/330026694634_1270391449_07.jpg" TargetMode="External"/><Relationship Id="rId8" Type="http://schemas.openxmlformats.org/officeDocument/2006/relationships/hyperlink" Target="http://mistergid.ru/image/upload/2011-08-07/330026694634_1270391384_08.jpg" TargetMode="External"/><Relationship Id="rId9" Type="http://schemas.openxmlformats.org/officeDocument/2006/relationships/hyperlink" Target="http://mistergid.ru/image/upload/2011-08-07/330026694634_1270391458_09.jpg" TargetMode="External"/><Relationship Id="rId10" Type="http://schemas.openxmlformats.org/officeDocument/2006/relationships/hyperlink" Target="http://mistergid.ru/image/upload/2011-08-07/330026694634_1270391467_10.jpg" TargetMode="External"/><Relationship Id="rId11" Type="http://schemas.openxmlformats.org/officeDocument/2006/relationships/hyperlink" Target="http://mistergid.ru/image/upload/2011-08-07/330026694634_1270391465_11.jpg" TargetMode="External"/><Relationship Id="rId12" Type="http://schemas.openxmlformats.org/officeDocument/2006/relationships/hyperlink" Target="http://mistergid.ru/image/upload/2011-08-07/330026694634_1270391465_12.jpg" TargetMode="External"/><Relationship Id="rId13" Type="http://schemas.openxmlformats.org/officeDocument/2006/relationships/hyperlink" Target="http://mistergid.ru/image/upload/2011-08-07/330026694634_1270391447_13.jpg" TargetMode="External"/><Relationship Id="rId14" Type="http://schemas.openxmlformats.org/officeDocument/2006/relationships/hyperlink" Target="http://mistergid.ru/image/upload/2011-08-07/330026694634_1270391444_14.jpg" TargetMode="External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11640" y="549000"/>
            <a:ext cx="424656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3300"/>
                </a:solidFill>
                <a:latin typeface="Monotype Corsiva"/>
              </a:rPr>
              <a:t>Народные </a:t>
            </a:r>
            <a:br>
              <a:rPr sz="6000"/>
            </a:br>
            <a:r>
              <a:rPr b="1" i="1" lang="en-US" sz="6000" spc="-1" strike="noStrike">
                <a:solidFill>
                  <a:srgbClr val="cc3300"/>
                </a:solidFill>
                <a:latin typeface="Monotype Corsiva"/>
              </a:rPr>
              <a:t>промысл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360" y="3860280"/>
            <a:ext cx="453528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Презентацию оформ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МБОУ Солтонская С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Бухгамер Ольг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71640" y="1052640"/>
            <a:ext cx="3219480" cy="46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Monotype Corsiva"/>
              </a:rPr>
              <a:t>Урало – сибирская роспис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3816360" cy="4381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89592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Monotype Corsiva"/>
              </a:rPr>
              <a:t>Городецкая роспис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92280" y="1484280"/>
            <a:ext cx="3808440" cy="4608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43280" y="1484280"/>
            <a:ext cx="39308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Monotype Corsiva"/>
              </a:rPr>
              <a:t>Узоры Полохов - Майд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816360" cy="452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38959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Monotype Corsiva"/>
              </a:rPr>
              <a:t>Золотая Хохло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3816360" cy="452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8163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Monotype Corsiva"/>
              </a:rPr>
              <a:t>Гжель – синь Ро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3816360" cy="4524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8959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Monotype Corsiva"/>
              </a:rPr>
              <a:t>Филимоновская игруш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816360" cy="45244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3822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Monotype Corsiva"/>
              </a:rPr>
              <a:t>Дымковская игруш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816360" cy="4524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292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38959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Monotype Corsiva"/>
              </a:rPr>
              <a:t>Источник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istergid.ru/image/upload/2011-08-07/330026694634_1270391362_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istergid.ru/image/upload/2011-08-07/330026694634_1270391373_0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istergid.ru/image/upload/2011-08-07/330026694634_1270391440_0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istergid.ru/image/upload/2011-08-07/330026694634_1270391371_0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mistergid.ru/image/upload/2011-08-07/330026694634_1270391418_06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mistergid.ru/image/upload/2011-08-07/330026694634_1270391449_07.jpg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mistergid.ru/image/upload/2011-08-07/330026694634_1270391384_08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mistergid.ru/image/upload/2011-08-07/330026694634_1270391458_09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mistergid.ru/image/upload/2011-08-07/330026694634_1270391467_1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mistergid.ru/image/upload/2011-08-07/330026694634_1270391465_1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mistergid.ru/image/upload/2011-08-07/330026694634_1270391465_1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mistergid.ru/image/upload/2011-08-07/330026694634_1270391447_1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mistergid.ru/image/upload/2011-08-07/330026694634_1270391444_1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mistergid.ru/image/upload/2011-08-07/330026694634_1270391449_1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gardenbooks.ru/published/publicdata/GARDENBOOK/attachments/SC/products_pictures/ros__1_en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gardenbooks.ru/published/publicdata/GARDENBOOK/attachments/SC/products_pictures/ros__2_enl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4:55:37Z</dcterms:created>
  <dc:creator>Бухгамер О.А.</dc:creator>
  <dc:description/>
  <dc:language>en-US</dc:language>
  <cp:lastModifiedBy>Admin</cp:lastModifiedBy>
  <dcterms:modified xsi:type="dcterms:W3CDTF">2013-02-19T10:42:56Z</dcterms:modified>
  <cp:revision>89</cp:revision>
  <dc:subject/>
  <dc:title>Народные промыслы </dc:title>
</cp:coreProperties>
</file>