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8CF-0645-49A5-9E83-49DE1DC0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E29-994A-454C-BD28-1B13661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89F-8D5C-4F9F-AB50-6E6448EB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D16-6DFE-48B7-9585-1E818FC0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4AE-4B7B-493C-B57D-4F847FA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60E-0388-4650-A8AA-6C8A76B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4F2-C51C-4432-8607-E93990D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557-D712-4A3B-970B-B6F72275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1FF-DBB9-4A4D-81F1-2A0205A2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738-C281-4091-B439-DD888E1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20D-94B2-4773-BB9D-C245BE3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DCA-3270-4E0C-9C1C-3DF8FB3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CFF-8BB5-40CD-B303-696B382A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tergid.ru/image/upload/2011-08-07/330026694634_1270391362_01.jpg" TargetMode="External"/><Relationship Id="rId3" Type="http://schemas.openxmlformats.org/officeDocument/2006/relationships/hyperlink" Target="http://mistergid.ru/image/upload/2011-08-07/330026694634_1270391373_02.jpg" TargetMode="External"/><Relationship Id="rId4" Type="http://schemas.openxmlformats.org/officeDocument/2006/relationships/hyperlink" Target="http://mistergid.ru/image/upload/2011-08-07/330026694634_1270391440_03.jpg" TargetMode="External"/><Relationship Id="rId5" Type="http://schemas.openxmlformats.org/officeDocument/2006/relationships/hyperlink" Target="http://mistergid.ru/image/upload/2011-08-07/330026694634_1270391371_04.jpg" TargetMode="External"/><Relationship Id="rId6" Type="http://schemas.openxmlformats.org/officeDocument/2006/relationships/hyperlink" Target="http://mistergid.ru/image/upload/2011-08-07/330026694634_1270391418_06.jpg" TargetMode="External"/><Relationship Id="rId7" Type="http://schemas.openxmlformats.org/officeDocument/2006/relationships/hyperlink" Target="http://mistergid.ru/image/upload/2011-08-07/330026694634_1270391449_07.jpg" TargetMode="External"/><Relationship Id="rId8" Type="http://schemas.openxmlformats.org/officeDocument/2006/relationships/hyperlink" Target="http://mistergid.ru/image/upload/2011-08-07/330026694634_1270391384_08.jpg" TargetMode="External"/><Relationship Id="rId9" Type="http://schemas.openxmlformats.org/officeDocument/2006/relationships/hyperlink" Target="http://mistergid.ru/image/upload/2011-08-07/330026694634_1270391458_09.jpg" TargetMode="External"/><Relationship Id="rId10" Type="http://schemas.openxmlformats.org/officeDocument/2006/relationships/hyperlink" Target="http://mistergid.ru/image/upload/2011-08-07/330026694634_1270391467_10.jpg" TargetMode="External"/><Relationship Id="rId11" Type="http://schemas.openxmlformats.org/officeDocument/2006/relationships/hyperlink" Target="http://mistergid.ru/image/upload/2011-08-07/330026694634_1270391465_11.jpg" TargetMode="External"/><Relationship Id="rId12" Type="http://schemas.openxmlformats.org/officeDocument/2006/relationships/hyperlink" Target="http://mistergid.ru/image/upload/2011-08-07/330026694634_1270391465_12.jpg" TargetMode="External"/><Relationship Id="rId13" Type="http://schemas.openxmlformats.org/officeDocument/2006/relationships/hyperlink" Target="http://mistergid.ru/image/upload/2011-08-07/330026694634_1270391447_13.jpg" TargetMode="External"/><Relationship Id="rId14" Type="http://schemas.openxmlformats.org/officeDocument/2006/relationships/hyperlink" Target="http://mistergid.ru/image/upload/2011-08-07/330026694634_1270391444_14.jpg" TargetMode="Externa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1640" y="549000"/>
            <a:ext cx="424656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Monotype Corsiva"/>
              </a:rPr>
              <a:t>Народные </a:t>
            </a:r>
            <a:br>
              <a:rPr sz="6000"/>
            </a:br>
            <a:r>
              <a:rPr b="1" i="1" lang="en-US" sz="6000" spc="-1" strike="noStrike">
                <a:solidFill>
                  <a:srgbClr val="cc3300"/>
                </a:solidFill>
                <a:latin typeface="Monotype Corsiva"/>
              </a:rPr>
              <a:t>промыс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3860280"/>
            <a:ext cx="45352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Презентацию оформ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БОУ Солто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Бухгамер Ольг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321948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Урало – сибирс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38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959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Городец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2280" y="1484280"/>
            <a:ext cx="3808440" cy="460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3930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Узоры Полохов - Майд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Золотая Хохло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16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Гжель – синь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Филимоновская игруш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22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Дымковская игруш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Источн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istergid.ru/image/upload/2011-08-07/330026694634_1270391362_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istergid.ru/image/upload/2011-08-07/330026694634_1270391373_0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istergid.ru/image/upload/2011-08-07/330026694634_1270391440_0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istergid.ru/image/upload/2011-08-07/330026694634_1270391371_0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istergid.ru/image/upload/2011-08-07/330026694634_1270391418_0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mistergid.ru/image/upload/2011-08-07/330026694634_1270391449_07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istergid.ru/image/upload/2011-08-07/330026694634_1270391384_0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istergid.ru/image/upload/2011-08-07/330026694634_1270391458_0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istergid.ru/image/upload/2011-08-07/330026694634_1270391467_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istergid.ru/image/upload/2011-08-07/330026694634_1270391465_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mistergid.ru/image/upload/2011-08-07/330026694634_1270391465_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mistergid.ru/image/upload/2011-08-07/330026694634_1270391447_1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mistergid.ru/image/upload/2011-08-07/330026694634_1270391444_1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mistergid.ru/image/upload/2011-08-07/330026694634_1270391449_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ardenbooks.ru/published/publicdata/GARDENBOOK/attachments/SC/products_pictures/ros__1_en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ardenbooks.ru/published/publicdata/GARDENBOOK/attachments/SC/products_pictures/ros__2_enl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4:55:37Z</dcterms:created>
  <dc:creator>Бухгамер О.А.</dc:creator>
  <dc:description/>
  <dc:language>en-US</dc:language>
  <cp:lastModifiedBy>Admin</cp:lastModifiedBy>
  <dcterms:modified xsi:type="dcterms:W3CDTF">2013-02-19T10:42:56Z</dcterms:modified>
  <cp:revision>89</cp:revision>
  <dc:subject/>
  <dc:title>Народные промыслы </dc:title>
</cp:coreProperties>
</file>