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8B40-C2D9-47FA-94D2-3CADDA1E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61BB-8930-4B8C-8431-7377626E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24A2-6D45-4E50-9B69-065B6542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E29E-2E96-4B44-9741-58A65E549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9F19-1D25-419B-8DD0-CFFA4B56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47B1-DC2D-42B4-956A-2F038418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C782-542C-450C-A2C5-8AE52D58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CB30-0E37-4F58-86A5-1411D7FB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FB16-4953-4C2B-93FC-76AA44CA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F461-CC01-42E4-965F-9D3A87E4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06AA-A936-4621-A4FE-5EA92A82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720E-DB2C-4510-8AA2-92D9DE1E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EA7B-3778-4E69-8688-BD9B6880E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3880" y="1828800"/>
            <a:ext cx="63248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Britain and people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at a glanc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467480" y="304920"/>
            <a:ext cx="1295640" cy="609480"/>
          </a:xfrm>
          <a:prstGeom prst="wedgeRectCallout">
            <a:avLst>
              <a:gd name="adj1" fmla="val -20097"/>
              <a:gd name="adj2" fmla="val 1307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467480" y="1447920"/>
            <a:ext cx="1295640" cy="609480"/>
          </a:xfrm>
          <a:prstGeom prst="wedgeRectCallout">
            <a:avLst>
              <a:gd name="adj1" fmla="val -282597"/>
              <a:gd name="adj2" fmla="val 2398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2514600"/>
            <a:ext cx="1295280" cy="609480"/>
          </a:xfrm>
          <a:prstGeom prst="wedgeRectCallout">
            <a:avLst>
              <a:gd name="adj1" fmla="val -273652"/>
              <a:gd name="adj2" fmla="val 65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91520" y="3886200"/>
            <a:ext cx="1295280" cy="609480"/>
          </a:xfrm>
          <a:prstGeom prst="wedgeRectCallout">
            <a:avLst>
              <a:gd name="adj1" fmla="val -273527"/>
              <a:gd name="adj2" fmla="val -476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43800" y="5791320"/>
            <a:ext cx="1295280" cy="609480"/>
          </a:xfrm>
          <a:prstGeom prst="wedgeRectCallout">
            <a:avLst>
              <a:gd name="adj1" fmla="val -159925"/>
              <a:gd name="adj2" fmla="val -1617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e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05520" y="762120"/>
            <a:ext cx="1295280" cy="609480"/>
          </a:xfrm>
          <a:prstGeom prst="wedgeRectCallout">
            <a:avLst>
              <a:gd name="adj1" fmla="val -104412"/>
              <a:gd name="adj2" fmla="val 1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90920" y="762120"/>
            <a:ext cx="1295280" cy="609480"/>
          </a:xfrm>
          <a:prstGeom prst="wedgeRectCallout">
            <a:avLst>
              <a:gd name="adj1" fmla="val 93138"/>
              <a:gd name="adj2" fmla="val 1567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905120"/>
            <a:ext cx="1752840" cy="609480"/>
          </a:xfrm>
          <a:prstGeom prst="wedgeRectCallout">
            <a:avLst>
              <a:gd name="adj1" fmla="val -13226"/>
              <a:gd name="adj2" fmla="val 1718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graph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276720"/>
            <a:ext cx="1981080" cy="609480"/>
          </a:xfrm>
          <a:prstGeom prst="wedgeRectCallout">
            <a:avLst>
              <a:gd name="adj1" fmla="val -3287"/>
              <a:gd name="adj2" fmla="val 34898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4495680"/>
            <a:ext cx="1752480" cy="609840"/>
          </a:xfrm>
          <a:prstGeom prst="wedgeRectCallout">
            <a:avLst>
              <a:gd name="adj1" fmla="val -81884"/>
              <a:gd name="adj2" fmla="val -1458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91120" y="5867280"/>
            <a:ext cx="1447560" cy="609840"/>
          </a:xfrm>
          <a:prstGeom prst="wedgeRectCallout">
            <a:avLst>
              <a:gd name="adj1" fmla="val 91777"/>
              <a:gd name="adj2" fmla="val -180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a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523880"/>
            <a:ext cx="1295280" cy="609840"/>
          </a:xfrm>
          <a:prstGeom prst="wedgeRectCallout">
            <a:avLst>
              <a:gd name="adj1" fmla="val 230638"/>
              <a:gd name="adj2" fmla="val 2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2590920"/>
            <a:ext cx="1295280" cy="609480"/>
          </a:xfrm>
          <a:prstGeom prst="wedgeRectCallout">
            <a:avLst>
              <a:gd name="adj1" fmla="val 231615"/>
              <a:gd name="adj2" fmla="val 549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wns and 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962520"/>
            <a:ext cx="1447560" cy="609480"/>
          </a:xfrm>
          <a:prstGeom prst="wedgeRectCallout">
            <a:avLst>
              <a:gd name="adj1" fmla="val 235856"/>
              <a:gd name="adj2" fmla="val -565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4495680"/>
            <a:ext cx="1828800" cy="609840"/>
          </a:xfrm>
          <a:prstGeom prst="wedgeRectCallout">
            <a:avLst>
              <a:gd name="adj1" fmla="val 83074"/>
              <a:gd name="adj2" fmla="val -1411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04920" y="380880"/>
          <a:ext cx="8458200" cy="6461280"/>
        </p:xfrm>
        <a:graphic>
          <a:graphicData uri="http://schemas.openxmlformats.org/drawingml/2006/table">
            <a:tbl>
              <a:tblPr/>
              <a:tblGrid>
                <a:gridCol w="4228920"/>
                <a:gridCol w="4229280"/>
              </a:tblGrid>
              <a:tr h="938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  ARE   THE    BRITISH    LIKE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d to foreign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on’t show their feelin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n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friendly to foreign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rv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on’t like chang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i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 they are better than other peo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514240" y="152388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Tim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s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y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ncyclop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avel leaf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ourist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rsonal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6094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TERVIEW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43000" y="1981080"/>
            <a:ext cx="2209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 country 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2819520"/>
            <a:ext cx="2210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t  or  W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5334120"/>
            <a:ext cx="2209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  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4343400"/>
            <a:ext cx="3200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ider we roam (trav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3505320"/>
            <a:ext cx="2210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 is  no 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5880" y="1981080"/>
            <a:ext cx="228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long  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3352680"/>
            <a:ext cx="228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the welcomer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4267080"/>
            <a:ext cx="228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home  is  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5334120"/>
            <a:ext cx="228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like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5880" y="2666880"/>
            <a:ext cx="228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Its cus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2133720"/>
            <a:ext cx="2743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2971800"/>
            <a:ext cx="28191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3657600"/>
            <a:ext cx="28954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191120" y="3504960"/>
            <a:ext cx="190476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352680" y="2209680"/>
            <a:ext cx="274320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1800" y="380880"/>
            <a:ext cx="854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are many proverbs about trave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5800" y="1371600"/>
            <a:ext cx="769608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Sometimes you say "Hello!"</a:t>
            </a:r>
            <a:endParaRPr b="0" lang="en-US" sz="20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Because the bell has gone,</a:t>
            </a:r>
            <a:endParaRPr b="0" lang="en-US" sz="20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And every day you say</a:t>
            </a:r>
            <a:endParaRPr b="0" lang="en-US" sz="20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"Good day, good day, good day "</a:t>
            </a:r>
            <a:endParaRPr b="0" lang="en-US" sz="20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It's time to say "Good bye"</a:t>
            </a:r>
            <a:endParaRPr b="0" lang="en-US" sz="20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Good-bye, my friends,</a:t>
            </a:r>
            <a:endParaRPr b="0" lang="en-US" sz="20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20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Good bye!!!</a:t>
            </a:r>
            <a:endParaRPr b="0" lang="en-US" sz="20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ез пароля</cp:lastModifiedBy>
  <dcterms:modified xsi:type="dcterms:W3CDTF">2008-10-21T08:09:3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