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D91-9F98-44C1-ABBC-7E840AE8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9E1-15FA-46E9-A6D0-5353F1F8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9F3-BE86-428B-B6AE-ED3CA8F6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18F-53AD-4DC4-8756-A4698BC3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584-0C6E-4B45-A87D-D0ECE618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65A-B8B7-428F-95EB-64C7BC0B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1B6-0633-4663-9D3F-131B0B0B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429-4F37-4F33-8B9B-39DBB423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421-74A4-4DF5-90A0-6A364958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0FE-E444-42E0-B5DA-A6D2B5C6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E79-74A3-4FD6-AA58-B82F7311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0BD-A1B4-4C4B-9DFA-3ED074DF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E3E5-E8EF-426E-8F6C-2439EDED1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1828800"/>
            <a:ext cx="63248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Britain and people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at a glanc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467480" y="304920"/>
            <a:ext cx="1295640" cy="609480"/>
          </a:xfrm>
          <a:prstGeom prst="wedgeRectCallout">
            <a:avLst>
              <a:gd name="adj1" fmla="val -20097"/>
              <a:gd name="adj2" fmla="val 130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67480" y="1447920"/>
            <a:ext cx="1295640" cy="609480"/>
          </a:xfrm>
          <a:prstGeom prst="wedgeRectCallout">
            <a:avLst>
              <a:gd name="adj1" fmla="val -282597"/>
              <a:gd name="adj2" fmla="val 2398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2514600"/>
            <a:ext cx="1295280" cy="609480"/>
          </a:xfrm>
          <a:prstGeom prst="wedgeRectCallout">
            <a:avLst>
              <a:gd name="adj1" fmla="val -273652"/>
              <a:gd name="adj2" fmla="val 65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91520" y="3886200"/>
            <a:ext cx="1295280" cy="609480"/>
          </a:xfrm>
          <a:prstGeom prst="wedgeRectCallout">
            <a:avLst>
              <a:gd name="adj1" fmla="val -273527"/>
              <a:gd name="adj2" fmla="val -47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43800" y="5791320"/>
            <a:ext cx="1295280" cy="609480"/>
          </a:xfrm>
          <a:prstGeom prst="wedgeRectCallout">
            <a:avLst>
              <a:gd name="adj1" fmla="val -159925"/>
              <a:gd name="adj2" fmla="val -161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e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762120"/>
            <a:ext cx="1295280" cy="609480"/>
          </a:xfrm>
          <a:prstGeom prst="wedgeRectCallout">
            <a:avLst>
              <a:gd name="adj1" fmla="val -104412"/>
              <a:gd name="adj2" fmla="val 1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762120"/>
            <a:ext cx="1295280" cy="609480"/>
          </a:xfrm>
          <a:prstGeom prst="wedgeRectCallout">
            <a:avLst>
              <a:gd name="adj1" fmla="val 93138"/>
              <a:gd name="adj2" fmla="val 156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905120"/>
            <a:ext cx="1752840" cy="609480"/>
          </a:xfrm>
          <a:prstGeom prst="wedgeRectCallout">
            <a:avLst>
              <a:gd name="adj1" fmla="val -13226"/>
              <a:gd name="adj2" fmla="val 171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276720"/>
            <a:ext cx="1981080" cy="609480"/>
          </a:xfrm>
          <a:prstGeom prst="wedgeRectCallout">
            <a:avLst>
              <a:gd name="adj1" fmla="val -3287"/>
              <a:gd name="adj2" fmla="val 34898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95680"/>
            <a:ext cx="1752480" cy="609840"/>
          </a:xfrm>
          <a:prstGeom prst="wedgeRectCallout">
            <a:avLst>
              <a:gd name="adj1" fmla="val -81884"/>
              <a:gd name="adj2" fmla="val -145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5867280"/>
            <a:ext cx="1447560" cy="609840"/>
          </a:xfrm>
          <a:prstGeom prst="wedgeRectCallout">
            <a:avLst>
              <a:gd name="adj1" fmla="val 91777"/>
              <a:gd name="adj2" fmla="val -180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a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3880"/>
            <a:ext cx="1295280" cy="609840"/>
          </a:xfrm>
          <a:prstGeom prst="wedgeRectCallout">
            <a:avLst>
              <a:gd name="adj1" fmla="val 230638"/>
              <a:gd name="adj2" fmla="val 2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590920"/>
            <a:ext cx="1295280" cy="609480"/>
          </a:xfrm>
          <a:prstGeom prst="wedgeRectCallout">
            <a:avLst>
              <a:gd name="adj1" fmla="val 231615"/>
              <a:gd name="adj2" fmla="val 549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ns and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962520"/>
            <a:ext cx="1447560" cy="609480"/>
          </a:xfrm>
          <a:prstGeom prst="wedgeRectCallout">
            <a:avLst>
              <a:gd name="adj1" fmla="val 235856"/>
              <a:gd name="adj2" fmla="val -56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4495680"/>
            <a:ext cx="1828800" cy="609840"/>
          </a:xfrm>
          <a:prstGeom prst="wedgeRectCallout">
            <a:avLst>
              <a:gd name="adj1" fmla="val 83074"/>
              <a:gd name="adj2" fmla="val -141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380880"/>
          <a:ext cx="8458200" cy="646128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938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  ARE   THE    BRITISH    LIKE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 to foreign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on’t show their feelin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friendly to foreign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on’t like chang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 they are better than other 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14240" y="15238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Tim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s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y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cyclo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vel leaf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urist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al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609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VIE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1981080"/>
            <a:ext cx="2209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 country 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819520"/>
            <a:ext cx="221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  or 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5334120"/>
            <a:ext cx="2209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 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343400"/>
            <a:ext cx="3200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der we roam (tra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505320"/>
            <a:ext cx="221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 is  no 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19810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long  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33526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welcomer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42670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  is 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533412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like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26668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ts cus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213372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2971800"/>
            <a:ext cx="28191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3657600"/>
            <a:ext cx="28954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191120" y="3504960"/>
            <a:ext cx="19047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352680" y="2209680"/>
            <a:ext cx="274320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800" y="380880"/>
            <a:ext cx="85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are many proverbs about trav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1371600"/>
            <a:ext cx="76960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Sometimes you say "Hello!"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Because the bell has gone,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And every day you say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"Good day, good day, good day "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It's time to say "Good bye"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Good-bye, my friends,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Good bye!!!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ез пароля</cp:lastModifiedBy>
  <dcterms:modified xsi:type="dcterms:W3CDTF">2008-10-21T08:09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