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072-9557-48B3-B9BA-FE13A0C6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E2B-0EC6-4852-B2B9-8A3C4D2E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F4F41-D46C-43E1-A7EE-7DA7848E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F711B-137F-4A51-8CA5-38FC327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E5862-2047-43F8-B95E-B823804B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2AA80-98A8-4B21-872D-49BAA87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4A7B7-37D6-43A0-97E4-7B9C283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E0F03-CF67-45E7-B09A-56EE4327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F98A4-4EFA-40EA-8269-F420CD85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0F84E-8EE3-4251-B39C-A9C43E49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EF649-1072-4CE8-8569-3207AB58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4B81C-D94A-4863-82AC-01C22F78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12F-F83E-4881-BEBD-8138C0C9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D6D6D-786E-4944-B9CC-0E453B0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815EF-9369-4F75-BDA2-C6309A7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D4625-CB35-4D43-9A6A-B35D241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1E6ED-A0E4-4913-B889-B9EF9360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85F24-39BA-4E1E-9533-2951277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22BBA-8BEE-4EEB-9BD3-F3C2B4A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752D9-D62A-44ED-A203-8357112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E838A-45DF-43CF-B71E-070E457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E8703-ED73-4018-9AB9-7A7546A7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C1771-396F-486E-8D66-D462EC96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770-7C8D-47B5-9469-27DAD627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B352E-DC9F-4436-A3FC-84C74D07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96530-1540-4039-97A6-AD366B54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24C8-C8DA-4FC3-9EF4-D8BEC31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7495-21D6-4670-B468-714550E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3314-C470-4860-9E7C-EDB5349C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5C8A-C5FC-4554-BA63-2D53A53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5A587-1C4A-4A32-8005-569B99C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366AB-E61A-4D87-91AD-FCA896F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8B750-7960-4F55-A483-EDB1197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E8593-D120-4289-A6EC-C846EBA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B74C-6262-4A5B-AC0E-0984103E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5B6E-ACEE-4A4C-8233-4EC30110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7805E-B9C4-4AF4-851E-F6A9269F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5A38A-8F4B-4C98-A13F-027A1372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FFA76-3421-424B-AE82-5565B9E6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2AEED-F7C5-4E8E-ABF9-F176EE6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656A0-7108-4AAE-ADDA-EA9FE090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FDE00-CACC-4CDB-A27E-6FF7035D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639CA-7BF0-497A-8977-C08F8C7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73C83-FC3D-4AF6-9883-1E79BC2E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99F00-5C50-4E98-972A-5909A5AB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0BB-C1B9-4EC4-B617-A3E16313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25839-CD8F-4726-8C6B-A034983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A4CFB-49FC-43FF-8C3A-CD79B739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99B1B-6596-4CF5-BA2A-F4322D1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749FF-88D5-40C1-BED4-8CD4AAFE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F9557-A6CB-4633-887E-2018811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E99A-E270-4A37-A833-9D83CE59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1717-34D4-4C68-B9D7-9973FA3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B218-859E-4E92-A861-F8B64C0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D58-CE6A-4F77-AD21-A1EC9C5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F90A-78EE-4744-AA67-B43ED28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BAF-5959-46FC-A7C4-751A557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A69-27F6-4775-8860-8C96E74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DC4C-D19D-4008-A59A-A24AFC2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F27E-446A-4044-B73F-4CE3988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6CAD-A6D5-4C68-A74B-070C8D2E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E36-8005-4412-AD6C-8CD1A07F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DEB5-A7A2-4A1D-8843-6A7A8532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082A-3F58-4849-91C6-86F7053D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3BEF-3DE0-4B3E-B816-A863DF4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A24D-F383-46CE-9166-390F1649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990E-5E2E-4506-9254-F796205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2EB-32F0-4B88-B3FC-2315A0B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1387-1E13-4C9B-B758-4273EE7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E606-C805-48F0-BAE8-4AD38311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AC6F-5B13-4DC4-9672-977D92F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EE94-011C-4CCA-AC52-C5D891FC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0E97-084A-43D6-AD28-EB18A74C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2B2D-0B3C-48C7-911E-03F2F0C5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5E4F-8653-4276-A669-A791FCBB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92EE1-FBFD-4EE2-8E74-7CB43D52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DF86-62B4-4071-9B73-F5E13912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B284-33BD-4FDB-886E-58BBF7F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6BB-62BD-49B0-B997-41A3CEC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CB25-2D2C-4EB6-97F1-9982FF06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1DBA-26CE-4AC1-B7D4-109DE11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FD68-B107-4D71-954C-EAC0E486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9D10-41FA-4823-AB6F-F13515E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A2E8-EA8A-4872-AA96-2B3DC82C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D3676-9648-4CD5-B688-0707BF6F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D15B-6642-44A9-BDED-5A8BC53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487F-05A3-4464-8F0F-DB03088B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23F0-A521-4E0A-97FE-9B7AA362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8D3EC-A67D-467A-93C0-CD9335E4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29C-AC5C-4E9E-A354-78F50C81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95FE-CB51-48DB-BD49-1AD58FFE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5696-F936-4665-9C69-8FD9B4CB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E2D2-78B5-4DC8-9C4F-4F269C53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74FB-A682-4E3D-9E6E-3CB9850F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BF72-147C-441B-A008-8B54049D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BBFE-D11D-46BB-B8EC-41F54EE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F24B3-11EB-4FD4-9563-44B84A5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BFD55-B8D0-4ECF-B9A3-62BE8BC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C839-0793-4C9F-80FE-A75E87CD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F37E-B131-47DE-AB36-2CE89CA6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63C-C9C8-4A6F-A9C3-55F9930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57DC-F9F5-430B-A597-52EE9CBC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9373-F712-41A7-99C0-6BC094EA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20A5-2A97-4AD3-A9F5-9D3B58F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8F6E6-A5A1-430A-B189-C065F93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8DB0-6F5E-4305-9070-E2331964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EA7C-CD6A-4073-8CD3-AC51D471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8E06-E3FB-4D5B-B3FB-50638C9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CC9F-E408-400E-B0A6-7C87D8C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149D5-8B75-45A0-A8AE-AAE7F16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543B-D016-453D-A5F9-09E7491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67D-9053-45DD-9D76-4B125D7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580CC-155F-4B54-AC3C-A276E41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3229-8DF1-423A-8259-BC5C5FE9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E838-CD09-43F3-8560-9A7C39E2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95C1-32D2-4277-AE1D-BB1F710C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37CB-5C4C-49E6-8291-28E0E2A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4BFD2-2526-484A-8575-A2D0FBBC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421D-40E4-4972-BA46-A7754E0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CDD3-5C5D-4FA2-B782-DACEF71E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75129-2E3B-4DF6-BE34-9035AB9F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54AE8-AD45-437C-92E6-219234E0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931-7279-438F-AC61-5B620D5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E734F-5535-4D7C-A78D-692AEC8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71BF-3DE5-4BBE-AA98-28D7AFA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230E0-83F4-4F63-BF77-D6024F9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1FE4-80C7-4666-848E-00AB10EA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FA49-97D4-4B04-8911-6CFF3F46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8690A-BCAB-4B62-BB10-BD002F24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24BA3-33C4-466E-8F1F-BA593DD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719CC-F62F-4FC0-966A-FD925C74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9C9E0-4E66-4A08-A9F4-76C6764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A6B8-89D4-4EEF-A947-68253EF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82B-9C0C-4D85-93E0-484A2E5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BC931-545A-4E40-A1FF-8062730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4EC5-0827-4A2E-A391-2A3657C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9670-A0F1-4404-8018-1BE1255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9E9E-7195-4616-B2A3-1004CABE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3307-44AA-44BE-A1A8-97D41B3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5FAC6-FA1A-434A-8BC3-F73DEFEC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E55D-687E-4C25-9B1F-E8357CB7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B1248-51E1-4AA6-8173-2ACE81A2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9AE18-785F-4445-B9FD-E9294378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52B5D-A8D6-419E-8758-E5A3C3B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D00-96AE-4F76-B4AB-DB2688E396E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14A-3FE3-4F2F-A675-40E5A82679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7EA-E8DF-489F-9466-DBC7CFF56FD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CA0D-7DE9-4D3B-A7B8-F15A824A41A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EC7-5547-4B19-8E60-028F2D1E29E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0266-CB5D-46FE-81E3-D78F15384E8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AA8-E907-4285-B565-38C550AE482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D33C-0F90-472E-BA0E-DB25B9F2428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9D33-276B-487C-84FC-93080C2E4EB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1BC3-F4AD-4B00-9F95-67443B52DAE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DDE-AB1C-46E8-BF8C-7EADB7C1149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AF2A-37CC-4298-8CD0-4E3B23EE1E1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928680" y="4000680"/>
            <a:ext cx="4786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46b8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ЫКОВСКАЯ В.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БОУ СОШ №1 П. СУХОДО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Современные образовательные технологии</a:t>
            </a:r>
            <a:br>
              <a:rPr sz="3600"/>
            </a:b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(</a:t>
            </a:r>
            <a:r>
              <a:rPr b="0" lang="ru-RU" sz="2800" spc="-1" strike="noStrike">
                <a:solidFill>
                  <a:srgbClr val="7030a0"/>
                </a:solidFill>
                <a:latin typeface="Georgia"/>
              </a:rPr>
              <a:t>Компетентностно –ориентированный подход)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3" descr="VTepzz67qG4.jpg"/>
          <p:cNvPicPr/>
          <p:nvPr/>
        </p:nvPicPr>
        <p:blipFill>
          <a:blip r:embed="rId1"/>
          <a:stretch/>
        </p:blipFill>
        <p:spPr>
          <a:xfrm>
            <a:off x="642960" y="2928960"/>
            <a:ext cx="28749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Правила организации групповой работы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рупповая работа требует перестановки парт, чтобы детям, работающим вместе, удобно было смотреть друг на друг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Рисунок 3" descr="http://image.websib.ru/07/img/1/5.jpg"/>
          <p:cNvPicPr/>
          <p:nvPr/>
        </p:nvPicPr>
        <p:blipFill>
          <a:blip r:embed="rId1"/>
          <a:stretch/>
        </p:blipFill>
        <p:spPr>
          <a:xfrm>
            <a:off x="1428840" y="3071880"/>
            <a:ext cx="6786360" cy="128592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4" descr="http://io.nios.ru/foto/Articles/033/1141_4.jpg"/>
          <p:cNvPicPr/>
          <p:nvPr/>
        </p:nvPicPr>
        <p:blipFill>
          <a:blip r:embed="rId2"/>
          <a:stretch/>
        </p:blipFill>
        <p:spPr>
          <a:xfrm>
            <a:off x="2643120" y="4357800"/>
            <a:ext cx="36435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сновные противопоказания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допустима пара из двух слабых учеников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принуждать к общей работе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жно работать в одиночк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вместная  работа  не более 10-15 минут уро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требовать абсолютной тишины во время совместной работ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льзя наказывать детей лишение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а участвовать в групповой работ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Рисунок 3" descr="8irpKy9hBt4.jpg"/>
          <p:cNvPicPr/>
          <p:nvPr/>
        </p:nvPicPr>
        <p:blipFill>
          <a:blip r:embed="rId1"/>
          <a:stretch/>
        </p:blipFill>
        <p:spPr>
          <a:xfrm>
            <a:off x="7286760" y="4857840"/>
            <a:ext cx="15192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етод«Пила»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работан профессором Элиотом Аронсоном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организуются в группы по 6 человек для работы над учебным материалом, который разбит на фрагмен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ждый член группы находит материал по своей част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тем ребята, изучающие один и тот же вопрос, но состоящие в разных группах, встречаются и обмениваются данной информацией как эксперты по данному вопро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ни возвращаются в свои группы и обучают всему новому, что узнали сами, других членов группы.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2" name="Рисунок 3" descr="pu824eZ5_IM.jpg"/>
          <p:cNvPicPr/>
          <p:nvPr/>
        </p:nvPicPr>
        <p:blipFill>
          <a:blip r:embed="rId1"/>
          <a:stretch/>
        </p:blipFill>
        <p:spPr>
          <a:xfrm>
            <a:off x="7572240" y="5518080"/>
            <a:ext cx="1343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Диагностика способов учебного сотрудничеств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ндивидуальные  листы контроля за совместной деятельностью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ак я сотрудничаю сегодня в группе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мя_____________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помогал своей группе:____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полняя идеи, ответы других_______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держивая, подбадривая своих товарищей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общая различные высказывания, мнения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зъясняя, объясняя своим товарищам__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Чем я буду заниматься в следующий раз?_______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Рисунок 3" descr="CUn61XFETck.jpg"/>
          <p:cNvPicPr/>
          <p:nvPr/>
        </p:nvPicPr>
        <p:blipFill>
          <a:blip r:embed="rId1"/>
          <a:stretch/>
        </p:blipFill>
        <p:spPr>
          <a:xfrm>
            <a:off x="7215120" y="4929120"/>
            <a:ext cx="15242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Отличие обычного группового обучения от обучения по методике сотрудниче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Взаимодействие членов группы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Личная ответственность каждого члена группы за собственные успехи и успехи своих товарищей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Совместная учебно-познавательная деятельность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Социализация деятельности учащихся в группах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Общая оценка работы группы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Кейс -техн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CASE – единый информационный комплекс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спомогательная информация, необходимая для анализа кейс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писание конкретной ситуаци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дания к кейс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Рисунок 3" descr="53742.jpg"/>
          <p:cNvPicPr/>
          <p:nvPr/>
        </p:nvPicPr>
        <p:blipFill>
          <a:blip r:embed="rId1"/>
          <a:stretch/>
        </p:blipFill>
        <p:spPr>
          <a:xfrm>
            <a:off x="6072120" y="4357800"/>
            <a:ext cx="2637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Структура кейс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нформационный материал, иллюстрирующий проблем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опросы для анализа  текста и обсужд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тодические рекомендаци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Рисунок 3" descr="4vXHBVRMknk.jpg"/>
          <p:cNvPicPr/>
          <p:nvPr/>
        </p:nvPicPr>
        <p:blipFill>
          <a:blip r:embed="rId1"/>
          <a:stretch/>
        </p:blipFill>
        <p:spPr>
          <a:xfrm>
            <a:off x="6700680" y="3214800"/>
            <a:ext cx="24433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Типы кейс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о методу подготовк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библиотечные»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публичные»,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классические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«кабинетные»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о способу  организации материал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структурированные кейсы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"маленькие наброски"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большие неструктурированные "кейсы"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"первооткрывательские кейсы"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о содержанию и организации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представленного в них материал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обучающие анализу и оценке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обучающие решению проблем и принятию решений;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ейсы, иллюстрирующие проблему, решение или концепцию в целом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Технология работы с кейсом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ндивидуальная самостоятельная работы обучаемых с материалами кейса (идентификация проблемы, формулирование ключевых альтернатив, предложение решения или рекомендуемого действия)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бота в малых группах по согласованию видения ключевой проблемы и ее решений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езентация и экспертиза результатов малых групп на общей дискуссии (в рамках учебной группы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Рисунок 3" descr="d4CyMjCvD24.jpg"/>
          <p:cNvPicPr/>
          <p:nvPr/>
        </p:nvPicPr>
        <p:blipFill>
          <a:blip r:embed="rId1"/>
          <a:stretch/>
        </p:blipFill>
        <p:spPr>
          <a:xfrm>
            <a:off x="7072200" y="514368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Виды дискусс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14400" y="16002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перекрестный допрос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адвокат дьявола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ученик: гипотетический формат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- ученик: конфронтация и/или кооперация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- ученик: “играть роль”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- класс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езмолвный” формат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6267600" y="4214880"/>
            <a:ext cx="28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"/>
          <p:cNvSpPr/>
          <p:nvPr/>
        </p:nvSpPr>
        <p:spPr>
          <a:xfrm>
            <a:off x="457200" y="148104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Основным результатом деятельности образовательного учреждения должна стать не система знаний, умений и навыков сама по себе, а набор заявленных государством ключевых компетенций в интеллектуальной, общественно-политической, коммуникационной, информационной и прочих сферах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     (Стратегия модернизации образования в РФ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  <a:ea typeface="Microsoft YaHe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"/>
          <p:cNvGrpSpPr/>
          <p:nvPr/>
        </p:nvGrpSpPr>
        <p:grpSpPr>
          <a:xfrm>
            <a:off x="450720" y="268200"/>
            <a:ext cx="8264520" cy="1157400"/>
            <a:chOff x="450720" y="268200"/>
            <a:chExt cx="8264520" cy="1157400"/>
          </a:xfrm>
        </p:grpSpPr>
        <p:pic>
          <p:nvPicPr>
            <p:cNvPr id="611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645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Text Box 4"/>
            <p:cNvSpPr/>
            <p:nvPr/>
          </p:nvSpPr>
          <p:spPr>
            <a:xfrm>
              <a:off x="450720" y="268200"/>
              <a:ext cx="82645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Рисунок 5" descr="237315560.gif"/>
          <p:cNvPicPr/>
          <p:nvPr/>
        </p:nvPicPr>
        <p:blipFill>
          <a:blip r:embed="rId2"/>
          <a:stretch/>
        </p:blipFill>
        <p:spPr>
          <a:xfrm>
            <a:off x="6572160" y="4929120"/>
            <a:ext cx="193536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Результаты технологи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Аналитические навыки  работы с информацией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рактически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Творчески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Коммуникативны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оциальные навыки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амоанализ. </a:t>
            </a: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пасибо за внимание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Содержимое 3" descr="-UennhbsezA.jpg"/>
          <p:cNvPicPr/>
          <p:nvPr/>
        </p:nvPicPr>
        <p:blipFill>
          <a:blip r:embed="rId1"/>
          <a:stretch/>
        </p:blipFill>
        <p:spPr>
          <a:xfrm>
            <a:off x="2268360" y="15271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Содержимое 3" descr="2DIk17k20m8.jpg"/>
          <p:cNvPicPr/>
          <p:nvPr/>
        </p:nvPicPr>
        <p:blipFill>
          <a:blip r:embed="rId1"/>
          <a:stretch/>
        </p:blipFill>
        <p:spPr>
          <a:xfrm>
            <a:off x="2039760" y="15271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ня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бразовательной технологией будем называть комплекс, состоящий из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которого представления планируемых результатов обучения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средств диагностики текущего состояния обучаемых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набора моделей обучения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• критериев выбора оптимальной модели для данных конкретных условий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учение в сотрудничестве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Georgia"/>
              </a:rPr>
              <a:t>Главная идея обучения в сотрудничестве – учиться вместе , а не просто что-то выполнять вместе .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8" name="Рисунок 6" descr="sEuYGXt55AA.jpg"/>
          <p:cNvPicPr/>
          <p:nvPr/>
        </p:nvPicPr>
        <p:blipFill>
          <a:blip r:embed="rId1"/>
          <a:stretch/>
        </p:blipFill>
        <p:spPr>
          <a:xfrm>
            <a:off x="4929120" y="3714840"/>
            <a:ext cx="3189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классификация сотрудничест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трудничества ученика с учителем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трудничество учащихся со сверстник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5286240" y="3714840"/>
            <a:ext cx="3143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Основополагающий принцип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аво на ошиб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"что указывает на необходимость дополнительной практики и большей тренировки, чтобы овладеть необходимым умением или знанием"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59100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ариант 1: – обучение в команде </a:t>
            </a:r>
            <a:br>
              <a:rPr sz="54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Групповые цели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Успех всей группы 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Не сделать что-то вместе, а познать что-то вместе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Команда отвечает за каждого ученика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Индивидуальна ответственность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Равные возможности каждого ученика в достижении успеха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Групповые награды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Ученик соревнуется сам с собой.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Рисунок 3" descr="C2vnGWbzV40.jpg"/>
          <p:cNvPicPr/>
          <p:nvPr/>
        </p:nvPicPr>
        <p:blipFill>
          <a:blip r:embed="rId1"/>
          <a:stretch/>
        </p:blipFill>
        <p:spPr>
          <a:xfrm>
            <a:off x="6357960" y="4714920"/>
            <a:ext cx="2484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-357120"/>
            <a:ext cx="85345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Как организовать обучение в малых группах? </a:t>
            </a:r>
            <a:br>
              <a:rPr sz="5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1. Планировка помещения (не для «слушания» а для учения)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2. Психологическая подготовка учеников (взаимодействовать в группе, работать активно, помогать др.др., радоваться общим успехам)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3. Четко продуманный план урока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4. Ясная учебно-познавательная цель урока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5. Разнообразные виды деятельности на уроке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6. Широкий спектр средств обучения, учебных материалов;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46b86"/>
                </a:solidFill>
                <a:latin typeface="Georgia"/>
              </a:rPr>
              <a:t>7. Разделение класса на группы (в зависимости от пунктов №3-6)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Georgia"/>
              </a:rPr>
              <a:t>Работа в группе</a:t>
            </a:r>
            <a:endParaRPr b="0" lang="en-US" sz="5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14200" y="1600200"/>
            <a:ext cx="8786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вы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ыдвижение гипотез, версий, изложение своей позици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торо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бсуждение высказанных гипотез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тий этап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ыработка группового решения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твертый этап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суждение итогов работы групп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ятый этап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суждение процесса рабо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Рисунок 3" descr="l2HSf2NKiQM.jpg"/>
          <p:cNvPicPr/>
          <p:nvPr/>
        </p:nvPicPr>
        <p:blipFill>
          <a:blip r:embed="rId1"/>
          <a:stretch/>
        </p:blipFill>
        <p:spPr>
          <a:xfrm>
            <a:off x="5000760" y="4214880"/>
            <a:ext cx="3902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18:43:49Z</dcterms:created>
  <dc:creator>Admin</dc:creator>
  <dc:description/>
  <dc:language>en-US</dc:language>
  <cp:lastModifiedBy>Admin</cp:lastModifiedBy>
  <dcterms:modified xsi:type="dcterms:W3CDTF">2014-01-24T15:28:14Z</dcterms:modified>
  <cp:revision>20</cp:revision>
  <dc:subject/>
  <dc:title>Слайд 1</dc:title>
</cp:coreProperties>
</file>