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AE5-078E-4C60-AFEE-39AAEA96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CEA-8B69-42D7-AD9B-B7EB78CE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6810D-62C9-4588-88AF-887D163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90AAF-629A-4233-BC27-0EF56E70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5051F-AA7E-4221-9D65-B0262D1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97C75-7CA3-404E-9F83-1F29718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43C72-9705-4EA6-A825-00CFD1A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4AC50-A62B-4C68-A1C0-A500457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332B8-2DED-4C35-8A51-0554A7F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EC627-C9D4-4F09-B2A2-DE552AF1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8686B-4413-4399-BEDD-C51FCECF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31DC5-3866-456C-96F2-A808979B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FDE-3415-43D3-86EE-E82ED0EC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CD4CB-5B76-48DE-BF84-4848C86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B9D92-F1E3-46D8-B6D9-36D9343F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9D05B-C393-42A5-B880-D3F36DB7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90496-E0D4-48FB-AC64-B72715BB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91C67-4D50-446B-AB29-2AFC178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3A1A7-5A79-4A2B-9A2E-78490D6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EAAD7-98D2-4305-8733-4C601F7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0180F-42AB-4E7D-B72C-5B94922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0FAC6-30BC-48FC-9D09-115C426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C1F41-5046-488E-A595-E07085B4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5C1-140D-40EA-874E-15B725C7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A83F5-8044-49FE-A618-9991BE1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4C386-936B-4B28-A253-348F3E81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84550-D0C4-4492-B5FC-2E6D4A9E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F89D3-48D4-457C-A2B1-20E618CA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56BD-8161-4B5F-B8AA-E8FE9C1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BEC5B-C53B-4754-8704-3626AEC5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FA827-D84C-4EEF-A7E9-EFCC74B0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3F13-714E-4A49-A5D0-FAA1C37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DC3FE-B4EE-42F0-8C0A-484E4C5F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F61B-0734-4169-8985-85E120A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B99A-7F7B-428F-A138-EB0C1DD2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7285-953B-4905-83C9-D16440E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B2997-094A-45DE-AEA3-7F77F7A8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E8BD4-6C53-4E2F-9D8D-722A12E7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6968F-D5F9-4FB8-8E25-0605A227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B8DAF-FF3C-4E2D-9901-3A320C43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5FA34-8876-4FDA-B925-2270CBF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3D2EB-0A38-4F04-9540-AD44956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A66EA-FD2A-496B-9077-F2A7FF6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9DA4-EDC6-4D06-8EF8-0A8FB2BE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1724D-A682-4D84-AED3-44A88E62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60DA-EA82-4EB9-B8C9-D6A35E7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15F0E-63E7-4041-8445-90FE445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C020D-47C2-40B4-8E74-2B62113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47F02-B750-47EA-9CBA-47E4D549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DB915-53AC-40CD-993E-D9788D71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F261D-CA2F-4586-9C42-E29D8BEC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586-46B0-4090-B081-52BC4D5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1A2-65CE-491E-B5C8-6D97AC2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2500-1A7F-4871-91E7-00E8DBE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0F32-4029-423D-AC41-0E900DE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3775-06AA-4FEF-9703-B65095E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7CE-2DE7-449B-832A-714F600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4C41-3421-4462-AD2E-F26B8BF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B10-564D-4DBA-8C22-F65AA47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E8E9-AFE0-4831-82EE-B690E87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309-62F2-4B77-870E-5F667A53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13AC-1664-457A-81BA-B266471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B7B7-CD3F-4239-ACEE-4E9D53EA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9F33-C636-4F4F-A848-812D781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765D-4755-4DC7-9127-4FC1FCB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1EC6-230A-4F2C-BE8E-46932FE1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92D6-CDEF-446E-8A91-0DFB30B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48B-6258-4421-BCD1-5171D44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6A27-CFB2-487A-873F-A7F8B473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BD07-A82F-4889-975D-ABA703A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2AA0-49F5-4010-B41A-0BD5F74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3375-C2ED-4F0F-8755-C06006E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1456-DFFB-48C9-B9C6-5927805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F9EB-2268-476C-8281-2B8A82C4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C9C6-2C45-4E24-9EC1-CD5A550A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B7F3-B40D-4BC5-8138-4CA3C78F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94F6-5EB3-407E-9B0D-EEB91C6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5C6E-E26D-4D7D-8199-0585FD5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41B-E08D-4E12-9535-5575997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7034-2583-400E-AAAF-F4C0ADD7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A5F0-3FAF-4DD7-8EE6-5DB18261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A018-592E-4025-8D9D-80967BE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0A1C0-17BB-4834-930B-36DB183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8E46-EECC-4E2E-AFF1-58E4BB8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2824-11BB-4CE5-A441-D7F98D0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C6F0-C375-4900-BCCE-BB0F64F1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8813-8156-4D5F-B4D4-21C689DF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0BC1-8753-4109-B491-E46D04EA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4E77-D768-4235-8445-F8874853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E83-5C98-4367-9386-CCEBE91F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FEBE-3C56-4579-95D0-683D3E8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807B3-0C46-46DA-9F01-C1BFBD2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5896-D80B-4A6B-A052-8393F47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3561-901A-4CCE-A599-C2F8CD7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2315-4DD7-4C1F-8CC8-3A0DE03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D9E0-9193-4A87-9BEA-4264431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F45F-3C87-470B-9C56-B4FA533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A5235-9720-4776-8F8D-B6BF162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02C5D-7C45-4A65-ACC8-F3B2503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F78FA-D990-434C-9303-429042B5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D9D-6981-4DB7-BF9D-EC1A95B8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8535-BCF7-43FC-A2E4-A4BB6F16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4BC4-0927-48C7-B5A6-ECF747D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04B5-3C0B-4993-B18F-59A10C65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2212-87D0-44D3-95E6-976F8391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58BA-C113-4A0F-830C-D235D8F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DF05-006D-4DD2-A05D-00F2F20F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15F5-0156-4834-B891-4774CCBA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AC83-326C-4AD2-838C-BEB8430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0AE3-C3D0-4CF4-B2DD-AB69916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56A8-3624-4345-8073-E514A95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35B-309A-4699-A141-C37F9104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0DA6-ED4A-41E0-AE75-EE76560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FA843-DA8F-4D4C-8704-1C5F6B4C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F16B-EA17-446B-94B5-2A7E57F6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0DEA-D943-46B9-9348-4BF8E0D8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6018-4390-43A4-9AC9-8D2493D4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F38D-6C54-4601-9972-5EA4C24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6B85-6D49-473D-90B3-32AE81B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0908-B4AA-411B-A26A-6FB5CA6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D81A8-39BC-4458-A904-233B74D7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0E85C-7973-41F9-AB72-A7B031B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074-38E1-4255-B095-199A292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945B-222B-447F-B79F-38F520E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00B7-E5F5-48A8-A17E-F1F1161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847E-3B08-41BB-A065-D3DD04DF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28AB-382B-47AB-A354-A95C2FC2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A3AF-C459-4828-84B5-BC1E6C86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F230-3DD1-448A-8858-89976492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6474E-A5B0-489D-ADC5-2956EBD5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96EB-80CE-49F8-AC25-F42E6A2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2732-1FCA-409C-8225-775D3D9F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AFA1-D542-41C1-9DA3-6BCD333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992-EB5E-4399-BCBF-D7B2264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3109-5F60-4C0D-AF7F-2591139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68F8-33C4-4ABD-80CF-C9EBA9A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44D6F-1ED3-4A4D-9187-89DD548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99B47-C5EF-440E-8496-3BD4485F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CC11-86FC-4F26-B53C-C6205DA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BA58-B49C-4A25-A09E-DCD89DB4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F21A-8838-4213-85A1-59EC7D48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1B119-161E-439F-9F06-628C20AA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CDF88-1398-4BA3-9B2D-43E1BD8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08774-7A85-4AA7-8B56-A655195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3DF-6BDB-435C-A6F7-A07B89337B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BDBC-3708-4EF1-AAE6-7A9142E306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A33-4833-4E95-B87C-877DAC652A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D40-D518-4C4D-9461-F9DBAA4C27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25EC-0860-4F42-BB2B-77AF0C086F0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244-8578-4805-A7CE-2722CFF5DDA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4A5-4163-44B1-B682-B35DD4994EB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C4B-9C53-4073-A14C-1A8016A3826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36B4-CF40-47D3-A6D5-44C96D51FCD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579-7B51-4989-9092-61693BCF63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FE5C-47C8-4646-8769-02AD0678770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900-3C65-42CF-A109-B0EBCEBF44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28680" y="4000680"/>
            <a:ext cx="4786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46b8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КОВСКАЯ В.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БОУ СОШ №1 П. СУХОДО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Современные образовательные технологии</a:t>
            </a:r>
            <a:br>
              <a:rPr sz="3600"/>
            </a:b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(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Компетентностно –ориентированный подход)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3" descr="VTepzz67qG4.jpg"/>
          <p:cNvPicPr/>
          <p:nvPr/>
        </p:nvPicPr>
        <p:blipFill>
          <a:blip r:embed="rId1"/>
          <a:stretch/>
        </p:blipFill>
        <p:spPr>
          <a:xfrm>
            <a:off x="642960" y="2928960"/>
            <a:ext cx="28749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Правила организации групповой работы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рупповая работа требует перестановки парт, чтобы детям, работающим вместе, удобно было смотреть друг на дру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Рисунок 3" descr="http://image.websib.ru/07/img/1/5.jpg"/>
          <p:cNvPicPr/>
          <p:nvPr/>
        </p:nvPicPr>
        <p:blipFill>
          <a:blip r:embed="rId1"/>
          <a:stretch/>
        </p:blipFill>
        <p:spPr>
          <a:xfrm>
            <a:off x="1428840" y="3071880"/>
            <a:ext cx="6786360" cy="128592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http://io.nios.ru/foto/Articles/033/1141_4.jpg"/>
          <p:cNvPicPr/>
          <p:nvPr/>
        </p:nvPicPr>
        <p:blipFill>
          <a:blip r:embed="rId2"/>
          <a:stretch/>
        </p:blipFill>
        <p:spPr>
          <a:xfrm>
            <a:off x="2643120" y="4357800"/>
            <a:ext cx="3643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сновные противопоказания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пустима пара из двух слабых учени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принуждать к общей работе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жно работать в одиноч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местная  работа  не более 10-15 минут уро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требовать абсолютной тишины во время совместной работ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наказывать детей лишение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а участвовать в групповой работ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Рисунок 3" descr="8irpKy9hBt4.jpg"/>
          <p:cNvPicPr/>
          <p:nvPr/>
        </p:nvPicPr>
        <p:blipFill>
          <a:blip r:embed="rId1"/>
          <a:stretch/>
        </p:blipFill>
        <p:spPr>
          <a:xfrm>
            <a:off x="7286760" y="4857840"/>
            <a:ext cx="15192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етод«Пила»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ан профессором Элиотом Аронсоном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организуются в группы по 6 человек для работы над учебным материалом, который разбит на фрагмен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ждый член группы находит материал по своей ча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тем ребята, изучающие один и тот же вопрос, но состоящие в разных группах, встречаются и обмениваются данной информацией как эксперты по данному вопро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и возвращаются в свои группы и обучают всему новому, что узнали сами, других членов группы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Рисунок 3" descr="pu824eZ5_IM.jpg"/>
          <p:cNvPicPr/>
          <p:nvPr/>
        </p:nvPicPr>
        <p:blipFill>
          <a:blip r:embed="rId1"/>
          <a:stretch/>
        </p:blipFill>
        <p:spPr>
          <a:xfrm>
            <a:off x="7572240" y="5518080"/>
            <a:ext cx="1343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Диагностика способов учебного сотрудничеств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ндивидуальные  листы контроля за совместной деятельность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ак я сотрудничаю сегодня в группе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мя_____________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помогал своей группе:____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полняя идеи, ответы других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держивая, подбадривая своих товарищей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общая различные высказывания, мнения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зъясняя, объясняя своим товарищам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Чем я буду заниматься в следующий раз?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Рисунок 3" descr="CUn61XFETck.jpg"/>
          <p:cNvPicPr/>
          <p:nvPr/>
        </p:nvPicPr>
        <p:blipFill>
          <a:blip r:embed="rId1"/>
          <a:stretch/>
        </p:blipFill>
        <p:spPr>
          <a:xfrm>
            <a:off x="7215120" y="4929120"/>
            <a:ext cx="15242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Отличие обычного группового обучения от обучения по методике сотрудниче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Взаимодействие членов группы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Личная ответственность каждого члена группы за собственные успехи и успехи своих товарищей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Совместная учебно-познавательная деятельность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Социализация деятельности учащихся в группах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Общая оценка работы группы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Кейс -техн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CASE – единый информационный комплекс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спомогательная информация, необходимая для анализа кейс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писание конкретной ситуаци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дания к кейс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Рисунок 3" descr="53742.jpg"/>
          <p:cNvPicPr/>
          <p:nvPr/>
        </p:nvPicPr>
        <p:blipFill>
          <a:blip r:embed="rId1"/>
          <a:stretch/>
        </p:blipFill>
        <p:spPr>
          <a:xfrm>
            <a:off x="6072120" y="4357800"/>
            <a:ext cx="2637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Структура кейс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нформационный материал, иллюстрирующий проблем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просы для анализа  текста и обсужд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тодические рекомендаци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Рисунок 3" descr="4vXHBVRMknk.jpg"/>
          <p:cNvPicPr/>
          <p:nvPr/>
        </p:nvPicPr>
        <p:blipFill>
          <a:blip r:embed="rId1"/>
          <a:stretch/>
        </p:blipFill>
        <p:spPr>
          <a:xfrm>
            <a:off x="6700680" y="3214800"/>
            <a:ext cx="24433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Типы кейс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о методу подготовк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библиотечные»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публичные»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классические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кабинетные»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о способу  организации материал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труктурированные кейсы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"маленькие наброски"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большие неструктурированные "кейсы"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"первооткрывательские кейсы"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о содержанию и организации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редставленного в них материал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обучающие анализу и оценке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обучающие решению проблем и принятию решений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иллюстрирующие проблему, решение или концепцию в целом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ехнология работы с кейсом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ндивидуальная самостоятельная работы обучаемых с материалами кейса (идентификация проблемы, формулирование ключевых альтернатив, предложение решения или рекомендуемого действия)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бота в малых группах по согласованию видения ключевой проблемы и ее решений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езентация и экспертиза результатов малых групп на общей дискуссии (в рамках учебной группы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Рисунок 3" descr="d4CyMjCvD24.jpg"/>
          <p:cNvPicPr/>
          <p:nvPr/>
        </p:nvPicPr>
        <p:blipFill>
          <a:blip r:embed="rId1"/>
          <a:stretch/>
        </p:blipFill>
        <p:spPr>
          <a:xfrm>
            <a:off x="7072200" y="514368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Виды дискусс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14400" y="16002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перекрестный допрос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адвокат дьявола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гипотетический формат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- ученик: конфронтация и/или кооперация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- ученик: “играть роль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класс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езмолвный” формат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267600" y="4214880"/>
            <a:ext cx="28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"/>
          <p:cNvSpPr/>
          <p:nvPr/>
        </p:nvSpPr>
        <p:spPr>
          <a:xfrm>
            <a:off x="457200" y="148104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Основным результатом деятельности образовательного учреждения должна стать не система знаний, умений и навыков сама по себе, а набор заявленных государством ключевых компетенций в интеллектуальной, общественно-политической, коммуникационной, информационной и прочих сферах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     (Стратегия модернизации образования в РФ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"/>
          <p:cNvGrpSpPr/>
          <p:nvPr/>
        </p:nvGrpSpPr>
        <p:grpSpPr>
          <a:xfrm>
            <a:off x="450720" y="268200"/>
            <a:ext cx="8264520" cy="1157400"/>
            <a:chOff x="450720" y="268200"/>
            <a:chExt cx="8264520" cy="1157400"/>
          </a:xfrm>
        </p:grpSpPr>
        <p:pic>
          <p:nvPicPr>
            <p:cNvPr id="611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645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4"/>
            <p:cNvSpPr/>
            <p:nvPr/>
          </p:nvSpPr>
          <p:spPr>
            <a:xfrm>
              <a:off x="450720" y="268200"/>
              <a:ext cx="8264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Рисунок 5" descr="237315560.gif"/>
          <p:cNvPicPr/>
          <p:nvPr/>
        </p:nvPicPr>
        <p:blipFill>
          <a:blip r:embed="rId2"/>
          <a:stretch/>
        </p:blipFill>
        <p:spPr>
          <a:xfrm>
            <a:off x="6572160" y="4929120"/>
            <a:ext cx="193536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Результаты технолог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налитические навыки  работы с информацией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рактически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Творчески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Коммуникативны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оциальны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амоанализ. </a:t>
            </a: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пасибо за внимание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Содержимое 3" descr="-UennhbsezA.jpg"/>
          <p:cNvPicPr/>
          <p:nvPr/>
        </p:nvPicPr>
        <p:blipFill>
          <a:blip r:embed="rId1"/>
          <a:stretch/>
        </p:blipFill>
        <p:spPr>
          <a:xfrm>
            <a:off x="2268360" y="1527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Содержимое 3" descr="2DIk17k20m8.jpg"/>
          <p:cNvPicPr/>
          <p:nvPr/>
        </p:nvPicPr>
        <p:blipFill>
          <a:blip r:embed="rId1"/>
          <a:stretch/>
        </p:blipFill>
        <p:spPr>
          <a:xfrm>
            <a:off x="2039760" y="15271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ня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бразовательной технологией будем называть комплекс, состоящий из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которого представления планируемых результатов обучения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средств диагностики текущего состояния обучаемых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набора моделей обучения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критериев выбора оптимальной модели для данных конкретных условий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учение в сотрудничестве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Главная идея обучения в сотрудничестве – учиться вместе , а не просто что-то выполнять вместе .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8" name="Рисунок 6" descr="sEuYGXt55AA.jpg"/>
          <p:cNvPicPr/>
          <p:nvPr/>
        </p:nvPicPr>
        <p:blipFill>
          <a:blip r:embed="rId1"/>
          <a:stretch/>
        </p:blipFill>
        <p:spPr>
          <a:xfrm>
            <a:off x="4929120" y="3714840"/>
            <a:ext cx="3189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классификация сотрудничест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трудничества ученика с учителем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трудничество учащихся со сверстник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5286240" y="3714840"/>
            <a:ext cx="3143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Основополагающий принцип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о на ошиб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"что указывает на необходимость дополнительной практики и большей тренировки, чтобы овладеть необходимым умением или знанием"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59100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ариант 1: – обучение в команде </a:t>
            </a:r>
            <a:br>
              <a:rPr sz="54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Групповые цели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Успех всей группы 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Не сделать что-то вместе, а познать что-то вместе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Команда отвечает за каждого ученика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Индивидуальна ответственность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Равные возможности каждого ученика в достижении успеха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Групповые награды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Ученик соревнуется сам с собой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3" descr="C2vnGWbzV40.jpg"/>
          <p:cNvPicPr/>
          <p:nvPr/>
        </p:nvPicPr>
        <p:blipFill>
          <a:blip r:embed="rId1"/>
          <a:stretch/>
        </p:blipFill>
        <p:spPr>
          <a:xfrm>
            <a:off x="6357960" y="4714920"/>
            <a:ext cx="2484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-357120"/>
            <a:ext cx="85345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ак организовать обучение в малых группах? </a:t>
            </a:r>
            <a:br>
              <a:rPr sz="5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1. Планировка помещения (не для «слушания» а для учения)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2. Психологическая подготовка учеников (взаимодействовать в группе, работать активно, помогать др.др., радоваться общим успехам)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3. Четко продуманный план урока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4. Ясная учебно-познавательная цель урока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5. Разнообразные виды деятельности на уроке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6. Широкий спектр средств обучения, учебных материалов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7. Разделение класса на группы (в зависимости от пунктов №3-6)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Georgia"/>
              </a:rPr>
              <a:t>Работа в группе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1420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вы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ыдвижение гипотез, версий, изложение своей позиц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торо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бсуждение высказанных гипотез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ти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ыработка группового решения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ый этап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суждение итогов работы групп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ятый этап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суждение процесса рабо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l2HSf2NKiQM.jpg"/>
          <p:cNvPicPr/>
          <p:nvPr/>
        </p:nvPicPr>
        <p:blipFill>
          <a:blip r:embed="rId1"/>
          <a:stretch/>
        </p:blipFill>
        <p:spPr>
          <a:xfrm>
            <a:off x="5000760" y="4214880"/>
            <a:ext cx="3902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8:43:49Z</dcterms:created>
  <dc:creator>Admin</dc:creator>
  <dc:description/>
  <dc:language>en-US</dc:language>
  <cp:lastModifiedBy>Admin</cp:lastModifiedBy>
  <dcterms:modified xsi:type="dcterms:W3CDTF">2014-01-24T15:28:14Z</dcterms:modified>
  <cp:revision>20</cp:revision>
  <dc:subject/>
  <dc:title>Слайд 1</dc:title>
</cp:coreProperties>
</file>