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4.wmf" ContentType="image/x-wmf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3ED-9446-44F2-9A91-9F461373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FB8-7CC2-4835-AC91-2021A6B2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4AA-BB9F-46A9-96DF-61534DED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B3D-E108-4DB9-9999-D1BD9316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B2A-3741-4FCD-9F7B-F6FE2171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2F97-2EC0-4806-B8C7-B4EB00C4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FD56-5FFD-437B-A3C9-B8077874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93D0-1DF1-40B1-9BA6-9AD3D7A1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8836-2BC6-4514-84FC-4C8F2625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4EC6-1ACD-4A81-A592-E643179B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52C3-392D-47D6-AFAD-41334F7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793-29FF-419A-9D8E-7169C7C1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7FA6-51CC-4CD0-8579-75DECF7F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AD3C-D68B-482B-8C35-F822BE06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FD6D-FC24-4C04-B08F-6FD1FB08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2A58-EE15-47BA-A44C-C643E495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1F31-7C9D-4617-BF3B-CA63CE72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9F2-0F06-4CBF-A322-28F634D3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6A8-EC36-40F2-86C9-3F645430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51B-EA3C-41D2-9A6A-F23D7A64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8F0-01A3-4BE5-B8F2-E7084843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077-FEC6-4AD9-89B7-8D73965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D2A-E5DF-47ED-A6BD-9B82ABDB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A9A-144B-44C1-8A62-064F086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8530-84A1-4477-B95D-9D09BBE447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FA7F-6C9C-4309-A414-11D7415AB53F}" type="slidenum"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95640" y="213372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br>
              <a:rPr sz="5200"/>
            </a:br>
            <a:r>
              <a:rPr b="1" lang="ru-RU" sz="3900" spc="-1" strike="noStrike">
                <a:solidFill>
                  <a:srgbClr val="006666"/>
                </a:solidFill>
                <a:latin typeface="Verdana"/>
              </a:rPr>
              <a:t>Организация досуговой деятельности в группе продлённого дня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006666"/>
                </a:solidFill>
                <a:latin typeface="Verdana"/>
              </a:rPr>
              <a:t>Модель ГБОУ школа №302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IMG_0603"/>
          <p:cNvPicPr/>
          <p:nvPr/>
        </p:nvPicPr>
        <p:blipFill>
          <a:blip r:embed="rId1"/>
          <a:stretch/>
        </p:blipFill>
        <p:spPr>
          <a:xfrm>
            <a:off x="6156360" y="2060640"/>
            <a:ext cx="2014560" cy="1511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1" descr="72"/>
          <p:cNvPicPr/>
          <p:nvPr/>
        </p:nvPicPr>
        <p:blipFill>
          <a:blip r:embed="rId2"/>
          <a:stretch/>
        </p:blipFill>
        <p:spPr>
          <a:xfrm>
            <a:off x="3780000" y="43657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8" descr="Изображение 586"/>
          <p:cNvPicPr/>
          <p:nvPr/>
        </p:nvPicPr>
        <p:blipFill>
          <a:blip r:embed="rId3"/>
          <a:stretch/>
        </p:blipFill>
        <p:spPr>
          <a:xfrm>
            <a:off x="611280" y="4832280"/>
            <a:ext cx="2700360" cy="2025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3877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щекультурно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2700360" y="1413000"/>
            <a:ext cx="2879640" cy="1008000"/>
          </a:xfrm>
          <a:prstGeom prst="cloudCallout">
            <a:avLst>
              <a:gd name="adj1" fmla="val -8046"/>
              <a:gd name="adj2" fmla="val -7567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50920" y="3284640"/>
            <a:ext cx="1657080" cy="609480"/>
          </a:xfrm>
          <a:prstGeom prst="cloudCallout">
            <a:avLst>
              <a:gd name="adj1" fmla="val 125958"/>
              <a:gd name="adj2" fmla="val -17291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250920" y="4653000"/>
            <a:ext cx="1728720" cy="609480"/>
          </a:xfrm>
          <a:prstGeom prst="cloudCallout">
            <a:avLst>
              <a:gd name="adj1" fmla="val 100962"/>
              <a:gd name="adj2" fmla="val -25078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195640" y="3933720"/>
            <a:ext cx="2305080" cy="1008000"/>
          </a:xfrm>
          <a:prstGeom prst="cloudCallout">
            <a:avLst>
              <a:gd name="adj1" fmla="val 16944"/>
              <a:gd name="adj2" fmla="val -18527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3995640" y="2637000"/>
            <a:ext cx="2519640" cy="896760"/>
          </a:xfrm>
          <a:prstGeom prst="cloudCallout">
            <a:avLst>
              <a:gd name="adj1" fmla="val -40861"/>
              <a:gd name="adj2" fmla="val -6238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95280" y="1773360"/>
            <a:ext cx="1728720" cy="825480"/>
          </a:xfrm>
          <a:prstGeom prst="cloudCallout">
            <a:avLst>
              <a:gd name="adj1" fmla="val 94351"/>
              <a:gd name="adj2" fmla="val 1307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3566160" y="177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уж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614160" y="1989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Радуг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450720" y="33051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Декупаж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451080" y="47451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Квиллинг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2629800" y="4076640"/>
            <a:ext cx="16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атральна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уд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4430160" y="270828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Кружев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зоры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2" descr="волейбол"/>
          <p:cNvPicPr/>
          <p:nvPr/>
        </p:nvPicPr>
        <p:blipFill>
          <a:blip r:embed="rId1"/>
          <a:stretch/>
        </p:blipFill>
        <p:spPr>
          <a:xfrm>
            <a:off x="5580000" y="2421000"/>
            <a:ext cx="3276720" cy="290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MP900442227[1]"/>
          <p:cNvPicPr/>
          <p:nvPr/>
        </p:nvPicPr>
        <p:blipFill>
          <a:blip r:embed="rId2"/>
          <a:stretch/>
        </p:blipFill>
        <p:spPr>
          <a:xfrm>
            <a:off x="1908000" y="4613400"/>
            <a:ext cx="343404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ортивно-оздоровительно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24000" y="1844640"/>
            <a:ext cx="2592360" cy="969840"/>
          </a:xfrm>
          <a:prstGeom prst="cloudCallout">
            <a:avLst>
              <a:gd name="adj1" fmla="val 61819"/>
              <a:gd name="adj2" fmla="val -9795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539640" y="3284640"/>
            <a:ext cx="3311640" cy="1584360"/>
          </a:xfrm>
          <a:prstGeom prst="cloudCallout">
            <a:avLst>
              <a:gd name="adj1" fmla="val 47986"/>
              <a:gd name="adj2" fmla="val -17715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4572000" y="1916280"/>
            <a:ext cx="1706400" cy="969840"/>
          </a:xfrm>
          <a:prstGeom prst="cloudCallout">
            <a:avLst>
              <a:gd name="adj1" fmla="val -109722"/>
              <a:gd name="adj2" fmla="val -10073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1046880" y="35733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екци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аскетбол, дарт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стольный тенни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687240" y="19162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вижные игр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4768560" y="20080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н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доровь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824400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ализация ФГОС НОО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 ГП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Досуг- специальная форма воспитательной работы, включающая различные виды совместной деятельност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4" name="Picture 18" descr="MC900212117[1]"/>
          <p:cNvPicPr/>
          <p:nvPr/>
        </p:nvPicPr>
        <p:blipFill>
          <a:blip r:embed="rId1"/>
          <a:stretch/>
        </p:blipFill>
        <p:spPr>
          <a:xfrm>
            <a:off x="6156360" y="4653000"/>
            <a:ext cx="1508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ь досуговой деятельност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циализация, развитие коммуникатив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льтуры </a:t>
            </a:r>
            <a:r>
              <a:rPr b="0" lang="ru-RU" sz="2800" spc="-1" strike="noStrike" u="sng">
                <a:solidFill>
                  <a:srgbClr val="006699"/>
                </a:solidFill>
                <a:uFillTx/>
                <a:latin typeface="Verdana"/>
              </a:rPr>
              <a:t>каждог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Функции досуг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обучающ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развлекатель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релаксацион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развивающ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воспитывающ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коммуникатив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6" descr="57"/>
          <p:cNvPicPr/>
          <p:nvPr/>
        </p:nvPicPr>
        <p:blipFill>
          <a:blip r:embed="rId1"/>
          <a:stretch/>
        </p:blipFill>
        <p:spPr>
          <a:xfrm>
            <a:off x="4141800" y="3519360"/>
            <a:ext cx="5002200" cy="3338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ы досуговой деятельност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3203640" y="1700280"/>
            <a:ext cx="2520720" cy="1257120"/>
          </a:xfrm>
          <a:prstGeom prst="cloudCallout">
            <a:avLst>
              <a:gd name="adj1" fmla="val -24180"/>
              <a:gd name="adj2" fmla="val -77273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684360" y="1484280"/>
            <a:ext cx="2376360" cy="865080"/>
          </a:xfrm>
          <a:prstGeom prst="cloudCallout">
            <a:avLst>
              <a:gd name="adj1" fmla="val 62490"/>
              <a:gd name="adj2" fmla="val 669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2987640" y="4005360"/>
            <a:ext cx="2211480" cy="1079280"/>
          </a:xfrm>
          <a:prstGeom prst="cloudCallout">
            <a:avLst>
              <a:gd name="adj1" fmla="val 14106"/>
              <a:gd name="adj2" fmla="val -9397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AutoShape 8"/>
          <p:cNvSpPr/>
          <p:nvPr/>
        </p:nvSpPr>
        <p:spPr>
          <a:xfrm>
            <a:off x="0" y="2708280"/>
            <a:ext cx="3348000" cy="2233440"/>
          </a:xfrm>
          <a:prstGeom prst="cloudCallout">
            <a:avLst>
              <a:gd name="adj1" fmla="val 61523"/>
              <a:gd name="adj2" fmla="val -3365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6227640" y="2492280"/>
            <a:ext cx="1440000" cy="1114560"/>
          </a:xfrm>
          <a:prstGeom prst="cloudCallout">
            <a:avLst>
              <a:gd name="adj1" fmla="val -96305"/>
              <a:gd name="adj2" fmla="val -626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3566520" y="1773360"/>
            <a:ext cx="19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щеинтеллек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уаль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954720" y="15764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знаватель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539640" y="3284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теллектуа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луб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Что?Где?Когда?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3189600" y="4097160"/>
            <a:ext cx="17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мат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иктор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6589800" y="27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ВН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9" descr="DSCN0393"/>
          <p:cNvPicPr/>
          <p:nvPr/>
        </p:nvPicPr>
        <p:blipFill>
          <a:blip r:embed="rId1"/>
          <a:stretch/>
        </p:blipFill>
        <p:spPr>
          <a:xfrm>
            <a:off x="0" y="3573360"/>
            <a:ext cx="2016000" cy="1373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8" descr="Фото0331"/>
          <p:cNvPicPr/>
          <p:nvPr/>
        </p:nvPicPr>
        <p:blipFill>
          <a:blip r:embed="rId2"/>
          <a:stretch/>
        </p:blipFill>
        <p:spPr>
          <a:xfrm>
            <a:off x="2195640" y="45896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7" descr="40"/>
          <p:cNvPicPr/>
          <p:nvPr/>
        </p:nvPicPr>
        <p:blipFill>
          <a:blip r:embed="rId3"/>
          <a:stretch/>
        </p:blipFill>
        <p:spPr>
          <a:xfrm>
            <a:off x="6156360" y="444672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4"/>
          <p:cNvSpPr/>
          <p:nvPr/>
        </p:nvSpPr>
        <p:spPr>
          <a:xfrm>
            <a:off x="2627280" y="260280"/>
            <a:ext cx="3097080" cy="1224000"/>
          </a:xfrm>
          <a:prstGeom prst="cloudCallout">
            <a:avLst>
              <a:gd name="adj1" fmla="val 22680"/>
              <a:gd name="adj2" fmla="val -65953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6227640" y="1557360"/>
            <a:ext cx="2140200" cy="609480"/>
          </a:xfrm>
          <a:prstGeom prst="cloudCallout">
            <a:avLst>
              <a:gd name="adj1" fmla="val -109939"/>
              <a:gd name="adj2" fmla="val -8619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835280" y="3789360"/>
            <a:ext cx="3651120" cy="1079640"/>
          </a:xfrm>
          <a:prstGeom prst="cloudCallout">
            <a:avLst>
              <a:gd name="adj1" fmla="val 6347"/>
              <a:gd name="adj2" fmla="val -25043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539640" y="3141720"/>
            <a:ext cx="2232000" cy="574560"/>
          </a:xfrm>
          <a:prstGeom prst="cloudCallout">
            <a:avLst>
              <a:gd name="adj1" fmla="val 75675"/>
              <a:gd name="adj2" fmla="val -34199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1042920" y="1773360"/>
            <a:ext cx="1297080" cy="863640"/>
          </a:xfrm>
          <a:prstGeom prst="cloudCallout">
            <a:avLst>
              <a:gd name="adj1" fmla="val 82069"/>
              <a:gd name="adj2" fmla="val -9136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5724360" y="3429000"/>
            <a:ext cx="2448000" cy="1008000"/>
          </a:xfrm>
          <a:prstGeom prst="cloudCallout">
            <a:avLst>
              <a:gd name="adj1" fmla="val -96629"/>
              <a:gd name="adj2" fmla="val -23015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187080" y="423720"/>
            <a:ext cx="21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щекультур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1190160" y="19890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831960" y="321300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атрализац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2560680" y="39337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астие в конкурсах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тавка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6590520" y="162864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аздни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6301800" y="364500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нкурс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4" name="Picture 19" descr="DSCN0393"/>
          <p:cNvPicPr/>
          <p:nvPr/>
        </p:nvPicPr>
        <p:blipFill>
          <a:blip r:embed="rId4"/>
          <a:stretch/>
        </p:blipFill>
        <p:spPr>
          <a:xfrm>
            <a:off x="152280" y="3726000"/>
            <a:ext cx="20163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1" descr=""/>
          <p:cNvPicPr/>
          <p:nvPr/>
        </p:nvPicPr>
        <p:blipFill>
          <a:blip r:embed="rId1"/>
          <a:stretch/>
        </p:blipFill>
        <p:spPr>
          <a:xfrm>
            <a:off x="5649840" y="2852640"/>
            <a:ext cx="3494160" cy="2917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Фото0263"/>
          <p:cNvPicPr/>
          <p:nvPr/>
        </p:nvPicPr>
        <p:blipFill>
          <a:blip r:embed="rId2"/>
          <a:stretch/>
        </p:blipFill>
        <p:spPr>
          <a:xfrm>
            <a:off x="0" y="285264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771640" y="476280"/>
            <a:ext cx="3384720" cy="936720"/>
          </a:xfrm>
          <a:prstGeom prst="cloudCallout">
            <a:avLst>
              <a:gd name="adj1" fmla="val 7504"/>
              <a:gd name="adj2" fmla="val -7084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250920" y="1773360"/>
            <a:ext cx="2808360" cy="1224000"/>
          </a:xfrm>
          <a:prstGeom prst="cloudCallout">
            <a:avLst>
              <a:gd name="adj1" fmla="val 43444"/>
              <a:gd name="adj2" fmla="val -8462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6443640" y="1268280"/>
            <a:ext cx="1008000" cy="720720"/>
          </a:xfrm>
          <a:prstGeom prst="cloudCallout">
            <a:avLst>
              <a:gd name="adj1" fmla="val -157245"/>
              <a:gd name="adj2" fmla="val -3413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4211640" y="2781360"/>
            <a:ext cx="2376360" cy="609480"/>
          </a:xfrm>
          <a:prstGeom prst="cloudCallout">
            <a:avLst>
              <a:gd name="adj1" fmla="val -41986"/>
              <a:gd name="adj2" fmla="val -25911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637800" y="549360"/>
            <a:ext cx="16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циаль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542160" y="1916280"/>
            <a:ext cx="25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нят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 конструированию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4791600" y="285264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журств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6661080" y="1413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Т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AutoShape 4"/>
          <p:cNvSpPr/>
          <p:nvPr/>
        </p:nvSpPr>
        <p:spPr>
          <a:xfrm>
            <a:off x="1979640" y="981000"/>
            <a:ext cx="4537080" cy="1008000"/>
          </a:xfrm>
          <a:prstGeom prst="cloudCallout">
            <a:avLst>
              <a:gd name="adj1" fmla="val 10250"/>
              <a:gd name="adj2" fmla="val -118504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179280" y="3068640"/>
            <a:ext cx="2643120" cy="609480"/>
          </a:xfrm>
          <a:prstGeom prst="cloudCallout">
            <a:avLst>
              <a:gd name="adj1" fmla="val 39189"/>
              <a:gd name="adj2" fmla="val -21953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3348000" y="2924280"/>
            <a:ext cx="2232000" cy="1368360"/>
          </a:xfrm>
          <a:prstGeom prst="cloudCallout">
            <a:avLst>
              <a:gd name="adj1" fmla="val -32078"/>
              <a:gd name="adj2" fmla="val -101624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775240" y="112536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уховно-нравствен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542520" y="31417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левые игр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3691800" y="31608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5651640" y="2708280"/>
            <a:ext cx="2592360" cy="609480"/>
          </a:xfrm>
          <a:prstGeom prst="cloudCallout">
            <a:avLst>
              <a:gd name="adj1" fmla="val -61939"/>
              <a:gd name="adj2" fmla="val -15494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6232320" y="27813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скусс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3" name="Picture 14" descr="Click to enlarge image dsc00802.jpg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Click to enlarge image dsc00802.jpg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8" descr="69"/>
          <p:cNvPicPr/>
          <p:nvPr/>
        </p:nvPicPr>
        <p:blipFill>
          <a:blip r:embed="rId3"/>
          <a:stretch/>
        </p:blipFill>
        <p:spPr>
          <a:xfrm>
            <a:off x="0" y="4167360"/>
            <a:ext cx="3587760" cy="2690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2" descr="P1050682-1"/>
          <p:cNvPicPr/>
          <p:nvPr/>
        </p:nvPicPr>
        <p:blipFill>
          <a:blip r:embed="rId4"/>
          <a:stretch/>
        </p:blipFill>
        <p:spPr>
          <a:xfrm>
            <a:off x="5580000" y="349092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2" descr="P1050682-1"/>
          <p:cNvPicPr/>
          <p:nvPr/>
        </p:nvPicPr>
        <p:blipFill>
          <a:blip r:embed="rId5"/>
          <a:stretch/>
        </p:blipFill>
        <p:spPr>
          <a:xfrm>
            <a:off x="5732640" y="3643200"/>
            <a:ext cx="316836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5" descr=""/>
          <p:cNvPicPr/>
          <p:nvPr/>
        </p:nvPicPr>
        <p:blipFill>
          <a:blip r:embed="rId1"/>
          <a:stretch/>
        </p:blipFill>
        <p:spPr>
          <a:xfrm>
            <a:off x="0" y="3933720"/>
            <a:ext cx="3024360" cy="2611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9" descr="P1050664-1"/>
          <p:cNvPicPr/>
          <p:nvPr/>
        </p:nvPicPr>
        <p:blipFill>
          <a:blip r:embed="rId2"/>
          <a:stretch/>
        </p:blipFill>
        <p:spPr>
          <a:xfrm>
            <a:off x="6227640" y="1881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4"/>
          <p:cNvSpPr/>
          <p:nvPr/>
        </p:nvSpPr>
        <p:spPr>
          <a:xfrm>
            <a:off x="2124000" y="981000"/>
            <a:ext cx="4535640" cy="936720"/>
          </a:xfrm>
          <a:prstGeom prst="cloudCallout">
            <a:avLst>
              <a:gd name="adj1" fmla="val 5967"/>
              <a:gd name="adj2" fmla="val -141865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468360" y="2133720"/>
            <a:ext cx="1993680" cy="609480"/>
          </a:xfrm>
          <a:prstGeom prst="cloudCallout">
            <a:avLst>
              <a:gd name="adj1" fmla="val 67513"/>
              <a:gd name="adj2" fmla="val -9244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79280" y="3500280"/>
            <a:ext cx="1943280" cy="754200"/>
          </a:xfrm>
          <a:prstGeom prst="cloudCallout">
            <a:avLst>
              <a:gd name="adj1" fmla="val 105884"/>
              <a:gd name="adj2" fmla="val -2588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2846520" y="1052640"/>
            <a:ext cx="35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портивно-оздоровитель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пр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664920" y="22240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гул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53964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се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 ЗОЖ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2198520" y="443700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портив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осуг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7" name="Picture 16" descr="Фото0312"/>
          <p:cNvPicPr/>
          <p:nvPr/>
        </p:nvPicPr>
        <p:blipFill>
          <a:blip r:embed="rId3"/>
          <a:stretch/>
        </p:blipFill>
        <p:spPr>
          <a:xfrm>
            <a:off x="2916360" y="4581360"/>
            <a:ext cx="2593800" cy="194652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9"/>
          <p:cNvSpPr/>
          <p:nvPr/>
        </p:nvSpPr>
        <p:spPr>
          <a:xfrm>
            <a:off x="2340000" y="4076640"/>
            <a:ext cx="2498760" cy="1008000"/>
          </a:xfrm>
          <a:prstGeom prst="cloudCallout">
            <a:avLst>
              <a:gd name="adj1" fmla="val 36532"/>
              <a:gd name="adj2" fmla="val -25582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2835720" y="42210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портив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досуг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5292720" y="3573360"/>
            <a:ext cx="2951280" cy="1152720"/>
          </a:xfrm>
          <a:prstGeom prst="cloudCallout">
            <a:avLst>
              <a:gd name="adj1" fmla="val -59412"/>
              <a:gd name="adj2" fmla="val -18484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5798880" y="3645000"/>
            <a:ext cx="22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вижные игр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инам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ауз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неурочная деятельност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отъемлемая часть образовательного процесса в школ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пособствует в полной мере реализации требований федеральных образовательных стандартов общего образ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еимущества: предоставление учащимся возможности широкого спектра занятий, направленных на развитие школьн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-  Наполнение конкретным содержанием данного раздела находится в компетенции образовательного учрежде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жидаемый результа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1уров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обретение социальных зн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2 урове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ормирование ценностног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ношения к социальной реаль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3 уровень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лучение опыта самостоятельного общественного действ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Духовная жизнь ребёнка полноценна лишь тогда, когда он живёт в мире игры, сказки, музыки, фантазии, творчест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ез этого он- засушенный цветок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.А. Сухомлин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5" name="Picture 5" descr="MC900438253[1]"/>
          <p:cNvPicPr/>
          <p:nvPr/>
        </p:nvPicPr>
        <p:blipFill>
          <a:blip r:embed="rId1"/>
          <a:stretch/>
        </p:blipFill>
        <p:spPr>
          <a:xfrm>
            <a:off x="7164360" y="0"/>
            <a:ext cx="1720800" cy="1797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439072[1]"/>
          <p:cNvPicPr/>
          <p:nvPr/>
        </p:nvPicPr>
        <p:blipFill>
          <a:blip r:embed="rId2"/>
          <a:stretch/>
        </p:blipFill>
        <p:spPr>
          <a:xfrm>
            <a:off x="2195640" y="5373720"/>
            <a:ext cx="365760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езентацию подготови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питатель группы продленного дня    ГБОУ школа № 30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ютюнник Елена Ивано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                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рт 2013 г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9152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ь внеурочной деятельности:</a:t>
            </a:r>
            <a:br>
              <a:rPr sz="4400"/>
            </a:br>
            <a:br>
              <a:rPr sz="2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оздание условий для проявления и развития ребёнком своих интересов на основе свободного выбора, постижения духовно- нравственных ценностей и культурных традиций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7520" y="1600200"/>
            <a:ext cx="6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1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правления развития лич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уховно-нравствен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ци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щеинтеллекту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щекультур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портивно- оздоровите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Оптимизационная модель внеурочной деятельности ГБОУ школа №302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та модель внеурочной деятельности построена на основе оптимизации всех внутренних ресурсов образовательного учрежд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loud"/>
          <p:cNvSpPr/>
          <p:nvPr/>
        </p:nvSpPr>
        <p:spPr>
          <a:xfrm>
            <a:off x="3635280" y="1341360"/>
            <a:ext cx="1155960" cy="774720"/>
          </a:xfrm>
          <a:custGeom>
            <a:avLst/>
            <a:gdLst>
              <a:gd name="textAreaLeft" fmla="*/ 159120 w 1155960"/>
              <a:gd name="textAreaRight" fmla="*/ 914400 w 1155960"/>
              <a:gd name="textAreaTop" fmla="*/ 117000 h 774720"/>
              <a:gd name="textAreaBottom" fmla="*/ 622080 h 774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Cloud"/>
          <p:cNvSpPr/>
          <p:nvPr/>
        </p:nvSpPr>
        <p:spPr>
          <a:xfrm>
            <a:off x="4788000" y="1557360"/>
            <a:ext cx="1731960" cy="414360"/>
          </a:xfrm>
          <a:custGeom>
            <a:avLst/>
            <a:gdLst>
              <a:gd name="textAreaLeft" fmla="*/ 238680 w 1731960"/>
              <a:gd name="textAreaRight" fmla="*/ 1370160 w 1731960"/>
              <a:gd name="textAreaTop" fmla="*/ 62280 h 414360"/>
              <a:gd name="textAreaBottom" fmla="*/ 332640 h 414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Cloud"/>
          <p:cNvSpPr/>
          <p:nvPr/>
        </p:nvSpPr>
        <p:spPr>
          <a:xfrm>
            <a:off x="5003640" y="905040"/>
            <a:ext cx="1656000" cy="587160"/>
          </a:xfrm>
          <a:custGeom>
            <a:avLst/>
            <a:gdLst>
              <a:gd name="textAreaLeft" fmla="*/ 228240 w 1656000"/>
              <a:gd name="textAreaRight" fmla="*/ 1310040 w 1656000"/>
              <a:gd name="textAreaTop" fmla="*/ 88560 h 587160"/>
              <a:gd name="textAreaBottom" fmla="*/ 471240 h 587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Cloud"/>
          <p:cNvSpPr/>
          <p:nvPr/>
        </p:nvSpPr>
        <p:spPr>
          <a:xfrm>
            <a:off x="4859280" y="260280"/>
            <a:ext cx="2017800" cy="647640"/>
          </a:xfrm>
          <a:custGeom>
            <a:avLst/>
            <a:gdLst>
              <a:gd name="textAreaLeft" fmla="*/ 277920 w 2017800"/>
              <a:gd name="textAreaRight" fmla="*/ 1596240 w 2017800"/>
              <a:gd name="textAreaTop" fmla="*/ 97560 h 647640"/>
              <a:gd name="textAreaBottom" fmla="*/ 519840 h 647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Cloud"/>
          <p:cNvSpPr/>
          <p:nvPr/>
        </p:nvSpPr>
        <p:spPr>
          <a:xfrm>
            <a:off x="2556000" y="765000"/>
            <a:ext cx="1944720" cy="70200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105840 h 702000"/>
              <a:gd name="textAreaBottom" fmla="*/ 563400 h 702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Cloud"/>
          <p:cNvSpPr/>
          <p:nvPr/>
        </p:nvSpPr>
        <p:spPr>
          <a:xfrm>
            <a:off x="3851280" y="189000"/>
            <a:ext cx="1155600" cy="585720"/>
          </a:xfrm>
          <a:custGeom>
            <a:avLst/>
            <a:gdLst>
              <a:gd name="textAreaLeft" fmla="*/ 159120 w 1155600"/>
              <a:gd name="textAreaRight" fmla="*/ 914400 w 1155600"/>
              <a:gd name="textAreaTop" fmla="*/ 88200 h 585720"/>
              <a:gd name="textAreaBottom" fmla="*/ 470160 h 585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Cloud"/>
          <p:cNvSpPr/>
          <p:nvPr/>
        </p:nvSpPr>
        <p:spPr>
          <a:xfrm>
            <a:off x="2050920" y="1557360"/>
            <a:ext cx="1516320" cy="631800"/>
          </a:xfrm>
          <a:custGeom>
            <a:avLst/>
            <a:gdLst>
              <a:gd name="textAreaLeft" fmla="*/ 208800 w 1516320"/>
              <a:gd name="textAreaRight" fmla="*/ 1199520 w 1516320"/>
              <a:gd name="textAreaTop" fmla="*/ 95400 h 631800"/>
              <a:gd name="textAreaBottom" fmla="*/ 507240 h 631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Cloud"/>
          <p:cNvSpPr/>
          <p:nvPr/>
        </p:nvSpPr>
        <p:spPr>
          <a:xfrm>
            <a:off x="1476360" y="1125360"/>
            <a:ext cx="939960" cy="632160"/>
          </a:xfrm>
          <a:custGeom>
            <a:avLst/>
            <a:gdLst>
              <a:gd name="textAreaLeft" fmla="*/ 129240 w 939960"/>
              <a:gd name="textAreaRight" fmla="*/ 743760 w 939960"/>
              <a:gd name="textAreaTop" fmla="*/ 95400 h 632160"/>
              <a:gd name="textAreaBottom" fmla="*/ 507600 h 632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11280" y="1341360"/>
            <a:ext cx="1011240" cy="582840"/>
          </a:xfrm>
          <a:custGeom>
            <a:avLst/>
            <a:gdLst>
              <a:gd name="textAreaLeft" fmla="*/ 139320 w 1011240"/>
              <a:gd name="textAreaRight" fmla="*/ 799920 w 1011240"/>
              <a:gd name="textAreaTop" fmla="*/ 87840 h 582840"/>
              <a:gd name="textAreaBottom" fmla="*/ 468000 h 5828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Cloud"/>
          <p:cNvSpPr/>
          <p:nvPr/>
        </p:nvSpPr>
        <p:spPr>
          <a:xfrm>
            <a:off x="468360" y="1916280"/>
            <a:ext cx="1227240" cy="487080"/>
          </a:xfrm>
          <a:custGeom>
            <a:avLst/>
            <a:gdLst>
              <a:gd name="textAreaLeft" fmla="*/ 168840 w 1227240"/>
              <a:gd name="textAreaRight" fmla="*/ 970920 w 1227240"/>
              <a:gd name="textAreaTop" fmla="*/ 73440 h 487080"/>
              <a:gd name="textAreaBottom" fmla="*/ 390960 h 487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Cloud"/>
          <p:cNvSpPr/>
          <p:nvPr/>
        </p:nvSpPr>
        <p:spPr>
          <a:xfrm>
            <a:off x="0" y="2421000"/>
            <a:ext cx="1476360" cy="703080"/>
          </a:xfrm>
          <a:custGeom>
            <a:avLst/>
            <a:gdLst>
              <a:gd name="textAreaLeft" fmla="*/ 203400 w 1476360"/>
              <a:gd name="textAreaRight" fmla="*/ 1167840 w 1476360"/>
              <a:gd name="textAreaTop" fmla="*/ 106200 h 703080"/>
              <a:gd name="textAreaBottom" fmla="*/ 564480 h 70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Cloud"/>
          <p:cNvSpPr/>
          <p:nvPr/>
        </p:nvSpPr>
        <p:spPr>
          <a:xfrm>
            <a:off x="0" y="2924280"/>
            <a:ext cx="1619280" cy="847800"/>
          </a:xfrm>
          <a:custGeom>
            <a:avLst/>
            <a:gdLst>
              <a:gd name="textAreaLeft" fmla="*/ 223200 w 1619280"/>
              <a:gd name="textAreaRight" fmla="*/ 1281240 w 1619280"/>
              <a:gd name="textAreaTop" fmla="*/ 127800 h 847800"/>
              <a:gd name="textAreaBottom" fmla="*/ 680760 h 847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Cloud"/>
          <p:cNvSpPr/>
          <p:nvPr/>
        </p:nvSpPr>
        <p:spPr>
          <a:xfrm>
            <a:off x="1403280" y="3213000"/>
            <a:ext cx="939960" cy="630360"/>
          </a:xfrm>
          <a:custGeom>
            <a:avLst/>
            <a:gdLst>
              <a:gd name="textAreaLeft" fmla="*/ 129240 w 939960"/>
              <a:gd name="textAreaRight" fmla="*/ 743760 w 939960"/>
              <a:gd name="textAreaTop" fmla="*/ 95040 h 630360"/>
              <a:gd name="textAreaBottom" fmla="*/ 506160 h 63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Cloud"/>
          <p:cNvSpPr/>
          <p:nvPr/>
        </p:nvSpPr>
        <p:spPr>
          <a:xfrm>
            <a:off x="250920" y="4365720"/>
            <a:ext cx="1407960" cy="679320"/>
          </a:xfrm>
          <a:custGeom>
            <a:avLst/>
            <a:gdLst>
              <a:gd name="textAreaLeft" fmla="*/ 194040 w 1407960"/>
              <a:gd name="textAreaRight" fmla="*/ 1113840 w 1407960"/>
              <a:gd name="textAreaTop" fmla="*/ 102600 h 679320"/>
              <a:gd name="textAreaBottom" fmla="*/ 545400 h 679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Cloud"/>
          <p:cNvSpPr/>
          <p:nvPr/>
        </p:nvSpPr>
        <p:spPr>
          <a:xfrm>
            <a:off x="250920" y="5229360"/>
            <a:ext cx="1155600" cy="558720"/>
          </a:xfrm>
          <a:custGeom>
            <a:avLst/>
            <a:gdLst>
              <a:gd name="textAreaLeft" fmla="*/ 159120 w 1155600"/>
              <a:gd name="textAreaRight" fmla="*/ 914400 w 1155600"/>
              <a:gd name="textAreaTop" fmla="*/ 84240 h 558720"/>
              <a:gd name="textAreaBottom" fmla="*/ 448560 h 558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Cloud"/>
          <p:cNvSpPr/>
          <p:nvPr/>
        </p:nvSpPr>
        <p:spPr>
          <a:xfrm>
            <a:off x="539640" y="5734080"/>
            <a:ext cx="1660680" cy="719280"/>
          </a:xfrm>
          <a:custGeom>
            <a:avLst/>
            <a:gdLst>
              <a:gd name="textAreaLeft" fmla="*/ 228600 w 1660680"/>
              <a:gd name="textAreaRight" fmla="*/ 1313640 w 1660680"/>
              <a:gd name="textAreaTop" fmla="*/ 108360 h 719280"/>
              <a:gd name="textAreaBottom" fmla="*/ 577440 h 719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Cloud"/>
          <p:cNvSpPr/>
          <p:nvPr/>
        </p:nvSpPr>
        <p:spPr>
          <a:xfrm>
            <a:off x="2050920" y="5229360"/>
            <a:ext cx="1516320" cy="863640"/>
          </a:xfrm>
          <a:custGeom>
            <a:avLst/>
            <a:gdLst>
              <a:gd name="textAreaLeft" fmla="*/ 208800 w 1516320"/>
              <a:gd name="textAreaRight" fmla="*/ 1199520 w 1516320"/>
              <a:gd name="textAreaTop" fmla="*/ 130320 h 863640"/>
              <a:gd name="textAreaBottom" fmla="*/ 693360 h 863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Cloud"/>
          <p:cNvSpPr/>
          <p:nvPr/>
        </p:nvSpPr>
        <p:spPr>
          <a:xfrm>
            <a:off x="3995640" y="4941720"/>
            <a:ext cx="1947960" cy="1089360"/>
          </a:xfrm>
          <a:custGeom>
            <a:avLst/>
            <a:gdLst>
              <a:gd name="textAreaLeft" fmla="*/ 268200 w 1947960"/>
              <a:gd name="textAreaRight" fmla="*/ 1541160 w 1947960"/>
              <a:gd name="textAreaTop" fmla="*/ 164520 h 1089360"/>
              <a:gd name="textAreaBottom" fmla="*/ 874440 h 1089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Cloud"/>
          <p:cNvSpPr/>
          <p:nvPr/>
        </p:nvSpPr>
        <p:spPr>
          <a:xfrm>
            <a:off x="4427640" y="6093000"/>
            <a:ext cx="1947600" cy="504720"/>
          </a:xfrm>
          <a:custGeom>
            <a:avLst/>
            <a:gdLst>
              <a:gd name="textAreaLeft" fmla="*/ 268200 w 1947600"/>
              <a:gd name="textAreaRight" fmla="*/ 1540800 w 1947600"/>
              <a:gd name="textAreaTop" fmla="*/ 75960 h 504720"/>
              <a:gd name="textAreaBottom" fmla="*/ 405360 h 504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Cloud"/>
          <p:cNvSpPr/>
          <p:nvPr/>
        </p:nvSpPr>
        <p:spPr>
          <a:xfrm>
            <a:off x="6443640" y="5734080"/>
            <a:ext cx="1731960" cy="790560"/>
          </a:xfrm>
          <a:custGeom>
            <a:avLst/>
            <a:gdLst>
              <a:gd name="textAreaLeft" fmla="*/ 238680 w 1731960"/>
              <a:gd name="textAreaRight" fmla="*/ 1370160 w 1731960"/>
              <a:gd name="textAreaTop" fmla="*/ 119160 h 790560"/>
              <a:gd name="textAreaBottom" fmla="*/ 634680 h 790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Cloud"/>
          <p:cNvSpPr/>
          <p:nvPr/>
        </p:nvSpPr>
        <p:spPr>
          <a:xfrm>
            <a:off x="7485120" y="4941720"/>
            <a:ext cx="1658880" cy="1038240"/>
          </a:xfrm>
          <a:custGeom>
            <a:avLst/>
            <a:gdLst>
              <a:gd name="textAreaLeft" fmla="*/ 228600 w 1658880"/>
              <a:gd name="textAreaRight" fmla="*/ 1312560 w 1658880"/>
              <a:gd name="textAreaTop" fmla="*/ 156600 h 1038240"/>
              <a:gd name="textAreaBottom" fmla="*/ 833400 h 10382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Cloud"/>
          <p:cNvSpPr/>
          <p:nvPr/>
        </p:nvSpPr>
        <p:spPr>
          <a:xfrm>
            <a:off x="7164360" y="3716280"/>
            <a:ext cx="1803600" cy="1065240"/>
          </a:xfrm>
          <a:custGeom>
            <a:avLst/>
            <a:gdLst>
              <a:gd name="textAreaLeft" fmla="*/ 248400 w 1803600"/>
              <a:gd name="textAreaRight" fmla="*/ 1427040 w 1803600"/>
              <a:gd name="textAreaTop" fmla="*/ 160920 h 1065240"/>
              <a:gd name="textAreaBottom" fmla="*/ 855000 h 10652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66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Cloud"/>
          <p:cNvSpPr/>
          <p:nvPr/>
        </p:nvSpPr>
        <p:spPr>
          <a:xfrm>
            <a:off x="7956720" y="2781360"/>
            <a:ext cx="936360" cy="628560"/>
          </a:xfrm>
          <a:custGeom>
            <a:avLst/>
            <a:gdLst>
              <a:gd name="textAreaLeft" fmla="*/ 128880 w 936360"/>
              <a:gd name="textAreaRight" fmla="*/ 740880 w 936360"/>
              <a:gd name="textAreaTop" fmla="*/ 94680 h 628560"/>
              <a:gd name="textAreaBottom" fmla="*/ 504720 h 628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Cloud"/>
          <p:cNvSpPr/>
          <p:nvPr/>
        </p:nvSpPr>
        <p:spPr>
          <a:xfrm>
            <a:off x="7885080" y="1844640"/>
            <a:ext cx="1011240" cy="677880"/>
          </a:xfrm>
          <a:custGeom>
            <a:avLst/>
            <a:gdLst>
              <a:gd name="textAreaLeft" fmla="*/ 139320 w 1011240"/>
              <a:gd name="textAreaRight" fmla="*/ 799920 w 1011240"/>
              <a:gd name="textAreaTop" fmla="*/ 102240 h 677880"/>
              <a:gd name="textAreaBottom" fmla="*/ 544320 h 677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Cloud"/>
          <p:cNvSpPr/>
          <p:nvPr/>
        </p:nvSpPr>
        <p:spPr>
          <a:xfrm flipH="1">
            <a:off x="7740720" y="907920"/>
            <a:ext cx="1224000" cy="819360"/>
          </a:xfrm>
          <a:custGeom>
            <a:avLst/>
            <a:gdLst>
              <a:gd name="textAreaLeft" fmla="*/ 168480 w 1224000"/>
              <a:gd name="textAreaRight" fmla="*/ 968400 w 1224000"/>
              <a:gd name="textAreaTop" fmla="*/ 123480 h 819360"/>
              <a:gd name="textAreaBottom" fmla="*/ 657720 h 819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Cloud"/>
          <p:cNvSpPr/>
          <p:nvPr/>
        </p:nvSpPr>
        <p:spPr>
          <a:xfrm>
            <a:off x="6516720" y="1197000"/>
            <a:ext cx="1295280" cy="868320"/>
          </a:xfrm>
          <a:custGeom>
            <a:avLst/>
            <a:gdLst>
              <a:gd name="textAreaLeft" fmla="*/ 178560 w 1295280"/>
              <a:gd name="textAreaRight" fmla="*/ 1024920 w 1295280"/>
              <a:gd name="textAreaTop" fmla="*/ 131040 h 868320"/>
              <a:gd name="textAreaBottom" fmla="*/ 696960 h 868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76720" y="2997360"/>
            <a:ext cx="288108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птимизационна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одель ГБОУ           школа № 302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679840" y="330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449960" y="2230560"/>
            <a:ext cx="90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адр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719000" y="2349360"/>
            <a:ext cx="1604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циаль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тнерств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07760" y="2301840"/>
            <a:ext cx="1660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т.-техн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беспеч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81620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870560" y="4076640"/>
            <a:ext cx="19058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рмативно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авов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регулирова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393880" y="4076640"/>
            <a:ext cx="1726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правл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неурочн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еятельност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399800" y="3933720"/>
            <a:ext cx="141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Духовно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нравствен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667640" y="50846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Обще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культур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659640" y="5877000"/>
            <a:ext cx="228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Общеинтел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лектуаль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4810680" y="6165720"/>
            <a:ext cx="13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Социально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4160160" y="5157720"/>
            <a:ext cx="173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Спортивно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9900"/>
                </a:solidFill>
                <a:latin typeface="Verdana"/>
              </a:rPr>
              <a:t>оздоровитель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879480" y="5583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356560" y="544500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Концепци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ДН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552240" y="5373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ФГОС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684360" y="5805360"/>
            <a:ext cx="137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Закон об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образовани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340560" y="4437000"/>
            <a:ext cx="1172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Локальны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акт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1639800" y="3357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ГДТ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808200" y="29908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215280" y="3141720"/>
            <a:ext cx="121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Библиоте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«Славянка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39960" y="256536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Русский музе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623880" y="2060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Эрмитаж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765360" y="148428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ДЮСШ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2282400" y="1700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Лектор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36"/>
          <p:cNvSpPr/>
          <p:nvPr/>
        </p:nvSpPr>
        <p:spPr>
          <a:xfrm>
            <a:off x="1634400" y="1268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ДДЮ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3863160" y="141300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Учител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Нач.кл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38"/>
          <p:cNvSpPr/>
          <p:nvPr/>
        </p:nvSpPr>
        <p:spPr>
          <a:xfrm>
            <a:off x="2791440" y="83664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Школьны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библиотекар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3924360" y="26028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Педагог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Д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5148360" y="33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Учителя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предметник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41"/>
          <p:cNvSpPr/>
          <p:nvPr/>
        </p:nvSpPr>
        <p:spPr>
          <a:xfrm>
            <a:off x="5200920" y="907920"/>
            <a:ext cx="13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Социально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псих. служб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5027400" y="1557360"/>
            <a:ext cx="13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Verdana"/>
              </a:rPr>
              <a:t>Воспитател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Text Box 43"/>
          <p:cNvSpPr/>
          <p:nvPr/>
        </p:nvSpPr>
        <p:spPr>
          <a:xfrm>
            <a:off x="6752160" y="1341360"/>
            <a:ext cx="8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Р.М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учител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Text Box 44"/>
          <p:cNvSpPr/>
          <p:nvPr/>
        </p:nvSpPr>
        <p:spPr>
          <a:xfrm>
            <a:off x="7830720" y="1052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Спорт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площад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Text Box 45"/>
          <p:cNvSpPr/>
          <p:nvPr/>
        </p:nvSpPr>
        <p:spPr>
          <a:xfrm>
            <a:off x="8038080" y="1916280"/>
            <a:ext cx="7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Спор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за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7981200" y="285264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Библио-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3333cc"/>
                </a:solidFill>
                <a:latin typeface="Verdana"/>
              </a:rPr>
              <a:t>те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74"/>
          <p:cNvSpPr/>
          <p:nvPr/>
        </p:nvSpPr>
        <p:spPr>
          <a:xfrm flipV="1">
            <a:off x="4788000" y="2491920"/>
            <a:ext cx="0" cy="505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75"/>
          <p:cNvSpPr/>
          <p:nvPr/>
        </p:nvSpPr>
        <p:spPr>
          <a:xfrm flipV="1">
            <a:off x="6156360" y="2923920"/>
            <a:ext cx="720720" cy="73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77"/>
          <p:cNvSpPr/>
          <p:nvPr/>
        </p:nvSpPr>
        <p:spPr>
          <a:xfrm flipH="1" flipV="1">
            <a:off x="2627280" y="2923920"/>
            <a:ext cx="649440" cy="73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8"/>
          <p:cNvSpPr/>
          <p:nvPr/>
        </p:nvSpPr>
        <p:spPr>
          <a:xfrm flipH="1">
            <a:off x="3564000" y="4076640"/>
            <a:ext cx="574560" cy="3589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79"/>
          <p:cNvSpPr/>
          <p:nvPr/>
        </p:nvSpPr>
        <p:spPr>
          <a:xfrm>
            <a:off x="5003640" y="4076640"/>
            <a:ext cx="432000" cy="289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Line 80"/>
          <p:cNvSpPr/>
          <p:nvPr/>
        </p:nvSpPr>
        <p:spPr>
          <a:xfrm>
            <a:off x="7812000" y="2781360"/>
            <a:ext cx="289080" cy="71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81"/>
          <p:cNvSpPr/>
          <p:nvPr/>
        </p:nvSpPr>
        <p:spPr>
          <a:xfrm flipV="1">
            <a:off x="7596360" y="2349000"/>
            <a:ext cx="360360" cy="142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82"/>
          <p:cNvSpPr/>
          <p:nvPr/>
        </p:nvSpPr>
        <p:spPr>
          <a:xfrm flipV="1">
            <a:off x="7524720" y="1915920"/>
            <a:ext cx="360360" cy="36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83"/>
          <p:cNvSpPr/>
          <p:nvPr/>
        </p:nvSpPr>
        <p:spPr>
          <a:xfrm flipV="1">
            <a:off x="7020000" y="2133720"/>
            <a:ext cx="73080" cy="287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84"/>
          <p:cNvSpPr/>
          <p:nvPr/>
        </p:nvSpPr>
        <p:spPr>
          <a:xfrm>
            <a:off x="7020000" y="4581360"/>
            <a:ext cx="288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85"/>
          <p:cNvSpPr/>
          <p:nvPr/>
        </p:nvSpPr>
        <p:spPr>
          <a:xfrm>
            <a:off x="7164360" y="4941720"/>
            <a:ext cx="36036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86"/>
          <p:cNvSpPr/>
          <p:nvPr/>
        </p:nvSpPr>
        <p:spPr>
          <a:xfrm>
            <a:off x="6659640" y="5084640"/>
            <a:ext cx="504720" cy="576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87"/>
          <p:cNvSpPr/>
          <p:nvPr/>
        </p:nvSpPr>
        <p:spPr>
          <a:xfrm flipH="1">
            <a:off x="6011640" y="5157720"/>
            <a:ext cx="360360" cy="719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88"/>
          <p:cNvSpPr/>
          <p:nvPr/>
        </p:nvSpPr>
        <p:spPr>
          <a:xfrm flipH="1">
            <a:off x="5940360" y="5013360"/>
            <a:ext cx="216000" cy="14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89"/>
          <p:cNvSpPr/>
          <p:nvPr/>
        </p:nvSpPr>
        <p:spPr>
          <a:xfrm>
            <a:off x="2700360" y="4941720"/>
            <a:ext cx="142920" cy="287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90"/>
          <p:cNvSpPr/>
          <p:nvPr/>
        </p:nvSpPr>
        <p:spPr>
          <a:xfrm flipH="1">
            <a:off x="1763640" y="5084640"/>
            <a:ext cx="504720" cy="505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Line 92"/>
          <p:cNvSpPr/>
          <p:nvPr/>
        </p:nvSpPr>
        <p:spPr>
          <a:xfrm flipH="1">
            <a:off x="1763280" y="4724280"/>
            <a:ext cx="144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Line 93"/>
          <p:cNvSpPr/>
          <p:nvPr/>
        </p:nvSpPr>
        <p:spPr>
          <a:xfrm flipH="1">
            <a:off x="1403280" y="4941720"/>
            <a:ext cx="504720" cy="358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0" descr="IMG_8496экокруг"/>
          <p:cNvPicPr/>
          <p:nvPr/>
        </p:nvPicPr>
        <p:blipFill>
          <a:blip r:embed="rId1"/>
          <a:stretch/>
        </p:blipFill>
        <p:spPr>
          <a:xfrm>
            <a:off x="5003640" y="2241720"/>
            <a:ext cx="4140360" cy="3105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Направления внеурочной деятельност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уховно- нравствен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AutoShape 33"/>
          <p:cNvSpPr/>
          <p:nvPr/>
        </p:nvSpPr>
        <p:spPr>
          <a:xfrm>
            <a:off x="4067280" y="3789360"/>
            <a:ext cx="1944720" cy="1368360"/>
          </a:xfrm>
          <a:prstGeom prst="cloudCallout">
            <a:avLst>
              <a:gd name="adj1" fmla="val -69916"/>
              <a:gd name="adj2" fmla="val -152435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AutoShape 34"/>
          <p:cNvSpPr/>
          <p:nvPr/>
        </p:nvSpPr>
        <p:spPr>
          <a:xfrm>
            <a:off x="1116000" y="4292640"/>
            <a:ext cx="2592360" cy="1800360"/>
          </a:xfrm>
          <a:prstGeom prst="cloudCallout">
            <a:avLst>
              <a:gd name="adj1" fmla="val 15217"/>
              <a:gd name="adj2" fmla="val -1668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35"/>
          <p:cNvSpPr/>
          <p:nvPr/>
        </p:nvSpPr>
        <p:spPr>
          <a:xfrm>
            <a:off x="250920" y="2781360"/>
            <a:ext cx="2449440" cy="1439640"/>
          </a:xfrm>
          <a:prstGeom prst="cloudCallout">
            <a:avLst>
              <a:gd name="adj1" fmla="val 41574"/>
              <a:gd name="adj2" fmla="val -8329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4192560" y="402444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ужо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Экосред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1407600" y="4724280"/>
            <a:ext cx="206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отрудничеств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 библиотек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Славянк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666360" y="2873520"/>
            <a:ext cx="20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Я-гражданин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ссии» 1-11 к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4" descr="17"/>
          <p:cNvPicPr/>
          <p:nvPr/>
        </p:nvPicPr>
        <p:blipFill>
          <a:blip r:embed="rId1"/>
          <a:stretch/>
        </p:blipFill>
        <p:spPr>
          <a:xfrm>
            <a:off x="5508720" y="2705040"/>
            <a:ext cx="3114720" cy="4152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IMAG1724"/>
          <p:cNvPicPr/>
          <p:nvPr/>
        </p:nvPicPr>
        <p:blipFill>
          <a:blip r:embed="rId2"/>
          <a:stretch/>
        </p:blipFill>
        <p:spPr>
          <a:xfrm>
            <a:off x="0" y="4334040"/>
            <a:ext cx="3365640" cy="2523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оциально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684360" y="1844640"/>
            <a:ext cx="1779480" cy="1114560"/>
          </a:xfrm>
          <a:prstGeom prst="cloudCallout">
            <a:avLst>
              <a:gd name="adj1" fmla="val 120296"/>
              <a:gd name="adj2" fmla="val -108833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539640" y="3716280"/>
            <a:ext cx="2016360" cy="1152720"/>
          </a:xfrm>
          <a:prstGeom prst="cloudCallout">
            <a:avLst>
              <a:gd name="adj1" fmla="val 112439"/>
              <a:gd name="adj2" fmla="val -19283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2987640" y="3645000"/>
            <a:ext cx="1851120" cy="1041480"/>
          </a:xfrm>
          <a:prstGeom prst="cloudCallout">
            <a:avLst>
              <a:gd name="adj1" fmla="val -12092"/>
              <a:gd name="adj2" fmla="val -17728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4284720" y="2205000"/>
            <a:ext cx="1655640" cy="1041480"/>
          </a:xfrm>
          <a:prstGeom prst="cloudCallout">
            <a:avLst>
              <a:gd name="adj1" fmla="val -57097"/>
              <a:gd name="adj2" fmla="val -14313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811800" y="21528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журств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55640" y="39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готов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 праздника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350520" y="38606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олев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482720" y="251316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скурс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8" descr="P1050793-1"/>
          <p:cNvPicPr/>
          <p:nvPr/>
        </p:nvPicPr>
        <p:blipFill>
          <a:blip r:embed="rId1"/>
          <a:stretch/>
        </p:blipFill>
        <p:spPr>
          <a:xfrm>
            <a:off x="179280" y="4173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щеинтеллектуально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468360" y="1557360"/>
            <a:ext cx="2496960" cy="1112760"/>
          </a:xfrm>
          <a:prstGeom prst="cloudCallout">
            <a:avLst>
              <a:gd name="adj1" fmla="val 65513"/>
              <a:gd name="adj2" fmla="val -5427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95280" y="3284640"/>
            <a:ext cx="1873080" cy="1008000"/>
          </a:xfrm>
          <a:prstGeom prst="cloudCallout">
            <a:avLst>
              <a:gd name="adj1" fmla="val 120763"/>
              <a:gd name="adj2" fmla="val -17015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2700360" y="3068640"/>
            <a:ext cx="2663640" cy="1728720"/>
          </a:xfrm>
          <a:prstGeom prst="cloudCallout">
            <a:avLst>
              <a:gd name="adj1" fmla="val 22050"/>
              <a:gd name="adj2" fmla="val -13843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687960" y="1773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иблиотечны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час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685440" y="3573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нкурс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115440" y="3232080"/>
            <a:ext cx="205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уж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Интеллектик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Как ст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обретателем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Picture 20" descr="27"/>
          <p:cNvPicPr/>
          <p:nvPr/>
        </p:nvPicPr>
        <p:blipFill>
          <a:blip r:embed="rId2"/>
          <a:stretch/>
        </p:blipFill>
        <p:spPr>
          <a:xfrm>
            <a:off x="6192720" y="2924280"/>
            <a:ext cx="2951280" cy="393372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5"/>
          <p:cNvSpPr/>
          <p:nvPr/>
        </p:nvSpPr>
        <p:spPr>
          <a:xfrm>
            <a:off x="6012000" y="2637000"/>
            <a:ext cx="1800000" cy="609480"/>
          </a:xfrm>
          <a:prstGeom prst="cloudCallout">
            <a:avLst>
              <a:gd name="adj1" fmla="val -90828"/>
              <a:gd name="adj2" fmla="val -249481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6303600" y="27082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кскурси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05:53:13Z</dcterms:created>
  <dc:creator>Admin</dc:creator>
  <dc:description/>
  <dc:language>en-US</dc:language>
  <cp:lastModifiedBy>м</cp:lastModifiedBy>
  <dcterms:modified xsi:type="dcterms:W3CDTF">2013-09-10T06:57:03Z</dcterms:modified>
  <cp:revision>19</cp:revision>
  <dc:subject/>
  <dc:title>Организация досуговой деятельности в группе продлённого дня Модель ГБОУ школа №302</dc:title>
</cp:coreProperties>
</file>