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BADC-22D5-4F63-B762-F27124E046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C876-BF86-43CF-994B-3BCC0A59C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1F3-25B8-4509-AA78-0AAE8F6F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9D9-66FC-4930-A24C-9477E871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44A-AA8A-477D-A2CA-F35AE705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D96-F972-442A-9222-72064BF4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0FD-5396-4A3D-9415-C60CCF3F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F9F-D492-415E-B0AE-6A20E934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A01-F4A3-4840-ACA4-98949DC3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635-F0EF-4E09-A993-F33779F7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5E9-8212-4CCD-9A7A-911C2456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66E-8FB7-4E6D-8AFE-7EBDEF6A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E52-63F9-4C91-BB4D-8DEE95B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5F1-4043-4D56-AC93-96CAE27A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7D87-9B45-4CA7-B1AA-5C7A7E1B1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1178640" y="189000"/>
            <a:ext cx="645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бразуйте прилагательные от существ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 выделите словообразовательные суффик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477800" y="119700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332000" y="177336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332000" y="234936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403640" y="2924280"/>
            <a:ext cx="10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404360" y="3573360"/>
            <a:ext cx="132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403640" y="414972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421440" y="1052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421440" y="17002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421440" y="2276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421440" y="2852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3421440" y="342900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3421440" y="4076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4286520" y="112536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4285440" y="177336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284720" y="234936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ом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4285440" y="29242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ти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286880" y="3573360"/>
            <a:ext cx="21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сча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4284720" y="414972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фтя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1035720" y="5373720"/>
            <a:ext cx="70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гда пишется одна буква н в суффик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илагательных,  а когда – две буквы 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V="1">
            <a:off x="5076720" y="1125000"/>
            <a:ext cx="144720" cy="1429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5219640" y="1125360"/>
            <a:ext cx="142920" cy="1429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 flipV="1">
            <a:off x="5724360" y="2349360"/>
            <a:ext cx="287640" cy="216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5076720" y="2924280"/>
            <a:ext cx="142920" cy="215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 flipV="1">
            <a:off x="4859280" y="2923920"/>
            <a:ext cx="217440" cy="215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4"/>
          <p:cNvSpPr/>
          <p:nvPr/>
        </p:nvSpPr>
        <p:spPr>
          <a:xfrm>
            <a:off x="5580000" y="3573360"/>
            <a:ext cx="142920" cy="216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 flipV="1">
            <a:off x="5364000" y="3573360"/>
            <a:ext cx="216000" cy="216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6"/>
          <p:cNvSpPr/>
          <p:nvPr/>
        </p:nvSpPr>
        <p:spPr>
          <a:xfrm>
            <a:off x="5651640" y="4149720"/>
            <a:ext cx="145800" cy="216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7"/>
          <p:cNvSpPr/>
          <p:nvPr/>
        </p:nvSpPr>
        <p:spPr>
          <a:xfrm flipV="1">
            <a:off x="5867280" y="1773000"/>
            <a:ext cx="287280" cy="215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8"/>
          <p:cNvSpPr/>
          <p:nvPr/>
        </p:nvSpPr>
        <p:spPr>
          <a:xfrm>
            <a:off x="6156360" y="1773360"/>
            <a:ext cx="288720" cy="2156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9"/>
          <p:cNvSpPr/>
          <p:nvPr/>
        </p:nvSpPr>
        <p:spPr>
          <a:xfrm>
            <a:off x="6012000" y="2349360"/>
            <a:ext cx="288720" cy="2178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5508720" y="4149720"/>
            <a:ext cx="142920" cy="2160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1"/>
          <p:cNvSpPr/>
          <p:nvPr/>
        </p:nvSpPr>
        <p:spPr>
          <a:xfrm>
            <a:off x="4859280" y="1628640"/>
            <a:ext cx="5047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3"/>
          <p:cNvSpPr/>
          <p:nvPr/>
        </p:nvSpPr>
        <p:spPr>
          <a:xfrm>
            <a:off x="5940360" y="2852640"/>
            <a:ext cx="43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4"/>
          <p:cNvSpPr/>
          <p:nvPr/>
        </p:nvSpPr>
        <p:spPr>
          <a:xfrm>
            <a:off x="5076720" y="3429000"/>
            <a:ext cx="216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5508720" y="4076640"/>
            <a:ext cx="2872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6"/>
          <p:cNvSpPr/>
          <p:nvPr/>
        </p:nvSpPr>
        <p:spPr>
          <a:xfrm>
            <a:off x="5651640" y="4653000"/>
            <a:ext cx="2156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7"/>
          <p:cNvSpPr/>
          <p:nvPr/>
        </p:nvSpPr>
        <p:spPr>
          <a:xfrm>
            <a:off x="1311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9"/>
          <p:cNvSpPr/>
          <p:nvPr/>
        </p:nvSpPr>
        <p:spPr>
          <a:xfrm>
            <a:off x="6084720" y="2276640"/>
            <a:ext cx="432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612720" y="0"/>
            <a:ext cx="16022520" cy="6858000"/>
          </a:xfrm>
          <a:prstGeom prst="rect">
            <a:avLst/>
          </a:prstGeom>
          <a:ln w="41400">
            <a:solidFill>
              <a:srgbClr val="993366"/>
            </a:solidFill>
            <a:miter/>
          </a:ln>
        </p:spPr>
      </p:pic>
      <p:sp>
        <p:nvSpPr>
          <p:cNvPr id="89" name="Text Box 5"/>
          <p:cNvSpPr/>
          <p:nvPr/>
        </p:nvSpPr>
        <p:spPr>
          <a:xfrm>
            <a:off x="2690640" y="1144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835280" y="189000"/>
            <a:ext cx="611964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 и нн в суффиксах прилаг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859040" y="836640"/>
            <a:ext cx="5936760" cy="368280"/>
          </a:xfrm>
          <a:prstGeom prst="rect">
            <a:avLst/>
          </a:prstGeom>
          <a:solidFill>
            <a:srgbClr val="ffff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, от какой части речи образовано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302640" y="1557360"/>
            <a:ext cx="2801880" cy="368280"/>
          </a:xfrm>
          <a:prstGeom prst="rect">
            <a:avLst/>
          </a:prstGeom>
          <a:solidFill>
            <a:srgbClr val="ffff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существительн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378680" y="2230560"/>
            <a:ext cx="470160" cy="368280"/>
          </a:xfrm>
          <a:prstGeom prst="rect">
            <a:avLst/>
          </a:prstGeom>
          <a:solidFill>
            <a:srgbClr val="ffff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931400" y="2997360"/>
            <a:ext cx="5677920" cy="368280"/>
          </a:xfrm>
          <a:prstGeom prst="rect">
            <a:avLst/>
          </a:prstGeom>
          <a:solidFill>
            <a:srgbClr val="ffff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, какой суффикс прибавлен к основ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712520" y="3860640"/>
            <a:ext cx="2105640" cy="459720"/>
          </a:xfrm>
          <a:prstGeom prst="rect">
            <a:avLst/>
          </a:prstGeom>
          <a:solidFill>
            <a:srgbClr val="99ccff"/>
          </a:solidFill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онн, -енн, -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2432520" y="4749840"/>
            <a:ext cx="4701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855080" y="5516640"/>
            <a:ext cx="1671120" cy="459720"/>
          </a:xfrm>
          <a:prstGeom prst="rect">
            <a:avLst/>
          </a:prstGeom>
          <a:solidFill>
            <a:srgbClr val="99cc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иши - 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07400" y="6021360"/>
            <a:ext cx="34984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ключен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реный (но безветрен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6175080" y="3860640"/>
            <a:ext cx="1916640" cy="459720"/>
          </a:xfrm>
          <a:prstGeom prst="rect">
            <a:avLst/>
          </a:prstGeom>
          <a:solidFill>
            <a:srgbClr val="99ccff"/>
          </a:soli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ан, -ян, -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6969600" y="4749840"/>
            <a:ext cx="4701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462000" y="5516640"/>
            <a:ext cx="148680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иши -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5384520" y="6021360"/>
            <a:ext cx="31784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ключен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оловя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янный, стекля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4643280" y="1268280"/>
            <a:ext cx="0" cy="287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4643280" y="1989000"/>
            <a:ext cx="0" cy="217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4643280" y="2637000"/>
            <a:ext cx="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7"/>
          <p:cNvSpPr/>
          <p:nvPr/>
        </p:nvSpPr>
        <p:spPr>
          <a:xfrm flipH="1">
            <a:off x="3851280" y="3429000"/>
            <a:ext cx="1008000" cy="7174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>
            <a:off x="5003640" y="3429000"/>
            <a:ext cx="1152720" cy="719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2700360" y="4365720"/>
            <a:ext cx="0" cy="358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7236000" y="4365720"/>
            <a:ext cx="0" cy="358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2700360" y="5157720"/>
            <a:ext cx="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236000" y="5157720"/>
            <a:ext cx="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175400" y="189000"/>
            <a:ext cx="60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Impact"/>
              </a:rPr>
              <a:t>Краткая форма как полн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763640" y="836640"/>
            <a:ext cx="39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ная вещь – цен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еная погода - вет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2195640" y="1268280"/>
            <a:ext cx="2887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4427640" y="1268280"/>
            <a:ext cx="2887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2627280" y="1628640"/>
            <a:ext cx="216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292720" y="1628640"/>
            <a:ext cx="216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79640" y="2349360"/>
          <a:ext cx="5905440" cy="4102200"/>
        </p:xfrm>
        <a:graphic>
          <a:graphicData uri="http://schemas.openxmlformats.org/drawingml/2006/table">
            <a:tbl>
              <a:tblPr/>
              <a:tblGrid>
                <a:gridCol w="2952720"/>
                <a:gridCol w="2952720"/>
              </a:tblGrid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зличай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с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ый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дённый на масле, работающий на масл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еченье, двигатель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щий из соли (столб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етр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й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вигатель, осп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Мас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ый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мазанный, пропитанный масл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лин, рука, каш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о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ы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щий соль (каш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етр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н</a:t>
                      </a:r>
                      <a:r>
                        <a:rPr b="1" lang="ru-RU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ы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ень, челов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grpSp>
        <p:nvGrpSpPr>
          <p:cNvPr id="121" name="Diagram 6"/>
          <p:cNvGrpSpPr/>
          <p:nvPr/>
        </p:nvGrpSpPr>
        <p:grpSpPr>
          <a:xfrm>
            <a:off x="1511280" y="171000"/>
            <a:ext cx="6122160" cy="6403320"/>
            <a:chOff x="1511280" y="171000"/>
            <a:chExt cx="6122160" cy="6403320"/>
          </a:xfrm>
        </p:grpSpPr>
        <p:sp>
          <p:nvSpPr>
            <p:cNvPr id="122" name="_s1028"/>
            <p:cNvSpPr/>
            <p:nvPr/>
          </p:nvSpPr>
          <p:spPr>
            <a:xfrm flipH="1" flipV="1">
              <a:off x="3502800" y="1670040"/>
              <a:ext cx="770760" cy="126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9"/>
            <p:cNvSpPr/>
            <p:nvPr/>
          </p:nvSpPr>
          <p:spPr>
            <a:xfrm>
              <a:off x="2647440" y="595440"/>
              <a:ext cx="1110960" cy="11718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авл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0"/>
            <p:cNvSpPr/>
            <p:nvPr/>
          </p:nvSpPr>
          <p:spPr>
            <a:xfrm flipH="1" flipV="1">
              <a:off x="2772360" y="2559960"/>
              <a:ext cx="1296360" cy="622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1"/>
            <p:cNvSpPr/>
            <p:nvPr/>
          </p:nvSpPr>
          <p:spPr>
            <a:xfrm>
              <a:off x="1714320" y="1731960"/>
              <a:ext cx="1110960" cy="117180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юл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2"/>
            <p:cNvSpPr/>
            <p:nvPr/>
          </p:nvSpPr>
          <p:spPr>
            <a:xfrm flipH="1">
              <a:off x="2613600" y="3508560"/>
              <a:ext cx="1410840" cy="216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1511280" y="3220560"/>
              <a:ext cx="1110960" cy="11718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умя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4"/>
            <p:cNvSpPr/>
            <p:nvPr/>
          </p:nvSpPr>
          <p:spPr>
            <a:xfrm flipH="1">
              <a:off x="3077640" y="3808440"/>
              <a:ext cx="1075680" cy="985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2104200" y="4589640"/>
              <a:ext cx="1110960" cy="117180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фаз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6"/>
            <p:cNvSpPr/>
            <p:nvPr/>
          </p:nvSpPr>
          <p:spPr>
            <a:xfrm flipH="1">
              <a:off x="4016160" y="3986640"/>
              <a:ext cx="400320" cy="1441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7"/>
            <p:cNvSpPr/>
            <p:nvPr/>
          </p:nvSpPr>
          <p:spPr>
            <a:xfrm>
              <a:off x="3303360" y="5402520"/>
              <a:ext cx="1111320" cy="1171800"/>
            </a:xfrm>
            <a:prstGeom prst="rect">
              <a:avLst/>
            </a:prstGeom>
            <a:solidFill>
              <a:srgbClr val="99cc00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ар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8"/>
            <p:cNvSpPr/>
            <p:nvPr/>
          </p:nvSpPr>
          <p:spPr>
            <a:xfrm>
              <a:off x="4728600" y="3986640"/>
              <a:ext cx="402120" cy="1441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9"/>
            <p:cNvSpPr/>
            <p:nvPr/>
          </p:nvSpPr>
          <p:spPr>
            <a:xfrm>
              <a:off x="4730760" y="5402520"/>
              <a:ext cx="1110960" cy="1171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ю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0"/>
            <p:cNvSpPr/>
            <p:nvPr/>
          </p:nvSpPr>
          <p:spPr>
            <a:xfrm>
              <a:off x="4991760" y="3808440"/>
              <a:ext cx="1075320" cy="984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41"/>
            <p:cNvSpPr/>
            <p:nvPr/>
          </p:nvSpPr>
          <p:spPr>
            <a:xfrm>
              <a:off x="5929920" y="4589640"/>
              <a:ext cx="1111320" cy="11718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агря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2"/>
            <p:cNvSpPr/>
            <p:nvPr/>
          </p:nvSpPr>
          <p:spPr>
            <a:xfrm>
              <a:off x="5120280" y="3508560"/>
              <a:ext cx="1409400" cy="213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43"/>
            <p:cNvSpPr/>
            <p:nvPr/>
          </p:nvSpPr>
          <p:spPr>
            <a:xfrm>
              <a:off x="6522480" y="3220560"/>
              <a:ext cx="1110960" cy="11718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вин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4"/>
            <p:cNvSpPr/>
            <p:nvPr/>
          </p:nvSpPr>
          <p:spPr>
            <a:xfrm flipV="1">
              <a:off x="5076360" y="2559960"/>
              <a:ext cx="1294560" cy="622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5"/>
            <p:cNvSpPr/>
            <p:nvPr/>
          </p:nvSpPr>
          <p:spPr>
            <a:xfrm>
              <a:off x="6319800" y="1730160"/>
              <a:ext cx="1110960" cy="117216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я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46"/>
            <p:cNvSpPr/>
            <p:nvPr/>
          </p:nvSpPr>
          <p:spPr>
            <a:xfrm flipV="1">
              <a:off x="4871880" y="1672560"/>
              <a:ext cx="768600" cy="126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47"/>
            <p:cNvSpPr/>
            <p:nvPr/>
          </p:nvSpPr>
          <p:spPr>
            <a:xfrm>
              <a:off x="5384880" y="593280"/>
              <a:ext cx="1110960" cy="11718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и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48"/>
            <p:cNvSpPr/>
            <p:nvPr/>
          </p:nvSpPr>
          <p:spPr>
            <a:xfrm flipV="1">
              <a:off x="4571640" y="1342800"/>
              <a:ext cx="0" cy="149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9"/>
            <p:cNvSpPr/>
            <p:nvPr/>
          </p:nvSpPr>
          <p:spPr>
            <a:xfrm>
              <a:off x="4016160" y="171000"/>
              <a:ext cx="1110960" cy="11718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80008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зелё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050"/>
            <p:cNvSpPr/>
            <p:nvPr/>
          </p:nvSpPr>
          <p:spPr>
            <a:xfrm>
              <a:off x="4016160" y="2842560"/>
              <a:ext cx="1110960" cy="1172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Запом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178280" y="189000"/>
            <a:ext cx="773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ыпишите прилагательные, у которых в суффиксе одно 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 потом прилагательные с двумя н в суффик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42920" y="1125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волюцио…ый, орли…ый, восторже…ый, овся…ый, шерстя…ой, обеде…ый, оловя…ый, кожа…ый, деревя…ый, звери…ый, торфя…ой, экскурсио…ый, письме…ый, стекля…ый, авиацио…ый, песча…ый, костя…ной, обыкнове…ы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412360" y="2421000"/>
            <a:ext cx="6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766880" y="2852640"/>
            <a:ext cx="223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волюц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рж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о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ре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курс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иац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ыкно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302160" y="24210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869800" y="2924280"/>
            <a:ext cx="15188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в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рс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ж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рф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сч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3565800" y="4005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ск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3565800" y="436572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ск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3565800" y="544500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ск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742760" y="13500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бъясни написание пропущенных бу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613520" y="1387440"/>
            <a:ext cx="6685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ит ветре…ая по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дя…ой ветер проносится над го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за каме… ой сте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т исти… ый друг, кто честен и пр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почувствовал пря…ый з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шина Пономарёв сидел на земля…ом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ет в небе журавли…ый кр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няет лес багря…ый свой у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502080" y="1341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628720" y="19288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357720" y="256536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002040" y="314316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573440" y="3789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6786720" y="43578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573440" y="5013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4145040" y="55720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1618200" y="2350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верь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263960" y="907920"/>
            <a:ext cx="355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гу…ая решё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ре…ы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гря…ые за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и…ые ла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ши…ое 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зне…ое чу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кови…ое проис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и…ые ч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…ое 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я…ая 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лсти…ый ме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уши…ые б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стя…ая короб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зне…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честве...ая кол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беди…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631120" y="182520"/>
            <a:ext cx="231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люч к зад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роверь себя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140160" y="857160"/>
            <a:ext cx="23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гу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р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гр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ш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з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ков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лс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уш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ст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з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чест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бе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771640" y="5589720"/>
            <a:ext cx="61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ставь себе оценку: «5» - за 16 правильных отв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4» - за 13 -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3» - за  9 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2» - за  6 -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18:03:11Z</dcterms:created>
  <dc:creator>Dmitry</dc:creator>
  <dc:description/>
  <dc:language>en-US</dc:language>
  <cp:lastModifiedBy>user</cp:lastModifiedBy>
  <dcterms:modified xsi:type="dcterms:W3CDTF">2014-01-24T12:03:28Z</dcterms:modified>
  <cp:revision>73</cp:revision>
  <dc:subject/>
  <dc:title>Слайд 1</dc:title>
</cp:coreProperties>
</file>