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0C0-88EB-4536-8CCD-8DE40A58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B86-22CC-4B8E-A9AE-D7B3E4B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4F4-C9F1-488F-9DDA-39E8EA9F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4B2-76CB-4B49-B90B-D7915862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1BD-17ED-44A9-8E0C-8A02EB1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E25-5160-4865-9960-5A95204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F80-AF13-4112-BB90-406CE093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BB5-06FE-4828-AD25-3802612A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102-1924-4DDD-8149-2B44B79C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D4B-080F-4126-BCA9-7A53E13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1C8-EC33-4F80-88DC-3F0016F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90D-4E65-4240-8E11-A5176EC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B917-B2F2-4FAF-9365-A1A6A816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672200">
            <a:off x="826560" y="2492280"/>
            <a:ext cx="6553440" cy="194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Как путешествует </a:t>
            </a: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письмо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55450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rot="21028200">
            <a:off x="258840" y="526680"/>
            <a:ext cx="4752720" cy="2409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612600">
            <a:off x="3708000" y="3429000"/>
            <a:ext cx="5004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очтовые ма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232000"/>
            <a:ext cx="8229600" cy="3260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2449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Что можно отправить по поч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1731960"/>
            <a:ext cx="2880000" cy="197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059280" cy="2297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580000" y="4581360"/>
            <a:ext cx="2592360" cy="195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47640" y="1197000"/>
            <a:ext cx="13687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сьмо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0360" y="1125360"/>
            <a:ext cx="14763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крытка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92360" y="3789360"/>
            <a:ext cx="14763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ыл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56360" y="3860640"/>
            <a:ext cx="1403280" cy="8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нде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6872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3456000" cy="2595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728720" cy="1306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724360" y="2133720"/>
            <a:ext cx="251964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анде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360" y="1844640"/>
            <a:ext cx="197964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ыл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21170400">
            <a:off x="4648320" y="4822920"/>
            <a:ext cx="23050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Поч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2376360" cy="236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1681200" cy="20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4643280" cy="1887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651640" y="3645000"/>
            <a:ext cx="27763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чтовые голу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05748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879640" cy="214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3273480" cy="2443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80000" y="3645000"/>
            <a:ext cx="2584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утешествие </a:t>
            </a:r>
            <a:r>
              <a:rPr b="1" i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пись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7830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8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428472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568760" cy="2027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443640" y="3860640"/>
            <a:ext cx="1714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дреса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3933720"/>
            <a:ext cx="2685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правител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4508640"/>
            <a:ext cx="1944720" cy="0"/>
          </a:xfrm>
          <a:prstGeom prst="line">
            <a:avLst/>
          </a:prstGeom>
          <a:ln w="44280">
            <a:solidFill>
              <a:srgbClr val="66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ись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87640" y="1844640"/>
            <a:ext cx="3936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чтов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ящ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2962440" cy="306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291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товый мешок с пись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9114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616720" cy="190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35280" y="3860640"/>
            <a:ext cx="52624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Багаж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-1668" t="33742" r="0" b="0"/>
          <a:stretch/>
        </p:blipFill>
        <p:spPr>
          <a:xfrm>
            <a:off x="5148360" y="350028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535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чтовая сум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1800" y="1600200"/>
            <a:ext cx="374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29600" cy="498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1095120" cy="10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1057320" cy="1056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851280" y="4437000"/>
            <a:ext cx="1123920" cy="10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619280" y="4149720"/>
            <a:ext cx="105732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580000" y="765000"/>
            <a:ext cx="1067040" cy="111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51672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140360" y="765000"/>
            <a:ext cx="1056960" cy="109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851280" y="692280"/>
            <a:ext cx="17928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64000" y="692280"/>
            <a:ext cx="287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27640" y="1989000"/>
            <a:ext cx="216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00720" y="2421000"/>
            <a:ext cx="2156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43280" y="292428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920" y="4149720"/>
            <a:ext cx="1857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492360" y="4365720"/>
            <a:ext cx="28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4:32:03Z</dcterms:created>
  <dc:creator>Comp</dc:creator>
  <dc:description/>
  <dc:language>en-US</dc:language>
  <cp:lastModifiedBy>Comp</cp:lastModifiedBy>
  <dcterms:modified xsi:type="dcterms:W3CDTF">2008-05-19T11:52:24Z</dcterms:modified>
  <cp:revision>11</cp:revision>
  <dc:subject/>
  <dc:title>Слайд 1</dc:title>
</cp:coreProperties>
</file>