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C8D-166E-4B0F-87CF-99383AEE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1D6-3BF2-4E8E-8E74-B30B6639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7DE9-C3EB-468A-9A24-F3478145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43C6-0612-464C-9CF4-D73FC654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A2B9-D6C7-4282-B920-1741BE8B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3239-BB34-4E1D-AB6F-47666921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A47-C3AF-4FE1-9EF7-73030B04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458-D788-4AC9-879C-28EB0F45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1F38-44E3-4B83-96C9-D8852E8F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CC6B-B738-4F19-8C49-6BCC311B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A4FD-4171-4273-B4DB-1DED2170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557B-0144-4B8C-BB78-12AB3D61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13A2-9F1C-4EE0-A0E2-6C4F2BFC3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7.jpeg"/><Relationship Id="rId5" Type="http://schemas.openxmlformats.org/officeDocument/2006/relationships/image" Target="../media/image15.jpeg"/><Relationship Id="rId6" Type="http://schemas.openxmlformats.org/officeDocument/2006/relationships/image" Target="../media/image8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1672200">
            <a:off x="826560" y="2492280"/>
            <a:ext cx="6553440" cy="1941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Как путешествует </a:t>
            </a:r>
            <a:r>
              <a:rPr b="1" i="1" lang="en-US" sz="4800" spc="-1" strike="noStrike" u="sng">
                <a:solidFill>
                  <a:srgbClr val="0000ff"/>
                </a:solidFill>
                <a:uFillTx/>
                <a:latin typeface="Arial"/>
              </a:rPr>
              <a:t>письмо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35280" y="3284640"/>
            <a:ext cx="554508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 rot="21028200">
            <a:off x="258840" y="526680"/>
            <a:ext cx="4752720" cy="2409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rot="612600">
            <a:off x="3708000" y="3429000"/>
            <a:ext cx="50040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Почтовые ма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2232000"/>
            <a:ext cx="8229600" cy="3260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635280" y="2924280"/>
            <a:ext cx="2449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Что можно отправить по поч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76720" y="1731960"/>
            <a:ext cx="2880000" cy="1976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3059280" cy="2297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580000" y="4581360"/>
            <a:ext cx="2592360" cy="1957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547640" y="1197000"/>
            <a:ext cx="13687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сьмо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940360" y="1125360"/>
            <a:ext cx="1476360" cy="6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крытка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92360" y="3789360"/>
            <a:ext cx="1476360" cy="6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ылк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156360" y="3860640"/>
            <a:ext cx="1403280" cy="80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андерол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6872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3456000" cy="2595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04000" y="3284640"/>
            <a:ext cx="1728720" cy="1306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724360" y="2133720"/>
            <a:ext cx="251964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андерол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76360" y="1844640"/>
            <a:ext cx="197964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ылк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 rot="21170400">
            <a:off x="4648320" y="4822920"/>
            <a:ext cx="23050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Поч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2376360" cy="2365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300720" y="1341360"/>
            <a:ext cx="1681200" cy="2097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4221000"/>
            <a:ext cx="4643280" cy="1887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651640" y="3645000"/>
            <a:ext cx="27763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очтовые голу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3057480" cy="228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2879640" cy="2149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900000" y="4076640"/>
            <a:ext cx="3273480" cy="2443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580000" y="3645000"/>
            <a:ext cx="25844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Путешествие </a:t>
            </a:r>
            <a:r>
              <a:rPr b="1" i="1" lang="en-US" sz="4800" spc="-1" strike="noStrike" u="sng">
                <a:solidFill>
                  <a:srgbClr val="0000ff"/>
                </a:solidFill>
                <a:uFillTx/>
                <a:latin typeface="Arial"/>
              </a:rPr>
              <a:t>письм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7830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5489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4284720" cy="206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4568760" cy="2027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6443640" y="3860640"/>
            <a:ext cx="1714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дреса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71640" y="3933720"/>
            <a:ext cx="2685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правитель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3995640" y="4508640"/>
            <a:ext cx="1944720" cy="0"/>
          </a:xfrm>
          <a:prstGeom prst="line">
            <a:avLst/>
          </a:prstGeom>
          <a:ln w="44280">
            <a:solidFill>
              <a:srgbClr val="66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исьм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87640" y="1844640"/>
            <a:ext cx="39369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очтовы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ящ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2962440" cy="3068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29112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чтовый мешок с письм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91140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5616720" cy="1903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635280" y="3860640"/>
            <a:ext cx="526248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Багаж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-1668" t="33742" r="0" b="0"/>
          <a:stretch/>
        </p:blipFill>
        <p:spPr>
          <a:xfrm>
            <a:off x="5148360" y="3500280"/>
            <a:ext cx="2952720" cy="2953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453528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очтовая сум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01800" y="1600200"/>
            <a:ext cx="374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229600" cy="4984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88000" y="2492280"/>
            <a:ext cx="1095120" cy="1086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132000" y="2997360"/>
            <a:ext cx="1057320" cy="1056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851280" y="4437000"/>
            <a:ext cx="1123920" cy="1085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619280" y="4149720"/>
            <a:ext cx="1057320" cy="1076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5580000" y="765000"/>
            <a:ext cx="1067040" cy="1117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6516720" y="2060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4140360" y="765000"/>
            <a:ext cx="1056960" cy="1095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3851280" y="692280"/>
            <a:ext cx="17928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64000" y="692280"/>
            <a:ext cx="28764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27640" y="1989000"/>
            <a:ext cx="21600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00720" y="2421000"/>
            <a:ext cx="21564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843280" y="292428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58920" y="4149720"/>
            <a:ext cx="18576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492360" y="4365720"/>
            <a:ext cx="2876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4:32:03Z</dcterms:created>
  <dc:creator>Comp</dc:creator>
  <dc:description/>
  <dc:language>en-US</dc:language>
  <cp:lastModifiedBy>Comp</cp:lastModifiedBy>
  <dcterms:modified xsi:type="dcterms:W3CDTF">2008-05-19T11:52:24Z</dcterms:modified>
  <cp:revision>11</cp:revision>
  <dc:subject/>
  <dc:title>Слайд 1</dc:title>
</cp:coreProperties>
</file>