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4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654-4B29-4105-A513-45CDD73C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64A-7DE1-462F-B0F8-0BE16FB9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80A-9495-4096-A174-39E417A7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F75-48D2-4AF2-859B-5256B3F8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31A-112B-4176-BA09-48CC4E42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10A-88DC-4B4D-ADBB-C00757DC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103-C543-4E40-9A33-3D38DB6C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846-D82B-45FA-A823-7CABE21F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AB0-4D3D-4441-B764-4E0F7E60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AD8-18B9-4FE8-A77F-09870132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979-E763-40D1-AD7C-E8EC0D65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C61-2F80-4DF8-A44E-F807F72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C35-353A-4185-A78E-DE0A3AA5D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40;&#1079;&#1077;&#1088;&#1073;&#1072;&#1081;&#1076;&#1078;&#1072;&#1085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780000" y="443700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714840" y="5143680"/>
            <a:ext cx="50734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рмолаева Светлана Анатолье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СОШ №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Узловая Тульская об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ные источники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28760" y="244440"/>
          <a:ext cx="8183520" cy="6613560"/>
        </p:xfrm>
        <a:graphic>
          <a:graphicData uri="http://schemas.openxmlformats.org/drawingml/2006/table">
            <a:tbl>
              <a:tblPr/>
              <a:tblGrid>
                <a:gridCol w="1711080"/>
                <a:gridCol w="1785960"/>
                <a:gridCol w="2143080"/>
                <a:gridCol w="2543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фр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ип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имический сост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укты перерабо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линовая фр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200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нзин (авиационный, автомобильны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гроиновая фр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-250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игроин (горючее для трактор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еросиновая фр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-300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еросин (горючее для тракторов, реактивных самолётов и рак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йльная фра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ше 275°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азойль – дизельное топли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зу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та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омо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С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гих деся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зу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ляровые масла (дизельное топли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азочные масла (автотракторные, авиационные, индустриальны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зелин (основа для косметических средств и лекарст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дрон (дорожное строитель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908000" y="47628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0" y="33336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рекинг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процесс расщепления углеводородов, содержащихся в нефти, в результате которого образуются углеводороды с меньшим числом атомов углерода в молеку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908000" y="227664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Виды крекин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0" y="2997360"/>
            <a:ext cx="2916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восстановите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6443640" y="3213000"/>
            <a:ext cx="2700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высокого д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5724360" y="3933720"/>
            <a:ext cx="21592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терми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700360" y="3573360"/>
            <a:ext cx="24494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каталити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7"/>
          <p:cNvSpPr/>
          <p:nvPr/>
        </p:nvSpPr>
        <p:spPr>
          <a:xfrm flipH="1">
            <a:off x="1907640" y="2760840"/>
            <a:ext cx="208764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8"/>
          <p:cNvSpPr/>
          <p:nvPr/>
        </p:nvSpPr>
        <p:spPr>
          <a:xfrm>
            <a:off x="6156360" y="2760840"/>
            <a:ext cx="1511280" cy="45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9"/>
          <p:cNvSpPr/>
          <p:nvPr/>
        </p:nvSpPr>
        <p:spPr>
          <a:xfrm flipH="1">
            <a:off x="3563640" y="2903400"/>
            <a:ext cx="86364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5219640" y="2903400"/>
            <a:ext cx="100800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5580000" y="4365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470 - 550</a:t>
            </a:r>
            <a:r>
              <a:rPr b="0" lang="ru-RU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2484360" y="4005360"/>
            <a:ext cx="2374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Алюмосиликаты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 n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l</a:t>
            </a:r>
            <a:r>
              <a:rPr b="0" lang="ru-RU" sz="24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0" lang="ru-RU" sz="2400" spc="-1" strike="noStrike" baseline="-25000">
                <a:solidFill>
                  <a:srgbClr val="800080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SiO</a:t>
            </a:r>
            <a:r>
              <a:rPr b="0" lang="ru-RU" sz="2400" spc="-1" strike="noStrike" baseline="-25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0" y="3500280"/>
            <a:ext cx="27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Катализатор гидрирования с добавлением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4932360" y="4797360"/>
            <a:ext cx="396072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4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8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9"/>
          <p:cNvSpPr/>
          <p:nvPr/>
        </p:nvSpPr>
        <p:spPr>
          <a:xfrm>
            <a:off x="6012000" y="63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6012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>
            <a:off x="6012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5" descr="Рисунок1"/>
          <p:cNvPicPr/>
          <p:nvPr/>
        </p:nvPicPr>
        <p:blipFill>
          <a:blip r:embed="rId2"/>
          <a:stretch/>
        </p:blipFill>
        <p:spPr>
          <a:xfrm>
            <a:off x="2195640" y="5013360"/>
            <a:ext cx="1839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иролиз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ают разложение органических веществ без доступа воздуха при высокой темп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одержимое 3" descr="6.jpg"/>
          <p:cNvPicPr/>
          <p:nvPr/>
        </p:nvPicPr>
        <p:blipFill>
          <a:blip r:embed="rId2"/>
          <a:stretch/>
        </p:blipFill>
        <p:spPr>
          <a:xfrm>
            <a:off x="1619280" y="21337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форминг  - способ  переработки нефтепродуктов в результате которого получают индивидуальные ароматические углеводороды, водород или бензин с повышенным содержанием аренов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3" descr="0_479_7ff3bb9_XL.jpeg"/>
          <p:cNvPicPr/>
          <p:nvPr/>
        </p:nvPicPr>
        <p:blipFill>
          <a:blip r:embed="rId2"/>
          <a:stretch/>
        </p:blipFill>
        <p:spPr>
          <a:xfrm>
            <a:off x="1332000" y="2332080"/>
            <a:ext cx="6511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остав природного г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2"/>
          <a:stretch/>
        </p:blipFill>
        <p:spPr>
          <a:xfrm>
            <a:off x="468360" y="1898640"/>
            <a:ext cx="818676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родный и попутный нефтяной газ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79280" y="2421000"/>
            <a:ext cx="878544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родный га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путный нефтяно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                             95,6 %                                                   63,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                                  1%                                                       10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н                             0,33%                                                   11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                                0,07% ( н-бутан)                                   2,8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-бутан) и 1,2% (и-бут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ан и выше                0,03%                                                     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 и редкие газы          3%                                                         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                0,4%                                                      -Применение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90% как топливо          для синтеза веще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зделяют на фракц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ксование (пиролиз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менного угля – один из способов получения углеводородов путём нагревания до 1000 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Содержимое 3" descr="img_2458.jpg"/>
          <p:cNvPicPr/>
          <p:nvPr/>
        </p:nvPicPr>
        <p:blipFill>
          <a:blip r:embed="rId2"/>
          <a:stretch/>
        </p:blipFill>
        <p:spPr>
          <a:xfrm>
            <a:off x="2195640" y="3409920"/>
            <a:ext cx="4800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"/>
          <p:cNvPicPr/>
          <p:nvPr/>
        </p:nvPicPr>
        <p:blipFill>
          <a:blip r:embed="rId2"/>
          <a:srcRect l="1208" t="2932" r="2178" b="2482"/>
          <a:stretch/>
        </p:blipFill>
        <p:spPr>
          <a:xfrm>
            <a:off x="1042920" y="0"/>
            <a:ext cx="6769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кологические проблемы, возникающие при использовании и переработке углеводор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3" descr="2.jpg"/>
          <p:cNvPicPr/>
          <p:nvPr/>
        </p:nvPicPr>
        <p:blipFill>
          <a:blip r:embed="rId2"/>
          <a:stretch/>
        </p:blipFill>
        <p:spPr>
          <a:xfrm>
            <a:off x="1187280" y="2133720"/>
            <a:ext cx="676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грязнение окружающе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724823.jpg"/>
          <p:cNvPicPr/>
          <p:nvPr/>
        </p:nvPicPr>
        <p:blipFill>
          <a:blip r:embed="rId2"/>
          <a:stretch/>
        </p:blipFill>
        <p:spPr>
          <a:xfrm>
            <a:off x="428760" y="1071720"/>
            <a:ext cx="3643200" cy="267156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5" descr="oilSlick2L.jpg"/>
          <p:cNvPicPr/>
          <p:nvPr/>
        </p:nvPicPr>
        <p:blipFill>
          <a:blip r:embed="rId3"/>
          <a:stretch/>
        </p:blipFill>
        <p:spPr>
          <a:xfrm>
            <a:off x="4786200" y="3870360"/>
            <a:ext cx="4170600" cy="298764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4" descr="oil_fire.jpg"/>
          <p:cNvPicPr/>
          <p:nvPr/>
        </p:nvPicPr>
        <p:blipFill>
          <a:blip r:embed="rId4"/>
          <a:stretch/>
        </p:blipFill>
        <p:spPr>
          <a:xfrm>
            <a:off x="4714920" y="1071720"/>
            <a:ext cx="4165560" cy="27144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5" descr="o-00043168-a-00011355.jpg"/>
          <p:cNvPicPr/>
          <p:nvPr/>
        </p:nvPicPr>
        <p:blipFill>
          <a:blip r:embed="rId5"/>
          <a:stretch/>
        </p:blipFill>
        <p:spPr>
          <a:xfrm>
            <a:off x="142920" y="3929040"/>
            <a:ext cx="4398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rganization Chart 22"/>
          <p:cNvGrpSpPr/>
          <p:nvPr/>
        </p:nvGrpSpPr>
        <p:grpSpPr>
          <a:xfrm>
            <a:off x="431640" y="333360"/>
            <a:ext cx="8208360" cy="3382200"/>
            <a:chOff x="431640" y="333360"/>
            <a:chExt cx="8208360" cy="338220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633640" y="587160"/>
              <a:ext cx="677160" cy="2873520"/>
            </a:xfrm>
            <a:prstGeom prst="bentConnector3">
              <a:avLst>
                <a:gd name="adj1" fmla="val 127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V="1">
              <a:off x="4536000" y="1685520"/>
              <a:ext cx="3600" cy="67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030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760840" y="587520"/>
              <a:ext cx="677160" cy="2873520"/>
            </a:xfrm>
            <a:prstGeom prst="bentConnector3">
              <a:avLst>
                <a:gd name="adj1" fmla="val 127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031"/>
            <p:cNvSpPr/>
            <p:nvPr/>
          </p:nvSpPr>
          <p:spPr>
            <a:xfrm>
              <a:off x="3304440" y="333360"/>
              <a:ext cx="2462400" cy="135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иродны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сточники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глеводород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32"/>
            <p:cNvSpPr/>
            <p:nvPr/>
          </p:nvSpPr>
          <p:spPr>
            <a:xfrm>
              <a:off x="431640" y="2362680"/>
              <a:ext cx="2462400" cy="135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Природный и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попутный газы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3304440" y="2362680"/>
              <a:ext cx="2462400" cy="135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Нефть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1034"/>
            <p:cNvSpPr/>
            <p:nvPr/>
          </p:nvSpPr>
          <p:spPr>
            <a:xfrm>
              <a:off x="6177600" y="2362680"/>
              <a:ext cx="2462400" cy="135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Каменный уголь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Содержимое 5" descr="1243274304_2.jpg"/>
          <p:cNvPicPr/>
          <p:nvPr/>
        </p:nvPicPr>
        <p:blipFill>
          <a:blip r:embed="rId2"/>
          <a:stretch/>
        </p:blipFill>
        <p:spPr>
          <a:xfrm>
            <a:off x="468360" y="4221000"/>
            <a:ext cx="2300400" cy="23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User\Desktop\Картинки углеводородов\oil-dependence-earth-lg.jpg"/>
          <p:cNvPicPr/>
          <p:nvPr/>
        </p:nvPicPr>
        <p:blipFill>
          <a:blip r:embed="rId3"/>
          <a:stretch/>
        </p:blipFill>
        <p:spPr>
          <a:xfrm>
            <a:off x="3340080" y="4218120"/>
            <a:ext cx="2689200" cy="227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esktop\Картинки углеводородов\coal_03.jpg"/>
          <p:cNvPicPr/>
          <p:nvPr/>
        </p:nvPicPr>
        <p:blipFill>
          <a:blip r:embed="rId4"/>
          <a:stretch/>
        </p:blipFill>
        <p:spPr>
          <a:xfrm>
            <a:off x="6588000" y="3933720"/>
            <a:ext cx="20354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ибел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4" descr="00c1ftdr.jpg"/>
          <p:cNvPicPr/>
          <p:nvPr/>
        </p:nvPicPr>
        <p:blipFill>
          <a:blip r:embed="rId2"/>
          <a:stretch/>
        </p:blipFill>
        <p:spPr>
          <a:xfrm>
            <a:off x="214200" y="1071720"/>
            <a:ext cx="4980240" cy="356688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5" descr="1012-800x469.jpg"/>
          <p:cNvPicPr/>
          <p:nvPr/>
        </p:nvPicPr>
        <p:blipFill>
          <a:blip r:embed="rId3"/>
          <a:stretch/>
        </p:blipFill>
        <p:spPr>
          <a:xfrm>
            <a:off x="3857760" y="3643200"/>
            <a:ext cx="51480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79280" y="47628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Неф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сложная природная смесь углеводородов линейного и разветвленного строения, содержащих в молекулах от 5 до 50 атомов углерода, с другими органическими соединени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390920" y="2997360"/>
            <a:ext cx="47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Физические свойств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Содержимое 3" descr="oil.jpg"/>
          <p:cNvPicPr/>
          <p:nvPr/>
        </p:nvPicPr>
        <p:blipFill>
          <a:blip r:embed="rId2"/>
          <a:stretch/>
        </p:blipFill>
        <p:spPr>
          <a:xfrm>
            <a:off x="250920" y="3213000"/>
            <a:ext cx="4319640" cy="2853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57"/>
          <p:cNvSpPr/>
          <p:nvPr/>
        </p:nvSpPr>
        <p:spPr>
          <a:xfrm>
            <a:off x="4572000" y="393372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ерного, а иногда темно-коричневого или бурого цвета, густая маслянистая жидкость со своеобразным запахом, нерастворима в воде, плотность меньше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956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Добыча и запасы неф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958680"/>
            <a:ext cx="8435880" cy="14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казанные мировые запасы нефти составляли на 2000 год около 140 млрд. т. Наибольшая их часть - около 64% - приходится на Ближний и Средний Восток, затем идет Америка –  около 1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rooved2"/>
          <p:cNvPicPr/>
          <p:nvPr/>
        </p:nvPicPr>
        <p:blipFill>
          <a:blip r:embed="rId2"/>
          <a:stretch/>
        </p:blipFill>
        <p:spPr>
          <a:xfrm>
            <a:off x="1515960" y="2637000"/>
            <a:ext cx="5792760" cy="359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690560" y="279864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лижний и Средний Восток (6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4000" y="487044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ентральная и Восточная Европа (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516720" y="324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фрика (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68360" y="5950080"/>
            <a:ext cx="1800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падная Европа (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140360" y="6021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 (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867280" y="56800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мерика (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ный состав нефти различных месторождений (в %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2374920"/>
          <a:ext cx="8726400" cy="2422080"/>
        </p:xfrm>
        <a:graphic>
          <a:graphicData uri="http://schemas.openxmlformats.org/drawingml/2006/table">
            <a:tbl>
              <a:tblPr/>
              <a:tblGrid>
                <a:gridCol w="3228840"/>
                <a:gridCol w="1521720"/>
                <a:gridCol w="728640"/>
                <a:gridCol w="728640"/>
                <a:gridCol w="609120"/>
                <a:gridCol w="609480"/>
                <a:gridCol w="609480"/>
                <a:gridCol w="690480"/>
              </a:tblGrid>
              <a:tr h="73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ро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тность, г/см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eeeff"/>
                    </a:solidFill>
                  </a:tcPr>
                </a:tc>
              </a:tr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хтинское (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озненское (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аханское (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Азербайджа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форнийское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СШ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4719600" y="4208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Diagram 2"/>
          <p:cNvGrpSpPr/>
          <p:nvPr/>
        </p:nvGrpSpPr>
        <p:grpSpPr>
          <a:xfrm>
            <a:off x="232200" y="177840"/>
            <a:ext cx="8701200" cy="6246720"/>
            <a:chOff x="232200" y="177840"/>
            <a:chExt cx="8701200" cy="6246720"/>
          </a:xfrm>
        </p:grpSpPr>
        <p:sp>
          <p:nvSpPr>
            <p:cNvPr id="73" name="_s32772"/>
            <p:cNvSpPr/>
            <p:nvPr/>
          </p:nvSpPr>
          <p:spPr>
            <a:xfrm flipH="1" flipV="1">
              <a:off x="2451600" y="2813040"/>
              <a:ext cx="1042560" cy="247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32773"/>
            <p:cNvSpPr/>
            <p:nvPr/>
          </p:nvSpPr>
          <p:spPr>
            <a:xfrm>
              <a:off x="232200" y="1873440"/>
              <a:ext cx="2488680" cy="1846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Азотсодержащие соединения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32774"/>
            <p:cNvSpPr/>
            <p:nvPr/>
          </p:nvSpPr>
          <p:spPr>
            <a:xfrm flipH="1">
              <a:off x="3245040" y="3976560"/>
              <a:ext cx="730800" cy="617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32775"/>
            <p:cNvSpPr/>
            <p:nvPr/>
          </p:nvSpPr>
          <p:spPr>
            <a:xfrm>
              <a:off x="1414800" y="4578480"/>
              <a:ext cx="2487240" cy="184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Неорганические соединения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кремнезём, алюминий, известь, оксиды железа и марганца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32776"/>
            <p:cNvSpPr/>
            <p:nvPr/>
          </p:nvSpPr>
          <p:spPr>
            <a:xfrm>
              <a:off x="5163480" y="3946680"/>
              <a:ext cx="646200" cy="6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32777"/>
            <p:cNvSpPr/>
            <p:nvPr/>
          </p:nvSpPr>
          <p:spPr>
            <a:xfrm>
              <a:off x="5362560" y="4578480"/>
              <a:ext cx="2488680" cy="184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Сернистые соединения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алкил-сульфиды, меркаптаны.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_s32778"/>
            <p:cNvSpPr/>
            <p:nvPr/>
          </p:nvSpPr>
          <p:spPr>
            <a:xfrm flipV="1">
              <a:off x="5556960" y="2813040"/>
              <a:ext cx="1044360" cy="247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_s32779"/>
            <p:cNvSpPr/>
            <p:nvPr/>
          </p:nvSpPr>
          <p:spPr>
            <a:xfrm>
              <a:off x="6444720" y="1871640"/>
              <a:ext cx="2488680" cy="1846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Кислородные соединения: нафтеновые кислоты,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фенолы.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_s32780"/>
            <p:cNvSpPr/>
            <p:nvPr/>
          </p:nvSpPr>
          <p:spPr>
            <a:xfrm flipV="1">
              <a:off x="4526640" y="1711440"/>
              <a:ext cx="0" cy="79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_s32781"/>
            <p:cNvSpPr/>
            <p:nvPr/>
          </p:nvSpPr>
          <p:spPr>
            <a:xfrm>
              <a:off x="3441240" y="177840"/>
              <a:ext cx="2489040" cy="1846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Углеводороды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алканы, алкены, алкины, циклоалканы, арены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_s32782"/>
            <p:cNvSpPr/>
            <p:nvPr/>
          </p:nvSpPr>
          <p:spPr>
            <a:xfrm>
              <a:off x="3441240" y="2511360"/>
              <a:ext cx="2173680" cy="15922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Нефт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 неф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600200"/>
          <a:ext cx="8785080" cy="4708080"/>
        </p:xfrm>
        <a:graphic>
          <a:graphicData uri="http://schemas.openxmlformats.org/drawingml/2006/table">
            <a:tbl>
              <a:tblPr/>
              <a:tblGrid>
                <a:gridCol w="2706120"/>
                <a:gridCol w="1833840"/>
                <a:gridCol w="1321920"/>
                <a:gridCol w="1193040"/>
                <a:gridCol w="1730160"/>
              </a:tblGrid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ро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, г/см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ф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фт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о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мское (РФ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зненское (РФ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руханское (Азербайдж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форнийское (СШ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асское (СШ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598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0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хема современной нефтеперегонной у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перегонка"/>
          <p:cNvPicPr/>
          <p:nvPr/>
        </p:nvPicPr>
        <p:blipFill>
          <a:blip r:embed="rId2"/>
          <a:stretch/>
        </p:blipFill>
        <p:spPr>
          <a:xfrm>
            <a:off x="1176480" y="0"/>
            <a:ext cx="6761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4:16:58Z</dcterms:created>
  <dc:creator>-</dc:creator>
  <dc:description/>
  <dc:language>en-US</dc:language>
  <cp:lastModifiedBy>)</cp:lastModifiedBy>
  <dcterms:modified xsi:type="dcterms:W3CDTF">2013-12-22T18:33:28Z</dcterms:modified>
  <cp:revision>34</cp:revision>
  <dc:subject/>
  <dc:title>Слайд 1</dc:title>
</cp:coreProperties>
</file>