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AF0-D38E-4313-955D-2AAD6036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B08-1263-4A5E-9E0F-CC6C9BB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27B-7921-413A-BBF5-C38F4533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677-2D5A-4CE2-B35D-D3FE640B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1C2-B3ED-4A71-97F0-30BC386B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F0A-5B12-4A8C-ABC4-9B582C8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5F5-EB4B-41DB-971B-70A000B5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2A0D-CC89-44EB-A9D2-733BF824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2C69-884B-415D-BAA6-7D7240C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3C25-4C16-4B0E-9C6A-0929D89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D22A-3024-46DD-8CAF-F13F2F7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62C-8C31-44F8-A091-035CE3BD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8E36-3831-461A-A9DD-A4F4BA5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147-9A4E-4A37-9054-8E82186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12E2-3AF0-4D65-B84C-D79513CA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1036-2A4C-4995-A6C8-C887D1FB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25D-E5B5-4B27-B0A4-135E92E4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3BB-B65A-44F0-9191-598891DF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2D4-9A8B-43C7-8FF2-7ABFB076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233-A899-4AF6-A0AB-D9590D0D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2FE-FB24-40DC-A4CE-DD98AC77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328-F2EC-4C7C-A246-6C86C81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72-60C8-4509-AD05-7392BE0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FBB-C811-43CA-8DF0-5E14EB2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978-C569-456D-90B3-C28149356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634B-7B51-4073-9EAF-E7FC2533F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evaluation_tools/&#1073;&#1091;&#1082;&#1083;&#1077;&#1090;.doc.shs" TargetMode="External"/><Relationship Id="rId3" Type="http://schemas.openxmlformats.org/officeDocument/2006/relationships/hyperlink" Target="file:///../evaluation_tools/&#1087;&#1088;&#1077;&#1079;&#1077;&#1085;&#1090;&#1072;&#1094;&#1080;&#1103;.doc.shs" TargetMode="External"/><Relationship Id="rId4" Type="http://schemas.openxmlformats.org/officeDocument/2006/relationships/hyperlink" Target="file:///../evaluation_tools/web.doc.shs" TargetMode="External"/><Relationship Id="rId5" Type="http://schemas.openxmlformats.org/officeDocument/2006/relationships/hyperlink" Target="file:///../evaluation_tools/web.doc.shs" TargetMode="External"/><Relationship Id="rId6" Type="http://schemas.openxmlformats.org/officeDocument/2006/relationships/hyperlink" Target="http://plan.doc.shs/" TargetMode="External"/><Relationship Id="rId7" Type="http://schemas.openxmlformats.org/officeDocument/2006/relationships/hyperlink" Target="file:///&#1080;&#1090;&#1086;&#1075;.xls" TargetMode="External"/><Relationship Id="rId8" Type="http://schemas.openxmlformats.org/officeDocument/2006/relationships/hyperlink" Target="file:///../student_support/&#1058;&#1077;&#1089;&#1090;%20&#1087;&#1086;%20&#1090;&#1077;&#1084;&#1077;.doc" TargetMode="External"/><Relationship Id="rId9" Type="http://schemas.openxmlformats.org/officeDocument/2006/relationships/hyperlink" Target="file:///../student_support/&#1047;&#1072;&#1076;&#1072;&#1095;&#1072;%20%20&#1085;&#1072;%20%20&#1084;&#1077;&#1093;&#1072;&#1085;&#1080;&#1095;&#1077;&#1089;&#1082;&#1080;&#1081;%20%20&#1088;&#1077;&#1079;&#1086;&#1085;&#1072;&#1085;&#1089;.doc" TargetMode="External"/><Relationship Id="rId10" Type="http://schemas.openxmlformats.org/officeDocument/2006/relationships/hyperlink" Target="file:///../student_support/&#1060;&#1088;&#1072;&#1075;&#1084;&#1077;&#1085;&#1090;%20&#1044;&#1086;&#1082;&#1091;&#1084;&#1077;&#1085;&#1090;%20&apos;&#1047;&#1072;&#1076;&#1072;&#1095;&#1072;%20&#1085;&#1072;%20&#1072;&#1082;&#1091;&#1089;&#1090;&#1080;...&apos;.shs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ект по теме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404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и явление резонанс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ка 11-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: Емелюкова. С. 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СОШ № 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вление резонанса играет огромную роль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 учитывать « вредный » резонанс в тех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резонанса позволяет человеку управлять данным явлением и поставить его на службу люд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ературные ресурсы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Ю. Н. Марков. Физика. Пособие для поступающих в ВУЗы. Изд. Уральского университета, 2003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Н. М. Шахмаев, Н. И. Павлов, В. И. Тыщук. Физический эксперимент в средней школе. М. « Просвещение», 199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А. П. Усольцев. Задачи по физике на основе литературных сюжетов. 7-11 класс. Изд. Уральского университета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   * Ресурсы Интерне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www.npl–rez.ru/litra/biorez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prometheus.al.ru/medic/med1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онтактный адрес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рдловская область, г.Лес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СОШ № 73, ул. Ленина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7527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ь проекта 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мотреть применение резонанса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ке ,в народном хозяйстве и мет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рьбы с вредным резонанс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ш девиз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дчивость и смелость, отвага и удач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беде не растеряться – вот  главная за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31417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Наше кредо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3360" y="4149720"/>
            <a:ext cx="854064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какая ёмкость слова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для нас не просто зв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ка основа и опо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х без исключения нау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адачи проекта 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формировать у учащихся  конкретные представления об изучаемом явлени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онан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отреть виды резонанса: механический, акустический, электр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казать универсальность основных закономерностей колебательных и волновых процессов для колебаний и волн любой физической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казать роль физики в изучении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54064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Нужно ли бороться с явлением резонанс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БЛЕМНЫЕ    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нельзя солдатам идти строем в ногу по мост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е физическое явление положено в основу работы всех музыкальных инструмен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явление резонанса связано с именем А.С.Поп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Основополагающий  вопрос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Этапы  и  сроки  проведения 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оект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улирование тем исследований ученик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групп  для проведения исследований, выбор индивидуальных заданий учениками в групп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творческого названия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уждение плана работы учащихся индивидуально или в груп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суждение со школьниками возможных источников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та в группах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механического резонан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акустического резонан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Явление электрического резонан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: Биорезонан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оектные разработки учащихс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выступление с докладом, демонстрация опы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ппа: создание букл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Материалы проекта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ерии оценивания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буклета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резентации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eb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 – сай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ческие материа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лан провед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визит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рейтинг успевае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дактические материал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тест № 1_x000b_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задача на механический резонан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задача на акустический резонанс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 качественные 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1:02:31Z</dcterms:created>
  <dc:creator>Кабинет информатики</dc:creator>
  <dc:description/>
  <dc:language>en-US</dc:language>
  <cp:lastModifiedBy>Информатика</cp:lastModifiedBy>
  <dcterms:modified xsi:type="dcterms:W3CDTF">2005-11-30T13:16:27Z</dcterms:modified>
  <cp:revision>40</cp:revision>
  <dc:subject/>
  <dc:title>Слайд 1</dc:title>
</cp:coreProperties>
</file>