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B9D0-1B85-44C6-9A93-4CDE9DB2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A876-3E8A-4761-8C6F-91A934BD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EBF5-B857-401D-B818-EDA292AB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F477-1EE9-4257-8792-94F11192B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8BBE-9CE3-4A4B-A73B-65BA4473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4653-864F-469A-84C6-C32AFE76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5BB3-2698-4158-8D27-8AC9B99E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59BD-9A0E-43B0-A863-0E53AC4B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310F-CFA8-4544-B445-16E179FB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94C3-1DD5-4359-AAEC-1ED5A456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CF7A-9C90-4787-8CCE-8C90AD73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C793-856C-49ED-840F-4A2071B0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63C4-408C-4491-9D30-A9D356D3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BB13-6A4C-407D-9903-005967C0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9F11-357A-4C25-9C0F-CBCE486F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9A8A-2A51-422D-BBD3-A673A57D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B8A1-66D1-4CF3-81C8-D8FDC578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1DA1-4F03-4402-BB2B-3DBF0994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A932-68F3-440F-8838-CE2DFC25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DAEF-BD8A-4731-A6E7-058CF06B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B2A8-A5EB-475E-A4B9-03FA2EB6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29E4-B72D-4E01-AA9C-FD96A937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A5D2-D247-4EA7-A2C5-A187ABA8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96D9-F46C-46E1-A285-6270B2BB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D775-200A-4B67-B62F-68799A578D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7C33-027C-47B1-A32D-CAEF5DC08A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valuation_tools/&#1073;&#1091;&#1082;&#1083;&#1077;&#1090;.doc.shs" TargetMode="External"/><Relationship Id="rId3" Type="http://schemas.openxmlformats.org/officeDocument/2006/relationships/hyperlink" Target="file:///../evaluation_tools/&#1087;&#1088;&#1077;&#1079;&#1077;&#1085;&#1090;&#1072;&#1094;&#1080;&#1103;.doc.shs" TargetMode="External"/><Relationship Id="rId4" Type="http://schemas.openxmlformats.org/officeDocument/2006/relationships/hyperlink" Target="file:///../evaluation_tools/web.doc.shs" TargetMode="External"/><Relationship Id="rId5" Type="http://schemas.openxmlformats.org/officeDocument/2006/relationships/hyperlink" Target="file:///../evaluation_tools/web.doc.shs" TargetMode="External"/><Relationship Id="rId6" Type="http://schemas.openxmlformats.org/officeDocument/2006/relationships/hyperlink" Target="http://plan.doc.shs/" TargetMode="External"/><Relationship Id="rId7" Type="http://schemas.openxmlformats.org/officeDocument/2006/relationships/hyperlink" Target="file:///&#1080;&#1090;&#1086;&#1075;.xls" TargetMode="External"/><Relationship Id="rId8" Type="http://schemas.openxmlformats.org/officeDocument/2006/relationships/hyperlink" Target="file:///../student_support/&#1058;&#1077;&#1089;&#1090;%20&#1087;&#1086;%20&#1090;&#1077;&#1084;&#1077;.doc" TargetMode="External"/><Relationship Id="rId9" Type="http://schemas.openxmlformats.org/officeDocument/2006/relationships/hyperlink" Target="file:///../student_support/&#1047;&#1072;&#1076;&#1072;&#1095;&#1072;%20%20&#1085;&#1072;%20%20&#1084;&#1077;&#1093;&#1072;&#1085;&#1080;&#1095;&#1077;&#1089;&#1082;&#1080;&#1081;%20%20&#1088;&#1077;&#1079;&#1086;&#1085;&#1072;&#1085;&#1089;.doc" TargetMode="External"/><Relationship Id="rId10" Type="http://schemas.openxmlformats.org/officeDocument/2006/relationships/hyperlink" Target="file:///../student_support/&#1060;&#1088;&#1072;&#1075;&#1084;&#1077;&#1085;&#1090;%20&#1044;&#1086;&#1082;&#1091;&#1084;&#1077;&#1085;&#1090;%20&apos;&#1047;&#1072;&#1076;&#1072;&#1095;&#1072;%20&#1085;&#1072;%20&#1072;&#1082;&#1091;&#1089;&#1090;&#1080;...&apos;.shs" TargetMode="External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роект по теме: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781000"/>
            <a:ext cx="644040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еловек и явление резонанса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зика 11-кл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ор: Емелюкова. С. 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итель физи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У СОШ № 7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Явление резонанса играет огромную роль в жизни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обходимо учитывать « вредный » резонанс в техни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учение резонанса позволяет человеку управлять данным явлением и поставить его на службу люд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Информационные ресурсы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тературные ресурсы: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) Ю. Н. Марков. Физика. Пособие для поступающих в ВУЗы. Изд. Уральского университета, 2003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) Н. М. Шахмаев, Н. И. Павлов, В. И. Тыщук. Физический эксперимент в средней школе. М. « Просвещение», 199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) А. П. Усольцев. Задачи по физике на основе литературных сюжетов. 7-11 класс. Изд. Уральского университета,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   * Ресурсы Интерне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) www.npl–rez.ru/litra/biorez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) prometheus.al.ru/medic/med1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Контактный адрес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вердловская область, г.Лес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У СОШ № 73, ул. Ленина 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195640" y="3357720"/>
            <a:ext cx="475272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Цель проекта 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смотреть применение резонанса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хнике ,в народном хозяйстве и мет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орьбы с вредным резонанс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700360" y="3789360"/>
            <a:ext cx="339408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Наш девиз: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54064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ходчивость и смелость, отвага и удач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беде не растеряться – вот  главная задач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314172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Наше кредо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3360" y="4149720"/>
            <a:ext cx="8540640" cy="24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изика какая ёмкость слова 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изика для нас не просто звук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изика основа и опор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ех без исключения нау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Задачи проекта :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формировать у учащихся  конкретные представления об изучаемом явлени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зонанс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смотреть виды резонанса: механический, акустический, электрическ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казать универсальность основных закономерностей колебательных и волновых процессов для колебаний и волн любой физической прир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казать роль физики в изучении прир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54064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Нужно ли бороться с явлением резонанса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БЛЕМНЫЕ     ВОПРОС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чему нельзя солдатам идти строем в ногу по мосту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ое физическое явление положено в основу работы всех музыкальных инструмент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 явление резонанса связано с именем А.С.Попов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Основополагающий  вопрос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Этапы  и  сроки  проведения  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проекта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улирование тем исследований учеников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ирование групп  для проведения исследований, выбор индивидуальных заданий учениками в групп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бор творческого названия проек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суждение плана работы учащихся индивидуально или в групп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суждение со школьниками возможных источников информац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Работа в группах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уппа: Явление механического резонан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уппа: Явление акустического резонанс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уппа: Явление электрического резонан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уппа: Биорезонан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Проектные разработки учащихся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руппа: создание презент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руппа: создание презент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руппа: выступление с докладом, демонстрация опы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руппа: создание букле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Материалы проекта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ерии оценивания: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буклета_x000b_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презентации_x000b_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web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 – сай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тодические материалы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план проведения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) визитк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7"/>
              </a:rPr>
              <a:t>рейтинг успеваем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дактические материалы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8"/>
              </a:rPr>
              <a:t>тест № 1_x000b_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9"/>
              </a:rPr>
              <a:t>задача на механический резонанс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10"/>
              </a:rPr>
              <a:t>задача на акустический резонанс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) качественные вопрос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1:02:31Z</dcterms:created>
  <dc:creator>Кабинет информатики</dc:creator>
  <dc:description/>
  <dc:language>en-US</dc:language>
  <cp:lastModifiedBy>Информатика</cp:lastModifiedBy>
  <dcterms:modified xsi:type="dcterms:W3CDTF">2005-11-30T13:16:27Z</dcterms:modified>
  <cp:revision>40</cp:revision>
  <dc:subject/>
  <dc:title>Слайд 1</dc:title>
</cp:coreProperties>
</file>