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3C2A-7A58-4300-BF15-A643D812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ACF-8CA0-4152-8C79-91C1B8C3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12EC-87D0-44CF-B9F7-5143F032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716-EA2B-4AAC-B2E0-0AEA532A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027E-544B-46E1-ACD0-B535BD6B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076C-C390-470B-A1F7-978AD543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09D8-50E9-4A3D-87B0-3183AE24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E164-7B47-442F-9EFB-D6C1FD57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6253-8290-4D87-86F0-DDE77A25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D646-7A87-485B-9DDD-9E69A7F4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4F96-82B0-49C3-8863-774297D0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4C92-C316-48DF-BA41-B2B931CE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74D2-40D8-4516-B151-BCF8E5FC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419F-D614-467B-9A3C-B51F0C6B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6846-76CA-454A-8E5B-FE1CDC87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0DC4-F893-4750-AC08-83518EFD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6E80-B1B7-416E-A194-28499607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390-7715-489B-A819-3FCFBD97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4632-26AB-4FE1-85CF-D19F2A8C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773-59D7-42F6-9FBF-E61D40C6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1559-AB02-4022-9DF4-3370EAF6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9209-00BC-4DBD-99AB-B5B34CB4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6DA-3E01-4EC0-821E-6E3F51D6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8965-5217-4797-8854-FACF54A4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378C-2D5D-44F1-AAF3-46C5F11817CB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60CA-AE0A-4D69-8DB9-8A7724F66B75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25574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Олимпийская гордость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страны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 rot="21303600">
            <a:off x="3419640" y="4292640"/>
            <a:ext cx="5472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1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ИС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МЕТАН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349236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50920" y="189000"/>
            <a:ext cx="48258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000320" cy="26575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3995640" y="2781360"/>
            <a:ext cx="4894200" cy="36702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539640" y="3357720"/>
            <a:ext cx="3673440" cy="2863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79280" y="3428640"/>
            <a:ext cx="432144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 1992 года дни для Раисы Сметаниной также стали складываться из тренировок, только теперь уже – в качестве тренера на Республиканском лыжном комплексе, которому было присвоено её имя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 rot="21218400">
            <a:off x="4254120" y="475920"/>
            <a:ext cx="4859280" cy="26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ениров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должаются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743280" cy="31716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4174920" cy="2811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79280" y="3068640"/>
            <a:ext cx="870912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Наибольшее число наград среди женщин за всю историю зимних Олимпиад (10), столько же только у итальянки Стефании Бельмондо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Первая спортсменка (как среди женщин, так и мужчин), которая сумела завоевать медали на 5 зимних Олимпиадах подряд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708360" y="765000"/>
            <a:ext cx="5111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73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юбимая спортсме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2543040" cy="33336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4356000" y="2060280"/>
            <a:ext cx="478800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Раиса Сметанина – прославленная советская лыжниц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Она вписала яркую страницу в историю развития не только отечественного, но и мирового лыжного спорта. Главное качество лыжницы- это высочайшее мастерство, которое она оттачивала неустанными тренировками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Раиса – человек большой внутренней дисциплины и в спорте и по жизни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И сегодня на неё равняются лыжники уже нового век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50920" y="260280"/>
            <a:ext cx="42498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3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ЭПИЗОД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ортивной судьб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3887640" cy="2881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5003280" y="4797000"/>
            <a:ext cx="4140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Родилась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29 февраля 1952 года в. Мохча, Коми АССР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364000" y="2924280"/>
            <a:ext cx="346716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иса Сметанин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10920" y="19162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4032360" cy="5256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23640" y="2491920"/>
            <a:ext cx="73436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Родилась     Рая    в     семье потомственных  оленеводов. Отец  Пётр  Павлович  родом из Коми – с малолетства приучен к уходу за оленями. Однажды, кочевье сделало остановку неподалёку от Нарьян-Мара, где и увидел девушку Матрёну. Ему было 15 лет, а ей 20. Молодой человек заявил родителям, что дальше без неё не поедет. Никакие уговоры не помогали. Миром-ладом прошёл сговор между родителями, усадили Сметанины девушку на свои нарты и увезли в Мохчу. Там и сыграли позже свадьбу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00000" y="476280"/>
            <a:ext cx="52578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ители Раис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8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250560" y="2133360"/>
            <a:ext cx="5761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Едва Рая научилась ходить, как отец сделал ей первые лямпы (лыжи оленеводов). В 4 годика она уже целыми днями каталась по стойбищу. Старший брат Илья увлекался спортом. Именно от него Рая узнала, что лыжи бывают другие – узкие. Брат часто брал её на тренировки, учил осваивать новые лыжи. Рая полюбила лыжи и с 5 класса стала участвовать в школьных соревнованиях. В восьмом классе она первый раз участвовала в Республиканских лыжных гонках в г. Печора, где заняла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II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место, а ведь обувь была в ботинки 41 размера, а лыжи 2 м 10 с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6920" y="260280"/>
            <a:ext cx="540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чало движени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спортивной карьер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372360" y="2205000"/>
            <a:ext cx="2555640" cy="4103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755640" y="1700280"/>
            <a:ext cx="4105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После школы Рая поступила в педучилище г. Сыктывкара. Там она продолжала упорно тренироваться, результаты становились лучше. Тренер всегда ставил её в пример.  В 19 лет Рая становится мастером спорта СССР.  В 1971 году её приглашают в главную команду Советского Союза по лыжным гонкам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.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В 24 года Раиса заслуженный мастер спорта СССР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50920" y="260280"/>
            <a:ext cx="590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ернистый путь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ртсменк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5580000" y="2565360"/>
            <a:ext cx="2800440" cy="3741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50920" y="2708280"/>
            <a:ext cx="8640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ринимала участие в пяти подряд зимних Олимпиадах, а свою последнюю награду завоевала на Играх в Альбервиле за несколько дней до 40-летия, что является своеобразным рекордом у лыжниц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16360" y="189000"/>
            <a:ext cx="5327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иумфы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исы Сметанино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313080" cy="2303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4209840" y="3284280"/>
            <a:ext cx="4933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-  4-кратная олимпийская чемпионка 1976 г.-гонка на 10 км и эстафета 4х5, 1980 г.-5 км, 1992 г.-эстафета,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- 5-кратный серебряный призёр Олимпийских игр,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- 1 раз бронзовый призёр Олимпийских игр,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- 5-кратная чемпионка мира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(1974 г., 1978 г., 1982 г., 1985 г., 1991г.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Многократная чемпионка СССР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360" y="189000"/>
            <a:ext cx="5256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иумфы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исы Сметанино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4000680" cy="3314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78920" y="4149360"/>
            <a:ext cx="849636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сего на ее счету 26 наград мировых чемпионатов и Олимпиад. По представлению МОК Раисе Сметаниной был присужден международный приз Кубертена. Её именем назван центр лыжного спорта в столице Республики Коми Сыктывкаре. В 1999 году был открыт «Музей Олимпийской чемпионки Раисы Сметаниной» в г. Сыктывкар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284720" y="1700280"/>
            <a:ext cx="4680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иумфы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исы Сметанино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3529080" cy="3571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6:30:15Z</dcterms:created>
  <dc:creator>Дарья</dc:creator>
  <dc:description/>
  <dc:language>en-US</dc:language>
  <cp:lastModifiedBy>СВЕТА</cp:lastModifiedBy>
  <dcterms:modified xsi:type="dcterms:W3CDTF">2014-01-24T17:39:54Z</dcterms:modified>
  <cp:revision>19</cp:revision>
  <dc:subject/>
  <dc:title>Елена Исинбаева</dc:title>
</cp:coreProperties>
</file>