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C3B-D3FA-4688-B1F1-5ADC1310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9D7-DC87-4CA8-A03D-D2E00B7A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CE0-DAD4-40EA-89C0-33DB8C9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900-CD74-4979-89CC-2858D8ED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0EA7-A6C4-4BDE-B89A-00010133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582-7128-43A0-AB93-F1E55FEF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800B-CED1-48C7-B675-6D4160A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AD7F-B5C8-4372-AD67-865BA4FD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0C30-FCB2-4BA1-987F-6880E57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E058-B710-4B63-B97D-9872AE4B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7E4-26B5-4332-B0E2-2777D084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544-24D2-4D50-B69D-D73576A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12E0-DC97-470B-8A64-9F6C770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4C1A-7358-4E18-A8B8-F07BFD5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A0C-E045-4A13-A036-A9726C32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9B2D-877A-4933-B989-214A2083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8551-5D39-4756-B640-BA8D096A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C00-50AD-41B1-B271-24C8D38E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61D-4B16-4B59-A9B2-0716610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CD3-CD92-49DC-8C37-43968652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89F-4840-4DD5-AB78-3D76080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918-511D-44DB-948C-728CC4B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F04-7C23-4299-9557-50C693D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926-6391-469C-964D-D5BE06A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1DE4-BE7A-4D59-A1BA-6B3367B68B99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4C81-BC51-4775-A148-54C4165FB59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2557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Олимпийская гордость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стран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 rot="21303600">
            <a:off x="3419640" y="4292640"/>
            <a:ext cx="547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И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МЕТАН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923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0920" y="189000"/>
            <a:ext cx="4825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00320" cy="265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4894200" cy="3670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4321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 1992 года дни для Раисы Сметаниной также стали складываться из тренировок, только теперь уже – в качестве тренера на Республиканском лыжном комплексе, которому было присвоено её имя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 rot="21218400">
            <a:off x="4254120" y="475920"/>
            <a:ext cx="4859280" cy="26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иров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должают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743280" cy="3171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74920" cy="281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79280" y="3068640"/>
            <a:ext cx="870912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ибольшее число наград среди женщин за всю историю зимних Олимпиад (10), столько же только у итальянки Стефании Бельмондо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ервая спортсменка (как среди женщин, так и мужчин), которая сумела завоевать медали на 5 зимних Олимпиадах подря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08360" y="765000"/>
            <a:ext cx="511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3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юбимая спортсм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2543040" cy="3333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356000" y="2060280"/>
            <a:ext cx="478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Раиса Сметанина – прославленная советская лыжниц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на вписала яркую страницу в историю развития не только отечественного, но и мирового лыжного спорта. Главное качество лыжницы- это высочайшее мастерство, которое она оттачивала неустанными тренировкам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аиса – человек большой внутренней дисциплины и в спорте и по жизн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 сегодня на неё равняются лыжники уже нового ве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0920" y="260280"/>
            <a:ext cx="4249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ИЗОД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ортивной судьб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87640" cy="28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3280" y="4797000"/>
            <a:ext cx="414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лась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9 февраля 1952 года в. Мохча, Коми АССР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64000" y="2924280"/>
            <a:ext cx="346716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иса Сметан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10920" y="19162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23640" y="249192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одилась     Рая    в     семье потомственных  оленеводов. Отец  Пётр  Павлович  родом из Коми – с малолетства приучен к уходу за оленями. Однажды, кочевье сделало остановку неподалёку от Нарьян-Мара, где и увидел девушку Матрёну. Ему было 15 лет, а ей 20. Молодой человек заявил родителям, что дальше без неё не поедет. Никакие уговоры не помогали. Миром-ладом прошёл сговор между родителями, усадили Сметанины девушку на свои нарты и увезли в Мохчу. Там и сыграли позже свадьб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00000" y="476280"/>
            <a:ext cx="525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Раис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50560" y="2133360"/>
            <a:ext cx="5761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Едва Рая научилась ходить, как отец сделал ей первые лямпы (лыжи оленеводов). В 4 годика она уже целыми днями каталась по стойбищу. Старший брат Илья увлекался спортом. Именно от него Рая узнала, что лыжи бывают другие – узкие. Брат часто брал её на тренировки, учил осваивать новые лыжи. Рая полюбила лыжи и с 5 класса стала участвовать в школьных соревнованиях. В восьмом классе она первый раз участвовала в Республиканских лыжных гонках в г. Печора, где заняла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I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место, а ведь обувь была в ботинки 41 размера, а лыжи 2 м 10 с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6920" y="260280"/>
            <a:ext cx="54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чало движ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спортивной карьер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555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55640" y="1700280"/>
            <a:ext cx="410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сле школы Рая поступила в педучилище г. Сыктывкара. Там она продолжала упорно тренироваться, результаты становились лучше. Тренер всегда ставил её в пример.  В 19 лет Рая становится мастером спорта СССР.  В 1971 году её приглашают в главную команду Советского Союза по лыжным гонкам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.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24 года Раиса заслуженный мастер спорта СССР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920" y="260280"/>
            <a:ext cx="59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рнистый путь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ртсмен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2800440" cy="374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50920" y="270828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нимала участие в пяти подряд зимних Олимпиадах, а свою последнюю награду завоевала на Играх в Альбервиле за несколько дней до 40-летия, что является своеобразным рекордом у лыжниц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16360" y="189000"/>
            <a:ext cx="532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1308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209840" y="3284280"/>
            <a:ext cx="4933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 4-кратная олимпийская чемпионка 1976 г.-гонка на 10 км и эстафета 4х5, 1980 г.-5 км, 1992 г.-эстафета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5-кратный серебряный призёр Олимпийских игр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1 раз бронзовый призёр Олимпийских игр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5-кратная чемпионка ми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974 г., 1978 г., 1982 г., 1985 г., 1991г.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ногократная чемпионка СССР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89000"/>
            <a:ext cx="5256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000680" cy="3314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49636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его на ее счету 26 наград мировых чемпионатов и Олимпиад. По представлению МОК Раисе Сметаниной был присужден международный приз Кубертена. Её именем назван центр лыжного спорта в столице Республики Коми Сыктывкаре. В 1999 году был открыт «Музей Олимпийской чемпионки Раисы Сметаниной» в г. Сыктывкар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4720" y="1700280"/>
            <a:ext cx="46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5290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30:15Z</dcterms:created>
  <dc:creator>Дарья</dc:creator>
  <dc:description/>
  <dc:language>en-US</dc:language>
  <cp:lastModifiedBy>СВЕТА</cp:lastModifiedBy>
  <dcterms:modified xsi:type="dcterms:W3CDTF">2014-01-24T17:39:54Z</dcterms:modified>
  <cp:revision>19</cp:revision>
  <dc:subject/>
  <dc:title>Елена Исинбаева</dc:title>
</cp:coreProperties>
</file>