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55B-E83E-4F76-86E6-677B8132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698-6130-44BE-B809-11D72EEC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5A7-6C25-432F-A182-0A9B559F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B0A-74EF-4CBE-8239-6B326021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7931-F918-4169-9B4D-528B2E04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6865-4A9B-43A3-AAA3-BBE27624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6A0A-7967-4942-B4AE-E6CBA748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41E7-06AC-4FD3-8013-6FD6178B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EE66-AF04-43E9-85C9-48C33320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CA7A-4977-4266-B48C-21D5DEC0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A790-9D13-4D56-AC64-0BEE8741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C76-8DDD-4CDF-8BD6-2D684016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C1E0-E66A-46BD-A750-3CF6B9B2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C562-D720-4363-BD49-F5491DD9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811C-E940-4C9F-B651-2F736964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5287-2DF9-4E18-9BCD-1190B9A8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8EF5-A8A4-4558-A950-18B4B58F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EA44-3177-4558-B80E-79F400FB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5015-348E-40EE-AB78-0861FBC2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0028-422C-405E-89C4-D4741285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B571-CD28-4B52-A5E1-E6D8CF5B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1949-E445-4652-A59A-DE3A4AD6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413-3837-4F1F-AEB7-06696A3C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8A9AA-927E-4922-B1DC-B3931B50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11FD-F03A-43DC-9B26-B903673C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A747-756E-4174-A863-47154B48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D56B-0021-4CC9-9B9A-141A9F71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5951D-CD29-44D1-A612-C4075064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98EF6-7200-4E9F-A312-F97058C3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E044-95C1-4FD3-B46E-2A5364E9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8B9B6-CF12-4059-88FF-08DC1819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52427-D536-41DC-B54F-BD1015EA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EADE8-201E-4E97-83D5-C36D17F7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440-A351-4D23-AA33-ED048332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99BAE-94AA-4A8E-ACF0-EF87AFE1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14601-09A4-46F2-AC7E-1DA89A96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6C4A0-B12A-47B4-8E00-C35C5B0A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74888-2CD7-41D1-86DE-05E69C3B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E70F-2ED4-4997-B452-D52A2BE6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5B55E-8C84-48FB-95B0-5A9FCDE8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6E11-053C-4A01-84AB-45DC4D3D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F1EE0-61AC-4136-956A-FD929103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6E5ED-1E5A-4270-BE72-19C79BF8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0F746-7D1F-484B-8941-D75263EC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94E-6542-4DD7-AE7E-FF57DE88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A408-8520-4577-84B8-57E82BA1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0DBBD-2848-4124-994E-7DF35E90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0741F-80D0-40DD-B72D-D3ECC1FB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C4A5A-A6F8-4801-8E2A-F4BA0573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245B9-D90A-44A5-8170-67362ECD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E41BA-E8AF-4168-81F7-F4741A4B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D8AB4-66CA-442E-A8C7-DAEF5421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3EE4-F5A8-44AA-A9D0-F40B004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0FC48-6E9C-4906-B68E-936360B6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CB5E-19B9-474B-B847-16EB2241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D52-9320-406E-8575-67E58777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FB24C-4D85-477B-972C-31C0F4DD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CAA-E460-49DE-802D-7470910D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AF0-4F57-4B8C-88DA-FC1C3075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B62-837D-4EE2-8B65-A7616AC7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F4A5-67D2-4E0D-BA74-D619612BC6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0AE9-ECF0-42A8-8132-15561E6E9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A7B0-E609-4A43-BF1D-0682CC748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58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a58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8BD4-AC29-487E-A653-B355EC9A9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CD7D-F3D7-4AA4-BB5B-7817BD0FD0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8"/>
          <p:cNvSpPr/>
          <p:nvPr/>
        </p:nvSpPr>
        <p:spPr>
          <a:xfrm>
            <a:off x="2286000" y="214308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Заголовок 1"/>
          <p:cNvSpPr/>
          <p:nvPr/>
        </p:nvSpPr>
        <p:spPr>
          <a:xfrm>
            <a:off x="642960" y="857160"/>
            <a:ext cx="82152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кислительно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осстановительные свойства   серной кисло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786120" y="4071960"/>
            <a:ext cx="44290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Ермолаева Светла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МБОУ СОШ №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Г.Узловая Тульская об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495c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91440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Реакции концентрированной серной кислоты с малоактивными метал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одержимое 2"/>
          <p:cNvSpPr/>
          <p:nvPr/>
        </p:nvSpPr>
        <p:spPr>
          <a:xfrm>
            <a:off x="428760" y="2643120"/>
            <a:ext cx="822960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 + 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=  Cu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+ 2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+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 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 2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станов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+   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→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1"/>
          <p:cNvSpPr/>
          <p:nvPr/>
        </p:nvSpPr>
        <p:spPr>
          <a:xfrm>
            <a:off x="91440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еакции концентрированной серной кислоты с неметаллами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одержимое 2"/>
          <p:cNvSpPr/>
          <p:nvPr/>
        </p:nvSpPr>
        <p:spPr>
          <a:xfrm>
            <a:off x="1000080" y="157176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 +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 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 + 3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Calibri"/>
              </a:rPr>
              <a:t>0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 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4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стано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Calibri"/>
              </a:rPr>
              <a:t>+6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4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2P + 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=  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+ 5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+ 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→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5+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*2 восстано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2e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*5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исл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914400" y="92880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заимодействие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концентрированной серной кислоты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с органическими веществами 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4"/>
          <p:cNvSpPr/>
          <p:nvPr/>
        </p:nvSpPr>
        <p:spPr>
          <a:xfrm>
            <a:off x="785880" y="1643040"/>
            <a:ext cx="771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11С +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H2 SO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   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H2 SO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    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   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→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8"/>
          <p:cNvPicPr/>
          <p:nvPr/>
        </p:nvPicPr>
        <p:blipFill>
          <a:blip r:embed="rId1"/>
          <a:stretch/>
        </p:blipFill>
        <p:spPr>
          <a:xfrm>
            <a:off x="4716360" y="189000"/>
            <a:ext cx="4105440" cy="3887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324000" y="41497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Концентрированная серая кисл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та </a:t>
            </a:r>
            <a:r>
              <a:rPr b="1" i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обугливает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органически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95280" y="501120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равила техники безопасност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ботать с кислотами необходимо аккуратно, так как можно получить ожог или отравление. При попадании кислоты на кожу надо смыть ее струей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10"/>
          <p:cNvPicPr/>
          <p:nvPr/>
        </p:nvPicPr>
        <p:blipFill>
          <a:blip r:embed="rId2">
            <a:lum contrast="36000"/>
          </a:blip>
          <a:srcRect l="0" t="10620" r="2507" b="0"/>
          <a:stretch/>
        </p:blipFill>
        <p:spPr>
          <a:xfrm>
            <a:off x="179280" y="189000"/>
            <a:ext cx="4140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5" descr="mendeleev.jpg"/>
          <p:cNvPicPr/>
          <p:nvPr/>
        </p:nvPicPr>
        <p:blipFill>
          <a:blip r:embed="rId1"/>
          <a:stretch/>
        </p:blipFill>
        <p:spPr>
          <a:xfrm>
            <a:off x="2895480" y="476280"/>
            <a:ext cx="3279960" cy="3906720"/>
          </a:xfrm>
          <a:prstGeom prst="rect">
            <a:avLst/>
          </a:prstGeom>
          <a:ln w="0">
            <a:noFill/>
          </a:ln>
        </p:spPr>
      </p:pic>
      <p:grpSp>
        <p:nvGrpSpPr>
          <p:cNvPr id="210" name="TextBox 6"/>
          <p:cNvGrpSpPr/>
          <p:nvPr/>
        </p:nvGrpSpPr>
        <p:grpSpPr>
          <a:xfrm>
            <a:off x="944640" y="4151160"/>
            <a:ext cx="7529400" cy="2084400"/>
            <a:chOff x="944640" y="4151160"/>
            <a:chExt cx="7529400" cy="2084400"/>
          </a:xfrm>
        </p:grpSpPr>
        <p:pic>
          <p:nvPicPr>
            <p:cNvPr id="211" name="TextBox 6" descr=""/>
            <p:cNvPicPr/>
            <p:nvPr/>
          </p:nvPicPr>
          <p:blipFill>
            <a:blip r:embed="rId2"/>
            <a:stretch/>
          </p:blipFill>
          <p:spPr>
            <a:xfrm>
              <a:off x="944640" y="4151160"/>
              <a:ext cx="7529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071720" y="4214880"/>
              <a:ext cx="72864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Едва ли найдётся другое, искусственно добываемое, вещество, столь часто применяемое в технике, как серная кислота. Там, где техническая деятельность развита, там потребляется и много серной кислот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      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Д. И. Менделее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285840" y="28584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Реакции разбавленной серной кислоты с активными метал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571760" y="1643040"/>
            <a:ext cx="63579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Li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L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↑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- 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*2   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+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Ca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↑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+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214200" y="214200"/>
            <a:ext cx="86439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еакции разбавленной  серной кислоты с  металлами средней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619280" y="2205000"/>
            <a:ext cx="638172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n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-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42920" y="428760"/>
            <a:ext cx="871524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Реакции разбавленной  серной кислоты с  алюминием и желе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00080" y="1714680"/>
            <a:ext cx="77868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Al + 3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3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3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восстанов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3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Fe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восстанов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571680" y="285840"/>
            <a:ext cx="829116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Реакции разбавленной серной кислоты с малоактивными метал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1149120" y="2428920"/>
            <a:ext cx="63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u +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- не взаимодей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71680" y="57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Реакции концентрированной серной кислоты с активными метал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928800" y="2428920"/>
            <a:ext cx="77151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Na + 5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k)  =  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   + 4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   4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- 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*8  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+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2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еакции концентрированной  серной кислоты с  металлами средней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одержимое 2"/>
          <p:cNvSpPr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n + 2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2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+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 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 2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+  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4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Zn + 5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4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4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 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 2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+   8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2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Zn + 4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 3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+ 4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 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 2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3 восстанов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+   6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→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1 окис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1"/>
          <p:cNvSpPr/>
          <p:nvPr/>
        </p:nvSpPr>
        <p:spPr>
          <a:xfrm>
            <a:off x="3000240" y="785880"/>
            <a:ext cx="31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91440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Реакции концентрированной  серной кислоты с  алюминием и желе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642960" y="1428840"/>
            <a:ext cx="80010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холоде концентрированная серная кислота пассивирует многие металлы, в том числе РЬ, Cr, Ni, сталь, чугун.При нагревании реакционной смеси происходит химическая реак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Al+15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4 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3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↑ +12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3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8  восстанов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+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2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3 окисл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Fe+15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4 F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3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↑ +12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3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8  восстанов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6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3 окислит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7:14:30Z</dcterms:created>
  <dc:creator>Миша</dc:creator>
  <dc:description/>
  <dc:language>en-US</dc:language>
  <cp:lastModifiedBy>1</cp:lastModifiedBy>
  <dcterms:modified xsi:type="dcterms:W3CDTF">2013-12-06T17:10:12Z</dcterms:modified>
  <cp:revision>51</cp:revision>
  <dc:subject/>
  <dc:title>Серная кислота</dc:title>
</cp:coreProperties>
</file>