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3342-B0D4-4A7B-9DB6-F247CCDBC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A714-4069-4134-9A99-9E3E922C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AF65-8944-4AC1-A7B7-C9F4A7B42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CD71-4927-4733-B20C-51531694D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128A-42A8-432B-A703-F80B0F80A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7C1D-A708-4276-AA66-B71192B8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F10F-9EBC-4201-B380-6097EF5D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FB73-BF8F-4189-9B91-5FC454DC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5708-439F-4445-A801-1D14CA3B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6E57-72BE-486A-B22F-CF9B35CA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EF7D-B204-400B-B582-6A54600F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BAA5-2BD8-479D-BFB3-3E2C3944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3032-467E-4C30-A5F6-1A0532C7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83A9-EF0A-4CA3-9A58-7A52F6B6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C7FA-3D55-481A-97E1-902E5A6E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AC02-4092-4BC7-B508-E42E0DC89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BDA2-ED8A-44E9-8DA8-98BBE8223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065FE-CC41-4FD5-ABAF-6DD0E0C00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EC5DD-AA54-437F-956D-4E87F0A2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D013C-F1BC-495B-BAB8-C2037563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C97D2-E82B-4EE2-9343-7A71360B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A145F-C5D4-46C7-8701-723830BA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A4F4-B0C6-4BBE-86DF-71F27BAA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0A15E-BF76-4C7F-A873-AE6A4432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F6DA0-0B25-4F78-A9D7-EE63F3BD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79C73-BBCD-4576-A14A-C48EBEE4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E4339-0B8D-47AA-94B3-379ADE19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06792-E70E-44F5-B7C4-36903295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DDEFB-D1DB-4D8B-B173-5A0437C40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52537-3852-452A-A4AE-EAAFB280C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B960A-60B0-4707-96F4-D46199B8C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8DCCB-3858-4193-82D9-40EB6060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C4F61-CB35-4F1D-808E-9468DB3A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B4C9-5D7A-4193-B876-19751D09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27524-CC97-4504-8D39-C33E5589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46A54-2D8A-42B8-B6CE-CC3F1BDF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D3AEA-083C-4E0D-83CB-324D2667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BBB2D-E86A-4378-88EE-3037F15F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E5F31-FBBF-4FCC-B245-2F1B114D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93564-C319-4CE3-916A-CDC7C260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EE185-E365-4EA2-AA75-2DD18A6F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3E12B-41DA-44C9-B5D0-A222651B3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2BB2E-CD3B-425A-9907-751C360E3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36C45-0AEB-4A14-8462-E921C2703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0D21-FF0D-418F-B517-CDA0D3A6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30A1C-CFC3-4BD0-A8FA-A3D02938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CC7FB-B4F6-4378-8EA4-C97BA816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49E4E-B3DB-4B4A-A121-2389B277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1AEB9-142A-4E0B-80C7-83ADC60D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6E531-C54C-4EA8-A88C-706F03C2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3614D-FC52-4903-BB61-BA339CE5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B69CE-D83E-43C6-9D14-8C7BDAEF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24E06-5297-40D7-96B9-F7CA71D2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1ADEB-8846-47E0-96F4-5320FAE8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2C31E-F5DB-4A64-B59F-1BFEB809C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FFCE-EECE-436B-8369-64A5B8EF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92443-21B6-4933-AAE4-781F6407A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18DB-5A31-4BE8-8B44-418C03BA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DA3E-0D6F-4B06-BE62-42DB0747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6A48-ED6A-4E99-A522-90600587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C8D8-4004-478A-A540-3A1B8958C29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FDDF-B70F-4974-AAC7-3C5A35898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47FB-F048-4E32-B292-0A9E91059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58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a58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C277-97D2-471D-9BC6-29760B596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445D-5BFA-4C1F-BD51-E80F0AB4B30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8"/>
          <p:cNvSpPr/>
          <p:nvPr/>
        </p:nvSpPr>
        <p:spPr>
          <a:xfrm>
            <a:off x="2286000" y="2143080"/>
            <a:ext cx="3929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Заголовок 1"/>
          <p:cNvSpPr/>
          <p:nvPr/>
        </p:nvSpPr>
        <p:spPr>
          <a:xfrm>
            <a:off x="642960" y="857160"/>
            <a:ext cx="821520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Окислительно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восстановительные свойства   серной кислот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3786120" y="4071960"/>
            <a:ext cx="442908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3495c"/>
                </a:solidFill>
                <a:latin typeface="Calibri"/>
              </a:rPr>
              <a:t>Ермолаева Светлана Анатол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3495c"/>
                </a:solidFill>
                <a:latin typeface="Calibri"/>
              </a:rPr>
              <a:t>МБОУ СОШ №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3495c"/>
                </a:solidFill>
                <a:latin typeface="Calibri"/>
              </a:rPr>
              <a:t>Г.Узловая Тульская об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3495c"/>
                </a:solidFill>
                <a:latin typeface="Calibri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11"/>
          <p:cNvSpPr/>
          <p:nvPr/>
        </p:nvSpPr>
        <p:spPr>
          <a:xfrm>
            <a:off x="3000240" y="785880"/>
            <a:ext cx="3143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Заголовок 1"/>
          <p:cNvSpPr/>
          <p:nvPr/>
        </p:nvSpPr>
        <p:spPr>
          <a:xfrm>
            <a:off x="914400" y="642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Реакции концентрированной серной кислоты с малоактивными металл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одержимое 2"/>
          <p:cNvSpPr/>
          <p:nvPr/>
        </p:nvSpPr>
        <p:spPr>
          <a:xfrm>
            <a:off x="428760" y="2643120"/>
            <a:ext cx="8229600" cy="20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u + 2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=  Cu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+ 2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 + 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  2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→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+ 2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станов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+6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+   2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→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+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исл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1"/>
          <p:cNvSpPr/>
          <p:nvPr/>
        </p:nvSpPr>
        <p:spPr>
          <a:xfrm>
            <a:off x="3000240" y="785880"/>
            <a:ext cx="3143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Заголовок 1"/>
          <p:cNvSpPr/>
          <p:nvPr/>
        </p:nvSpPr>
        <p:spPr>
          <a:xfrm>
            <a:off x="914400" y="28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Реакции концентрированной серной кислоты с неметаллами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Содержимое 2"/>
          <p:cNvSpPr/>
          <p:nvPr/>
        </p:nvSpPr>
        <p:spPr>
          <a:xfrm>
            <a:off x="1000080" y="1571760"/>
            <a:ext cx="8001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 +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=   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 + 3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Calibri"/>
              </a:rPr>
              <a:t>0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  4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→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+4         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сстанов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Calibri"/>
              </a:rPr>
              <a:t>+6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+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→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+4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*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кисл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2P + 5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=   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+ 5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+ 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5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→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5+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*2 восстанов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6+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2e →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*5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кисли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11"/>
          <p:cNvSpPr/>
          <p:nvPr/>
        </p:nvSpPr>
        <p:spPr>
          <a:xfrm>
            <a:off x="3000240" y="785880"/>
            <a:ext cx="3143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Заголовок 1"/>
          <p:cNvSpPr/>
          <p:nvPr/>
        </p:nvSpPr>
        <p:spPr>
          <a:xfrm>
            <a:off x="914400" y="92880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Взаимодействие </a:t>
            </a: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концентрированной серной кислоты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с органическими веществами 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одержимое 4"/>
          <p:cNvSpPr/>
          <p:nvPr/>
        </p:nvSpPr>
        <p:spPr>
          <a:xfrm>
            <a:off x="785880" y="1643040"/>
            <a:ext cx="7715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1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+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3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+ 11С + С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H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H2 SO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→     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H 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H2 SO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→      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5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H    + 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→ 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 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8"/>
          <p:cNvPicPr/>
          <p:nvPr/>
        </p:nvPicPr>
        <p:blipFill>
          <a:blip r:embed="rId1"/>
          <a:stretch/>
        </p:blipFill>
        <p:spPr>
          <a:xfrm>
            <a:off x="4716360" y="189000"/>
            <a:ext cx="4105440" cy="388764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324000" y="414972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Концентрированная серая кисл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та </a:t>
            </a:r>
            <a:r>
              <a:rPr b="1" i="1" lang="ru-RU" sz="2800" spc="-1" strike="noStrike" u="sng">
                <a:solidFill>
                  <a:srgbClr val="3333cc"/>
                </a:solidFill>
                <a:uFillTx/>
                <a:latin typeface="Times New Roman"/>
              </a:rPr>
              <a:t>обугливает </a:t>
            </a: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органические ве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395280" y="5011200"/>
            <a:ext cx="84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Правила техники безопасности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Работать с кислотами необходимо аккуратно, так как можно получить ожог или отравление. При попадании кислоты на кожу надо смыть ее струей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10"/>
          <p:cNvPicPr/>
          <p:nvPr/>
        </p:nvPicPr>
        <p:blipFill>
          <a:blip r:embed="rId2">
            <a:lum contrast="36000"/>
          </a:blip>
          <a:srcRect l="0" t="10620" r="2507" b="0"/>
          <a:stretch/>
        </p:blipFill>
        <p:spPr>
          <a:xfrm>
            <a:off x="179280" y="189000"/>
            <a:ext cx="41403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11"/>
          <p:cNvSpPr/>
          <p:nvPr/>
        </p:nvSpPr>
        <p:spPr>
          <a:xfrm>
            <a:off x="3000240" y="785880"/>
            <a:ext cx="3143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Рисунок 5" descr="mendeleev.jpg"/>
          <p:cNvPicPr/>
          <p:nvPr/>
        </p:nvPicPr>
        <p:blipFill>
          <a:blip r:embed="rId1"/>
          <a:stretch/>
        </p:blipFill>
        <p:spPr>
          <a:xfrm>
            <a:off x="2895480" y="476280"/>
            <a:ext cx="3279960" cy="3906720"/>
          </a:xfrm>
          <a:prstGeom prst="rect">
            <a:avLst/>
          </a:prstGeom>
          <a:ln w="0">
            <a:noFill/>
          </a:ln>
        </p:spPr>
      </p:pic>
      <p:grpSp>
        <p:nvGrpSpPr>
          <p:cNvPr id="210" name="TextBox 6"/>
          <p:cNvGrpSpPr/>
          <p:nvPr/>
        </p:nvGrpSpPr>
        <p:grpSpPr>
          <a:xfrm>
            <a:off x="944640" y="4151160"/>
            <a:ext cx="7529400" cy="2084400"/>
            <a:chOff x="944640" y="4151160"/>
            <a:chExt cx="7529400" cy="2084400"/>
          </a:xfrm>
        </p:grpSpPr>
        <p:pic>
          <p:nvPicPr>
            <p:cNvPr id="211" name="TextBox 6" descr=""/>
            <p:cNvPicPr/>
            <p:nvPr/>
          </p:nvPicPr>
          <p:blipFill>
            <a:blip r:embed="rId2"/>
            <a:stretch/>
          </p:blipFill>
          <p:spPr>
            <a:xfrm>
              <a:off x="944640" y="4151160"/>
              <a:ext cx="752940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1071720" y="4214880"/>
              <a:ext cx="728640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Едва ли найдётся другое, искусственно добываемое, вещество, столь часто применяемое в технике, как серная кислота. Там, где техническая деятельность развита, там потребляется и много серной кислоты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                                                           </a:t>
              </a: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Д. И. Менделее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11"/>
          <p:cNvSpPr/>
          <p:nvPr/>
        </p:nvSpPr>
        <p:spPr>
          <a:xfrm>
            <a:off x="3000240" y="785880"/>
            <a:ext cx="3143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285840" y="285840"/>
            <a:ext cx="8643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mic Sans MS"/>
              </a:rPr>
              <a:t>Реакции разбавленной серной кислоты с активными металл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1571760" y="1643040"/>
            <a:ext cx="635796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Li 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=  L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↑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- 1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*2   восстанов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+ 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кисл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 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=  Ca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↑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e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станов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+ 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кисл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1"/>
          <p:cNvSpPr/>
          <p:nvPr/>
        </p:nvSpPr>
        <p:spPr>
          <a:xfrm>
            <a:off x="3000240" y="785880"/>
            <a:ext cx="3143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214200" y="214200"/>
            <a:ext cx="864396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Реакции разбавленной  серной кислоты с  металлами средней актив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1619280" y="2205000"/>
            <a:ext cx="638172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Zn 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=  Zn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n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- 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→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n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осстанов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+ 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окисл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11"/>
          <p:cNvSpPr/>
          <p:nvPr/>
        </p:nvSpPr>
        <p:spPr>
          <a:xfrm>
            <a:off x="3000240" y="785880"/>
            <a:ext cx="3143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142920" y="428760"/>
            <a:ext cx="871524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mic Sans MS"/>
              </a:rPr>
              <a:t>Реакции разбавленной  серной кислоты с  алюминием и желез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1000080" y="1714680"/>
            <a:ext cx="7786800" cy="37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Al + 3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=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+3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+3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восстанови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+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*3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кисл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e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= Fe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e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*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восстанови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+ 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*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кисл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1"/>
          <p:cNvSpPr/>
          <p:nvPr/>
        </p:nvSpPr>
        <p:spPr>
          <a:xfrm>
            <a:off x="3000240" y="785880"/>
            <a:ext cx="3143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571680" y="285840"/>
            <a:ext cx="829116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mic Sans MS"/>
              </a:rPr>
              <a:t>Реакции разбавленной серной кислоты с малоактивными металл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6"/>
          <p:cNvSpPr/>
          <p:nvPr/>
        </p:nvSpPr>
        <p:spPr>
          <a:xfrm>
            <a:off x="1149120" y="2428920"/>
            <a:ext cx="63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u + H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- не взаимодейству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1"/>
          <p:cNvSpPr/>
          <p:nvPr/>
        </p:nvSpPr>
        <p:spPr>
          <a:xfrm>
            <a:off x="3000240" y="785880"/>
            <a:ext cx="3143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571680" y="571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mic Sans MS"/>
              </a:rPr>
              <a:t>Реакции концентрированной серной кислоты с активными металл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928800" y="2428920"/>
            <a:ext cx="771516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Na + 5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(k)  =  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   + 4N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+    4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- 1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*8  восстанов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+6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+8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-2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кисл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1"/>
          <p:cNvSpPr/>
          <p:nvPr/>
        </p:nvSpPr>
        <p:spPr>
          <a:xfrm>
            <a:off x="3000240" y="785880"/>
            <a:ext cx="3143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Заголовок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Реакции концентрированной  серной кислоты с  металлами средней актив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одержимое 2"/>
          <p:cNvSpPr/>
          <p:nvPr/>
        </p:nvSpPr>
        <p:spPr>
          <a:xfrm>
            <a:off x="42876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Zn + 2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=  Zn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+ 2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 + 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n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  2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→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n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+ 2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станов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+6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+   2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→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+4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кисл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Zn + 5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=  4Zn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+ 4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 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n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  2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→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n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+ 2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*4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станов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+6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+   8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→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-2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*1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кисл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Zn + 4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=  3Zn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+ 4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 +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n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  2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→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n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+ 2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*3 восстанов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+6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+   6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→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*1 окисл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11"/>
          <p:cNvSpPr/>
          <p:nvPr/>
        </p:nvSpPr>
        <p:spPr>
          <a:xfrm>
            <a:off x="3000240" y="785880"/>
            <a:ext cx="3143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Заголовок 1"/>
          <p:cNvSpPr/>
          <p:nvPr/>
        </p:nvSpPr>
        <p:spPr>
          <a:xfrm>
            <a:off x="914400" y="28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Реакции концентрированной  серной кислоты с  алюминием и желез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одержимое 2"/>
          <p:cNvSpPr/>
          <p:nvPr/>
        </p:nvSpPr>
        <p:spPr>
          <a:xfrm>
            <a:off x="642960" y="1428840"/>
            <a:ext cx="800100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холоде концентрированная серная кислота пассивирует многие металлы, в том числе РЬ, Cr, Ni, сталь, чугун.При нагревании реакционной смеси происходит химическая реакц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Al+15 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4 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3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↑ +12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+3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*8  восстанови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+6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+8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-2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*3 окислите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Fe+15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=4 F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+3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↑ +12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3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8  восстановит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6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2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3 окислит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7:14:30Z</dcterms:created>
  <dc:creator>Миша</dc:creator>
  <dc:description/>
  <dc:language>en-US</dc:language>
  <cp:lastModifiedBy>1</cp:lastModifiedBy>
  <dcterms:modified xsi:type="dcterms:W3CDTF">2013-12-06T17:10:12Z</dcterms:modified>
  <cp:revision>51</cp:revision>
  <dc:subject/>
  <dc:title>Серная кислота</dc:title>
</cp:coreProperties>
</file>