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hammer.wav" ContentType="audio/x-wav"/>
  <Override PartName="/ppt/media/camera.wav" ContentType="audio/x-wav"/>
  <Override PartName="/ppt/media/explode.wav" ContentType="audio/x-wav"/>
  <Override PartName="/ppt/media/image7.png" ContentType="image/png"/>
  <Override PartName="/ppt/media/image6.png" ContentType="image/png"/>
  <Override PartName="/ppt/media/image5.png" ContentType="image/png"/>
  <Override PartName="/ppt/media/image1.png" ContentType="image/png"/>
  <Override PartName="/ppt/media/image2.png" ContentType="image/png"/>
  <Override PartName="/ppt/media/image3.png" ContentType="image/png"/>
  <Override PartName="/ppt/media/voltage.wav" ContentType="audio/x-wav"/>
  <Override PartName="/ppt/media/applause.wav" ContentType="audio/x-wav"/>
  <Override PartName="/ppt/media/drumroll.wav" ContentType="audio/x-wav"/>
  <Override PartName="/ppt/media/image4.png" ContentType="image/png"/>
  <Override PartName="/ppt/media/laser.wav" ContentType="audio/x-wav"/>
  <Override PartName="/ppt/media/wind.wav" ContentType="audio/x-wav"/>
  <Override PartName="/ppt/media/chimes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652-F059-4C09-9550-2B2766F4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A14-D986-49C6-B161-37360980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908-5E4D-4F4D-8E6A-70551AD2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28-5DC1-461B-8067-74FC75E4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0F63-B8EB-4396-A3BD-05C5514C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82F6-02F0-4991-AFE1-0ADAC19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9415-0FD4-4145-B52A-3182422A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D931-92CA-4541-9860-6FE7062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B7E-FE2C-4B37-8DBD-8EC011C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50B-B67F-4BF3-A46D-458782F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A65-320C-43B6-812D-EFD6036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668-A87F-4DA6-9806-71EC8C3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1C32-35A9-40AA-B334-0285866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58B8-BE83-4D3D-8E6D-2AB269C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DE5C-D5C9-4A1A-8EA7-730D403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E1E3-4C93-47B9-B545-3948B33A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FCD-1741-4BCF-9459-4DE15B2E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5BCC-8EB0-4D79-B408-59FCF5CE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C507-D463-4FF1-9FD9-4202AB89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038D-3678-4CDE-80DD-F34199F3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1C57-F030-4854-B620-ABA2AA1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B939F-3278-4A59-976A-6F24396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113-DEF7-45B2-B872-7ADA5195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214F-E885-4FC8-A818-041AC97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302D-8D9E-4559-A48C-E05A372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A802-2899-440C-AFCD-690FF184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A7AB-DFF6-4C96-ABCF-1C425ED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9C0C-FC16-4C04-A01E-82263D82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7CC0-7519-41BF-8115-60C8F091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F57F-43EE-487A-B3CF-EB5A30E2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DE85-730A-45C4-94B5-FB0AB47A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31C3-5FB8-432B-8D78-75AB6267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90E3-7D33-4816-9051-6B10B0E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8D7-5DA9-4E6A-8A7D-293A3E6A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9EEBF-C614-4FAE-A0D2-B41B418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AD6A-850D-4573-B40D-3F20739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6C7A-9D12-4F1E-85E5-E71B43AA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322A-42D7-4D1D-B61E-B46595D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773A-AA78-458E-AB33-A32BE601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5516-6F89-46F2-97B4-4628498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48B7-7442-43E9-8358-AAA231F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5C97-6844-493C-8777-EB757343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0A8C-937C-44C8-B77D-B786D5F7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2E0A-9E9B-4704-91E4-9D7C831A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89A-50AB-44CE-AC9E-7B61281B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1765-1EE4-4452-8C87-F066CC0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4A2F-9E74-43D4-8489-321D6244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559B-CCD8-491C-A2A8-61F9873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D76E-DF61-45A6-970D-50C936BA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9A1BA-E66A-42CE-B4D9-E5035790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70BF-E1B0-4DC9-B8C4-C0476A2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162A-66FB-4A2E-9007-890EB4E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5314-E8C0-47F3-977E-8E0053BC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22A5-C53B-4A75-AAF2-E517FAD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42E5-2BDA-44B0-BF77-827A7010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3E6-0C8A-4472-B8D9-523124CF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6C2D-2ECF-43ED-AAD6-53C0D19C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2C9C-04A1-4748-8276-9C9C222E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70F6-6867-43B4-BB94-6CFE28F2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335A-18A1-47F9-980F-3D9EC86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C23C-AF49-4994-B8DF-CE51A6C3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64C0-266A-4A6C-886E-B7A9A728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AC3C-DBE6-4A8B-9BE9-7F3BE25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8E2D-02C1-40D5-81CF-7164EBC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4830-CE99-49F2-AA0F-FC792C92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B57D-8D37-4BF6-A02C-003F710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AF3-EB59-4D99-A496-01ABA49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BB2A-B72C-4E6B-80D0-19E4B425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8D0B-8DBD-4EB4-8DF4-C16B42F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429F-B869-470A-9A60-D181B1FA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89C59-68C0-4EA2-9977-33AAC3F0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A6BFD-DA82-4E2C-B05B-9EDD603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82083-0163-4B56-88D5-70EA08C7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1A945-B748-4FB2-A49E-46CFACA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13D4F-3E4C-4E07-8087-8E878CC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D6A4C-287C-4924-9958-9A40ED1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58FD29-A2BF-4729-A5BF-2ECBF0A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62C-8244-4C13-94EA-2A55D0F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ACC05A-2632-4BDA-8F8F-93B13DB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F9C5C-C49D-4B35-BD14-1A3F22B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B74A4-5965-4B36-8520-EBAF8F5E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830DC-7293-494B-8CA5-414FB7AF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FEBF3-54E4-442C-B2DC-F2ADA0D9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EDCC-219F-4FE5-BABD-71EBB919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25E85-2B61-4764-B507-043EF54B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9912-0618-4E97-B699-E9A71EB1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38AA-C3D3-42AE-9A0D-3750D6DF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D1B8F-1362-48E1-A5C2-071D5194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244-2F65-4259-980B-4DDFDBF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507F-9843-4FF0-9CE1-670B51A8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E7B71-F103-40AD-9B75-DC194D2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FCE7-859B-4167-AAE3-13F75E5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87A8-4F65-4497-A8A2-4583FEB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3294-F8E3-4D35-86B1-49C9C0F8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0F91-CDCB-4F85-B5B5-16BA99E1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A3E5-3F8B-4FB1-A52F-DDBDBCF9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5C49-5434-4F3A-97B4-8075513741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56B-4528-4BC7-9521-6EA9CC3B0D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32D-E403-4FFE-B8F2-55BDC502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D74E-3AE4-4286-98D1-E5263E7B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4B8-9E73-4C1A-AD16-06E377A9736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C776-2945-4467-840F-E242C8BACEA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6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117C-76C7-4BFB-A9C8-26992A9EC4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419-4102-4564-830C-95E88EE39D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762120" y="533520"/>
            <a:ext cx="7543800" cy="14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өчсез буын" уен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057400" y="2743200"/>
            <a:ext cx="51055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Слабое звено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44956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game " The week ling"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8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1143000" y="4114800"/>
            <a:ext cx="662940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505320" y="2666880"/>
            <a:ext cx="25858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600200" y="685800"/>
            <a:ext cx="365292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Рәхмәт!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ircle/>
    <p:sndAc>
      <p:stSnd>
        <p:snd r:embed="rId7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 rot="20457600">
            <a:off x="609480" y="1142640"/>
            <a:ext cx="49546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ет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22" name=""/>
          <p:cNvSpPr txBox="1"/>
          <p:nvPr/>
        </p:nvSpPr>
        <p:spPr>
          <a:xfrm rot="20457600">
            <a:off x="3581280" y="2742840"/>
            <a:ext cx="3962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23" name=""/>
          <p:cNvSpPr txBox="1"/>
          <p:nvPr/>
        </p:nvSpPr>
        <p:spPr>
          <a:xfrm rot="20457600">
            <a:off x="3352680" y="4647960"/>
            <a:ext cx="49532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414360" y="228600"/>
            <a:ext cx="85010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ahoma"/>
              </a:rPr>
              <a:t>1 нче раунд - "Үзең белән таныштыр"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276200" y="2789280"/>
            <a:ext cx="65916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ый раунд - "Познакомь с собой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49528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1 st round - "Introduce yourself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19040" y="533520"/>
            <a:ext cx="8420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2 нче раунд - "Мин сөйләргә телим...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066680" y="2819520"/>
            <a:ext cx="73152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ый раунд - "Я хочу рассказать..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5181480"/>
            <a:ext cx="8458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2 nd round - "I want to tell..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28600" y="380880"/>
            <a:ext cx="86724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ahoma"/>
              </a:rPr>
              <a:t>3 нче раунд - "Бөекбритания буйлап...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914400" y="2971800"/>
            <a:ext cx="77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 ий раунд- "По Великобритани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04920" y="48769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3 d round - "Through the UK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0880" y="5335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4 нче раунд - "Фонети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43000" y="259092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4 ый раунд - "Фонети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4920" y="4800600"/>
            <a:ext cx="8305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4 th round - "Phonetic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609480" y="45720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нче раунд - "Граммати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2666880"/>
            <a:ext cx="8001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ый раунд - "Грамматик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4876920"/>
            <a:ext cx="8153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5 th round - "Grammar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33520" y="3049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нчы раунд - "Идиомалар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2895480"/>
            <a:ext cx="7315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ый раунд - "Идиомы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914400" y="4876920"/>
            <a:ext cx="7696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6 th round - "Idioms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800" y="304920"/>
            <a:ext cx="784872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53000"/>
                  </a:srgbClr>
                </a:solidFill>
                <a:latin typeface="Arial"/>
              </a:rPr>
              <a:t>7 нче раунд - "Сүз ясалыш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5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1600200" y="2895480"/>
            <a:ext cx="6667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>
                    <a:alpha val="63000"/>
                  </a:srgbClr>
                </a:solidFill>
                <a:latin typeface="Arial"/>
              </a:rPr>
              <a:t>7 ый раунд - "Словообразовани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>
                  <a:alpha val="63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55000"/>
                  </a:srgbClr>
                </a:solidFill>
                <a:latin typeface="Arial"/>
              </a:rPr>
              <a:t>The 7 th round - "Word-building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55000"/>
                </a:srgbClr>
              </a:solidFill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62120" y="4572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8 нче раунд - "Синтаксис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143000" y="2666880"/>
            <a:ext cx="7086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8 ый раунд - "Синтаксис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90720" y="4800600"/>
            <a:ext cx="7467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The 8 th round - "Syntax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раева Дильбар Фирдинатовна</cp:lastModifiedBy>
  <dcterms:modified xsi:type="dcterms:W3CDTF">2008-11-20T15:54:5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