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hammer.wav" ContentType="audio/x-wav"/>
  <Override PartName="/ppt/media/camera.wav" ContentType="audio/x-wav"/>
  <Override PartName="/ppt/media/explode.wav" ContentType="audio/x-wav"/>
  <Override PartName="/ppt/media/image7.png" ContentType="image/png"/>
  <Override PartName="/ppt/media/image6.png" ContentType="image/png"/>
  <Override PartName="/ppt/media/image5.png" ContentType="image/png"/>
  <Override PartName="/ppt/media/image1.png" ContentType="image/png"/>
  <Override PartName="/ppt/media/image2.png" ContentType="image/png"/>
  <Override PartName="/ppt/media/image3.png" ContentType="image/png"/>
  <Override PartName="/ppt/media/voltage.wav" ContentType="audio/x-wav"/>
  <Override PartName="/ppt/media/applause.wav" ContentType="audio/x-wav"/>
  <Override PartName="/ppt/media/drumroll.wav" ContentType="audio/x-wav"/>
  <Override PartName="/ppt/media/image4.png" ContentType="image/png"/>
  <Override PartName="/ppt/media/laser.wav" ContentType="audio/x-wav"/>
  <Override PartName="/ppt/media/wind.wav" ContentType="audio/x-wav"/>
  <Override PartName="/ppt/media/chimes.wav" ContentType="audio/x-wav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0302-53B4-49AF-8013-40081DEBD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8188-27AA-4F20-A3D3-1D42F36E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C54C-3515-4D37-80BC-7C8D2F9FB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6CB7-95AE-4560-97C1-D7FD21890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DE35-01BB-4F66-8835-93CA69748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0F78-1E4A-4A30-80B9-91C33C9A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0D15-7EBB-4B9A-B576-DB866FA1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50B1-E49F-4285-8445-5A777273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9BA7-B2A5-4454-B6AF-A2FB36FB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4D67-DBE8-478B-A7D7-D405692B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B542-5E4C-4F31-A95C-03F0A175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650A-6FE4-4D45-ACDB-4A8E343F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009B-0CAA-4616-B554-47CA10D2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57CA-6B8F-4695-A289-E52C2C87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F711-BE91-45A4-9155-28C90A9C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8D36-8434-4DA8-8BDA-7D70CD92B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8794-E3A6-4CB4-8C87-30378629C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6A71D-3E57-4906-A973-8B637226B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B5D77-501C-4051-88D2-EF0E54E2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A6F34-3A7E-4C4B-941B-F52D78A8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AAF7D-E74F-4854-9366-73054149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8E7C2-1CA6-4780-9465-3A093A2F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5AF3-702A-4FF9-8528-F5CE8700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2AC93-E1BA-4024-AF44-647C7A85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5CE4B-2812-4496-AC57-E8033236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729C6-9835-4019-A746-28F030F5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8CDD0-AFDD-4274-8226-EF2DF886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E24FB-8F2D-44D6-9AFB-49EA9D6D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27424-336A-4D9B-A5FB-467A0D15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73B88-F1D7-4B8A-A40C-7B035AC57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D52F8-0F70-4A62-AEFC-DB4EC665F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DE92E-600F-410E-B419-9AD5E9C3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70A6F-75A8-4790-A839-5A5C7549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62DF-508B-4D8B-829A-301986F2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25437-D314-43C8-81C7-7AF5467A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9C19A-8B47-496B-A5D1-C60896B0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9B468-B38E-422F-8F28-0928DCD6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5CF37-0806-4265-B275-4869290C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9EEF7-6D5A-494E-B368-EF8F9397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05D48-2C8D-4552-8DE0-D7B88B15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D7F44-DF9E-4736-87DA-A61A18DB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1C8E7-50CE-4BD5-BB7A-5385E992D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98965-F282-44D3-8CD8-12728D4E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C03BB-BA21-497C-B0B2-47AB9FC26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ED8A-CF27-4983-B6D8-E3D57089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8E2D6-E0CA-4357-94BA-ECD06E76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B1482-751E-4A3C-A5C8-3E12C7B1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890D2-03B3-4E2D-9B87-CD5F8F9F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3450C-A025-451D-9370-06507C9D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AD882-EE0E-4D3E-B2FB-ABD0ED86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8B614-4187-4BA3-8C18-62B5F89D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46502-8329-4AF6-8FD2-FA9ECA92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C4DA0-9F7D-42A4-A38A-C1724E12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80959-EAF9-4BEB-BAB7-B88E05A1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2C556-2FDA-4269-ADA3-3416D75CF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3F70-D11B-4F4F-A2DA-F41B5AC6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1A6B9-6BD6-4C89-ADDC-4B9E0AD15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35E3C-B742-4E68-9898-E356072C8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4D59A-8139-41B5-A1D2-B8142FD0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FD5D1-F9CC-463D-B945-697EA694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BD8D7-2C30-4124-BCC0-9176C8AC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F3F77-B4E6-446E-A482-DF4D14E4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2C915-15BF-4801-8035-3C11889A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CF767-CC25-4E17-A1C6-E69E2275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7EB62-5C89-4192-9B9A-20801216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C336F-BB56-4928-AE0F-256E64B2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B58D-CD2F-49ED-AEBB-2F03B8B2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ADBFB-E3AA-43BB-B54E-134C2413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8E5CC-C525-4854-BA1F-18BA9344F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93640-BFD9-4CF3-AB9A-F07AEB48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F84F0B-F8F4-47CD-BE83-8AE9027BD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5AF1FE-FCC5-431B-A339-37DF71E6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D8ED83-CC1B-402B-BF8F-AC1101BD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11034B-267E-436D-965F-46AD5AE9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0AC245-B414-46FD-9811-46F68EB4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F46CBA-33F9-41FD-88E1-E2070D54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A6DAAB-A274-4C3C-9766-B5C64339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CD5D-C4E2-4DEC-9906-BB4C9C92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A79E09-B0BD-4E0B-AC63-BDACE730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B9E963-F41F-47E9-955D-E57B7796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438A06-B855-4F11-BDF2-BEF087AB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7AA422-7341-4B0F-BFA2-6EE23C158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BE1ADA-9053-489E-8DAB-E2BD0EBB8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5D09A-3280-4A71-93D7-8D8DD9B9A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BB583-D596-4733-B991-AB9BF1CB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E2F5C-F11A-4E0E-8493-E7E4280B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9B388-06FC-4075-9366-3CA9FCD2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162F7-B6E8-45BE-BCED-9C682C36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EC29-3E2D-4A5C-9DE4-908649BB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0519F-EA04-4118-AB9B-2F10C093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2D4F3-A412-4AFA-9A57-3E6FE427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52E03-378A-447C-8607-FB6C81ED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BEA61-3701-4FBB-A279-B4480B97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696E6-3C9D-497A-A693-0A10DD6B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9B080-C368-4ECD-B542-B0BE38706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2AE31-3AB1-4379-BFF2-D4FE82225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6FEA-BF20-48B2-90DC-BE38F207EB9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2927-A078-4E22-95F3-C046B078CE7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5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F48A-D4D0-4F6F-B804-C114225C5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65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4159-EBED-4B8D-869A-393351171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21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1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1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1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2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9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2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9B02-0901-4A59-BD39-2A79E8600F33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8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8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9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9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9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9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0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0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0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1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1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41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1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2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2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2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3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3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4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4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5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5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6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6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7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7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7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8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8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8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9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9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9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9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50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DB8B-0491-4608-8675-F9FE05929ACC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6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A36C-5916-41F2-944C-F06E993089C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2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4C04-CA59-439F-8239-FF156928410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 txBox="1"/>
          <p:nvPr/>
        </p:nvSpPr>
        <p:spPr>
          <a:xfrm>
            <a:off x="762120" y="533520"/>
            <a:ext cx="7543800" cy="140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Көчсез буын" уены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2057400" y="2743200"/>
            <a:ext cx="510552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Слабое звено"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457200" y="4495680"/>
            <a:ext cx="8229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game " The week ling"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ircle/>
    <p:sndAc>
      <p:stSnd>
        <p:snd r:embed="rId8" name="applau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 txBox="1"/>
          <p:nvPr/>
        </p:nvSpPr>
        <p:spPr>
          <a:xfrm>
            <a:off x="1143000" y="4114800"/>
            <a:ext cx="6629400" cy="195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ank you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3505320" y="2666880"/>
            <a:ext cx="2585880" cy="8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1600200" y="685800"/>
            <a:ext cx="3652920" cy="13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Рәхмәт!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  <p:transition spd="slow">
    <p:circle/>
    <p:sndAc>
      <p:stSnd>
        <p:snd r:embed="rId7" name="applaus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 txBox="1"/>
          <p:nvPr/>
        </p:nvSpPr>
        <p:spPr>
          <a:xfrm rot="20457600">
            <a:off x="609480" y="1142640"/>
            <a:ext cx="495468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Бетт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722" name=""/>
          <p:cNvSpPr txBox="1"/>
          <p:nvPr/>
        </p:nvSpPr>
        <p:spPr>
          <a:xfrm rot="20457600">
            <a:off x="3581280" y="2742840"/>
            <a:ext cx="3962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Коне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723" name=""/>
          <p:cNvSpPr txBox="1"/>
          <p:nvPr/>
        </p:nvSpPr>
        <p:spPr>
          <a:xfrm rot="20457600">
            <a:off x="3352680" y="4647960"/>
            <a:ext cx="4953240" cy="12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7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The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ransition spd="slow">
    <p:circle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414360" y="228600"/>
            <a:ext cx="8501040" cy="153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ahoma"/>
              </a:rPr>
              <a:t>1 нче раунд - "Үзең белән таныштыр" 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1276200" y="2789280"/>
            <a:ext cx="6591600" cy="109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 ый раунд - "Познакомь с собой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4952880"/>
            <a:ext cx="83059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 1 st round - "Introduce yourself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ircle/>
    <p:sndAc>
      <p:stSnd>
        <p:snd r:embed="rId1" name="drumroll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419040" y="533520"/>
            <a:ext cx="84200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ahoma"/>
              </a:rPr>
              <a:t>2 нче раунд - "Мин сөйләргә телим..."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1066680" y="2819520"/>
            <a:ext cx="7315200" cy="81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 ый раунд - "Я хочу рассказать...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5181480"/>
            <a:ext cx="84582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2 nd round - "I want to tell...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ircle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228600" y="380880"/>
            <a:ext cx="8672400" cy="12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ahoma"/>
              </a:rPr>
              <a:t>3 нче раунд - "Бөекбритания буйлап..."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914400" y="2971800"/>
            <a:ext cx="7719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3 ий раунд- "По Великобритании...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304920" y="4876920"/>
            <a:ext cx="85341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3 d round - "Through the UK...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ircle/>
    <p:sndAc>
      <p:stSnd>
        <p:snd r:embed="rId1" name="voltag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 txBox="1"/>
          <p:nvPr/>
        </p:nvSpPr>
        <p:spPr>
          <a:xfrm>
            <a:off x="380880" y="533520"/>
            <a:ext cx="80010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ahoma"/>
              </a:rPr>
              <a:t>4 нче раунд - "Фонетик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1143000" y="2590920"/>
            <a:ext cx="7086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ahoma"/>
              </a:rPr>
              <a:t>4 ый раунд - "Фонетик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304920" y="4800600"/>
            <a:ext cx="83055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4 th round - "Phonetic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circle/>
    <p:sndAc>
      <p:stSnd>
        <p:snd r:embed="rId1" name="lase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609480" y="457200"/>
            <a:ext cx="8001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 нче раунд - "Грамматика"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685800" y="2666880"/>
            <a:ext cx="8001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 ый раунд - "Грамматика"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57200" y="4876920"/>
            <a:ext cx="81532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e 5 th round - "Grammar"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circle/>
    <p:sndAc>
      <p:stSnd>
        <p:snd r:embed="rId1" name="wind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 txBox="1"/>
          <p:nvPr/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533520" y="304920"/>
            <a:ext cx="79246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6 нчы раунд - "Идиомалар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990720" y="2895480"/>
            <a:ext cx="7315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6 ый раунд - "Идиомы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914400" y="4876920"/>
            <a:ext cx="76960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he 6 th round - "Idioms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ircle/>
    <p:sndAc>
      <p:stSnd>
        <p:snd r:embed="rId1" name="explod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 txBox="1"/>
          <p:nvPr/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685800" y="304920"/>
            <a:ext cx="7848720" cy="110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>
                    <a:alpha val="53000"/>
                  </a:srgbClr>
                </a:solidFill>
                <a:latin typeface="Arial"/>
              </a:rPr>
              <a:t>7 нче раунд - "Сүз ясалыш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>
                  <a:alpha val="53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1600200" y="2895480"/>
            <a:ext cx="66675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>
                    <a:alpha val="63000"/>
                  </a:srgbClr>
                </a:solidFill>
                <a:latin typeface="Arial"/>
              </a:rPr>
              <a:t>7 ый раунд - "Словообразование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>
                  <a:alpha val="63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457200" y="4724280"/>
            <a:ext cx="83059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>
                    <a:alpha val="55000"/>
                  </a:srgbClr>
                </a:solidFill>
                <a:latin typeface="Arial"/>
              </a:rPr>
              <a:t>The 7 th round - "Word-building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>
                  <a:alpha val="55000"/>
                </a:srgbClr>
              </a:solidFill>
              <a:latin typeface="Arial"/>
              <a:ea typeface="Arial"/>
            </a:endParaRPr>
          </a:p>
        </p:txBody>
      </p:sp>
    </p:spTree>
  </p:cSld>
  <p:transition spd="slow">
    <p:circle/>
    <p:sndAc>
      <p:stSnd>
        <p:snd r:embed="rId1" name="hamme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 txBox="1"/>
          <p:nvPr/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762120" y="457200"/>
            <a:ext cx="7772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8 нче раунд - "Синтаксис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1143000" y="2666880"/>
            <a:ext cx="7086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8 ый раунд - "Синтаксис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990720" y="4800600"/>
            <a:ext cx="74674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The 8 th round - "Syntax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spd="slow">
    <p:circle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араева Дильбар Фирдинатовна</cp:lastModifiedBy>
  <dcterms:modified xsi:type="dcterms:W3CDTF">2008-11-20T15:54:51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