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4E86-99AE-488C-A628-45FB9C51C0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AED0-E187-4E44-82AB-857ECB31E7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FF99-EA9F-45A3-9026-97873253F4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B42-AE4A-4759-BFD9-B3D2D332B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B49-8C10-497D-95AF-BB55C0E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E89-9220-4A83-A799-6091E2F8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28571-8BBA-4829-B610-2FE83F83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D1C05-5DA5-4336-9D24-266B30D0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D52AA-ABF4-4FCE-AD73-FEBFBB5A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331D-0AEB-4EA9-AF54-D7B41729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D5899-855D-4FCD-B1C3-D8A37AB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D4F55-4933-43D1-9BFB-DE5D3A3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3B78A-49E7-459A-BD15-F095C08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C9D75-4704-43C7-8605-0F415C18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C0EF1-2CE8-4940-AAAF-84C0B4EC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466-3D70-4AA1-AA08-FF294F97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131-9535-4F7F-A03E-0C97E677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993C-12CB-49C4-ACB2-5FA60AB9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30A8-B86F-4588-B8B3-07F0280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3D32-327F-43A2-91D6-1B9DFABD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347-5682-490F-BA88-E290B847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ACB8-DDD7-4E28-B2A0-0A58964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9C83-983D-4345-BF8D-59EE65F9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CEF6-17F2-435B-91CD-D885B70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E33-6717-4E36-8569-4D636083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C3F0-EE50-4948-BA76-6A96B61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47CE-C507-412A-9C81-19EE440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EAF-FA94-4475-AA3C-97569503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52D-ACA3-48C0-AE57-D4985463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23E6-C3F6-4776-9C20-0E48D195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603F-6555-4B94-9CE0-73257D6F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DA5F-A11B-4C3E-BB56-C809413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DAA4-0573-40D2-AFFC-B655723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B3BE-0AB2-405A-B37D-C9ED2943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486D-5527-42CE-83FE-1297B7DF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6E8-ADCD-4F5C-A862-B7EEDE4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6577-19B9-47D5-B00C-408C0EB0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1920-7AD8-427D-B126-9DC0AD8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0730-1F5D-4895-9C34-0A3E0E11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762F-F0AA-4A47-8F74-742E726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78BF-73C6-4908-86F3-9E1AD02C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01C5-6CCB-42C8-BDFD-8F39815A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7ABB-D853-480B-B667-785BD46B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528D-8EAC-4982-8198-23279DDB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492D-8403-486D-A120-282D25B7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8466-B7CD-4F5E-8463-9AB8FE39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1F0-A623-4A0B-AD87-2BF5AF94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EA9A-1F1F-4C32-AB5B-1B27E2CD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F934-5DA3-422C-9963-6B96EE6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7EEB-B83B-460E-AA74-EA5E80BB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2805-D680-4B31-85F2-4FA670BE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D678-9D24-4AEF-AF25-11D967C7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CA18-B01B-46E0-88F9-3A40B6E4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1239-F2B2-4553-9CB0-86D6FB27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AFA6-CCDD-4260-A9C7-11C048F1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8C80-A3A4-4D4D-B9BF-61D39BF9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FAECE-6FA4-4262-9D11-C89FECF6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074-0C7D-4BA2-BD46-B3671D0A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202E-EA92-4A3C-B59E-67A3ED34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5CCA-0BB3-466D-A2D4-E90981F5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93AB9-8F92-4FF8-B18D-4688C894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4550-1B77-4E35-B5ED-2A8E56A8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1CACE-DEC0-4F31-9851-0E09937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8A0A-AC48-4F92-AA7F-8FEB0BA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28E5-4235-4056-BC8B-78F69096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0AC4-D5FA-4CF9-9787-10AC9E2E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8638-CF96-4100-8815-85B1AEEB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BD22-EFAB-41F4-9123-9BDA1708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E65-7E77-4F9B-8294-4CCFC904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6AAA-E250-4D1D-B303-85F5D63E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FF9B-C3DD-4472-99F6-6175E8A9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F2E4-A990-4D90-9807-C4F50871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77BC-9369-440E-942E-980010AA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C197-E8EE-4B1C-B521-50E3612A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1B92-D964-45E3-8272-97A5F07F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D4DA4-1287-43C6-835D-42C6F2DC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344DA-3470-4270-816E-CD6A6D8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CA754-47BF-4E40-85C1-92EB98E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5E00-7A14-4D97-8E2E-1605FD81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C01-77BB-44A7-88B0-4BC2D7D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2C69E-54C4-40A1-847D-A0F7ADED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0410-7352-47F4-9EA8-9D85C5EF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737B-F285-48DD-A918-DA22700A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47EED-0895-4A08-A91D-FE44C9FE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56C1-5EF0-4451-B03B-A74FFA73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4A8FE-C89E-4012-872D-A882EADD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4155-5241-4D03-A62B-139A04B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0511-504A-4DD7-A23A-D6893A4F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A2DD-2D6D-4878-A82A-5E5439D6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8F9D-C228-4DF4-BEAC-8A246CD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B1C-AAFA-4C2F-8442-93403C6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9C4C0-D33D-4F12-B19E-DC21584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3167-81B6-44B5-84C0-9DA57A38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98414-122C-409B-ACCB-1BEBA54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FDB0E-B6DC-4731-A2A8-913BD162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AE7E-4B31-41ED-887C-6EB26095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C59C0-048D-45D8-8C90-AE6EF0FC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47B91-FAAC-4026-B9F8-EEA7543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2BE9F-D090-4D93-AB5C-EF6AA2AB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7C13-A5B1-4A02-B8F8-755CA066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0A2C5-103A-40DB-812E-69BBF69D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F74-0539-4FC0-BB0C-84B5957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CD70E-1AB8-4831-8513-20F14B88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83A6-02F8-46E1-9EE9-A145DDB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3541C-D9D3-484C-BC1F-A37F742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8A732-45AA-43DB-87A1-2BF5D18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023FA-78EF-49BF-809B-988FCEFD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7FB0F-AF1F-4A4A-9923-BA42AE32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449A6-1159-4C1C-A133-7D68B2A9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B96E8-A628-478B-8B92-195B8230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F855B-65F8-4987-A3CB-48DD784C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EDB8A-43C9-4FAA-896B-993099B3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51B9-DA7E-4AC6-9B12-5160421609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FA46-CAD1-4DF3-9064-B7F5442F0D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C22D-1C6F-4D3F-9441-36A4BB7C0A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4C1A-0D4D-4B94-A18F-561188FDD9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F34F-27C4-47F8-9D89-EBAAFE44E3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895-906B-430B-BE1A-90B7B28476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B2C5-FDE7-4891-B928-6C0A8B952E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E850-C778-4A45-B98A-5426412861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EE2-B7FB-4296-BC4D-BDD579DB0B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841320" y="1835280"/>
            <a:ext cx="8126640" cy="3243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428480" y="5571720"/>
            <a:ext cx="763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Из опыта работы учителя математики Дробот В.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609480" y="12600"/>
            <a:ext cx="8163000" cy="14922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-первых, меня беспокоит падение интереса школьников к обучению вообще и обучению математике в частн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-вторых, изучая специальную литературу, меня заинтересовала идея рассматривать обучение как обеспечение права каждого школьника на индивидуальное развитие, которое не противоречит его психологическому статусу (возможностям, склонностям, интересам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-третьих, я считаю, что именно эта идея актуальна, то есть, отвечает потребностям нашего времени. Существенным итогом пребывания ребёнка в школе должна быть сформированность тех качеств личности, которые необходимы школьнику для успешного обучения не только сегодня, но и завтр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-четвёртых, мой предмет имеет широкое практическое применение в различных сферах жизнедеятельности. Но часто получается, что ученик, имея знания, не владеет ими. А, как известно, первый компонент развития - умение применять полученные знания на практике. Это умение невозможно сформировать, если школьник не знает, зачем ему необходимо данное конкретное знание. Поэтому очень важный компонент личностно ориентированного обучения - развитие мотивации учебной деятельност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38120" y="225360"/>
            <a:ext cx="8474040" cy="126864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2"/>
          <p:cNvSpPr/>
          <p:nvPr/>
        </p:nvSpPr>
        <p:spPr>
          <a:xfrm>
            <a:off x="37926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523880" y="3200400"/>
          <a:ext cx="6096240" cy="457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на уроке я хоч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14240" y="2928960"/>
          <a:ext cx="7643880" cy="3602160"/>
        </p:xfrm>
        <a:graphic>
          <a:graphicData uri="http://schemas.openxmlformats.org/drawingml/2006/table">
            <a:tbl>
              <a:tblPr/>
              <a:tblGrid>
                <a:gridCol w="5000760"/>
                <a:gridCol w="2643120"/>
              </a:tblGrid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…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ить вопросы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ить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ать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ь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ть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снить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сля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ть понятия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42960" y="1643040"/>
          <a:ext cx="8072280" cy="73980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370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на уроке я хоч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609480" y="165240"/>
            <a:ext cx="8163000" cy="11397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5 класс тема “Задачи на части”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 яблоке, которым отравилась Белоснежка, было 2 части змеиного яда и 5 частей белены. Какова масса отравы, если в ней змеиного яда на 12 г меньше, чем белен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6 класс тема “Нахождение числа по его дроби”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огда крокодил проплыл 0.3 всего пути от своего болота до пляжа, чтобы пообедать, то ему осталось проплыть до середины пути 150 м. Какой длины путь от болота до пляжа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6 класс тема “Нахождение дроби от числа”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Деду Морозу на примерку должны были принести 60 разных по цвету и размеру шуб, но принесли только 70%. Дед Мороз рассердился и сжёг 2 шубы. Испугавшись, ему принесли ещё 12 шуб, но на швейной фабрике остались ещё модели. Сколько шуб осталось на фабрике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609480" y="-79200"/>
            <a:ext cx="8163000" cy="16887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Этот толстый герой просто обожает варенье. Начертите координатный луч с ед. отрезком 1 клетка. Отметьте точки: Р(6), Н(15), К(1), Л(7), А(3), О(12), С(9). Какое имя у героя?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А это суперпопулярные герои из суперсовременного мультфильма. Начертите координатный луч с ед. отрезком 1 клетка. Отметьте точки: К(7), Н(17), П(1), Е(9), О(4), О(15), М(12). Кто же они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Этот человечек в полосатой шапке. Начертите координатный луч с ед. отрезком 1 клетка. Отметьте точки: У(4), И(13), Б(1), Т(12), А(9), Р(6), о(16), Н(15)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55600" y="4492800"/>
            <a:ext cx="8705880" cy="1761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30081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14760" y="609480"/>
            <a:ext cx="6200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Л.Н. Толстого: “Человек есть дробь. Числитель - сравнительно с другими - достоинства человека. Знаменатель - это оценка человеком самого себя. Увеличить своего числителя - свои достоинства - не во власти человека, но всякий может уменьшить свой знаменатель - своё мнение о себе, и этим уменьшением приблизиться к совершенству”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609480" y="249120"/>
            <a:ext cx="816300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Деятельность учителя на уроке 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личностно-ориентированной направленностью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оздание положительного эмоционального настроя на работу всех учеников в ходе урок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ообщение в начале урока не только темы, но и организации учебной деятельности в ходе урок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рименение знаний, позволяющих ученику самому выбирать тип, вид и форму материала (словесную, графическую, условно-символическую)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Использование проблемных творческих задани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тимулирование учеников к выбору и самостоятельному использованию различных способов выполнения задани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ценка (поощрение) при опросе на уроке не только правильного ответа ученика, но и анализ того, как ученик рассуждал, какой способ использовал, почему ошибся и в чё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бсуждение с детьми в конце урока не только того, что «мы узнали» (чем овладели), но и того, что понравилось (не понравилось) и почему, что бы хотелось выполнить еще раз, а что сделать по-другому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тметка, выставляемая ученику в конце урока, должна аргументироваться по ряду параметров: правильности, самостоятельности, оригинальности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ри задании на дом называется не только тема и объем задания, но и подробно разъясняется, как следует рационально организовать свою учебную работу при выполнении домашнего зада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1:04:35Z</dcterms:created>
  <dc:creator>1</dc:creator>
  <dc:description/>
  <dc:language>en-US</dc:language>
  <cp:lastModifiedBy>1</cp:lastModifiedBy>
  <dcterms:modified xsi:type="dcterms:W3CDTF">2011-03-31T14:14:46Z</dcterms:modified>
  <cp:revision>10</cp:revision>
  <dc:subject/>
  <dc:title>Технология личностно ориентированного обучения на уроках математики. </dc:title>
</cp:coreProperties>
</file>