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9CFF-F7A9-4107-A903-9363226426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4DDA-524F-4A83-9A89-5379193902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E402-61E9-4FF5-9B9D-EFF6FAC985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BDD6-E4C5-4F8F-ACA1-1D11BE2A78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5A49-4FDA-4F98-99E1-C40E1955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0951-A469-41EF-B36A-4FBBE5F1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E1591-50CA-4C42-B4D1-49FA7262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AEB19-E222-4591-AC4A-C2A52B14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E216F-36D1-4235-B81D-01EAA663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385AB-AF09-472A-ACC0-EFADB78F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D8958-DCAE-4C0C-9DD8-659AC3F1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64A4B-7AA2-44EC-9A29-44EF763D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83CC6-C6A9-4C5A-91E8-BF361DCC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2B13F-4996-4A77-9E3D-66EEA0F0D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177B5-B092-42B8-B13B-FB8225E6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A93D-9FC0-49B1-9425-D90A27DB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1C67-4E9B-4B49-8F5C-450103EA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4FD4-612A-496A-9F18-74769CFF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F3E4-2557-422F-AB32-CCF2ECF6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0148-C33C-46F6-BF28-F1628EB7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A1B5-EC38-49BC-81CC-F71B0050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386D-79AE-4C05-8B16-CFA3B83B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FF3D-F665-47EE-8620-4C64DA6A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6C8A-6BE9-40E5-9710-5EC0E42F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1BEB-50B6-44F5-BEBE-6DD80E75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5BE6-5248-4C4E-B125-F0B4CDA1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EDDC-B53D-4152-BB23-3E23ACF7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0A11-9693-48D6-9E08-F9D023E1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C520-871B-4756-BFB5-EA7F08739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6D99-9B4F-4965-AD44-DFF5952B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68DB9-1DA5-4620-B6A5-115F23C09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3EEFA-9E0C-47D5-8286-15144429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260DB-F88D-4F80-8F94-95985EC5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81F2F-F1D9-4BC8-B739-EAB0BC84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7CEE8-87C9-459C-AD9A-99C6C725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2F8D-79FE-4AE7-9317-82904FE0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A9EC4-D29D-4B4F-835A-A51DCCC8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46662-A34B-48F6-A13C-76F9DFD4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2E29E-9B7F-41C1-A283-63BE39FD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FCBAF-8CDB-4C2B-B2B5-BE762A0D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3126F-9AF8-4AD2-B032-45D18C16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41106-C694-4B81-8AD7-C8E73E25E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AC3AA-AE7C-4696-8DBB-EFA7661D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99C7F-5299-4F35-9FEC-30030D81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D11F7-CECD-4F12-B1AC-FAED5977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7B637-42C5-4B32-A503-369D5CD1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B139-7678-400A-B82C-F84C3226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51185-3BBE-4E56-BDBD-ADE4AD2D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2DBA8-AC3C-4990-859A-39E8C1BD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A17ED-09D3-42D3-A450-F98A7B2D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F132C-FB3C-4DA1-95DB-C9AFB862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25867-A2B9-480A-9BB1-D8B87742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E7525-7BF3-44CC-BCE2-43CE9027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DF7C7-C4FF-4264-9981-514EBA3B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0F6BD-183B-4766-B02E-11CA7AC0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3DAF8-C150-443F-AD54-69AD3610F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E2AD1-CD7E-4725-ABFA-CCBBDAB6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038F-4A8B-42CF-9D7D-81B3F29A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2AF9F-EB61-4323-A73F-F7B77757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0F731-7FEB-4985-8190-572DACFE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D5B5B-44AA-47CE-9275-69ED50FD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E4159-357C-4310-B86F-A9DF5310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53C99-11E0-4CDE-B8A7-B63F93B7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A3D6A-D95F-49F1-B6D2-015CC4F7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FFDAF-238D-41F5-9B41-7C4F424C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5F738-3880-41DA-A4C8-88B0B666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3E71F-EE9D-4CD8-8022-AD76F425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62FE5-A417-452A-B393-22AFD094C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8A0F-246C-41E5-B865-8A9C8E16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538C9-C7F0-4A5A-93E4-929211FE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7C2A8-4FD7-4F8D-B1A2-C0DDA1EBF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0F0D2-100B-45C4-AECB-EAFBE274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4F603-C734-4F96-88E7-6E9B9826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BC376-5517-44CE-9D32-E8F367B0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BD01C-A859-4374-90D5-8C9123A7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4CA5B-6828-4B8B-88B2-E3C6A7D0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BE6E2-E95B-462D-9945-308C108E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81035-A57C-4E92-8706-3B9AD911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36AEA-F2D7-430E-A232-07C1D4CF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9358-3305-4A92-A4F0-A0AFA54C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58681-6E19-4A83-8269-6AB7CA48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24E84-1BEF-4D03-B2DB-57D7CBF84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B2902-D875-497C-AA41-54D7CE51F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56613-C675-484A-80C9-AFFF0F9A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D343F-43E2-4E25-9FD8-A4102EE6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9561A-EAA2-440C-B705-76BE4A6B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A3D47-0848-4B82-8CEE-DAB505C2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41FE6-6140-4DF3-80A3-EF995EDE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9B7E7-683A-4EA7-B04B-2CDA90B3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474B8-6D24-4D37-94F8-1986D5C8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F54E-C182-4C0A-953E-E15D3347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CD58C-BF5A-45E6-8DBC-78EEA361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041EB-0EEC-4B72-B18D-6A6A9463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DA2C1-3420-4E5C-882F-B09C38DA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2B722-9A28-43CD-BCCE-023819893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E6A34-7A35-44BF-9B14-4D6990212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AAE23-BE1E-467D-A107-EC8B62D7D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4E074-C3BC-4304-98CC-DB55BAC3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E794F-5E70-473C-BB8A-FC86AAAF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160D4-A55E-44FB-928D-5B8BB459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A73E6-E9D3-48BE-9F45-2D634389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AC3C-E2D9-4B09-82CF-753C6B2D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16A38-D6FC-4DB5-8CE6-9147D2F7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D820A-8BCC-4A8C-93D8-2011D7A4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F709D-08B7-4F0C-891B-911A3516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C6A84-E7B2-4621-87F2-37B7DCFD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8B501-C032-4D16-A72D-3000DDAF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A7266-8FE4-4AC1-9291-E538E5B2F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143A7-621A-4281-BA2C-3A8DC8586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997EE-34D9-458E-9410-759C08B4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560AD-9AC4-4ED7-B126-36936BB8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E6170-6DB1-4255-ADF7-C965C1BB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9270-6F9B-4CD2-ACC5-39DE2228E76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585E-1107-4119-A3A4-14027351C4A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4ADA-5D0B-40FA-9B1A-102C3FFBB1D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0F54-F530-4439-8C79-8447E624E36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E053-AE06-4B04-BFF3-105DE020683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7156-8FFD-4250-BEFF-76E47B4B569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0173-5D6B-4548-B0FC-D61AEEBE618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4FDD-EA56-463D-A60A-220E4D45CA7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B2AE-7548-4AEF-82B1-26205D535CD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841320" y="1835280"/>
            <a:ext cx="8126640" cy="32432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1428480" y="5571720"/>
            <a:ext cx="76388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Из опыта работы учителя математики Дробот В.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609480" y="12600"/>
            <a:ext cx="8163000" cy="14922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о-первых, меня беспокоит падение интереса школьников к обучению вообще и обучению математике в частности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о-вторых, изучая специальную литературу, меня заинтересовала идея рассматривать обучение как обеспечение права каждого школьника на индивидуальное развитие, которое не противоречит его психологическому статусу (возможностям, склонностям, интересам)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-третьих, я считаю, что именно эта идея актуальна, то есть, отвечает потребностям нашего времени. Существенным итогом пребывания ребёнка в школе должна быть сформированность тех качеств личности, которые необходимы школьнику для успешного обучения не только сегодня, но и завтра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-четвёртых, мой предмет имеет широкое практическое применение в различных сферах жизнедеятельности. Но часто получается, что ученик, имея знания, не владеет ими. А, как известно, первый компонент развития - умение применять полученные знания на практике. Это умение невозможно сформировать, если школьник не знает, зачем ему необходимо данное конкретное знание. Поэтому очень важный компонент личностно ориентированного обучения - развитие мотивации учебной деятельности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438120" y="225360"/>
            <a:ext cx="8474040" cy="1268640"/>
          </a:xfrm>
          <a:prstGeom prst="rect">
            <a:avLst/>
          </a:prstGeom>
          <a:ln w="0">
            <a:noFill/>
          </a:ln>
        </p:spPr>
      </p:pic>
      <p:sp>
        <p:nvSpPr>
          <p:cNvPr id="411" name="Прямоугольник 2"/>
          <p:cNvSpPr/>
          <p:nvPr/>
        </p:nvSpPr>
        <p:spPr>
          <a:xfrm>
            <a:off x="379260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1523880" y="3200400"/>
          <a:ext cx="6096240" cy="457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2289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ые ц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ц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9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годня на уроке я хоч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714240" y="2928960"/>
          <a:ext cx="7643880" cy="3602160"/>
        </p:xfrm>
        <a:graphic>
          <a:graphicData uri="http://schemas.openxmlformats.org/drawingml/2006/table">
            <a:tbl>
              <a:tblPr/>
              <a:tblGrid>
                <a:gridCol w="5000760"/>
                <a:gridCol w="2643120"/>
              </a:tblGrid>
              <a:tr h="6001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знать….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ить вопросы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001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ить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жать…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015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ть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ять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001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снить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числять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001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крыть понятия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и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001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яснять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1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642960" y="1643040"/>
          <a:ext cx="8072280" cy="739800"/>
        </p:xfrm>
        <a:graphic>
          <a:graphicData uri="http://schemas.openxmlformats.org/drawingml/2006/table">
            <a:tbl>
              <a:tblPr/>
              <a:tblGrid>
                <a:gridCol w="2690640"/>
                <a:gridCol w="2691000"/>
                <a:gridCol w="2690640"/>
              </a:tblGrid>
              <a:tr h="3700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ые ц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ц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годня на уроке я хоч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609480" y="165240"/>
            <a:ext cx="8163000" cy="11397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5 класс тема “Задачи на части”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В яблоке, которым отравилась Белоснежка, было 2 части змеиного яда и 5 частей белены. Какова масса отравы, если в ней змеиного яда на 12 г меньше, чем белены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6 класс тема “Нахождение числа по его дроби”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Когда крокодил проплыл 0.3 всего пути от своего болота до пляжа, чтобы пообедать, то ему осталось проплыть до середины пути 150 м. Какой длины путь от болота до пляжа?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6 класс тема “Нахождение дроби от числа”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Деду Морозу на примерку должны были принести 60 разных по цвету и размеру шуб, но принесли только 70%. Дед Мороз рассердился и сжёг 2 шубы. Испугавшись, ему принесли ещё 12 шуб, но на швейной фабрике остались ещё модели. Сколько шуб осталось на фабрике?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609480" y="-79200"/>
            <a:ext cx="8163000" cy="168876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Этот толстый герой просто обожает варенье. Начертите координатный луч с ед. отрезком 1 клетка. Отметьте точки: Р(6), Н(15), К(1), Л(7), А(3), О(12), С(9). Какое имя у героя?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А это суперпопулярные герои из суперсовременного мультфильма. Начертите координатный луч с ед. отрезком 1 клетка. Отметьте точки: К(7), Н(17), П(1), Е(9), О(4), О(15), М(12). Кто же они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Этот человечек в полосатой шапке. Начертите координатный луч с ед. отрезком 1 клетка. Отметьте точки: У(4), И(13), Б(1), Т(12), А(9), Р(6), о(16), Н(15)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255600" y="4492800"/>
            <a:ext cx="8705880" cy="176184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300816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2714760" y="609480"/>
            <a:ext cx="62006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Л.Н. Толстого: “Человек есть дробь. Числитель - сравнительно с другими - достоинства человека. Знаменатель - это оценка человеком самого себя. Увеличить своего числителя - свои достоинства - не во власти человека, но всякий может уменьшить свой знаменатель - своё мнение о себе, и этим уменьшением приблизиться к совершенству”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609480" y="249120"/>
            <a:ext cx="8163000" cy="10000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61272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Деятельность учителя на уроке с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личностно-ориентированной направленностью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Создание положительного эмоционального настроя на работу всех учеников в ходе урока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Сообщение в начале урока не только темы, но и организации учебной деятельности в ходе урока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Применение знаний, позволяющих ученику самому выбирать тип, вид и форму материала (словесную, графическую, условно-символическую)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Использование проблемных творческих заданий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Стимулирование учеников к выбору и самостоятельному использованию различных способов выполнения заданий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Оценка (поощрение) при опросе на уроке не только правильного ответа ученика, но и анализ того, как ученик рассуждал, какой способ использовал, почему ошибся и в чём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Обсуждение с детьми в конце урока не только того, что «мы узнали» (чем овладели), но и того, что понравилось (не понравилось) и почему, что бы хотелось выполнить еще раз, а что сделать по-другому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Отметка, выставляемая ученику в конце урока, должна аргументироваться по ряду параметров: правильности, самостоятельности, оригинальности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При задании на дом называется не только тема и объем задания, но и подробно разъясняется, как следует рационально организовать свою учебную работу при выполнении домашнего задания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1:04:35Z</dcterms:created>
  <dc:creator>1</dc:creator>
  <dc:description/>
  <dc:language>en-US</dc:language>
  <cp:lastModifiedBy>1</cp:lastModifiedBy>
  <dcterms:modified xsi:type="dcterms:W3CDTF">2011-03-31T14:14:46Z</dcterms:modified>
  <cp:revision>10</cp:revision>
  <dc:subject/>
  <dc:title>Технология личностно ориентированного обучения на уроках математики. </dc:title>
</cp:coreProperties>
</file>