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178-DCE8-42F8-A869-E49FFDE4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389-D413-4CDC-8ACE-0E8010E0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418-F426-4BF1-9D02-8EB68EF2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3BF-F8BE-4950-8546-80B92EBE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F801-AD8E-467E-8468-7B2496AB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A44-191D-480B-8EDF-0AD7DD2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1D8C-33B8-427A-A983-EB01CBD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243-0122-40A4-9D8C-C5F9EFBD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2806-BEFF-4A52-A122-C67BCA1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D48-524A-40BF-BE8E-952986F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665E-68AB-44F5-A69F-B533701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158-F923-4AFF-ADFD-8001C30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D7D5-AD6B-4223-B7D6-189F02D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B40-F400-4855-9054-568E0A5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FBD7-704C-4CE8-B753-441D3A14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54E8-0B2C-4CC4-A767-D4A7DC51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6560-F58E-4FB5-BA8D-18CD711C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B727-A7A8-4795-AA76-06CCFF0C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3298-44F8-42C7-91AC-F043E16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22BF-FEA1-46E6-9103-35B97D6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FFCB-3231-4562-9908-DAC0FB8D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3B91-0933-49E4-AE53-2E6207F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3C1-6796-4BA4-A949-4FD922A3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DC2E-29B3-4106-9C6F-74C0B5C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0307-3354-4B73-A3A5-048D8F6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5DF9-A8EA-46C3-BB4F-4C35BFD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348F-874E-4547-9EC1-6203D306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DE7C-48A1-4188-B4AB-D70B2CE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A46B-508D-458A-91D2-1E043EFF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9587-EBBF-4CE0-BE50-6D667490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C95C-EC53-414F-A155-401152F6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D9AA-E6F1-4585-936B-A5B5B1F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DE2F-D51E-402F-8D3C-9BA0B35C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C15-F422-41DE-831F-7CEFCDF9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A733-4439-44E7-82C1-C76DB954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8C34-B9E5-4C4C-AB6C-3D4222B9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22A2-A690-463C-9EBB-0C5A9727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1CDD-3277-4B07-B872-C692302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228B-4EC4-4E67-A8E6-2493057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35CD-5DB4-485A-82E9-D138E25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CC8F-619E-452F-BF1A-B1C3DD3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6999-552C-4957-B35F-EE4DD5AA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52EA-AF14-4AFD-8A47-19E6B420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C588-D8D4-45AA-9D4E-16B77787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9C9-6792-45FE-8428-F35EE24C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1BEA-7114-4E26-8E4A-1EC9F61E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4EB6-7E9E-4A72-A184-CDE641E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F03C-579E-491C-B152-6F412D94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EB38-45B6-48F9-9DB2-B91E8287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EED3-08A0-4F27-BB46-65DC0479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E99E-8E4E-43CF-9E31-828615B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88FA-25E1-4D96-A1F7-729EA418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4186-45D3-4D88-9304-DBD5D2E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B95B-1270-4B70-8AD5-1A34F74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8002-2224-4345-B452-6F4BFB87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667-0A61-4682-ACDD-6B16B28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0C88-1A4B-47C3-ACDF-76C07A13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1EB-1C42-4C91-AFFE-CA671C8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BB9-B160-4798-B8DB-BFA99DA8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31D-9CE3-44F1-8BC9-DEAB9CD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73F-04F6-42B1-AEFA-F8BCE0A21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1F65-1240-40FC-B9C6-34C0F0631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D55B-34F6-4296-9A4A-98195C37F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27D2-A48D-4FDC-AC1F-C82BEBF50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A3FD-E510-4F37-8DF8-66E75CD2C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34920" y="4365360"/>
            <a:ext cx="507348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Прямоугольник 10" descr=""/>
          <p:cNvPicPr/>
          <p:nvPr/>
        </p:nvPicPr>
        <p:blipFill>
          <a:blip r:embed="rId1"/>
          <a:stretch/>
        </p:blipFill>
        <p:spPr>
          <a:xfrm>
            <a:off x="255600" y="695160"/>
            <a:ext cx="87170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Calibri"/>
              </a:rPr>
              <a:t>Классификация химических реакций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http://www.varson.ru/images/Himia_jpeg_big/4-14.jpg"/>
          <p:cNvPicPr/>
          <p:nvPr/>
        </p:nvPicPr>
        <p:blipFill>
          <a:blip r:embed="rId1"/>
          <a:srcRect l="0" t="10728" r="0" b="6651"/>
          <a:stretch/>
        </p:blipFill>
        <p:spPr>
          <a:xfrm>
            <a:off x="642960" y="1357200"/>
            <a:ext cx="7929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:\Работа\Материалы к урокам\Химия накопл\thr_cr.jpg"/>
          <p:cNvPicPr/>
          <p:nvPr/>
        </p:nvPicPr>
        <p:blipFill>
          <a:blip r:embed="rId1"/>
          <a:srcRect l="943" t="8662" r="932" b="6384"/>
          <a:stretch/>
        </p:blipFill>
        <p:spPr>
          <a:xfrm>
            <a:off x="539640" y="1484280"/>
            <a:ext cx="8066160" cy="4997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900000" y="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По числу и составу реагирующих и образующихся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(в неорганической хим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900000" y="0"/>
            <a:ext cx="75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По числу и составу реагирующих и образующихся 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Arial"/>
              </a:rPr>
              <a:t>(в органической хим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2960" y="1600200"/>
          <a:ext cx="7858080" cy="4302000"/>
        </p:xfrm>
        <a:graphic>
          <a:graphicData uri="http://schemas.openxmlformats.org/drawingml/2006/table">
            <a:tbl>
              <a:tblPr/>
              <a:tblGrid>
                <a:gridCol w="2633760"/>
                <a:gridCol w="5224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ЗАМЕЩЕНИ 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H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ПРИСОЕДИ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B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-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ОТЩЕ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АКЦИЯ ПЕРЕГРУППИРОВ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4" name="Прямая со стрелкой 9"/>
          <p:cNvCxnSpPr/>
          <p:nvPr/>
        </p:nvCxnSpPr>
        <p:spPr>
          <a:xfrm>
            <a:off x="5508720" y="2349000"/>
            <a:ext cx="5763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5" name="Прямая со стрелкой 10"/>
          <p:cNvCxnSpPr/>
          <p:nvPr/>
        </p:nvCxnSpPr>
        <p:spPr>
          <a:xfrm>
            <a:off x="5724000" y="328428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6" name="Прямая со стрелкой 11"/>
          <p:cNvCxnSpPr/>
          <p:nvPr/>
        </p:nvCxnSpPr>
        <p:spPr>
          <a:xfrm>
            <a:off x="5363640" y="422064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17" name="Прямая со стрелкой 12"/>
          <p:cNvCxnSpPr/>
          <p:nvPr/>
        </p:nvCxnSpPr>
        <p:spPr>
          <a:xfrm>
            <a:off x="7524360" y="5084280"/>
            <a:ext cx="57708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изменению степени окисления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42960" y="1600200"/>
          <a:ext cx="7858080" cy="4394160"/>
        </p:xfrm>
        <a:graphic>
          <a:graphicData uri="http://schemas.openxmlformats.org/drawingml/2006/table">
            <a:tbl>
              <a:tblPr/>
              <a:tblGrid>
                <a:gridCol w="2633760"/>
                <a:gridCol w="5224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ительно-восстановительные реа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     0           +2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Cu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 2Cu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87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+1   -2+1    0             -1+1-1   -1+1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B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-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окислительно-восстановительные реа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 -2+1       +2-2     +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(OH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7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+1   -1+1    -1    +1-2+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NaO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+1   -1+1    -2+1    +1-1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O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NaC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0" name="Прямая со стрелкой 7"/>
          <p:cNvCxnSpPr/>
          <p:nvPr/>
        </p:nvCxnSpPr>
        <p:spPr>
          <a:xfrm>
            <a:off x="5724360" y="3357360"/>
            <a:ext cx="50400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21" name="Прямая со стрелкой 9"/>
          <p:cNvCxnSpPr/>
          <p:nvPr/>
        </p:nvCxnSpPr>
        <p:spPr>
          <a:xfrm>
            <a:off x="7667640" y="5013000"/>
            <a:ext cx="6501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тепловому эффекту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42960" y="1600200"/>
          <a:ext cx="7858080" cy="3174840"/>
        </p:xfrm>
        <a:graphic>
          <a:graphicData uri="http://schemas.openxmlformats.org/drawingml/2006/table">
            <a:tbl>
              <a:tblPr/>
              <a:tblGrid>
                <a:gridCol w="2921040"/>
                <a:gridCol w="493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зотер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O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= Ca(OH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CO2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+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терм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gO = Hg + 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 + HC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4" name="Прямая со стрелкой 8"/>
          <p:cNvCxnSpPr/>
          <p:nvPr/>
        </p:nvCxnSpPr>
        <p:spPr>
          <a:xfrm>
            <a:off x="5364000" y="4220640"/>
            <a:ext cx="43272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  <p:cxnSp>
        <p:nvCxnSpPr>
          <p:cNvPr id="225" name="Прямая со стрелкой 11"/>
          <p:cNvCxnSpPr/>
          <p:nvPr/>
        </p:nvCxnSpPr>
        <p:spPr>
          <a:xfrm>
            <a:off x="5867280" y="2923920"/>
            <a:ext cx="2181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Calibri"/>
              </a:rPr>
              <a:t>По обратимости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42960" y="1600200"/>
          <a:ext cx="7858080" cy="3382920"/>
        </p:xfrm>
        <a:graphic>
          <a:graphicData uri="http://schemas.openxmlformats.org/drawingml/2006/table">
            <a:tbl>
              <a:tblPr/>
              <a:tblGrid>
                <a:gridCol w="2921040"/>
                <a:gridCol w="493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ти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71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C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b5395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рати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5760">
                      <a:solidFill>
                        <a:srgbClr val="0b5395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 + 2AgN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Ag + Cu(N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b5395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  <a:tr h="13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OOH + NaOH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 COONa + 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5395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8" name="Прямая со стрелкой 7"/>
          <p:cNvCxnSpPr/>
          <p:nvPr/>
        </p:nvCxnSpPr>
        <p:spPr>
          <a:xfrm>
            <a:off x="5651280" y="2276280"/>
            <a:ext cx="43380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9" name="Прямая со стрелкой 10"/>
          <p:cNvCxnSpPr/>
          <p:nvPr/>
        </p:nvCxnSpPr>
        <p:spPr>
          <a:xfrm>
            <a:off x="6156000" y="2852280"/>
            <a:ext cx="43236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Прямая со стрелкой 15"/>
          <p:cNvCxnSpPr/>
          <p:nvPr/>
        </p:nvCxnSpPr>
        <p:spPr>
          <a:xfrm>
            <a:off x="7667640" y="4005000"/>
            <a:ext cx="505440" cy="1080"/>
          </a:xfrm>
          <a:prstGeom prst="straightConnector1">
            <a:avLst/>
          </a:prstGeom>
          <a:ln w="9360">
            <a:solidFill>
              <a:srgbClr val="0a6d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0:04:33Z</dcterms:created>
  <dc:creator>Loner-XP</dc:creator>
  <dc:description/>
  <dc:language>en-US</dc:language>
  <cp:lastModifiedBy>user1</cp:lastModifiedBy>
  <dcterms:modified xsi:type="dcterms:W3CDTF">2013-11-30T06:47:21Z</dcterms:modified>
  <cp:revision>45</cp:revision>
  <dc:subject/>
  <dc:title>Слайд 1</dc:title>
</cp:coreProperties>
</file>