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731-F7DA-47F7-99F2-22F6E643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68A0-55E1-4D64-92B7-1821306F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5CBD-481C-48FA-BFEE-1ECD171B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3DE1-1007-4B6D-BAB0-10118E9E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9C82-ECEC-4CDF-99EC-6B2AC7BA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307C-1778-4ABC-ADFA-A8914F50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5523-0A26-49D6-92A8-4D4FEC51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D72D-15C6-40A5-A3B7-FE015D61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FA69-DEF2-4C53-8051-4A4DFC5A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F35E-3F34-47F4-AFDC-CE7F04E4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0C1B-AE6B-4DF3-A845-F4F3F066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8AC-30D3-4A40-96D8-BDBAF749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CEB4-7F6B-4845-8A52-04508E39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C2C6-7F5B-4E10-8FA7-2D0B0DB9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8243-0587-4533-97CD-257B6EDF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DF30-7A31-4326-8B40-A9B0BCC1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1628-0029-4C90-955C-389147D3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FEC07-A369-48EA-9F95-F69B3633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80550-4833-4A77-A418-839F8B85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010F-2E20-4042-AA07-09F807BA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EB35E-7AC2-4FAD-AD7B-094C620E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83A9D-F060-4731-919D-A62B84E6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B6C-E7B2-44D0-9352-FC7208FA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30F3E-00C9-45FD-AFE6-90B41D53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D8D6B-CE10-455A-BC39-5BB42DCB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F7139-48E2-41BA-AD9D-A940880E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DCF4-1A42-42C8-92A4-D6FA9176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0DB5-94AB-4EA4-BD8E-8D5E50D8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95962-5385-4475-BAA5-81BFD45A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EA57-5413-4FB4-A7C4-C26854FE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21DE1-6C00-4F58-9BBD-690B8744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BECBA-FD1D-4233-94CE-9B98ADAD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15CE4-B0F8-4654-8022-F1B05634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8E1-D13F-4B35-87E5-485A68D5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B62D4-7BF6-4637-AEBD-1F9D749F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AD518-56BA-4E02-9EA7-2AB86C64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68D46-38CA-4BC4-B007-A666E105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0A333-751A-45EA-BC68-C1350F06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B78ED-BDF7-46DC-8E98-F14DAB3C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87220-937F-456F-AF3E-ECFC533F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574AC-7E16-4004-927D-CCED11C6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1D9D6-89C8-4BD6-91FD-5B23FB87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1072A-F003-41EF-AE86-8675E551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880ED-294C-4070-9D4C-50A7C783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627-44B7-42DE-A7D6-824DB222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50166-059D-4E1A-8636-EA9D12F6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43118-E53F-4D21-8442-2E37CFC1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0FFFB-C789-41A4-A80B-AC2C7585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20E2F-6DF2-4D25-9CFD-1083416E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E9227-5DC1-4AE8-9FD9-D040547D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364F4-1A41-4E69-9987-A673CCE6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7CB7B-733F-41C9-99D6-75BCDA80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BF1BE-ADED-4149-BADC-002121A1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0A69A-3C9A-40C2-96ED-BCEDA92D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5589C-1823-4ED3-A2D1-9D3AA18A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3A6D-17CB-4738-BED4-2473272B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A565A-1D2C-4415-9E79-11C2219F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4D8-5C53-45B3-95C8-D02FF6C4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55E-992F-4F85-BEA3-8319FC4A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3221-D431-4474-BEAB-18EDB882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3A46-29E6-43BE-B2A6-5FAC80EAA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492A-80CB-4CA6-8C97-D5EB63BE6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58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a58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134C-CB13-4B65-BEC2-F09967FD2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2D30-950F-4C92-BDB2-DE1B35CF36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07F3-3303-443D-9343-9BDF61B458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34920" y="4365360"/>
            <a:ext cx="507348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495c"/>
                </a:solidFill>
                <a:latin typeface="Calibri"/>
              </a:rPr>
              <a:t>Ермолаева Светлана Анатолье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495c"/>
                </a:solidFill>
                <a:latin typeface="Calibri"/>
              </a:rPr>
              <a:t>МБОУ СОШ №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495c"/>
                </a:solidFill>
                <a:latin typeface="Calibri"/>
              </a:rPr>
              <a:t>Г.Узловая Тульская об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495c"/>
                </a:solidFill>
                <a:latin typeface="Calibri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Прямоугольник 10" descr=""/>
          <p:cNvPicPr/>
          <p:nvPr/>
        </p:nvPicPr>
        <p:blipFill>
          <a:blip r:embed="rId1"/>
          <a:stretch/>
        </p:blipFill>
        <p:spPr>
          <a:xfrm>
            <a:off x="255600" y="695160"/>
            <a:ext cx="871704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Calibri"/>
              </a:rPr>
              <a:t>Классификация химических реакций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http://www.varson.ru/images/Himia_jpeg_big/4-14.jpg"/>
          <p:cNvPicPr/>
          <p:nvPr/>
        </p:nvPicPr>
        <p:blipFill>
          <a:blip r:embed="rId1"/>
          <a:srcRect l="0" t="10728" r="0" b="6651"/>
          <a:stretch/>
        </p:blipFill>
        <p:spPr>
          <a:xfrm>
            <a:off x="642960" y="1357200"/>
            <a:ext cx="79297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H:\Работа\Материалы к урокам\Химия накопл\thr_cr.jpg"/>
          <p:cNvPicPr/>
          <p:nvPr/>
        </p:nvPicPr>
        <p:blipFill>
          <a:blip r:embed="rId1"/>
          <a:srcRect l="943" t="8662" r="932" b="6384"/>
          <a:stretch/>
        </p:blipFill>
        <p:spPr>
          <a:xfrm>
            <a:off x="539640" y="1484280"/>
            <a:ext cx="8066160" cy="49975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900000" y="0"/>
            <a:ext cx="75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По числу и составу реагирующих и образующихся веще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(в неорганической химии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2"/>
          <p:cNvSpPr/>
          <p:nvPr/>
        </p:nvSpPr>
        <p:spPr>
          <a:xfrm>
            <a:off x="900000" y="0"/>
            <a:ext cx="75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По числу и составу реагирующих и образующихся веще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(в органической химии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42960" y="1600200"/>
          <a:ext cx="7858080" cy="4302000"/>
        </p:xfrm>
        <a:graphic>
          <a:graphicData uri="http://schemas.openxmlformats.org/drawingml/2006/table">
            <a:tbl>
              <a:tblPr/>
              <a:tblGrid>
                <a:gridCol w="2633760"/>
                <a:gridCol w="5224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АКЦИЯ ЗАМЕЩЕНИ 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С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 + HC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АКЦИЯ ПРИСОЕДИ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+ Br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-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АКЦИЯ ОТЩЕП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  <a:tr h="13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АКЦИЯ ПЕРЕГРУППИРОВ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14" name="Прямая со стрелкой 9"/>
          <p:cNvCxnSpPr/>
          <p:nvPr/>
        </p:nvCxnSpPr>
        <p:spPr>
          <a:xfrm>
            <a:off x="5508720" y="2349000"/>
            <a:ext cx="57636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tailEnd len="med" type="arrow" w="med"/>
          </a:ln>
        </p:spPr>
      </p:cxnSp>
      <p:cxnSp>
        <p:nvCxnSpPr>
          <p:cNvPr id="215" name="Прямая со стрелкой 10"/>
          <p:cNvCxnSpPr/>
          <p:nvPr/>
        </p:nvCxnSpPr>
        <p:spPr>
          <a:xfrm>
            <a:off x="5724000" y="3284280"/>
            <a:ext cx="57708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tailEnd len="med" type="arrow" w="med"/>
          </a:ln>
        </p:spPr>
      </p:cxnSp>
      <p:cxnSp>
        <p:nvCxnSpPr>
          <p:cNvPr id="216" name="Прямая со стрелкой 11"/>
          <p:cNvCxnSpPr/>
          <p:nvPr/>
        </p:nvCxnSpPr>
        <p:spPr>
          <a:xfrm>
            <a:off x="5363640" y="4220640"/>
            <a:ext cx="57708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tailEnd len="med" type="arrow" w="med"/>
          </a:ln>
        </p:spPr>
      </p:cxnSp>
      <p:cxnSp>
        <p:nvCxnSpPr>
          <p:cNvPr id="217" name="Прямая со стрелкой 12"/>
          <p:cNvCxnSpPr/>
          <p:nvPr/>
        </p:nvCxnSpPr>
        <p:spPr>
          <a:xfrm>
            <a:off x="7524360" y="5084280"/>
            <a:ext cx="57708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684e"/>
                </a:solidFill>
                <a:latin typeface="Calibri"/>
              </a:rPr>
              <a:t>По изменению степени окисления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42960" y="1600200"/>
          <a:ext cx="7858080" cy="4394160"/>
        </p:xfrm>
        <a:graphic>
          <a:graphicData uri="http://schemas.openxmlformats.org/drawingml/2006/table">
            <a:tbl>
              <a:tblPr/>
              <a:tblGrid>
                <a:gridCol w="2633760"/>
                <a:gridCol w="5224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ислительно-восстановительные реак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b539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      0           +2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Cu + 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 2Cu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  <a:tr h="87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+1   -2+1    0             -1+1-1   -1+1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+ Br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-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b5395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окислительно-восстановительные реак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5760">
                      <a:solidFill>
                        <a:srgbClr val="0b5395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2 -2+1       +2-2     +1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(OH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CuO + 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5760">
                      <a:solidFill>
                        <a:srgbClr val="0b5395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  <a:tr h="17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3+1   -1+1    -1    +1-2+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 + NaO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3+1   -1+1    -2+1    +1-1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O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NaCl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20" name="Прямая со стрелкой 7"/>
          <p:cNvCxnSpPr/>
          <p:nvPr/>
        </p:nvCxnSpPr>
        <p:spPr>
          <a:xfrm>
            <a:off x="5724360" y="3357360"/>
            <a:ext cx="50400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tailEnd len="med" type="arrow" w="med"/>
          </a:ln>
        </p:spPr>
      </p:cxnSp>
      <p:cxnSp>
        <p:nvCxnSpPr>
          <p:cNvPr id="221" name="Прямая со стрелкой 9"/>
          <p:cNvCxnSpPr/>
          <p:nvPr/>
        </p:nvCxnSpPr>
        <p:spPr>
          <a:xfrm>
            <a:off x="7667640" y="5013000"/>
            <a:ext cx="65016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684e"/>
                </a:solidFill>
                <a:latin typeface="Calibri"/>
              </a:rPr>
              <a:t>По тепловому эффекту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42960" y="1600200"/>
          <a:ext cx="7858080" cy="3174840"/>
        </p:xfrm>
        <a:graphic>
          <a:graphicData uri="http://schemas.openxmlformats.org/drawingml/2006/table">
            <a:tbl>
              <a:tblPr/>
              <a:tblGrid>
                <a:gridCol w="2921040"/>
                <a:gridCol w="493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зотерм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b539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O + 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= Ca(OH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  <a:tr h="71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+ 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CO2 + 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+ 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b5395"/>
                      </a:solidFill>
                    </a:lnB>
                    <a:noFill/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ндотерм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5760">
                      <a:solidFill>
                        <a:srgbClr val="0b5395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gO = Hg + 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5760">
                      <a:solidFill>
                        <a:srgbClr val="0b5395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  <a:tr h="71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С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 + HCl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24" name="Прямая со стрелкой 8"/>
          <p:cNvCxnSpPr/>
          <p:nvPr/>
        </p:nvCxnSpPr>
        <p:spPr>
          <a:xfrm>
            <a:off x="5364000" y="4220640"/>
            <a:ext cx="43272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tailEnd len="med" type="arrow" w="med"/>
          </a:ln>
        </p:spPr>
      </p:cxnSp>
      <p:cxnSp>
        <p:nvCxnSpPr>
          <p:cNvPr id="225" name="Прямая со стрелкой 11"/>
          <p:cNvCxnSpPr/>
          <p:nvPr/>
        </p:nvCxnSpPr>
        <p:spPr>
          <a:xfrm>
            <a:off x="5867280" y="2923920"/>
            <a:ext cx="21816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684e"/>
                </a:solidFill>
                <a:latin typeface="Calibri"/>
              </a:rPr>
              <a:t>По обратимости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42960" y="1600200"/>
          <a:ext cx="7858080" cy="3382920"/>
        </p:xfrm>
        <a:graphic>
          <a:graphicData uri="http://schemas.openxmlformats.org/drawingml/2006/table">
            <a:tbl>
              <a:tblPr/>
              <a:tblGrid>
                <a:gridCol w="2921040"/>
                <a:gridCol w="493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тим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b539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+ 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  <a:tr h="71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b5395"/>
                      </a:solidFill>
                    </a:lnB>
                    <a:noFill/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ратим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5760">
                      <a:solidFill>
                        <a:srgbClr val="0b5395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 + 2AgN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Ag + Cu(N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5760">
                      <a:solidFill>
                        <a:srgbClr val="0b5395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  <a:tr h="134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COOH + NaOH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COONa + 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28" name="Прямая со стрелкой 7"/>
          <p:cNvCxnSpPr/>
          <p:nvPr/>
        </p:nvCxnSpPr>
        <p:spPr>
          <a:xfrm>
            <a:off x="5651280" y="2276280"/>
            <a:ext cx="43380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9" name="Прямая со стрелкой 10"/>
          <p:cNvCxnSpPr/>
          <p:nvPr/>
        </p:nvCxnSpPr>
        <p:spPr>
          <a:xfrm>
            <a:off x="6156000" y="2852280"/>
            <a:ext cx="43236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Прямая со стрелкой 15"/>
          <p:cNvCxnSpPr/>
          <p:nvPr/>
        </p:nvCxnSpPr>
        <p:spPr>
          <a:xfrm>
            <a:off x="7667640" y="4005000"/>
            <a:ext cx="50544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10:04:33Z</dcterms:created>
  <dc:creator>Loner-XP</dc:creator>
  <dc:description/>
  <dc:language>en-US</dc:language>
  <cp:lastModifiedBy>user1</cp:lastModifiedBy>
  <dcterms:modified xsi:type="dcterms:W3CDTF">2013-11-30T06:47:21Z</dcterms:modified>
  <cp:revision>45</cp:revision>
  <dc:subject/>
  <dc:title>Слайд 1</dc:title>
</cp:coreProperties>
</file>