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7DD-CC2E-425A-8CA2-425C0E18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06D-59DB-4390-89C8-86E3DCC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A07-BE16-4E7B-966F-C1AC2449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AF8-30A6-4679-9003-C581F66A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4A4-C53B-45AF-A438-02EDC9A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7DC-5AE2-4AAF-A1A4-CF5E4D0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FDC-B012-4810-A447-3C6D8D09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360-4756-4237-9FAF-07722F3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FB2-5E37-4D85-A888-E621116A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975-4C2D-4B15-899D-607CA16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72E-FE00-496C-8B9D-86C8A46A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284-FC1E-4BC1-B075-DE1B74B5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F6A-7463-4036-93FD-4AFA8B26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ho Wants To Be A Millionaire - Lets Play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wwm-intro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wwm-int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835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911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3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02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70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нигоче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 Руси называлась библиотека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жи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голюб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иговни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94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лик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атель первой библиотеки на Руси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ва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розны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ликая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37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94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русский князь написал книгу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Поучение детям»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димир Святославич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Мономах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волод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46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94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какой странице библиотечной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ниги обычно стоит штамп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55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94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глав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ая часть произведения, как правило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принадлежит перу автора книг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пигра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21496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64" name="wwm-wonmill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9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ьман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избранных произведен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ных литературных автор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айджес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толог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трополог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73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94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чали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герой комедии А.С.Грибоедова сказал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«…Уж коли зло пресечь: Собрать все книги бы да сжечь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мусов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Чацки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фь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971800" y="533412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82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946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вангел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какой книге на Руси выбирал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мя новорожденному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800600" y="3733920"/>
            <a:ext cx="3657600" cy="3808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хизис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т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ибл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91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946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Чуд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российска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Книга рекордов Гиннесса»?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ары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лшебств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иво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9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200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0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194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 - Lets Play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wwm-int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wwm-intro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09480" y="5835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911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 Black"/>
              </a:rPr>
              <a:t>СПАСИБО ВСЕМ!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093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7028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702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5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Шарля Перр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Чей день рождения – 2 апреля – отмечается ежегод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к Международный день детской книги?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Х.Андерсен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.Я.Марша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стрид Линдгре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AutoShape 10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atangChe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13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55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94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ибли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первая составная часть сложных сл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ответствует по значению слову «книга»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ио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рио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64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228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на латинском языке звучит слово «книга»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декс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3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wwm-2k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39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мусо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чего в библиотеках древности стояли вёдра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ля в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свит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цвет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83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94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нязьями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ем были первые создател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кописных книг на Рус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онах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овца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Лесниками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92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9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бражение какого евангелиста украшал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ую печатную русскую книгу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оан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фе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ка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01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94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ва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розный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российский правитель веле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ь печатный двор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ослав Мудры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ександр Невский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лик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9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609480" y="3657600"/>
            <a:ext cx="373392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однение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62120" y="2286000"/>
            <a:ext cx="7696080" cy="7621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е до н.э. погубило часть знамен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лександрийской библиотеки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876920" y="3657600"/>
            <a:ext cx="3581280" cy="5335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емлетрясени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60948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жар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4800600" y="4419720"/>
            <a:ext cx="3733920" cy="5331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гнев чита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AutoShape 7"/>
          <p:cNvSpPr/>
          <p:nvPr/>
        </p:nvSpPr>
        <p:spPr>
          <a:xfrm flipV="1">
            <a:off x="380880" y="227520"/>
            <a:ext cx="144792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62120" y="83808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9" descr="who"/>
          <p:cNvPicPr/>
          <p:nvPr/>
        </p:nvPicPr>
        <p:blipFill>
          <a:blip r:embed="rId2"/>
          <a:srcRect l="0" t="74442" r="67515" b="10002"/>
          <a:stretch/>
        </p:blipFill>
        <p:spPr>
          <a:xfrm>
            <a:off x="2743200" y="5181480"/>
            <a:ext cx="3427560" cy="957240"/>
          </a:xfrm>
          <a:prstGeom prst="rect">
            <a:avLst/>
          </a:prstGeom>
          <a:ln w="0">
            <a:noFill/>
          </a:ln>
        </p:spPr>
      </p:pic>
      <p:pic>
        <p:nvPicPr>
          <p:cNvPr id="119" name="wwm-question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94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2:24:00Z</dcterms:created>
  <dc:creator>Marisel</dc:creator>
  <dc:description/>
  <dc:language>en-US</dc:language>
  <cp:lastModifiedBy>привет</cp:lastModifiedBy>
  <dcterms:modified xsi:type="dcterms:W3CDTF">2014-01-24T08:59:22Z</dcterms:modified>
  <cp:revision>39</cp:revision>
  <dc:subject/>
  <dc:title>Diapositiva 1</dc:title>
</cp:coreProperties>
</file>