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0F8-AC00-43FA-887F-E11A526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055-EF7F-4F72-A08F-7B1AFE02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95F-B474-4BDE-9F61-AE79247B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243-165B-4D5F-ABCB-0F060E5C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C0E9-0575-4785-888A-4011A45A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56AB-1C6A-4E2C-A24F-CAC340B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691D-7FCC-418E-A002-42488E7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5B0-B209-44EE-A450-AFF7458D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A5D1-1724-4A10-8AFF-8B767543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6B55-3A1B-43B3-B411-5A1D9964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05DD-7055-4341-B24B-422BE3BF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676-ABE0-433B-9C49-D0611466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3C55-CFB9-40BE-B922-C1D29FD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669E-7209-4C71-BD5C-ED5FFA8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232-263D-4744-ABA4-6A9435F6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BA0-96DB-4472-92D5-B61B34C9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6BB7-C2E1-4FBF-A1BE-313CA0F5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D93-61AC-4207-9653-0895B895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EE4-2EF3-49A4-AD1F-87258A43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9AB-FFE9-409F-BED6-0CD99677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7CB-AA7E-4D57-903F-47DAE5D6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1EA-909B-4A07-9B5D-D873C44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67F-BA12-4B1B-9AAE-86C2F355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912-AE08-4C66-B23E-AE81D36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EE9D-C6C6-4438-A5AC-C3108C81A0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6C4-0D1B-4AA1-B0F5-E60C541487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ОУ Средняя общеобразовательная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школа с углубленным изучением отдельных предметов № 24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Урок изобразительного искус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 </a:t>
            </a:r>
            <a:r>
              <a:rPr b="1" i="1" lang="en-US" sz="3200" spc="-1" strike="noStrike">
                <a:solidFill>
                  <a:srgbClr val="e4ea64"/>
                </a:solidFill>
                <a:latin typeface="Bookman Old Style"/>
              </a:rPr>
              <a:t>I </a:t>
            </a: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четвер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Тема: «Внутренний мир русской избы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Times New Roman"/>
              </a:rPr>
              <a:t>Учитель: Смагина Л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ec94"/>
                </a:solidFill>
                <a:latin typeface="Times New Roman"/>
              </a:rPr>
              <a:t>Саранс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79640" y="4365360"/>
            <a:ext cx="32511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Окно-око – связь с большим миром, белым светом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0" descr="Untitled - 3"/>
          <p:cNvPicPr/>
          <p:nvPr/>
        </p:nvPicPr>
        <p:blipFill>
          <a:blip r:embed="rId1"/>
          <a:stretch/>
        </p:blipFill>
        <p:spPr>
          <a:xfrm>
            <a:off x="395280" y="404640"/>
            <a:ext cx="4680000" cy="597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ечь была основой жизни, главным оберегом семьи, семейным очагом. «Печь краса – в доме чудеса!»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Untitled - 9"/>
          <p:cNvPicPr/>
          <p:nvPr/>
        </p:nvPicPr>
        <p:blipFill>
          <a:blip r:embed="rId1"/>
          <a:stretch/>
        </p:blipFill>
        <p:spPr>
          <a:xfrm>
            <a:off x="900000" y="333360"/>
            <a:ext cx="7128000" cy="504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Рядом с устьем печи стоят железные ухваты, которыми ставят в печь и достают горшки. А так же у печи находился деревянный ушат с вод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4" descr="Untitled - 20"/>
          <p:cNvPicPr/>
          <p:nvPr/>
        </p:nvPicPr>
        <p:blipFill>
          <a:blip r:embed="rId1"/>
          <a:stretch/>
        </p:blipFill>
        <p:spPr>
          <a:xfrm>
            <a:off x="755640" y="549360"/>
            <a:ext cx="3240000" cy="4452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Untitled - 211"/>
          <p:cNvPicPr/>
          <p:nvPr/>
        </p:nvPicPr>
        <p:blipFill>
          <a:blip r:embed="rId2"/>
          <a:srcRect l="51819" t="0" r="0" b="50053"/>
          <a:stretch/>
        </p:blipFill>
        <p:spPr>
          <a:xfrm>
            <a:off x="5076720" y="549360"/>
            <a:ext cx="3382920" cy="4390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«Печь кормила, поила, лечила и утешала, на ней подчас рожали младенцев, она же, когда человек дряхлел, помогала достойно выдержать краткую смертную муку и навек успокоиться. Печь нужна была в любом возрасте, в любом состоянии, положении. Она остывала вместе с гибелью всей семьи или дома… Тепло, которым дышала печь, было сродни душевному теплу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Untitled - 19"/>
          <p:cNvPicPr/>
          <p:nvPr/>
        </p:nvPicPr>
        <p:blipFill>
          <a:blip r:embed="rId1"/>
          <a:stretch/>
        </p:blipFill>
        <p:spPr>
          <a:xfrm>
            <a:off x="4356000" y="907920"/>
            <a:ext cx="4464000" cy="511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589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расный угол был олицетворением зар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6" descr="Untitled - 8"/>
          <p:cNvPicPr/>
          <p:nvPr/>
        </p:nvPicPr>
        <p:blipFill>
          <a:blip r:embed="rId1"/>
          <a:stretch/>
        </p:blipFill>
        <p:spPr>
          <a:xfrm>
            <a:off x="539640" y="549360"/>
            <a:ext cx="3600720" cy="504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Untitled - 13"/>
          <p:cNvPicPr/>
          <p:nvPr/>
        </p:nvPicPr>
        <p:blipFill>
          <a:blip r:embed="rId2"/>
          <a:stretch/>
        </p:blipFill>
        <p:spPr>
          <a:xfrm>
            <a:off x="4788000" y="476280"/>
            <a:ext cx="3816360" cy="518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5"/>
          <p:cNvPicPr/>
          <p:nvPr/>
        </p:nvPicPr>
        <p:blipFill>
          <a:blip r:embed="rId1"/>
          <a:stretch/>
        </p:blipFill>
        <p:spPr>
          <a:xfrm>
            <a:off x="3780000" y="476280"/>
            <a:ext cx="4897440" cy="5905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324000" y="1268280"/>
            <a:ext cx="324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rial"/>
              </a:rPr>
              <a:t>Простая крестьянская изба, а сколько мудрости и смысла в себя она вобрала! Интерьер избы – это столь же высокое искусство, как и все, что создавал талантливый русский нар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арианты композиционного размещения крестьянского интерьер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4" descr="Untitled - 11"/>
          <p:cNvPicPr/>
          <p:nvPr/>
        </p:nvPicPr>
        <p:blipFill>
          <a:blip r:embed="rId1"/>
          <a:srcRect l="0" t="0" r="0" b="69101"/>
          <a:stretch/>
        </p:blipFill>
        <p:spPr>
          <a:xfrm>
            <a:off x="395280" y="3429000"/>
            <a:ext cx="3024360" cy="308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Untitled - 11"/>
          <p:cNvPicPr/>
          <p:nvPr/>
        </p:nvPicPr>
        <p:blipFill>
          <a:blip r:embed="rId2"/>
          <a:srcRect l="0" t="32664" r="0" b="32742"/>
          <a:stretch/>
        </p:blipFill>
        <p:spPr>
          <a:xfrm>
            <a:off x="5867280" y="3429000"/>
            <a:ext cx="2951280" cy="302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Untitled - 11"/>
          <p:cNvPicPr/>
          <p:nvPr/>
        </p:nvPicPr>
        <p:blipFill>
          <a:blip r:embed="rId3"/>
          <a:srcRect l="-3044" t="65605" r="0" b="0"/>
          <a:stretch/>
        </p:blipFill>
        <p:spPr>
          <a:xfrm>
            <a:off x="3059280" y="907920"/>
            <a:ext cx="2950920" cy="29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римеры выполнения интерьера крестьянской избы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Untitled - 4"/>
          <p:cNvPicPr/>
          <p:nvPr/>
        </p:nvPicPr>
        <p:blipFill>
          <a:blip r:embed="rId1"/>
          <a:stretch/>
        </p:blipFill>
        <p:spPr>
          <a:xfrm>
            <a:off x="457200" y="1846440"/>
            <a:ext cx="4186080" cy="3817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Untitled - 2"/>
          <p:cNvPicPr/>
          <p:nvPr/>
        </p:nvPicPr>
        <p:blipFill>
          <a:blip r:embed="rId2"/>
          <a:stretch/>
        </p:blipFill>
        <p:spPr>
          <a:xfrm>
            <a:off x="4848120" y="1847880"/>
            <a:ext cx="3746520" cy="383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Список использованной литератур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Горяева Н.А. «Декоративно прикладное искусство в жизни человека» Москва «Просвещение»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Горяева Н.А. «Первые шаги в мире искусства» Москва «Просвещение» 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Горяева Н.А. «Методическое пособие к учебнику» Москва «Просвещение»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Неменский Б.М. «Искусство вокруг нас» Москва «Просвещение»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Неменский Б.М. «Изобразительное искусство и художественный труд. Программа» Москва «Просвещение»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Харитонова Е.Д. «Пермский областной краеведческий музей» «Пермское художественное издательство»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Чудакова Н.В. «Я познаю мир» Москва «АСТ» 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www.google.ru</a:t>
            </a: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Музей – заповедник деревянного зодчества. Кижи.</a:t>
            </a: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1258920" y="404640"/>
            <a:ext cx="6697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Цель урока</a:t>
            </a: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Сформировать у учащихся образные представления об организации, мудрости устроении человеком внутреннего пространства избы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знакомить с понятием интерьер, его особенностями в крестьянском жилище; сформировать понятие духовного и материального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79368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Актуализация опорных зна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- По каким принципам украшался внешний облик крестьянской изб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- Зачем люди украшали свои жилищ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111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лаголем, кошелем и брусом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м строили с резным крыльцом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 обдуманным мужицким вкусом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 каждый со своим лицом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1" descr="vi_21"/>
          <p:cNvPicPr/>
          <p:nvPr/>
        </p:nvPicPr>
        <p:blipFill>
          <a:blip r:embed="rId1"/>
          <a:stretch/>
        </p:blipFill>
        <p:spPr>
          <a:xfrm>
            <a:off x="5867280" y="692280"/>
            <a:ext cx="2914920" cy="273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Untitled - 21"/>
          <p:cNvPicPr/>
          <p:nvPr/>
        </p:nvPicPr>
        <p:blipFill>
          <a:blip r:embed="rId2"/>
          <a:stretch/>
        </p:blipFill>
        <p:spPr>
          <a:xfrm>
            <a:off x="611280" y="2565360"/>
            <a:ext cx="3529080" cy="38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vi_20"/>
          <p:cNvPicPr/>
          <p:nvPr/>
        </p:nvPicPr>
        <p:blipFill>
          <a:blip r:embed="rId3"/>
          <a:stretch/>
        </p:blipFill>
        <p:spPr>
          <a:xfrm>
            <a:off x="4427640" y="3573360"/>
            <a:ext cx="4344840" cy="2936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52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В низенькой светелке с створчатым окн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Светится лампадка в сумраке ночн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Слабый огонечек то совсем замре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То дрожащим светом стены оболь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Новая светелка чисто прибран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В темноте белеет занавес окн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Пол отструган гладко; ровен потоло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Печка развальная стала в угол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По стенам – укладки с дедовским добр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зкая скамейка, крытая ковр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Крашеные пяльцы с стулом раздвижн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И кровать резная с пологом цветны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Л. М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6" descr="image001"/>
          <p:cNvPicPr/>
          <p:nvPr/>
        </p:nvPicPr>
        <p:blipFill>
          <a:blip r:embed="rId1"/>
          <a:srcRect l="0" t="0" r="-984" b="0"/>
          <a:stretch/>
        </p:blipFill>
        <p:spPr>
          <a:xfrm>
            <a:off x="5435640" y="1557360"/>
            <a:ext cx="3240000" cy="321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389880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толок связывался в народных представлениях с небом; матица олицетворяла собой млечный путь в неб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1600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Untitled - 6"/>
          <p:cNvPicPr/>
          <p:nvPr/>
        </p:nvPicPr>
        <p:blipFill>
          <a:blip r:embed="rId1"/>
          <a:stretch/>
        </p:blipFill>
        <p:spPr>
          <a:xfrm>
            <a:off x="4500720" y="260280"/>
            <a:ext cx="4281480" cy="597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_room2"/>
          <p:cNvPicPr/>
          <p:nvPr/>
        </p:nvPicPr>
        <p:blipFill>
          <a:blip r:embed="rId1"/>
          <a:stretch/>
        </p:blipFill>
        <p:spPr>
          <a:xfrm>
            <a:off x="1116000" y="404640"/>
            <a:ext cx="7129440" cy="4896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1116000" y="5373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Arial"/>
              </a:rPr>
              <a:t>Под потолком шли полавочники, на которых располагалась крестьянская утварь, а около печи укрепляли деревянный настил – пол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Untitled - 15"/>
          <p:cNvPicPr/>
          <p:nvPr/>
        </p:nvPicPr>
        <p:blipFill>
          <a:blip r:embed="rId1"/>
          <a:stretch/>
        </p:blipFill>
        <p:spPr>
          <a:xfrm>
            <a:off x="1042920" y="404640"/>
            <a:ext cx="7274160" cy="4969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900000" y="5734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rial"/>
              </a:rPr>
              <a:t>Почти в каждой избе имелся ткацкий стан – красно. На нем женщины тк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Untitled - 17"/>
          <p:cNvPicPr/>
          <p:nvPr/>
        </p:nvPicPr>
        <p:blipFill>
          <a:blip r:embed="rId1"/>
          <a:stretch/>
        </p:blipFill>
        <p:spPr>
          <a:xfrm>
            <a:off x="466560" y="692280"/>
            <a:ext cx="4392720" cy="5433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Untitled - 211"/>
          <p:cNvPicPr/>
          <p:nvPr/>
        </p:nvPicPr>
        <p:blipFill>
          <a:blip r:embed="rId2"/>
          <a:stretch/>
        </p:blipFill>
        <p:spPr>
          <a:xfrm>
            <a:off x="5076720" y="2708280"/>
            <a:ext cx="381168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5076720" y="836640"/>
            <a:ext cx="37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rial"/>
              </a:rPr>
              <a:t>Для новорожденного подвешивали к потолку избы нарядную люль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л – земля; домотканые половики-дорожки, посланные в направлении от двери к передним окнам, - были образным выражением идеи пути-дороги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Untitled - 211"/>
          <p:cNvPicPr/>
          <p:nvPr/>
        </p:nvPicPr>
        <p:blipFill>
          <a:blip r:embed="rId1"/>
          <a:stretch/>
        </p:blipFill>
        <p:spPr>
          <a:xfrm>
            <a:off x="1403280" y="404640"/>
            <a:ext cx="6553440" cy="496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8:58:37Z</dcterms:created>
  <dc:creator>3d_mod</dc:creator>
  <dc:description/>
  <dc:language>en-US</dc:language>
  <cp:lastModifiedBy>1</cp:lastModifiedBy>
  <dcterms:modified xsi:type="dcterms:W3CDTF">2014-01-23T22:24:50Z</dcterms:modified>
  <cp:revision>20</cp:revision>
  <dc:subject/>
  <dc:title>МОУ «Средняя общеобразовательная школа №1</dc:title>
</cp:coreProperties>
</file>