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9.gif" ContentType="image/gif"/>
  <Override PartName="/ppt/media/image5.png" ContentType="image/png"/>
  <Override PartName="/ppt/media/image1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C9E-CFDA-4D8E-9B8F-0E0D4A91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A4B-AE6E-4F30-A90F-5AC3FC06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35A-C420-473D-8802-3C27E328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A0B-8EF1-4E95-907C-A3EA1953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1A8-06A9-4B55-A187-0CE2A402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300-E4F0-421B-B8FC-C9EBC8CE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D23-B26E-4FD2-900A-FE99C94B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B95-9C57-4904-83A1-EAA4863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601-E052-493D-9147-235A9200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376-3E03-4291-93AB-075DAC0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F17-F11C-4F50-AAE2-206AD0D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046-5829-44FA-9B5C-8D7D309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CB20-33EE-4772-8EEA-3FCA279A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828800"/>
            <a:ext cx="7239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"Здоровье в жизни - это не все,</a:t>
            </a:r>
            <a:endParaRPr b="0" lang="en-US" sz="24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80880" y="3657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но жизнь без здоровья - ничто!"</a:t>
            </a:r>
            <a:endParaRPr b="0" lang="en-US" sz="24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7238880" cy="482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380880"/>
            <a:ext cx="7010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1484280"/>
            <a:ext cx="8001000" cy="703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ourier New"/>
              </a:rPr>
              <a:t>Организация досу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924280"/>
            <a:ext cx="8001000" cy="2574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нятость учащихся во внеклассное время в кружках, секциях в школе и учреждениях Д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 rot="10784400">
            <a:off x="304560" y="594324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541440"/>
            <a:ext cx="6804000" cy="25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6227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5fe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04920"/>
            <a:ext cx="7848720" cy="7034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urier New"/>
              </a:rPr>
              <a:t>Диагнос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73360"/>
            <a:ext cx="8381880" cy="398052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циального сост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стояния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болеваем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ровня психологического комфор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доровьесберегающей инфраструкту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3540" b="3396"/>
          <a:stretch/>
        </p:blipFill>
        <p:spPr>
          <a:xfrm>
            <a:off x="0" y="1268280"/>
            <a:ext cx="9144000" cy="373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0784400">
            <a:off x="250560" y="602100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cc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табл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533520"/>
            <a:ext cx="8001000" cy="131292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urier New"/>
              </a:rPr>
              <a:t>Организация труда, соблюдение ТБ и СанПиНа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286000"/>
            <a:ext cx="8001000" cy="314604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еба педсост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нструктаж учащих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седы медработника с учащими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784400">
            <a:off x="538920" y="5876280"/>
            <a:ext cx="1219320" cy="5331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Дале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35280" y="6021360"/>
            <a:ext cx="6408720" cy="24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09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404640"/>
            <a:ext cx="8001000" cy="131292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Спортивно-массовая оздоровительная раб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637000"/>
            <a:ext cx="8001000" cy="315612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ортивные се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ни спор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астие в городской спартакиа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кскурсии, по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ортивные праздни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784400">
            <a:off x="323640" y="6092280"/>
            <a:ext cx="1218960" cy="5331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0120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09480"/>
            <a:ext cx="8001000" cy="131292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ourier New"/>
              </a:rPr>
              <a:t>Социально-психологическая служб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90920"/>
            <a:ext cx="8001000" cy="248652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ординационно-развивающая раб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ренинг с учащимися «группы рис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5734080"/>
            <a:ext cx="6265800" cy="43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10784400">
            <a:off x="250560" y="602100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125360"/>
            <a:ext cx="8137800" cy="703440"/>
          </a:xfrm>
          <a:prstGeom prst="rect">
            <a:avLst/>
          </a:prstGeom>
          <a:noFill/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urier New"/>
              </a:rPr>
              <a:t>Медицинский аспе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637000"/>
            <a:ext cx="8229600" cy="3123000"/>
          </a:xfrm>
          <a:prstGeom prst="rect">
            <a:avLst/>
          </a:prstGeom>
          <a:noFill/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ное медицинское обслужи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ение условий режима питания, двигательной активности, медпросвещение в различной фор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784400">
            <a:off x="304560" y="594324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36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48077" t="0" r="0" b="0"/>
          <a:stretch/>
        </p:blipFill>
        <p:spPr>
          <a:xfrm>
            <a:off x="0" y="260280"/>
            <a:ext cx="658800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24090" t="0" r="47707" b="-16727"/>
          <a:stretch/>
        </p:blipFill>
        <p:spPr>
          <a:xfrm>
            <a:off x="4896000" y="5950080"/>
            <a:ext cx="4248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5640" y="1916280"/>
            <a:ext cx="8001000" cy="703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urier New"/>
              </a:rPr>
              <a:t>Социализ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573360"/>
            <a:ext cx="8001000" cy="11912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 участие детей в организации самоуправ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784400">
            <a:off x="304560" y="594324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-5771" t="0" r="0" b="22500"/>
          <a:stretch/>
        </p:blipFill>
        <p:spPr>
          <a:xfrm>
            <a:off x="0" y="476280"/>
            <a:ext cx="4824360" cy="21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-5771" t="0" r="0" b="22500"/>
          <a:stretch/>
        </p:blipFill>
        <p:spPr>
          <a:xfrm>
            <a:off x="4067280" y="5950080"/>
            <a:ext cx="4824360" cy="21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43564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588000" y="54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132000" y="5950080"/>
            <a:ext cx="217800" cy="21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3708360" y="5950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084720" y="476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627280" y="595008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304920"/>
            <a:ext cx="8534520" cy="13129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ourier New"/>
              </a:rPr>
              <a:t>Пропаганда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209680"/>
            <a:ext cx="4038480" cy="459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ветительная раб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784400">
            <a:off x="227880" y="6248160"/>
            <a:ext cx="1144440" cy="37764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Табл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2209680"/>
            <a:ext cx="4038840" cy="459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урочная дея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4038480" cy="2628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бучающие семинары для педагог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рез учебные предм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одительский всеобу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трудничество с оздоровительными центрам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200400"/>
            <a:ext cx="4038840" cy="24987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езентация здоровь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роки здоровь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частие в акциях   здоровь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ренин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неклассные зан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133720" y="1676520"/>
            <a:ext cx="2286000" cy="5331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676520"/>
            <a:ext cx="2133720" cy="5331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ffcc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989000"/>
            <a:ext cx="83804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деятельности  МОУ средней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общеобразовательной школы №12 г.Ярово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по созданию условий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сохранения и укрепления здоровь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752480" cy="1684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438280" y="762120"/>
            <a:ext cx="4267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СТРУКТУРА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6012000" cy="22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6012000" cy="227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72360" y="6308640"/>
            <a:ext cx="2474640" cy="123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2475000" cy="1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8699400" y="0"/>
            <a:ext cx="203400" cy="537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297000" y="2060640"/>
            <a:ext cx="180720" cy="479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0" y="6389640"/>
            <a:ext cx="39528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8748720" y="0"/>
            <a:ext cx="39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304920"/>
            <a:ext cx="6172200" cy="581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urier New"/>
              </a:rPr>
              <a:t>Структура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52280" y="1143000"/>
            <a:ext cx="213372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дос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6858000" y="1295280"/>
            <a:ext cx="20574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304920" y="3809880"/>
            <a:ext cx="365760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ртивно-массовая оздорови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5105520" y="3886200"/>
            <a:ext cx="373356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6248520" y="2666880"/>
            <a:ext cx="259056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цинский асп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6" action="ppaction://hlinksldjump"/>
          </p:cNvPr>
          <p:cNvSpPr/>
          <p:nvPr/>
        </p:nvSpPr>
        <p:spPr>
          <a:xfrm>
            <a:off x="380880" y="2819520"/>
            <a:ext cx="24386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7" action="ppaction://hlinksldjump"/>
          </p:cNvPr>
          <p:cNvSpPr/>
          <p:nvPr/>
        </p:nvSpPr>
        <p:spPr>
          <a:xfrm>
            <a:off x="1752480" y="5105520"/>
            <a:ext cx="53341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095880"/>
            <a:ext cx="3733920" cy="459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вети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095880"/>
            <a:ext cx="3809880" cy="459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609480"/>
            <a:ext cx="45720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685800"/>
            <a:ext cx="533160" cy="60948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33360" y="1066680"/>
            <a:ext cx="609480" cy="175284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1066680"/>
            <a:ext cx="609480" cy="160020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047760" y="1066680"/>
            <a:ext cx="152280" cy="274320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066680"/>
            <a:ext cx="381240" cy="2819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990720"/>
            <a:ext cx="0" cy="38088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8" action="ppaction://hlinksldjump"/>
          </p:cNvPr>
          <p:cNvSpPr/>
          <p:nvPr/>
        </p:nvSpPr>
        <p:spPr>
          <a:xfrm>
            <a:off x="3352680" y="1371600"/>
            <a:ext cx="2210040" cy="192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труда, соблюдение ТБ и СанПиН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3886200"/>
            <a:ext cx="0" cy="121932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520" y="5638680"/>
            <a:ext cx="2210040" cy="4572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5638680"/>
            <a:ext cx="2514600" cy="4572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75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228600"/>
            <a:ext cx="85341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vinItal"/>
              </a:rPr>
              <a:t>Дозировка времен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vinItal"/>
              </a:rPr>
              <a:t>на выполнение домашней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2362320"/>
            <a:ext cx="6121440" cy="412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1 класс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(со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полугодия) до 1 ча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2 класс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1,5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3 – 4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2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5 – 6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2,5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7 – 8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3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9 – 11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4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Гигиенические требования к максимальным величинам воздействия на школьника учебно-воспитательного проце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26920" y="1844640"/>
          <a:ext cx="7848360" cy="4768920"/>
        </p:xfrm>
        <a:graphic>
          <a:graphicData uri="http://schemas.openxmlformats.org/drawingml/2006/table">
            <a:tbl>
              <a:tblPr/>
              <a:tblGrid>
                <a:gridCol w="2220840"/>
                <a:gridCol w="2867040"/>
                <a:gridCol w="276048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 допускаемая недельная нагрузка в час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6-дневной нед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5-дневной нед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5950080"/>
            <a:ext cx="863640" cy="647640"/>
          </a:xfrm>
          <a:prstGeom prst="leftArrow">
            <a:avLst>
              <a:gd name="adj1" fmla="val 50000"/>
              <a:gd name="adj2" fmla="val 333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3276720" cy="761760"/>
          </a:xfrm>
          <a:prstGeom prst="rect">
            <a:avLst/>
          </a:prstGeom>
          <a:solidFill>
            <a:srgbClr val="66ff33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533520"/>
            <a:ext cx="3352680" cy="761760"/>
          </a:xfrm>
          <a:prstGeom prst="rect">
            <a:avLst/>
          </a:prstGeom>
          <a:solidFill>
            <a:srgbClr val="66ff33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1828800"/>
            <a:ext cx="5638680" cy="914400"/>
          </a:xfrm>
          <a:prstGeom prst="rect">
            <a:avLst/>
          </a:prstGeom>
          <a:solidFill>
            <a:srgbClr val="66ff33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00"/>
                </a:solidFill>
                <a:uFillTx/>
                <a:latin typeface="GoldRoman"/>
              </a:rPr>
              <a:t>Здоровьесберега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00"/>
                </a:solidFill>
                <a:uFillTx/>
                <a:latin typeface="GoldRoman"/>
              </a:rPr>
              <a:t>технологии в обра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200400"/>
            <a:ext cx="236196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тар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гиен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3200400"/>
            <a:ext cx="2666880" cy="685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200400"/>
            <a:ext cx="266688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к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илак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572000"/>
            <a:ext cx="2819520" cy="838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Организацион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педаг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5638680"/>
            <a:ext cx="2743200" cy="7621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сихолог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едаг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638680"/>
            <a:ext cx="2666880" cy="7621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572000"/>
            <a:ext cx="2819160" cy="838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Физкультур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здоров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762120"/>
            <a:ext cx="1218960" cy="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762120"/>
            <a:ext cx="0" cy="9903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295280" y="2514600"/>
            <a:ext cx="609840" cy="6858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2438280"/>
            <a:ext cx="533160" cy="76212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0" cy="4572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86000" y="3886200"/>
            <a:ext cx="1371600" cy="6858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28640" y="3886200"/>
            <a:ext cx="685800" cy="17524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3886200"/>
            <a:ext cx="761760" cy="17524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886200"/>
            <a:ext cx="1447920" cy="6094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784400">
            <a:off x="178560" y="5805000"/>
            <a:ext cx="1219320" cy="5335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н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2743200"/>
            <a:ext cx="2666880" cy="1191240"/>
          </a:xfrm>
          <a:prstGeom prst="rect">
            <a:avLst/>
          </a:prstGeom>
          <a:solidFill>
            <a:srgbClr val="ccccff"/>
          </a:soli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Формирование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520"/>
            <a:ext cx="266724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ние культуры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457200"/>
            <a:ext cx="27432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чебно-профилактические меро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743200"/>
            <a:ext cx="20574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4952880"/>
            <a:ext cx="2819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доровительные меро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952880"/>
            <a:ext cx="25909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ебно-воспита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410080"/>
            <a:ext cx="20574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743200"/>
            <a:ext cx="19810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дрение новых технолог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19920" y="1828800"/>
            <a:ext cx="8380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057040" y="1905120"/>
            <a:ext cx="114300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514240" y="3429000"/>
            <a:ext cx="685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42900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828800" y="4114800"/>
            <a:ext cx="13716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114800"/>
            <a:ext cx="13716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11480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057400" cy="1782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093000"/>
            <a:ext cx="1655640" cy="475920"/>
          </a:xfrm>
          <a:prstGeom prst="leftArrow">
            <a:avLst>
              <a:gd name="adj1" fmla="val 50000"/>
              <a:gd name="adj2" fmla="val 86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6666ff"/>
            </a:gs>
            <a:gs pos="100000">
              <a:srgbClr val="ff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600200"/>
            <a:ext cx="8458200" cy="3385800"/>
          </a:xfrm>
          <a:prstGeom prst="rect">
            <a:avLst/>
          </a:prstGeom>
          <a:gradFill rotWithShape="0">
            <a:gsLst>
              <a:gs pos="0">
                <a:srgbClr val="feedf5"/>
              </a:gs>
              <a:gs pos="50000">
                <a:srgbClr val="ff99cc"/>
              </a:gs>
              <a:gs pos="100000">
                <a:srgbClr val="feedf5"/>
              </a:gs>
            </a:gsLst>
            <a:lin ang="13500000"/>
          </a:gradFill>
          <a:ln w="114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Учитель многое может, и если все, что он может сделать для укрепления здоровья школьников, он осуществляет, дети вырастут такими, какими мы все хотим их видеть – хорошими, умными и здоровым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14560" y="304920"/>
            <a:ext cx="6229440" cy="33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622944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fcc66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476280"/>
            <a:ext cx="8137440" cy="5759280"/>
          </a:xfrm>
          <a:prstGeom prst="flowChartDocument">
            <a:avLst/>
          </a:prstGeom>
          <a:gradFill rotWithShape="0">
            <a:gsLst>
              <a:gs pos="0">
                <a:srgbClr val="ff9966"/>
              </a:gs>
              <a:gs pos="50000">
                <a:srgbClr val="ffcc66"/>
              </a:gs>
              <a:gs pos="100000">
                <a:srgbClr val="ff9966"/>
              </a:gs>
            </a:gsLst>
            <a:lin ang="5400000"/>
          </a:gradFill>
          <a:ln w="1872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но подмечено, что ника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ое окружение никогда не сможет приблизи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своему вкладу в формировании здоровой лич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торый может осуществить школа, где ребен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одит довольно внушительное количество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2:46:43Z</dcterms:created>
  <dc:creator>admin</dc:creator>
  <dc:description/>
  <dc:language>en-US</dc:language>
  <cp:lastModifiedBy>Admin</cp:lastModifiedBy>
  <dcterms:modified xsi:type="dcterms:W3CDTF">2006-02-27T10:07:23Z</dcterms:modified>
  <cp:revision>15</cp:revision>
  <dc:subject/>
  <dc:title>Презентация PowerPoint</dc:title>
</cp:coreProperties>
</file>