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701A-ADD9-4AB9-B803-CF29C7D314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76C1-6E93-4AE4-8F55-3FBDE34C0EC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EFF1-1B59-4E09-AF9A-47F0A02FB0B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A2D3-DE87-417F-9ECD-39D91E24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6AE-0E21-4D26-883C-3BEAAB6F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C33D-2663-49C4-B8A9-D2172DAF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5D8-6FE3-4215-AEB4-9E2B2925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049-615A-4136-94A5-98610506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AEFA-0AA8-4E17-8BA5-6551BC38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A2F6-466E-4DC9-B482-E0B021A3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DF6-A4D3-447E-AA42-3B30B09D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320-7F49-4EC5-BFE6-DBFEC989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7F4-D1F6-4651-817A-BFB6FC35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34C-49C5-4214-B063-D81719B5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C7E-2727-4C37-AD23-1BF0FB14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0600-4F51-470D-BC54-AA92CFF1258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uglichru.ru/images/Kreml/ugl2-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МБОУ «Новообинцевская СОШ»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учитель начальных классов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Баканова Татьяна Леонидовн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Золотое кольцо России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СМ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3 КЛАСС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ереславль-Залесски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Содержимое 3" descr=""/>
          <p:cNvPicPr/>
          <p:nvPr/>
        </p:nvPicPr>
        <p:blipFill>
          <a:blip r:embed="rId1"/>
          <a:stretch/>
        </p:blipFill>
        <p:spPr>
          <a:xfrm>
            <a:off x="785880" y="1285920"/>
            <a:ext cx="785808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ереславль некогда был богат и знаменит. Само название города переводится с древнерусского как «перенявший славу». Самым известным переславским князем был Александр Невский, родившийся в городе и ушедший затем княжить в Новгород. Переславцы не забыли имя великого полководца. На Красной площади князю Александру Невскому благодарные земляки установили памятник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Рисунок 5" descr=""/>
          <p:cNvPicPr/>
          <p:nvPr/>
        </p:nvPicPr>
        <p:blipFill>
          <a:blip r:embed="rId1"/>
          <a:stretch/>
        </p:blipFill>
        <p:spPr>
          <a:xfrm>
            <a:off x="3714840" y="0"/>
            <a:ext cx="1357200" cy="142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2928600"/>
            <a:ext cx="78580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П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ОЗНАКОМИТЬ С ГОРОДАМИ, ОБРАЗУЮЩИМИ   ЗОЛОТОЕ КОЛЬЦО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З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АКРЕПЛЯТЬ УМЕНИЯ ОРИЕНТИРОВАТЬСЯ НА  ФИЗИЧЕСКОЙ КАРТЕ РОССИИ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ОСПИТЫВАТЬ ЧУВСТВА ПРЕКРАСНОГО, ЛЮБВИ К СВОЕЙ ОГРОМНОЙ РОДИНЕ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2138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Цели и задачи :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Calibri"/>
              </a:rPr>
              <a:t>Суздал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8429760" cy="514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уздал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571680"/>
            <a:ext cx="8472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 городе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уздале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можно сказать: "Мал золотник, да дорог"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уздаль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дорог сердцу каждого русского человека,  с ним связано начало России, история нашей государственности, культуры и искусств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уздаль принадлежит к числу древнейших русских городов.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    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1024 год.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- Первое упоминание в летописях Суздаля как города.  С этой даты официально отсчитывается возраст Суздаля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    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1097 год.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- Съезд князей утверждает право на владение землей за Владимиром Мономахом. По приказу князя вокруг Суздаля строится земляной вал. На рубеже XI-XII вв. формируется планировка города, основан первый в Суздале монастырь – Дмитриевский, воздвигнут кирпичный Успенский собор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  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14200" y="0"/>
            <a:ext cx="84297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    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4455720" y="32446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357120" y="21420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ервый суздальский князь -  Юрий Долгорукий. Он  расширяет границы княжества, заботится об их безопасности. Для чего были основаны города-крепости: Москва, Переславль-Залесский, Кострома, Городец, Звенигород, Галич, Дмитр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1152 году в 4-х километрах от Суздаля Юрий Долгорукий основал свою крепость-резиденцию Кидекша, где строится первая на Северо-востоке белокаменная церковь Бориса и Глеба (сохранилась до наших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1155 году Юрий Долгорукий завоевывает далекий Киев (считается, отсюда его прозвище - Долгорукий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глич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76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ород   Углич был основан на берегу Волги 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Название «Углич» имеет несколько версий происхождения.  Первая версия – от слова «уголь», так как на этом месте в древности действительно выжигали уголь. Вторая – от слова «угол», из-за формы мыса, выдающегося углом в Волгу. Третья – от созвучия с названием славянского племени уличей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Первое упоминание об Угличе встречается в летописи под 1148 годом как Углече-поле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1218 году Углич – уже полноценный город с укрепленным кремлем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1238 году Углич переживает татарское разорение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 1329 года город оказывается в составе Московского княжества и становится его пограничной крепостью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Рисунок 3" descr="Кремль в Угличе. Рисунок И.Потехина, 1928 год - реконструкция вида угличского кремля в XVII век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214200"/>
            <a:ext cx="2514600" cy="952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6" descr=""/>
          <p:cNvPicPr/>
          <p:nvPr/>
        </p:nvPicPr>
        <p:blipFill>
          <a:blip r:embed="rId1"/>
          <a:stretch/>
        </p:blipFill>
        <p:spPr>
          <a:xfrm>
            <a:off x="1571760" y="0"/>
            <a:ext cx="60004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стром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430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строма расположена не так далеко от Москвы – в 330 километрах. Примечательно то, что Кострома расположилась сразу на двух берегах реки Волги и реки Костромы. Именно поэтому основное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анспортное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сообщение, привычное для костромчан – речное сообщение. На набережной Костромы расположено много причалов, портов. Очень красива набережная Костромы – жители ухаживают за ней с любовью и следят за ее чистотой. Здесь Вы можете покататься на теплоходе, гидроциклах, насладиться живописными красотами берегов Волги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1"/>
          <a:stretch/>
        </p:blipFill>
        <p:spPr>
          <a:xfrm>
            <a:off x="857160" y="0"/>
            <a:ext cx="1389240" cy="17859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6643800" y="214200"/>
            <a:ext cx="1643040" cy="142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1040148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стромской драматический теат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99980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дин из старейших в России, основан в 1808 году. Здание театра является памятником архитектуры XIX века и славится великолепным, истинно театральным интерьером.  Это единственный театр в мире, где поставлено 46 из 47 пьес А. Н. Островского и где проводится всероссийский фестиваль «Дни Островского в Костроме».  В 1998 году Комитет международной программы «Партнерство ради прогресса» наградил его призом «Золотая пальма», а в 1999 году театр вошел в рейтинг лучших российских учреждений культуры и театральных коллективов и получил отличительный приз «Гран-при»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Рисунок 7" descr="Костромской государственный драматический театр им. А. Н. Островского. Достопримечательности Костромы"/>
          <p:cNvPicPr/>
          <p:nvPr/>
        </p:nvPicPr>
        <p:blipFill>
          <a:blip r:embed="rId1"/>
          <a:stretch/>
        </p:blipFill>
        <p:spPr>
          <a:xfrm>
            <a:off x="0" y="0"/>
            <a:ext cx="3071880" cy="189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1:05:44Z</dcterms:created>
  <dc:creator>Admin</dc:creator>
  <dc:description/>
  <dc:language>en-US</dc:language>
  <cp:lastModifiedBy>Антон</cp:lastModifiedBy>
  <dcterms:modified xsi:type="dcterms:W3CDTF">2014-01-24T09:20:11Z</dcterms:modified>
  <cp:revision>57</cp:revision>
  <dc:subject/>
  <dc:title>Слайд 1</dc:title>
</cp:coreProperties>
</file>