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442B-E5B4-4BD5-9989-2420BB14C5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7AAF-6135-4D42-86FA-59BD5991785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5989-CCE7-4EEC-8C4D-5B4976D146A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7F2E-59C0-4B44-959D-DFDA711D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3DBB-E52B-47C2-A4B8-FB8E8941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AE55-144F-45BA-A655-AC5AD01A4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56A8-F151-4D06-BC95-02FCCE9C9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3E0E-95F6-42FB-A3AA-E4C4D981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BD80-6063-4BB2-8F01-0D3D8CDE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BC5F-05E8-4F7E-8446-FF138D53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1677-855E-47A5-9E64-B3130D1A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5A94-A0A2-41B2-8A3A-3F3FA1B0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496A-6E33-425C-B63B-51671204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7693-BD73-43BB-9B2F-EB16528C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05F2-1D1C-424A-B1CA-0C184D93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5E9D-1D5F-481F-A2A4-4953BF65E07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uglichru.ru/images/Kreml/ugl2-1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МБОУ «Новообинцевская СОШ»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учитель начальных классов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Баканова Татьяна Леонидовн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Золотое кольцо России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ОСМ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3 КЛАСС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ереславль-Залесски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Содержимое 3" descr=""/>
          <p:cNvPicPr/>
          <p:nvPr/>
        </p:nvPicPr>
        <p:blipFill>
          <a:blip r:embed="rId1"/>
          <a:stretch/>
        </p:blipFill>
        <p:spPr>
          <a:xfrm>
            <a:off x="785880" y="1285920"/>
            <a:ext cx="7858080" cy="557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ереславль некогда был богат и знаменит. Само название города переводится с древнерусского как «перенявший славу». Самым известным переславским князем был Александр Невский, родившийся в городе и ушедший затем княжить в Новгород. Переславцы не забыли имя великого полководца. На Красной площади князю Александру Невскому благодарные земляки установили памятник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Рисунок 5" descr=""/>
          <p:cNvPicPr/>
          <p:nvPr/>
        </p:nvPicPr>
        <p:blipFill>
          <a:blip r:embed="rId1"/>
          <a:stretch/>
        </p:blipFill>
        <p:spPr>
          <a:xfrm>
            <a:off x="3714840" y="0"/>
            <a:ext cx="1357200" cy="1428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2160" y="1714320"/>
            <a:ext cx="7772400" cy="192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Спасибо!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2928600"/>
            <a:ext cx="785808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*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П</a:t>
            </a: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ОЗНАКОМИТЬ С ГОРОДАМИ, ОБРАЗУЮЩИМИ   ЗОЛОТОЕ КОЛЬЦО.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*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З</a:t>
            </a: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АКРЕПЛЯТЬ УМЕНИЯ ОРИЕНТИРОВАТЬСЯ НА  ФИЗИЧЕСКОЙ КАРТЕ РОССИИ.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*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В</a:t>
            </a: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ОСПИТЫВАТЬ ЧУВСТВА ПРЕКРАСНОГО, ЛЮБВИ К СВОЕЙ ОГРОМНОЙ РОДИНЕ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21384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Цели и задачи :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Calibri"/>
              </a:rPr>
              <a:t>Суздал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Содержимое 3" descr=""/>
          <p:cNvPicPr/>
          <p:nvPr/>
        </p:nvPicPr>
        <p:blipFill>
          <a:blip r:embed="rId1"/>
          <a:stretch/>
        </p:blipFill>
        <p:spPr>
          <a:xfrm>
            <a:off x="357120" y="1357200"/>
            <a:ext cx="8429760" cy="5143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уздаль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571680"/>
            <a:ext cx="8472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 городе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уздале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можно сказать: "Мал золотник, да дорог"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уздаль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дорог сердцу каждого русского человека,  с ним связано начало России, история нашей государственности, культуры и искусств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уздаль принадлежит к числу древнейших русских городов. 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     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1024 год.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- Первое упоминание в летописях Суздаля как города.  С этой даты официально отсчитывается возраст Суздаля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     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1097 год.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- Съезд князей утверждает право на владение землей за Владимиром Мономахом. По приказу князя вокруг Суздаля строится земляной вал. На рубеже XI-XII вв. формируется планировка города, основан первый в Суздале монастырь – Дмитриевский, воздвигнут кирпичный Успенский собор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   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14200" y="0"/>
            <a:ext cx="84297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    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4455720" y="324468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357120" y="214200"/>
            <a:ext cx="8358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ервый суздальский князь -  Юрий Долгорукий. Он  расширяет границы княжества, заботится об их безопасности. Для чего были основаны города-крепости: Москва, Переславль-Залесский, Кострома, Городец, Звенигород, Галич, Дмитр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 1152 году в 4-х километрах от Суздаля Юрий Долгорукий основал свою крепость-резиденцию Кидекша, где строится первая на Северо-востоке белокаменная церковь Бориса и Глеба (сохранилась до наших дне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 1155 году Юрий Долгорукий завоевывает далекий Киев (считается, отсюда его прозвище - Долгорукий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глич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876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Город   Углич был основан на берегу Волги 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Название «Углич» имеет несколько версий происхождения.  Первая версия – от слова «уголь», так как на этом месте в древности действительно выжигали уголь. Вторая – от слова «угол», из-за формы мыса, выдающегося углом в Волгу. Третья – от созвучия с названием славянского племени уличей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 Первое упоминание об Угличе встречается в летописи под 1148 годом как Углече-поле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 1218 году Углич – уже полноценный город с укрепленным кремлем 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 1238 году Углич переживает татарское разорение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 1329 года город оказывается в составе Московского княжества и становится его пограничной крепостью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  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Рисунок 3" descr="Кремль в Угличе. Рисунок И.Потехина, 1928 год - реконструкция вида угличского кремля в XVII век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214200"/>
            <a:ext cx="2514600" cy="952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6" descr=""/>
          <p:cNvPicPr/>
          <p:nvPr/>
        </p:nvPicPr>
        <p:blipFill>
          <a:blip r:embed="rId1"/>
          <a:stretch/>
        </p:blipFill>
        <p:spPr>
          <a:xfrm>
            <a:off x="1571760" y="0"/>
            <a:ext cx="600048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острома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4304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острома расположена не так далеко от Москвы – в 330 километрах. Примечательно то, что Кострома расположилась сразу на двух берегах реки Волги и реки Костромы. Именно поэтому основное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ранспортное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сообщение, привычное для костромчан – речное сообщение. На набережной Костромы расположено много причалов, портов. Очень красива набережная Костромы – жители ухаживают за ней с любовью и следят за ее чистотой. Здесь Вы можете покататься на теплоходе, гидроциклах, насладиться живописными красотами берегов Волги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Рисунок 3" descr=""/>
          <p:cNvPicPr/>
          <p:nvPr/>
        </p:nvPicPr>
        <p:blipFill>
          <a:blip r:embed="rId1"/>
          <a:stretch/>
        </p:blipFill>
        <p:spPr>
          <a:xfrm>
            <a:off x="857160" y="0"/>
            <a:ext cx="1389240" cy="17859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"/>
          <p:cNvPicPr/>
          <p:nvPr/>
        </p:nvPicPr>
        <p:blipFill>
          <a:blip r:embed="rId2"/>
          <a:stretch/>
        </p:blipFill>
        <p:spPr>
          <a:xfrm>
            <a:off x="6643800" y="214200"/>
            <a:ext cx="1643040" cy="1428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85840"/>
            <a:ext cx="1040148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стромской драматический театр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999800"/>
            <a:ext cx="8229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дин из старейших в России, основан в 1808 году. Здание театра является памятником архитектуры XIX века и славится великолепным, истинно театральным интерьером.  Это единственный театр в мире, где поставлено 46 из 47 пьес А. Н. Островского и где проводится всероссийский фестиваль «Дни Островского в Костроме».  В 1998 году Комитет международной программы «Партнерство ради прогресса» наградил его призом «Золотая пальма», а в 1999 году театр вошел в рейтинг лучших российских учреждений культуры и театральных коллективов и получил отличительный приз «Гран-при»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Рисунок 7" descr="Костромской государственный драматический театр им. А. Н. Островского. Достопримечательности Костромы"/>
          <p:cNvPicPr/>
          <p:nvPr/>
        </p:nvPicPr>
        <p:blipFill>
          <a:blip r:embed="rId1"/>
          <a:stretch/>
        </p:blipFill>
        <p:spPr>
          <a:xfrm>
            <a:off x="0" y="0"/>
            <a:ext cx="3071880" cy="1890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1:05:44Z</dcterms:created>
  <dc:creator>Admin</dc:creator>
  <dc:description/>
  <dc:language>en-US</dc:language>
  <cp:lastModifiedBy>Антон</cp:lastModifiedBy>
  <dcterms:modified xsi:type="dcterms:W3CDTF">2014-01-24T09:20:11Z</dcterms:modified>
  <cp:revision>57</cp:revision>
  <dc:subject/>
  <dc:title>Слайд 1</dc:title>
</cp:coreProperties>
</file>