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32E-7535-4194-A2BD-8B4F1AE3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E13-8D36-4206-B56C-E446D645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910-D376-4E45-82E1-DABB34E6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0F2-B29F-4018-A386-71E66F06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544-66CC-4052-9C19-D376FFBF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A81-5103-4D7A-94C9-23047B48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BF9-E8A9-4527-A6EF-0FA2215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373-66DB-4184-9C04-30F787BE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B43-C800-4476-8472-475E45EC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516-928C-448A-A3F3-C8BF21C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5BA-62D9-4EAC-AB67-855F1144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3FA-FBCB-4530-AF28-6B1D6C4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DBEA-6DE4-4A78-B1F9-51C03EBB8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8000" y="1197000"/>
          <a:ext cx="8928000" cy="537372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24000"/>
                <a:gridCol w="1295280"/>
              </a:tblGrid>
              <a:tr h="727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форму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-клату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ди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цикл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енз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Picture 64" descr=""/>
          <p:cNvPicPr/>
          <p:nvPr/>
        </p:nvPicPr>
        <p:blipFill>
          <a:blip r:embed="rId1"/>
          <a:srcRect l="41480" t="17900" r="50472" b="70919"/>
          <a:stretch/>
        </p:blipFill>
        <p:spPr>
          <a:xfrm>
            <a:off x="1476360" y="5445000"/>
            <a:ext cx="1081080" cy="89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5" descr=""/>
          <p:cNvPicPr/>
          <p:nvPr/>
        </p:nvPicPr>
        <p:blipFill>
          <a:blip r:embed="rId2"/>
          <a:srcRect l="42838" t="83218" r="51020" b="5154"/>
          <a:stretch/>
        </p:blipFill>
        <p:spPr>
          <a:xfrm>
            <a:off x="2916360" y="5589720"/>
            <a:ext cx="826920" cy="93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6" descr=""/>
          <p:cNvPicPr/>
          <p:nvPr/>
        </p:nvPicPr>
        <p:blipFill>
          <a:blip r:embed="rId3"/>
          <a:srcRect l="42838" t="83218" r="51020" b="5154"/>
          <a:stretch/>
        </p:blipFill>
        <p:spPr>
          <a:xfrm>
            <a:off x="2916360" y="5516640"/>
            <a:ext cx="826920" cy="93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7" descr=""/>
          <p:cNvPicPr/>
          <p:nvPr/>
        </p:nvPicPr>
        <p:blipFill>
          <a:blip r:embed="rId4"/>
          <a:srcRect l="42363" t="66760" r="51335" b="23491"/>
          <a:stretch/>
        </p:blipFill>
        <p:spPr>
          <a:xfrm>
            <a:off x="4140360" y="5516640"/>
            <a:ext cx="936360" cy="86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8" descr=""/>
          <p:cNvPicPr/>
          <p:nvPr/>
        </p:nvPicPr>
        <p:blipFill>
          <a:blip r:embed="rId5"/>
          <a:srcRect l="42838" t="83218" r="51020" b="5154"/>
          <a:stretch/>
        </p:blipFill>
        <p:spPr>
          <a:xfrm>
            <a:off x="5435640" y="5516640"/>
            <a:ext cx="82692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9" descr=""/>
          <p:cNvPicPr/>
          <p:nvPr/>
        </p:nvPicPr>
        <p:blipFill>
          <a:blip r:embed="rId6"/>
          <a:srcRect l="42838" t="83218" r="51020" b="5154"/>
          <a:stretch/>
        </p:blipFill>
        <p:spPr>
          <a:xfrm>
            <a:off x="8028000" y="5516640"/>
            <a:ext cx="8269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0" descr=""/>
          <p:cNvPicPr/>
          <p:nvPr/>
        </p:nvPicPr>
        <p:blipFill>
          <a:blip r:embed="rId7"/>
          <a:srcRect l="41480" t="17900" r="50472" b="70919"/>
          <a:stretch/>
        </p:blipFill>
        <p:spPr>
          <a:xfrm>
            <a:off x="6588000" y="5445000"/>
            <a:ext cx="1081080" cy="898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765000"/>
          <a:ext cx="8928000" cy="572940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95280"/>
                <a:gridCol w="1224000"/>
              </a:tblGrid>
              <a:tr h="59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38"/>
          <p:cNvSpPr/>
          <p:nvPr/>
        </p:nvSpPr>
        <p:spPr>
          <a:xfrm>
            <a:off x="179280" y="1159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истика углеводор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8000" y="765000"/>
          <a:ext cx="8928000" cy="579600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95280"/>
                <a:gridCol w="12240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−С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. цеп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−С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. цепь из 6 атомов 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38"/>
          <p:cNvSpPr/>
          <p:nvPr/>
        </p:nvSpPr>
        <p:spPr>
          <a:xfrm>
            <a:off x="179280" y="1159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истика углеводор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2:52:50Z</dcterms:modified>
  <cp:revision>17</cp:revision>
  <dc:subject/>
  <dc:title>Слайд 1</dc:title>
</cp:coreProperties>
</file>